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.png" ContentType="image/png"/>
  <Override PartName="/ppt/media/image25.png" ContentType="image/png"/>
  <Override PartName="/ppt/media/image27.png" ContentType="image/png"/>
  <Override PartName="/ppt/media/image4.png" ContentType="image/png"/>
  <Override PartName="/ppt/media/image6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wmf" ContentType="image/x-wmf"/>
  <Override PartName="/ppt/media/image21.png" ContentType="image/png"/>
  <Override PartName="/ppt/media/image22.wmf" ContentType="image/x-wmf"/>
  <Override PartName="/ppt/media/image23.png" ContentType="image/png"/>
  <Override PartName="/ppt/media/image24.png" ContentType="image/png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0D439-6AB7-4BAC-A151-606D31DB4FB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B1211-7DB8-4C81-ABB1-6BD42BB53867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08836-1E1C-4637-9B25-F002A73344AD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102FE-7DD5-4FBA-A46A-425E64A7BA35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D0677-3601-4F63-A61D-F631B06CFEAE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5541B-CCEE-46CD-B83F-6E2B5A587AFE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B836F-574C-42F0-9689-3D46CBB97561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0D015-122A-4CE5-96C7-16AE2992080B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D5265-8B66-4B77-9EEA-F8208EC3A6C6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F4CF8-EE37-47D6-84E0-3324965FC364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F7F4D-53D8-47B4-8CF8-446D428810C5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E6325-6A6F-4123-9AD9-9143D13A6C08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AB3F2-F6A7-46B8-90FD-2E641237CC08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1F43E-452B-480E-8E35-69BE312FFF5D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445D4-FA0B-42E2-B248-DC1A7BCED1E0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66581-00B9-436B-8D4B-092AE3500C96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6A415-4851-4F91-BEE4-94BE82E4FFE7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C8CD6-25D0-49B1-9870-8E386DEFEFB3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1960-E608-494F-97CA-89D0F9553B8F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5D7B7-B040-4907-A298-03957C1C84FE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98527-A8D7-49C2-8ADA-410C9465F9E2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F12D-F02D-4577-B89E-A398627F2720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CDBD1-F0E7-4AAE-97A6-053954D6A5F0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9850C-B01A-470F-9FFD-1470F5F0E204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1F1C-951E-432B-A78A-A7157CEF4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F20B-053B-4A13-8DBA-9E7338AA8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389B-0D6E-49B1-B959-7020F5C7F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8E87-F4A0-4083-96A9-1DF71B226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82A2C-233F-47FF-BC8E-087EEADBE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7CDDB-1F52-43CC-B6D7-AA9CD7AAB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85555-B9F6-4D6D-ADAD-EF190372F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1A428-5AA6-438F-8660-8806CC5DE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7EA8B-2B4E-4647-88C8-95E3C74C0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A1BB4-B91A-41E6-9C9C-043019E7E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C7F7F-8806-4A77-8E5D-A60EE003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4DE9-DFEE-485A-9E5D-0CEFCB86D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2A403-E0B6-4769-A623-D439F490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04DBF-610C-4DB6-8419-0EF6A981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7E868-2711-4D41-A324-F109AA1B0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1B98E-6C2A-4FE2-BC04-88E5CD718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9825E-FBAA-45A8-AB19-F9D9DD685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ECAF1-6D53-483D-8275-749D26F06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16052-E4A7-4095-908C-14D8418E2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779D9-51AB-4681-A6E4-A88B726D7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18801-F88C-413A-AC65-0D49D7153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CACAE-2922-4B74-84AF-537DE2865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675C-A979-48A9-B835-522322830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F9CE8-21B8-43E7-BA0F-1CBA41A5C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883E2-A9B3-433C-9D6D-72F058BA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7F17D-1932-4449-BF24-C54326AC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D9459-24BF-4BB9-8657-60B30C6B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642DC-C0D1-4EBD-9970-FCAE53A6E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38875-8E32-48B3-881E-C6A2ABF15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31125-273A-46C0-B0CE-ADFD1DFFD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0F582-6F8A-4C9B-A908-BB205559A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1A959-C905-432E-81E6-3E616CDD2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8677B-4352-4046-9AC9-BA9D8CDF8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C2C4-C514-488F-96F6-FE64E2C01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3C268-D03E-4829-962D-9CE044EA5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2D6DA-1F3E-413E-9721-4A37C3A8E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F8FFD-4569-4D4F-B382-0E8EA73C0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FAD89-56BB-4FE2-A65C-4B2922A7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9DD41-83AA-4E57-8A8C-30E3A3A1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18930-C755-4520-A880-4D594CA9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4093D-8106-43F5-A8AD-D18B68AE0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6E47E-01DC-4A69-98A0-24DF0DDFF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A383B-2DDB-4032-A692-68C9E7DD5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C6170-4DC8-4039-9729-D3704473F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75AB-30F1-4EB1-B8A3-2CB3FCF1B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105A5-CB94-4E39-AE8D-2C4951EE9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A2B57-56E0-4919-B17B-152CD4162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88D0B-492D-4E63-B582-BCE1D5E9F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4B945-F4BA-4056-9BD5-71C67F31A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13BA2-1B9B-4F5E-A471-8E06972A0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A003F-EF4F-4D53-AB15-A4538140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D97D1-E5E1-4FA0-B280-B2260CF0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884EA-5668-4E3E-A4DB-7637243E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28C33-8E14-4E20-B7B8-8E7E2BF49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7F1C6-E841-403B-B30E-701FAD0E0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69B9-CF15-4BAC-B744-48D565640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E24E9-25CE-46F4-8073-336489275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E65F53-FDC9-4EAB-9F2B-A2853C855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5D2F9-4DAD-4FA5-BF68-6C9554D6D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63F40A-2971-4A8E-A0B8-4F82D0BE9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2C52C-F583-4029-8C74-47CCD0B09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B5B8D-D244-48E5-BFD8-C6287EC53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E74C6-CE8E-4DC3-A3F2-C08060216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AA520-E0E0-4A35-BE47-940EAF60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DCE56-7AAD-4E66-881E-A05B80B6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D6F7B-09B6-497F-87DE-6FE975DF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4975-76DA-4E95-B2BB-DA648F77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ABE8C-CE8E-4D50-BAAD-529F30DBC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8DC4C-95AA-485D-A0AC-680BF7EE6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55383F-EF64-4EFA-8441-E3E3BCD09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CB149-B1F1-4811-88A1-7E3CA4451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BD8C2B-F5D2-4D13-8DD7-59C948109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7DD89-37AF-4CD1-A08F-2E7E81D8E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1835B-0882-41D1-AF33-75458D9C6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8F6AF-ECCA-4E9A-BEE1-FE9092309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CA3B7E-0818-455F-A1CF-D8C8696F6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E8E8BF-4F64-45EB-8D9B-8017B91A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8DA8-7404-49DE-BFDC-C192B80B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9CFBF-EBC0-4CA1-93DA-B3904B33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B6A4F8-5FAF-43FB-A4DB-7893DD96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D9C90E-15A9-4727-9B2C-DEA146D7D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DFD97-C3C1-4BE4-A841-44B654801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DBDBD9-C332-41A4-BCB7-84CA102DC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F482DD-AEBF-4429-94AE-C0F4540B9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1DFA9C-885E-4B9B-BFA7-BA3626D4F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C267DC-8CE5-41E8-B458-436D4D679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610A2B-317B-47B9-9384-05824BA77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44665A-A674-4CAB-9F46-95A136428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BD39-FFF2-43FF-8177-428E6490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A4CA77-3B71-4513-99C6-95FB65490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205C54-018D-470E-9ED2-C6A8ABA5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BEECC2-C16C-4880-8D12-F0F7D023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34BB35-EB7B-40BA-A83A-D80BB198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CD6723-5C08-4C7F-92C9-F10431ADA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5BB598-71FB-4A35-A72C-7B73E251B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094F5B-3EEA-475A-8ED8-EDAEE3E26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4B5AD-C4C9-4706-87F2-3A969173B743}" type="slidenum">
              <a:rPr b="0" lang="es-E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8 Rectángulo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10 Rectángulo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C1EC2-99B8-4969-AA77-62577B33624F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8 Rectángulo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10 Rectángulo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468D5-C853-42E0-BBDD-6FD36D0D58C7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49FE4-C770-4BC3-8A67-50FAEDD17257}" type="slidenum">
              <a:rPr b="0" lang="es-E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8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10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1C0A3-B780-4BE8-A6F0-723A17212E80}" type="slidenum">
              <a:rPr b="0" lang="es-E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8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10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E8D8F-A118-4058-A291-E9B143A2272F}" type="slidenum">
              <a:rPr b="0" lang="es-E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8 Rectángulo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10 Rectángulo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5C13-BFA5-455A-92DA-AC40B1CCF53C}" type="slidenum">
              <a:rPr b="0" lang="es-E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4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BDC9F-002F-46A0-9739-255FC8C85CC0}" type="slidenum"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1 Título" descr=""/>
          <p:cNvPicPr/>
          <p:nvPr/>
        </p:nvPicPr>
        <p:blipFill>
          <a:blip r:embed="rId1"/>
          <a:stretch/>
        </p:blipFill>
        <p:spPr>
          <a:xfrm>
            <a:off x="396720" y="3157560"/>
            <a:ext cx="8375760" cy="187812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orbel"/>
              </a:rPr>
              <a:t>Otoño 2009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3 CuadroTexto"/>
          <p:cNvSpPr/>
          <p:nvPr/>
        </p:nvSpPr>
        <p:spPr>
          <a:xfrm>
            <a:off x="2500200" y="5643720"/>
            <a:ext cx="421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Cecilia Bastarrica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cecilia@dcc.uchile.c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1B8C5-72D0-4CCC-9A63-A2FBA67ED358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1" name="Picture 2" descr="BS00580_"/>
          <p:cNvPicPr/>
          <p:nvPr/>
        </p:nvPicPr>
        <p:blipFill>
          <a:blip r:embed="rId1"/>
          <a:stretch/>
        </p:blipFill>
        <p:spPr>
          <a:xfrm>
            <a:off x="6705720" y="1600200"/>
            <a:ext cx="2514600" cy="2119320"/>
          </a:xfrm>
          <a:prstGeom prst="rect">
            <a:avLst/>
          </a:prstGeom>
          <a:ln w="0">
            <a:noFill/>
          </a:ln>
        </p:spPr>
      </p:pic>
      <p:pic>
        <p:nvPicPr>
          <p:cNvPr id="382" name="Rectangle 3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La ciencia de la computación se ocupa 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de las teorías y métodos subyacentes 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a las computadoras y los sistemas de 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softwar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La ingeniería de software se refiere a los problemas prácticos de producir softwar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rbel"/>
              </a:rPr>
              <a:t>Los ingenieros de software requieren conocimiento de ciencias de la computación para realizar su labor, pero su objetivo es pragmático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0444F-58AE-4AEE-A723-99994D3E7351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rbel"/>
              </a:rPr>
              <a:t>La ingeniería de software es la aplicación de la ciencia de la computación para la construcción de programas de software y todos sus documentos y datos asociado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rbel"/>
              </a:rPr>
              <a:t>Pero, ¿es así como se desarrolla habitualmente la práctica profesional? y ¿por qué sería conveniente que así fuera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5CBCB-3C68-4335-BA58-5F4475CD53D1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8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La Ingeniería de Software es el área de la ciencia de la computación que trata con la construcción de sistemas de software que son tan grandes o complejos que son construidos por un equipo o varios equipos de ingenieros. [Ghezzi91]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Construcción de un software con múltiples versiones  por múltiples personas. [Parnas87]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B9E65-7E48-40DA-88D0-FB1E0CAEE89F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391" name="Group 4"/>
          <p:cNvGrpSpPr/>
          <p:nvPr/>
        </p:nvGrpSpPr>
        <p:grpSpPr>
          <a:xfrm>
            <a:off x="993600" y="3489480"/>
            <a:ext cx="7139520" cy="2986920"/>
            <a:chOff x="993600" y="3489480"/>
            <a:chExt cx="7139520" cy="2986920"/>
          </a:xfrm>
        </p:grpSpPr>
        <p:sp>
          <p:nvSpPr>
            <p:cNvPr id="392" name="Rectangle 5"/>
            <p:cNvSpPr/>
            <p:nvPr/>
          </p:nvSpPr>
          <p:spPr>
            <a:xfrm>
              <a:off x="993600" y="3489480"/>
              <a:ext cx="1828800" cy="1143000"/>
            </a:xfrm>
            <a:prstGeom prst="rect">
              <a:avLst/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rbel"/>
                </a:rPr>
                <a:t>CC31B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93" name="Rectangle 6"/>
            <p:cNvSpPr/>
            <p:nvPr/>
          </p:nvSpPr>
          <p:spPr>
            <a:xfrm>
              <a:off x="3584520" y="3489480"/>
              <a:ext cx="1828800" cy="1143000"/>
            </a:xfrm>
            <a:prstGeom prst="rect">
              <a:avLst/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rbel"/>
                </a:rPr>
                <a:t>CC51A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94" name="Rectangle 7"/>
            <p:cNvSpPr/>
            <p:nvPr/>
          </p:nvSpPr>
          <p:spPr>
            <a:xfrm>
              <a:off x="6175440" y="3489480"/>
              <a:ext cx="1828800" cy="1143000"/>
            </a:xfrm>
            <a:prstGeom prst="rect">
              <a:avLst/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rbel"/>
                </a:rPr>
                <a:t>CC61A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95" name="AutoShape 8"/>
            <p:cNvSpPr/>
            <p:nvPr/>
          </p:nvSpPr>
          <p:spPr>
            <a:xfrm>
              <a:off x="2898720" y="3870360"/>
              <a:ext cx="609480" cy="304920"/>
            </a:xfrm>
            <a:prstGeom prst="rightArrow">
              <a:avLst>
                <a:gd name="adj1" fmla="val 50000"/>
                <a:gd name="adj2" fmla="val 49970"/>
              </a:avLst>
            </a:prstGeom>
            <a:solidFill>
              <a:srgbClr val="60b5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96" name="AutoShape 9"/>
            <p:cNvSpPr/>
            <p:nvPr/>
          </p:nvSpPr>
          <p:spPr>
            <a:xfrm>
              <a:off x="5489640" y="3870360"/>
              <a:ext cx="609480" cy="304920"/>
            </a:xfrm>
            <a:prstGeom prst="rightArrow">
              <a:avLst>
                <a:gd name="adj1" fmla="val 50000"/>
                <a:gd name="adj2" fmla="val 49970"/>
              </a:avLst>
            </a:prstGeom>
            <a:solidFill>
              <a:srgbClr val="60b5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97" name="Text Box 10"/>
            <p:cNvSpPr/>
            <p:nvPr/>
          </p:nvSpPr>
          <p:spPr>
            <a:xfrm>
              <a:off x="1147320" y="5162760"/>
              <a:ext cx="15552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Técnicas de</a:t>
              </a:r>
              <a:endParaRPr b="0" lang="en-US" sz="2000" spc="-1" strike="noStrike">
                <a:solidFill>
                  <a:srgbClr val="000000"/>
                </a:solidFill>
                <a:latin typeface="Corbe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Ingeniería</a:t>
              </a:r>
              <a:endParaRPr b="0" lang="en-US" sz="2000" spc="-1" strike="noStrike">
                <a:solidFill>
                  <a:srgbClr val="000000"/>
                </a:solidFill>
                <a:latin typeface="Corbe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de Software</a:t>
              </a:r>
              <a:endParaRPr b="0" lang="en-US" sz="2000" spc="-1" strike="noStrike">
                <a:solidFill>
                  <a:srgbClr val="000000"/>
                </a:solidFill>
                <a:latin typeface="Corbe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(producto)</a:t>
              </a:r>
              <a:endParaRPr b="0" lang="en-US" sz="20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98" name="Text Box 11"/>
            <p:cNvSpPr/>
            <p:nvPr/>
          </p:nvSpPr>
          <p:spPr>
            <a:xfrm>
              <a:off x="3669480" y="5086440"/>
              <a:ext cx="16956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Aplicación de</a:t>
              </a:r>
              <a:endParaRPr b="0" lang="en-US" sz="2000" spc="-1" strike="noStrike">
                <a:solidFill>
                  <a:srgbClr val="000000"/>
                </a:solidFill>
                <a:latin typeface="Corbe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Ingeniería</a:t>
              </a:r>
              <a:endParaRPr b="0" lang="en-US" sz="2000" spc="-1" strike="noStrike">
                <a:solidFill>
                  <a:srgbClr val="000000"/>
                </a:solidFill>
                <a:latin typeface="Corbe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de Software</a:t>
              </a:r>
              <a:endParaRPr b="0" lang="en-US" sz="2000" spc="-1" strike="noStrike">
                <a:solidFill>
                  <a:srgbClr val="000000"/>
                </a:solidFill>
                <a:latin typeface="Corbe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(proceso)</a:t>
              </a:r>
              <a:endParaRPr b="0" lang="en-US" sz="20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99" name="Text Box 12"/>
            <p:cNvSpPr/>
            <p:nvPr/>
          </p:nvSpPr>
          <p:spPr>
            <a:xfrm>
              <a:off x="6196680" y="5162760"/>
              <a:ext cx="19364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Aplicación Real</a:t>
              </a:r>
              <a:endParaRPr b="0" lang="en-US" sz="2000" spc="-1" strike="noStrike">
                <a:solidFill>
                  <a:srgbClr val="000000"/>
                </a:solidFill>
                <a:latin typeface="Corbe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de Ingeniería</a:t>
              </a:r>
              <a:endParaRPr b="0" lang="en-US" sz="2000" spc="-1" strike="noStrike">
                <a:solidFill>
                  <a:srgbClr val="000000"/>
                </a:solidFill>
                <a:latin typeface="Corbe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de Software</a:t>
              </a:r>
              <a:endParaRPr b="0" lang="en-US" sz="2000" spc="-1" strike="noStrike">
                <a:solidFill>
                  <a:srgbClr val="000000"/>
                </a:solidFill>
                <a:latin typeface="Corbe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(proyecto)</a:t>
              </a:r>
              <a:endParaRPr b="0" lang="en-US" sz="20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00" name="Line 13"/>
            <p:cNvSpPr/>
            <p:nvPr/>
          </p:nvSpPr>
          <p:spPr>
            <a:xfrm flipV="1">
              <a:off x="1908000" y="4632120"/>
              <a:ext cx="0" cy="609480"/>
            </a:xfrm>
            <a:prstGeom prst="line">
              <a:avLst/>
            </a:prstGeom>
            <a:ln w="28440">
              <a:solidFill>
                <a:srgbClr val="60b5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01" name="Line 14"/>
            <p:cNvSpPr/>
            <p:nvPr/>
          </p:nvSpPr>
          <p:spPr>
            <a:xfrm flipV="1">
              <a:off x="4498920" y="4632120"/>
              <a:ext cx="0" cy="609480"/>
            </a:xfrm>
            <a:prstGeom prst="line">
              <a:avLst/>
            </a:prstGeom>
            <a:ln w="28440">
              <a:solidFill>
                <a:srgbClr val="60b5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02" name="Line 15"/>
            <p:cNvSpPr/>
            <p:nvPr/>
          </p:nvSpPr>
          <p:spPr>
            <a:xfrm flipV="1">
              <a:off x="7165800" y="4632120"/>
              <a:ext cx="0" cy="609480"/>
            </a:xfrm>
            <a:prstGeom prst="line">
              <a:avLst/>
            </a:prstGeom>
            <a:ln w="28440">
              <a:solidFill>
                <a:srgbClr val="60b5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pic>
        <p:nvPicPr>
          <p:cNvPr id="403" name="Rectangle 16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La IS trata de organizar un buen proceso de desarrollo para lograr un buen producto de softwar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6E467-5DA5-4201-9D35-96E700934719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414360" y="378000"/>
            <a:ext cx="8053200" cy="1152360"/>
          </a:xfrm>
          <a:prstGeom prst="rect">
            <a:avLst/>
          </a:prstGeom>
          <a:ln w="0">
            <a:noFill/>
          </a:ln>
        </p:spPr>
      </p:pic>
      <p:grpSp>
        <p:nvGrpSpPr>
          <p:cNvPr id="407" name="Group 3"/>
          <p:cNvGrpSpPr/>
          <p:nvPr/>
        </p:nvGrpSpPr>
        <p:grpSpPr>
          <a:xfrm>
            <a:off x="1295280" y="2209680"/>
            <a:ext cx="6782040" cy="3429000"/>
            <a:chOff x="1295280" y="2209680"/>
            <a:chExt cx="6782040" cy="3429000"/>
          </a:xfrm>
        </p:grpSpPr>
        <p:sp>
          <p:nvSpPr>
            <p:cNvPr id="408" name="AutoShape 4"/>
            <p:cNvSpPr/>
            <p:nvPr/>
          </p:nvSpPr>
          <p:spPr>
            <a:xfrm>
              <a:off x="1295280" y="3886200"/>
              <a:ext cx="2057400" cy="380880"/>
            </a:xfrm>
            <a:prstGeom prst="rightArrow">
              <a:avLst>
                <a:gd name="adj1" fmla="val 50000"/>
                <a:gd name="adj2" fmla="val 135043"/>
              </a:avLst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09" name="AutoShape 5"/>
            <p:cNvSpPr/>
            <p:nvPr/>
          </p:nvSpPr>
          <p:spPr>
            <a:xfrm>
              <a:off x="3657600" y="2590920"/>
              <a:ext cx="2057400" cy="380880"/>
            </a:xfrm>
            <a:prstGeom prst="rightArrow">
              <a:avLst>
                <a:gd name="adj1" fmla="val 50000"/>
                <a:gd name="adj2" fmla="val 135043"/>
              </a:avLst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10" name="AutoShape 6"/>
            <p:cNvSpPr/>
            <p:nvPr/>
          </p:nvSpPr>
          <p:spPr>
            <a:xfrm>
              <a:off x="3352680" y="4038480"/>
              <a:ext cx="228600" cy="13716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11" name="AutoShape 7"/>
            <p:cNvSpPr/>
            <p:nvPr/>
          </p:nvSpPr>
          <p:spPr>
            <a:xfrm>
              <a:off x="3657600" y="4572000"/>
              <a:ext cx="2057400" cy="380880"/>
            </a:xfrm>
            <a:prstGeom prst="rightArrow">
              <a:avLst>
                <a:gd name="adj1" fmla="val 50000"/>
                <a:gd name="adj2" fmla="val 135043"/>
              </a:avLst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12" name="AutoShape 8"/>
            <p:cNvSpPr/>
            <p:nvPr/>
          </p:nvSpPr>
          <p:spPr>
            <a:xfrm>
              <a:off x="1295280" y="5257800"/>
              <a:ext cx="2057400" cy="380880"/>
            </a:xfrm>
            <a:prstGeom prst="rightArrow">
              <a:avLst>
                <a:gd name="adj1" fmla="val 50000"/>
                <a:gd name="adj2" fmla="val 135043"/>
              </a:avLst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13" name="AutoShape 9"/>
            <p:cNvSpPr/>
            <p:nvPr/>
          </p:nvSpPr>
          <p:spPr>
            <a:xfrm>
              <a:off x="5715000" y="2743200"/>
              <a:ext cx="228600" cy="20574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53640 h 2057400"/>
                <a:gd name="textAreaBottom" fmla="*/ 200376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14" name="AutoShape 10"/>
            <p:cNvSpPr/>
            <p:nvPr/>
          </p:nvSpPr>
          <p:spPr>
            <a:xfrm>
              <a:off x="6019920" y="3581280"/>
              <a:ext cx="2057400" cy="381240"/>
            </a:xfrm>
            <a:prstGeom prst="rightArrow">
              <a:avLst>
                <a:gd name="adj1" fmla="val 50000"/>
                <a:gd name="adj2" fmla="val 134915"/>
              </a:avLst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15" name="Text Box 11"/>
            <p:cNvSpPr/>
            <p:nvPr/>
          </p:nvSpPr>
          <p:spPr>
            <a:xfrm>
              <a:off x="1392480" y="3505320"/>
              <a:ext cx="139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Producción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16" name="Text Box 12"/>
            <p:cNvSpPr/>
            <p:nvPr/>
          </p:nvSpPr>
          <p:spPr>
            <a:xfrm>
              <a:off x="1561320" y="4952880"/>
              <a:ext cx="120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Artesanía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17" name="Text Box 13"/>
            <p:cNvSpPr/>
            <p:nvPr/>
          </p:nvSpPr>
          <p:spPr>
            <a:xfrm>
              <a:off x="3765960" y="4191120"/>
              <a:ext cx="12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Comercial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18" name="Text Box 14"/>
            <p:cNvSpPr/>
            <p:nvPr/>
          </p:nvSpPr>
          <p:spPr>
            <a:xfrm>
              <a:off x="3782520" y="2209680"/>
              <a:ext cx="9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Ciencia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19" name="Text Box 15"/>
            <p:cNvSpPr/>
            <p:nvPr/>
          </p:nvSpPr>
          <p:spPr>
            <a:xfrm>
              <a:off x="6131160" y="312408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Ingeniería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420" name="Group 28"/>
          <p:cNvGrpSpPr/>
          <p:nvPr/>
        </p:nvGrpSpPr>
        <p:grpSpPr>
          <a:xfrm>
            <a:off x="2057400" y="1752480"/>
            <a:ext cx="1981080" cy="1371600"/>
            <a:chOff x="2057400" y="1752480"/>
            <a:chExt cx="1981080" cy="1371600"/>
          </a:xfrm>
        </p:grpSpPr>
        <p:sp>
          <p:nvSpPr>
            <p:cNvPr id="421" name="Oval 17"/>
            <p:cNvSpPr/>
            <p:nvPr/>
          </p:nvSpPr>
          <p:spPr>
            <a:xfrm>
              <a:off x="3352680" y="2514600"/>
              <a:ext cx="685800" cy="609480"/>
            </a:xfrm>
            <a:prstGeom prst="ellipse">
              <a:avLst/>
            </a:pr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grpSp>
          <p:nvGrpSpPr>
            <p:cNvPr id="422" name="Group 19"/>
            <p:cNvGrpSpPr/>
            <p:nvPr/>
          </p:nvGrpSpPr>
          <p:grpSpPr>
            <a:xfrm>
              <a:off x="2057400" y="1752480"/>
              <a:ext cx="1676520" cy="836640"/>
              <a:chOff x="2057400" y="1752480"/>
              <a:chExt cx="1676520" cy="836640"/>
            </a:xfrm>
          </p:grpSpPr>
          <p:sp>
            <p:nvSpPr>
              <p:cNvPr id="423" name="Text Box 20"/>
              <p:cNvSpPr/>
              <p:nvPr/>
            </p:nvSpPr>
            <p:spPr>
              <a:xfrm>
                <a:off x="2057400" y="1752480"/>
                <a:ext cx="1676520" cy="641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1965-70: Algoritmos,</a:t>
                </a:r>
                <a:endParaRPr b="0" lang="en-US" sz="1200" spc="-1" strike="noStrike">
                  <a:solidFill>
                    <a:srgbClr val="000000"/>
                  </a:solidFill>
                  <a:latin typeface="Corbe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Estructuras de datos.</a:t>
                </a:r>
                <a:endParaRPr b="0" lang="en-US" sz="12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cxnSp>
            <p:nvCxnSpPr>
              <p:cNvPr id="424" name="AutoShape 21"/>
              <p:cNvCxnSpPr>
                <a:stCxn id="423" idx="2"/>
                <a:endCxn id="421" idx="1"/>
              </p:cNvCxnSpPr>
              <p:nvPr/>
            </p:nvCxnSpPr>
            <p:spPr>
              <a:xfrm>
                <a:off x="2895480" y="2219040"/>
                <a:ext cx="558000" cy="370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425" name="Group 29"/>
          <p:cNvGrpSpPr/>
          <p:nvPr/>
        </p:nvGrpSpPr>
        <p:grpSpPr>
          <a:xfrm>
            <a:off x="3200400" y="4419720"/>
            <a:ext cx="2743200" cy="1602000"/>
            <a:chOff x="3200400" y="4419720"/>
            <a:chExt cx="2743200" cy="1602000"/>
          </a:xfrm>
        </p:grpSpPr>
        <p:sp>
          <p:nvSpPr>
            <p:cNvPr id="426" name="Oval 16"/>
            <p:cNvSpPr/>
            <p:nvPr/>
          </p:nvSpPr>
          <p:spPr>
            <a:xfrm>
              <a:off x="3200400" y="4419720"/>
              <a:ext cx="685800" cy="609480"/>
            </a:xfrm>
            <a:prstGeom prst="ellipse">
              <a:avLst/>
            </a:pr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grpSp>
          <p:nvGrpSpPr>
            <p:cNvPr id="427" name="Group 22"/>
            <p:cNvGrpSpPr/>
            <p:nvPr/>
          </p:nvGrpSpPr>
          <p:grpSpPr>
            <a:xfrm>
              <a:off x="3785400" y="4953960"/>
              <a:ext cx="2158200" cy="1067760"/>
              <a:chOff x="3785400" y="4953960"/>
              <a:chExt cx="2158200" cy="1067760"/>
            </a:xfrm>
          </p:grpSpPr>
          <p:sp>
            <p:nvSpPr>
              <p:cNvPr id="428" name="Text Box 23"/>
              <p:cNvSpPr/>
              <p:nvPr/>
            </p:nvSpPr>
            <p:spPr>
              <a:xfrm>
                <a:off x="3962520" y="5562720"/>
                <a:ext cx="1981080" cy="459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1980s: Metodologías de</a:t>
                </a:r>
                <a:endParaRPr b="0" lang="en-US" sz="1200" spc="-1" strike="noStrike">
                  <a:solidFill>
                    <a:srgbClr val="000000"/>
                  </a:solidFill>
                  <a:latin typeface="Corbe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Desarrollo de Software.</a:t>
                </a:r>
                <a:endParaRPr b="0" lang="en-US" sz="12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cxnSp>
            <p:nvCxnSpPr>
              <p:cNvPr id="429" name="AutoShape 24"/>
              <p:cNvCxnSpPr>
                <a:stCxn id="428" idx="0"/>
                <a:endCxn id="426" idx="5"/>
              </p:cNvCxnSpPr>
              <p:nvPr/>
            </p:nvCxnSpPr>
            <p:spPr>
              <a:xfrm flipH="1" flipV="1">
                <a:off x="3785400" y="4953960"/>
                <a:ext cx="1167480" cy="608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430" name="Group 30"/>
          <p:cNvGrpSpPr/>
          <p:nvPr/>
        </p:nvGrpSpPr>
        <p:grpSpPr>
          <a:xfrm>
            <a:off x="5724360" y="3429000"/>
            <a:ext cx="2969640" cy="1764000"/>
            <a:chOff x="5724360" y="3429000"/>
            <a:chExt cx="2969640" cy="1764000"/>
          </a:xfrm>
        </p:grpSpPr>
        <p:sp>
          <p:nvSpPr>
            <p:cNvPr id="431" name="Oval 18"/>
            <p:cNvSpPr/>
            <p:nvPr/>
          </p:nvSpPr>
          <p:spPr>
            <a:xfrm>
              <a:off x="5724360" y="3429000"/>
              <a:ext cx="722520" cy="578160"/>
            </a:xfrm>
            <a:prstGeom prst="ellipse">
              <a:avLst/>
            </a:pr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grpSp>
          <p:nvGrpSpPr>
            <p:cNvPr id="432" name="Group 25"/>
            <p:cNvGrpSpPr/>
            <p:nvPr/>
          </p:nvGrpSpPr>
          <p:grpSpPr>
            <a:xfrm>
              <a:off x="6340680" y="3935880"/>
              <a:ext cx="2353320" cy="1257120"/>
              <a:chOff x="6340680" y="3935880"/>
              <a:chExt cx="2353320" cy="1257120"/>
            </a:xfrm>
          </p:grpSpPr>
          <p:sp>
            <p:nvSpPr>
              <p:cNvPr id="433" name="Text Box 26"/>
              <p:cNvSpPr/>
              <p:nvPr/>
            </p:nvSpPr>
            <p:spPr>
              <a:xfrm>
                <a:off x="6607080" y="4368960"/>
                <a:ext cx="2086920" cy="824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Ejemplos aislados</a:t>
                </a:r>
                <a:endParaRPr b="0" lang="en-US" sz="1200" spc="-1" strike="noStrike">
                  <a:solidFill>
                    <a:srgbClr val="000000"/>
                  </a:solidFill>
                  <a:latin typeface="Corbe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(algoritmos, estructuras</a:t>
                </a:r>
                <a:endParaRPr b="0" lang="en-US" sz="1200" spc="-1" strike="noStrike">
                  <a:solidFill>
                    <a:srgbClr val="000000"/>
                  </a:solidFill>
                  <a:latin typeface="Corbe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de datos, compiladores, BD).</a:t>
                </a:r>
                <a:endParaRPr b="0" lang="en-US" sz="12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cxnSp>
            <p:nvCxnSpPr>
              <p:cNvPr id="434" name="AutoShape 27"/>
              <p:cNvCxnSpPr>
                <a:stCxn id="433" idx="0"/>
                <a:endCxn id="431" idx="5"/>
              </p:cNvCxnSpPr>
              <p:nvPr/>
            </p:nvCxnSpPr>
            <p:spPr>
              <a:xfrm flipH="1" flipV="1">
                <a:off x="6340680" y="3935880"/>
                <a:ext cx="1310040" cy="433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AD82F-BE2C-4A36-9D0B-243897046733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36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orbel"/>
              </a:rPr>
              <a:t>1950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los programadores escribían programas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orbel"/>
              </a:rPr>
              <a:t>Principios de los ‘60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expertos desarrollaron grandes proyectos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orbel"/>
              </a:rPr>
              <a:t>Fines de los ‘60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aparecen los grandes sistemas comerciales de software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el trabajo va más allá de la programación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se crea el término “ingeniería de software”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A553D-A310-49F6-BF7E-CE782458CC57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39" name="Rectangle 2" descr=""/>
          <p:cNvPicPr/>
          <p:nvPr/>
        </p:nvPicPr>
        <p:blipFill>
          <a:blip r:embed="rId1"/>
          <a:stretch/>
        </p:blipFill>
        <p:spPr>
          <a:xfrm>
            <a:off x="414360" y="450720"/>
            <a:ext cx="805320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Rectangle 3"/>
          <p:cNvSpPr/>
          <p:nvPr/>
        </p:nvSpPr>
        <p:spPr>
          <a:xfrm>
            <a:off x="4952880" y="1981080"/>
            <a:ext cx="19051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Rectangle 4"/>
          <p:cNvSpPr/>
          <p:nvPr/>
        </p:nvSpPr>
        <p:spPr>
          <a:xfrm>
            <a:off x="7010280" y="1981080"/>
            <a:ext cx="19051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4952880" y="1981080"/>
            <a:ext cx="19051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443" name="Object 2"/>
          <p:cNvGraphicFramePr/>
          <p:nvPr/>
        </p:nvGraphicFramePr>
        <p:xfrm>
          <a:off x="685800" y="2286000"/>
          <a:ext cx="7924680" cy="3887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44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286000"/>
                    <a:ext cx="7924680" cy="38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5" name="Rectangle 7"/>
          <p:cNvSpPr/>
          <p:nvPr/>
        </p:nvSpPr>
        <p:spPr>
          <a:xfrm>
            <a:off x="380880" y="4876920"/>
            <a:ext cx="8229600" cy="228600"/>
          </a:xfrm>
          <a:prstGeom prst="rect">
            <a:avLst/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6" name="Rectangle 8"/>
          <p:cNvSpPr/>
          <p:nvPr/>
        </p:nvSpPr>
        <p:spPr>
          <a:xfrm>
            <a:off x="380880" y="4648320"/>
            <a:ext cx="2819520" cy="228600"/>
          </a:xfrm>
          <a:prstGeom prst="rect">
            <a:avLst/>
          </a:prstGeom>
          <a:solidFill>
            <a:srgbClr val="a50021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7" name="Rectangle 9"/>
          <p:cNvSpPr/>
          <p:nvPr/>
        </p:nvSpPr>
        <p:spPr>
          <a:xfrm>
            <a:off x="2438280" y="4419720"/>
            <a:ext cx="2438640" cy="228600"/>
          </a:xfrm>
          <a:prstGeom prst="rect">
            <a:avLst/>
          </a:prstGeom>
          <a:solidFill>
            <a:srgbClr val="a50021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8" name="Rectangle 10"/>
          <p:cNvSpPr/>
          <p:nvPr/>
        </p:nvSpPr>
        <p:spPr>
          <a:xfrm>
            <a:off x="4495680" y="4648320"/>
            <a:ext cx="2210040" cy="228600"/>
          </a:xfrm>
          <a:prstGeom prst="rect">
            <a:avLst/>
          </a:prstGeom>
          <a:solidFill>
            <a:srgbClr val="a50021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9" name="Rectangle 11"/>
          <p:cNvSpPr/>
          <p:nvPr/>
        </p:nvSpPr>
        <p:spPr>
          <a:xfrm>
            <a:off x="6248520" y="4419720"/>
            <a:ext cx="2361960" cy="228600"/>
          </a:xfrm>
          <a:prstGeom prst="rect">
            <a:avLst/>
          </a:prstGeom>
          <a:solidFill>
            <a:srgbClr val="a50021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0" name="Text Box 12"/>
          <p:cNvSpPr/>
          <p:nvPr/>
        </p:nvSpPr>
        <p:spPr>
          <a:xfrm>
            <a:off x="14292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950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1" name="Text Box 13"/>
          <p:cNvSpPr/>
          <p:nvPr/>
        </p:nvSpPr>
        <p:spPr>
          <a:xfrm>
            <a:off x="822024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2" name="Text Box 14"/>
          <p:cNvSpPr/>
          <p:nvPr/>
        </p:nvSpPr>
        <p:spPr>
          <a:xfrm>
            <a:off x="189576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960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3" name="Text Box 15"/>
          <p:cNvSpPr/>
          <p:nvPr/>
        </p:nvSpPr>
        <p:spPr>
          <a:xfrm>
            <a:off x="357192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970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4" name="Text Box 16"/>
          <p:cNvSpPr/>
          <p:nvPr/>
        </p:nvSpPr>
        <p:spPr>
          <a:xfrm>
            <a:off x="524844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980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Text Box 17"/>
          <p:cNvSpPr/>
          <p:nvPr/>
        </p:nvSpPr>
        <p:spPr>
          <a:xfrm>
            <a:off x="677232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990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1 Título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Arquitecturas orientadas a servicio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Desarrollos basados en component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Grid comput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Desarrollo dirigidos por modelo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7DF59-713A-43FE-885F-77C16320E7A3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59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304560" y="213372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3000"/>
          </a:bodyPr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Programación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un solo programador escribe todo el programa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programming in the small”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los programadores aprecian el sistema completo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se requiere más tiempo para comunicación que para codificación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cambios de personal afectan la productividad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7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61" name="Object 2" descr=""/>
          <p:cNvPicPr/>
          <p:nvPr/>
        </p:nvPicPr>
        <p:blipFill>
          <a:blip r:embed="rId2"/>
          <a:stretch/>
        </p:blipFill>
        <p:spPr>
          <a:xfrm>
            <a:off x="6781680" y="533520"/>
            <a:ext cx="2013120" cy="19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C5B64-98A0-4089-9B50-13CBFDD64833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63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¿Para qué la Ingeniería de Software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ayuda a construir grandes sistemas de software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ayuda a definir claramente los problemas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programming in the large”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administración, organización, herramientas, teorías, metodologías y técnicas como base para resolver los problemas computacional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BB8FB-5250-4928-86BF-8E0A6CD61135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7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rbel"/>
              </a:rPr>
              <a:t>Clases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rbel"/>
              </a:rPr>
              <a:t>Cátedra: Martes/4 y Jueves/4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rbel"/>
              </a:rPr>
              <a:t>Auxiliar: Viernes/2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rbel"/>
              </a:rPr>
              <a:t>Las transparencias se publicarán regularmente en la página web del curso en UCurs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rbel"/>
              </a:rPr>
              <a:t>Regularmente se mandará leer el capítulo correspondiente de algún libro de Ingeniería de Softwar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rbel"/>
              </a:rPr>
              <a:t>Tareas grupales aproximadamente cada dos semana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rbel"/>
              </a:rPr>
              <a:t>Dos controles de lecturas, dos controles de materia y un examen final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A1BBF-A672-4239-B02F-3767EF7A5767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66" name="Rectangle 2" descr=""/>
          <p:cNvPicPr/>
          <p:nvPr/>
        </p:nvPicPr>
        <p:blipFill>
          <a:blip r:embed="rId1"/>
          <a:stretch/>
        </p:blipFill>
        <p:spPr>
          <a:xfrm>
            <a:off x="414360" y="450720"/>
            <a:ext cx="8053200" cy="1158840"/>
          </a:xfrm>
          <a:prstGeom prst="rect">
            <a:avLst/>
          </a:prstGeom>
          <a:ln w="0">
            <a:noFill/>
          </a:ln>
        </p:spPr>
      </p:pic>
      <p:sp>
        <p:nvSpPr>
          <p:cNvPr id="467" name="PlaceHolder 1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8000"/>
          </a:bodyPr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Los costos de desarrollo de software crecen en comparación con los costos del hardware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Se requiere una producción de software más eficiente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La complejidad de los sistemas grandes de software hace que el desarrollo sea más que la codificación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concepción, diseño, desarrollo, documentación, mantenimiento, evolu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La ingeniería de software continuará creciendo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economía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rol creciente del software en todos los ámbito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7DF92-D0A9-458F-B7C5-E447345236A3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69" name="Rectangle 2" descr=""/>
          <p:cNvPicPr/>
          <p:nvPr/>
        </p:nvPicPr>
        <p:blipFill>
          <a:blip r:embed="rId1"/>
          <a:stretch/>
        </p:blipFill>
        <p:spPr>
          <a:xfrm>
            <a:off x="341280" y="298440"/>
            <a:ext cx="8047080" cy="115884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380880" y="18284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Programador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trabaja solo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conocimiento de estructuras de datos y algoritmos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hábil con varios lenguajes de programa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Ingeniero de software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parte de un equipo de trabajo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conoce estrategias de diseño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traduce necesidades en especificaciones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conocimiento de varias áreas de aplicación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visión del sistema con distintos niveles de abstracción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comunicación e interacción con otras persona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4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4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5754-9260-4FAD-A933-072A4BB82145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472" name="Group 10"/>
          <p:cNvGrpSpPr/>
          <p:nvPr/>
        </p:nvGrpSpPr>
        <p:grpSpPr>
          <a:xfrm>
            <a:off x="685800" y="5973840"/>
            <a:ext cx="7803000" cy="327240"/>
            <a:chOff x="685800" y="5973840"/>
            <a:chExt cx="7803000" cy="327240"/>
          </a:xfrm>
        </p:grpSpPr>
        <p:sp>
          <p:nvSpPr>
            <p:cNvPr id="473" name="Text Box 5"/>
            <p:cNvSpPr/>
            <p:nvPr/>
          </p:nvSpPr>
          <p:spPr>
            <a:xfrm>
              <a:off x="1977480" y="5978520"/>
              <a:ext cx="651132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La IS se ocupa tanto del producto como del proceso</a:t>
              </a:r>
              <a:endParaRPr b="0" lang="en-US" sz="20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74" name="AutoShape 6"/>
            <p:cNvSpPr/>
            <p:nvPr/>
          </p:nvSpPr>
          <p:spPr>
            <a:xfrm>
              <a:off x="685800" y="5973840"/>
              <a:ext cx="1371600" cy="304560"/>
            </a:xfrm>
            <a:prstGeom prst="rightArrow">
              <a:avLst>
                <a:gd name="adj1" fmla="val 50000"/>
                <a:gd name="adj2" fmla="val 112589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pic>
        <p:nvPicPr>
          <p:cNvPr id="475" name="Rectangle 7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3805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t">
            <a:normAutofit fontScale="97000"/>
          </a:bodyPr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El objetivo de la IS es desarrollar productos de </a:t>
            </a:r>
            <a:r>
              <a:rPr b="1" lang="es-ES_tradnl" sz="2400" spc="-1" strike="noStrike">
                <a:solidFill>
                  <a:srgbClr val="000000"/>
                </a:solidFill>
                <a:latin typeface="Corbel"/>
              </a:rPr>
              <a:t>software de calidad</a:t>
            </a: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Dos tipos de productos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genéricos - desarrollados para vender masivamente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a medida - desarrollados para un cliente particular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49532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El desafío es desarrollar software de alta calidad con una cantidad finita de recursos y dentro del plazo planead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El </a:t>
            </a:r>
            <a:r>
              <a:rPr b="1" lang="es-ES_tradnl" sz="2400" spc="-1" strike="noStrike">
                <a:solidFill>
                  <a:srgbClr val="000000"/>
                </a:solidFill>
                <a:latin typeface="Corbel"/>
              </a:rPr>
              <a:t>proceso de desarrollo</a:t>
            </a: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 tiene una incidencia importante en la calidad del product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78" name="14 Grupo" descr=""/>
          <p:cNvPicPr/>
          <p:nvPr/>
        </p:nvPicPr>
        <p:blipFill>
          <a:blip r:embed="rId2"/>
          <a:stretch/>
        </p:blipFill>
        <p:spPr>
          <a:xfrm>
            <a:off x="6907320" y="139680"/>
            <a:ext cx="185868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03433-3752-4EB5-94B5-68B751AD1090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80" name="Rectangle 4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9000"/>
          </a:bodyPr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rbel"/>
              </a:rPr>
              <a:t>Conjunto de actividades y resultados asociados que producen un producto de software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rbel"/>
              </a:rPr>
              <a:t>Actividades fundamentales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9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rbel"/>
              </a:rPr>
              <a:t>especificación de requisitos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9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rbel"/>
              </a:rPr>
              <a:t>diseño, codificación y test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9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rbel"/>
              </a:rPr>
              <a:t>verificación y validación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9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rbel"/>
              </a:rPr>
              <a:t>instalación y evolu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rbel"/>
              </a:rPr>
              <a:t>Distintos tipos de procesos pueden aplicarse para desarrollar un mismo producto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rbel"/>
              </a:rPr>
              <a:t>En general algunos procesos son más apropiados para desarrollar ciertos productos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130DC-71F1-4DED-97C1-78AA5EE63E67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484" name="Object 2"/>
          <p:cNvGraphicFramePr/>
          <p:nvPr/>
        </p:nvGraphicFramePr>
        <p:xfrm>
          <a:off x="685800" y="1846440"/>
          <a:ext cx="8229600" cy="493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46440"/>
                    <a:ext cx="8229600" cy="49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6" name="Rectangle 5" descr=""/>
          <p:cNvPicPr/>
          <p:nvPr/>
        </p:nvPicPr>
        <p:blipFill>
          <a:blip r:embed="rId3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637E5-CDA7-4F96-BC63-7FDEE6771408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88" name="Rectangle 2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grpSp>
        <p:nvGrpSpPr>
          <p:cNvPr id="489" name="Group 16"/>
          <p:cNvGrpSpPr/>
          <p:nvPr/>
        </p:nvGrpSpPr>
        <p:grpSpPr>
          <a:xfrm>
            <a:off x="533520" y="1981080"/>
            <a:ext cx="7924320" cy="4190760"/>
            <a:chOff x="533520" y="1981080"/>
            <a:chExt cx="7924320" cy="4190760"/>
          </a:xfrm>
        </p:grpSpPr>
        <p:sp>
          <p:nvSpPr>
            <p:cNvPr id="490" name="Rectangle 3"/>
            <p:cNvSpPr/>
            <p:nvPr/>
          </p:nvSpPr>
          <p:spPr>
            <a:xfrm>
              <a:off x="533520" y="1981080"/>
              <a:ext cx="1584720" cy="8380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Análisis y</a:t>
              </a:r>
              <a:endParaRPr b="0" lang="en-US" sz="1400" spc="-1" strike="noStrike">
                <a:solidFill>
                  <a:srgbClr val="000000"/>
                </a:solidFill>
                <a:latin typeface="Corbe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especificación de </a:t>
              </a:r>
              <a:endParaRPr b="0" lang="en-US" sz="1400" spc="-1" strike="noStrike">
                <a:solidFill>
                  <a:srgbClr val="000000"/>
                </a:solidFill>
                <a:latin typeface="Corbe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requerimientos</a:t>
              </a:r>
              <a:endParaRPr b="0" lang="en-US" sz="1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cxnSp>
          <p:nvCxnSpPr>
            <p:cNvPr id="491" name="AutoShape 4"/>
            <p:cNvCxnSpPr>
              <a:stCxn id="492" idx="3"/>
              <a:endCxn id="493" idx="0"/>
            </p:cNvCxnSpPr>
            <p:nvPr/>
          </p:nvCxnSpPr>
          <p:spPr>
            <a:xfrm>
              <a:off x="5287680" y="4076640"/>
              <a:ext cx="793080" cy="419760"/>
            </a:xfrm>
            <a:prstGeom prst="bentConnector2">
              <a:avLst/>
            </a:prstGeom>
            <a:ln w="28440">
              <a:solidFill>
                <a:srgbClr val="60b5cc"/>
              </a:solidFill>
              <a:miter/>
              <a:tailEnd len="med" type="triangle" w="med"/>
            </a:ln>
          </p:spPr>
        </p:cxnSp>
        <p:cxnSp>
          <p:nvCxnSpPr>
            <p:cNvPr id="494" name="AutoShape 5"/>
            <p:cNvCxnSpPr>
              <a:stCxn id="493" idx="3"/>
              <a:endCxn id="495" idx="0"/>
            </p:cNvCxnSpPr>
            <p:nvPr/>
          </p:nvCxnSpPr>
          <p:spPr>
            <a:xfrm>
              <a:off x="6872760" y="4914720"/>
              <a:ext cx="793440" cy="419760"/>
            </a:xfrm>
            <a:prstGeom prst="bentConnector2">
              <a:avLst/>
            </a:prstGeom>
            <a:ln w="28440">
              <a:solidFill>
                <a:srgbClr val="60b5cc"/>
              </a:solidFill>
              <a:miter/>
              <a:tailEnd len="med" type="triangle" w="med"/>
            </a:ln>
          </p:spPr>
        </p:cxnSp>
        <p:cxnSp>
          <p:nvCxnSpPr>
            <p:cNvPr id="496" name="AutoShape 6"/>
            <p:cNvCxnSpPr>
              <a:stCxn id="490" idx="3"/>
              <a:endCxn id="497" idx="0"/>
            </p:cNvCxnSpPr>
            <p:nvPr/>
          </p:nvCxnSpPr>
          <p:spPr>
            <a:xfrm>
              <a:off x="2118240" y="2400120"/>
              <a:ext cx="793440" cy="419760"/>
            </a:xfrm>
            <a:prstGeom prst="bentConnector2">
              <a:avLst/>
            </a:prstGeom>
            <a:ln w="28440">
              <a:solidFill>
                <a:srgbClr val="60b5cc"/>
              </a:solidFill>
              <a:miter/>
              <a:tailEnd len="med" type="triangle" w="med"/>
            </a:ln>
          </p:spPr>
        </p:cxnSp>
        <p:cxnSp>
          <p:nvCxnSpPr>
            <p:cNvPr id="498" name="AutoShape 7"/>
            <p:cNvCxnSpPr>
              <a:stCxn id="497" idx="3"/>
              <a:endCxn id="492" idx="0"/>
            </p:cNvCxnSpPr>
            <p:nvPr/>
          </p:nvCxnSpPr>
          <p:spPr>
            <a:xfrm>
              <a:off x="3702960" y="3238200"/>
              <a:ext cx="793080" cy="419760"/>
            </a:xfrm>
            <a:prstGeom prst="bentConnector2">
              <a:avLst/>
            </a:prstGeom>
            <a:ln w="28440">
              <a:solidFill>
                <a:srgbClr val="60b5cc"/>
              </a:solidFill>
              <a:miter/>
              <a:tailEnd len="med" type="triangle" w="med"/>
            </a:ln>
          </p:spPr>
        </p:cxnSp>
        <p:cxnSp>
          <p:nvCxnSpPr>
            <p:cNvPr id="499" name="AutoShape 8"/>
            <p:cNvCxnSpPr>
              <a:endCxn id="490" idx="2"/>
            </p:cNvCxnSpPr>
            <p:nvPr/>
          </p:nvCxnSpPr>
          <p:spPr>
            <a:xfrm rot="10800000">
              <a:off x="1325160" y="2818440"/>
              <a:ext cx="5547600" cy="3004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0" name="Line 9"/>
            <p:cNvSpPr/>
            <p:nvPr/>
          </p:nvSpPr>
          <p:spPr>
            <a:xfrm flipH="1" flipV="1">
              <a:off x="2876040" y="3656880"/>
              <a:ext cx="6840" cy="21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01" name="Line 10"/>
            <p:cNvSpPr/>
            <p:nvPr/>
          </p:nvSpPr>
          <p:spPr>
            <a:xfrm flipV="1">
              <a:off x="4461120" y="4495680"/>
              <a:ext cx="0" cy="132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02" name="Line 11"/>
            <p:cNvSpPr/>
            <p:nvPr/>
          </p:nvSpPr>
          <p:spPr>
            <a:xfrm flipV="1">
              <a:off x="6045840" y="5333760"/>
              <a:ext cx="0" cy="48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97" name="Rectangle 12"/>
            <p:cNvSpPr/>
            <p:nvPr/>
          </p:nvSpPr>
          <p:spPr>
            <a:xfrm>
              <a:off x="2118240" y="2819160"/>
              <a:ext cx="1585080" cy="8380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Diseño</a:t>
              </a:r>
              <a:endParaRPr b="0" lang="en-US" sz="1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92" name="Rectangle 13"/>
            <p:cNvSpPr/>
            <p:nvPr/>
          </p:nvSpPr>
          <p:spPr>
            <a:xfrm>
              <a:off x="3703320" y="3657240"/>
              <a:ext cx="1584720" cy="8380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Codificación y</a:t>
              </a:r>
              <a:endParaRPr b="0" lang="en-US" sz="1400" spc="-1" strike="noStrike">
                <a:solidFill>
                  <a:srgbClr val="000000"/>
                </a:solidFill>
                <a:latin typeface="Corbe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Test de Módulos</a:t>
              </a:r>
              <a:endParaRPr b="0" lang="en-US" sz="1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93" name="Rectangle 14"/>
            <p:cNvSpPr/>
            <p:nvPr/>
          </p:nvSpPr>
          <p:spPr>
            <a:xfrm>
              <a:off x="5288040" y="4495680"/>
              <a:ext cx="1584720" cy="8380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Integración y</a:t>
              </a:r>
              <a:endParaRPr b="0" lang="en-US" sz="1400" spc="-1" strike="noStrike">
                <a:solidFill>
                  <a:srgbClr val="000000"/>
                </a:solidFill>
                <a:latin typeface="Corbe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Test del Sistema</a:t>
              </a:r>
              <a:endParaRPr b="0" lang="en-US" sz="1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95" name="Rectangle 15"/>
            <p:cNvSpPr/>
            <p:nvPr/>
          </p:nvSpPr>
          <p:spPr>
            <a:xfrm>
              <a:off x="6872760" y="5333760"/>
              <a:ext cx="1585080" cy="8380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Instalación y</a:t>
              </a:r>
              <a:endParaRPr b="0" lang="en-US" sz="1400" spc="-1" strike="noStrike">
                <a:solidFill>
                  <a:srgbClr val="000000"/>
                </a:solidFill>
                <a:latin typeface="Corbe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Mantenimiento</a:t>
              </a:r>
              <a:endParaRPr b="0" lang="en-US" sz="14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65EF5-DE87-420E-B99D-8CC16129C282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0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Los grupos de trabajo deberán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tener tres personas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decidirse antes del martes 5 de agosto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mandarme un mail informándome la conformación de los grupos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quien para el martes 4 no tenga grupo será asignado arbitrariament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6A7A2-4131-417A-BB7F-D99BFB7ECA0E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3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533160" y="19810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9000"/>
          </a:bodyPr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Tareas</a:t>
            </a: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Controles</a:t>
            </a: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Control I</a:t>
            </a: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33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Control II</a:t>
            </a: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33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Controles de lectura</a:t>
            </a: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33 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3440" indent="0">
              <a:buNone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Con 5.5 de promedio en tareas </a:t>
            </a:r>
            <a:r>
              <a:rPr b="1" lang="es-CL" sz="3200" spc="-1" strike="noStrike">
                <a:solidFill>
                  <a:srgbClr val="000000"/>
                </a:solidFill>
                <a:latin typeface="Corbel"/>
              </a:rPr>
              <a:t>y</a:t>
            </a: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 5.5 en controles se puede eximir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4B19-0548-4C90-9019-70638DAE3123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6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Definición de Ingeniería de Softwar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Principios y Cualidades del Software y su Desarrollo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Modelos de ciclo de vida del softwar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Etapas del ciclo de vida del software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especificación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diseño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verificación y validació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Proceso de Desarrollo de Softwar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A2C1F-A2C7-4A74-92D4-180F60F569BD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9" name="Rectangle 2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3"/>
          <p:cNvSpPr/>
          <p:nvPr/>
        </p:nvSpPr>
        <p:spPr>
          <a:xfrm>
            <a:off x="1295280" y="308916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60b5cc"/>
                </a:solidFill>
                <a:latin typeface="Tahoma"/>
              </a:rPr>
              <a:t>¿Qué es la Ingeniería de Software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3DC7E-9EA9-487D-8654-C484020B1888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2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214200" y="1856880"/>
            <a:ext cx="8786880" cy="44643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0000"/>
          </a:bodyPr>
          <a:p>
            <a:pPr marL="394200" indent="-2869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¿Qué es la tecnología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Aplicación de la ciencia para la resolución de problemas práctic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¿Qué es la ingeniería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Aplicación de la tecnología en presencia de recursos limitad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Pero, ¿qué es la ciencia y cuándo estamos aplicando la ciencia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Cuerpo de doctrina metódicamente formado y ordenado, que constituye una rama particular del sabe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Modelos de la realidad cuyo comportamiento es explicable y que permiten predecir el comportamiento de situaciones similare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70C36-36A3-40D8-8C8A-FCD12FB0B17F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5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rbel"/>
              </a:rPr>
              <a:t>Entonces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La ingeniería de software es la aplicación de la ciencia para la construcción de software en presencia de recursos limitado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rbel"/>
              </a:rPr>
              <a:t>Pero, ¿qué es el software? y ¿qué ciencia se aplica en su construcción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21C59-373B-4CF6-8E32-21374E236CED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8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213840" y="1714320"/>
            <a:ext cx="8401320" cy="4857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89000"/>
          </a:bodyPr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El software es una serie de programas, conjuntamente con todos los documentos asociados y la configuración de datos que se necesitan para que los programas operen de manera correcta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49440" indent="-24264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Programa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885600" indent="-2034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ejecutables, de instalación, de reconfiguración, etc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9440" indent="-24264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Documentació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885600" indent="-2034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requisitos, diseño, pruebas, código fuente, manuales de usuario, etc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9440" indent="-24264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Dato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885600" indent="-2034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datos de la aplicación, parámetros de configuración, etc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8T15:49:29Z</dcterms:created>
  <dc:creator>DCC</dc:creator>
  <dc:description/>
  <dc:language>en-US</dc:language>
  <cp:lastModifiedBy>DCC</cp:lastModifiedBy>
  <dcterms:modified xsi:type="dcterms:W3CDTF">2009-07-28T16:22:27Z</dcterms:modified>
  <cp:revision>4</cp:revision>
  <dc:subject/>
  <dc:title>CC31B – Desarrollo de Software de Aplicación</dc:title>
</cp:coreProperties>
</file>