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A70-828D-42BA-B4BB-483F6E5EDF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E4D-4108-4CCE-972E-9BA4720A183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516-A6BE-4EFB-AA66-5138521D3EE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0D9-3162-4375-9CF7-8E85216661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E0D-846B-42E6-96B3-C892D0AD4A1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37EC-5D37-4F54-B064-8D232159F85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F9EE-D68C-429A-BFEA-DF1AC132120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343-F495-45A2-87DB-161E55ECFE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308A-732B-481E-B74D-CC3B05724C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9991-BA36-4A6B-8A7D-B83A752737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664-E1A8-4A1E-8326-C5A9280200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4167-640B-4F3F-A38A-4A3F00D1AC7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FE56-26F9-4214-969E-2F8BD3B6ECF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427-8F88-4F62-B89F-39ABF2FD4D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DB5-C1FF-4CD8-956A-98DA0C9CD8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84B-2366-42E5-93CB-A04E110231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BCF-AD99-4333-901C-1A0246B33F6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798-44DB-489B-ABC0-2FA849560CA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1F4-7935-40EE-9B4E-27D653DC431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C48-CE65-4621-BCB6-EBA28E742AF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0F0-6E24-4234-9E73-B89D344995A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FBD-4822-4209-97DB-3F5282C77B2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AB13-A799-401B-942F-45567910149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925-9942-4618-9CBA-96DCE12488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757-90F3-4A07-922A-11F6AFD5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0D5-CA45-4B87-B366-CEA157D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0F8-07FE-47D1-A364-09A1E2EA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EF3-6AB6-4565-85CD-103671F8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EE4-931C-4586-BDD5-2350D670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878-B943-43A1-908F-5016D643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99CC-C65A-47D1-9705-0FD9778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0F5-D750-48E8-B846-DE78D15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80D-52E3-4CA9-9C9B-786D3CF2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004-6001-4FA7-B453-C4E1F593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92B0-A1BF-4A69-A9C3-A581F84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C36-52E2-4EFF-B658-E3008DD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A2A5-4F51-4779-A60A-D857975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BD55-0EEE-4266-82B9-A0A08C8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3BE3-919B-41F9-A18A-329C661B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6495-495D-4CDC-B864-14D005D9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FA70-694C-4715-913D-B071E5D2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5169-50E4-45AF-9C52-15BDA05F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12CD-BAED-45C8-80FF-5A72EFE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EB63-0E6C-42E3-9768-4018D8E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ABEC-A1C7-409A-86DD-930A89D2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E445-47DD-4E9A-ADCC-7A3320DC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67B-03F8-4DB4-9B03-690DF69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9B47-A22E-4A62-B5D6-D5486AC0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E377-7D09-4393-97D0-5127E98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9D28-64C9-4274-BED1-E33730B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4A83-EA22-4F29-8870-369BAE9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1D46-7CC1-47A9-964E-B51978B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38B8-7048-4863-894A-C8C639F9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F0E4-F0C8-461C-8732-4F84174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EF1F-9531-41A2-A373-582B1875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00DF-D837-46A0-ABE3-8D42837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F491-09F8-496A-9B43-55A5575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FB0-9B40-476C-8489-88AB190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2D75-8014-400D-9C9E-315DEF4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265A-C589-44E6-9B22-9ABD90F1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2C7D-6C6E-4817-9885-6566B27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A98C-DF7E-4724-BB91-3E0EEEB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9596-90A2-4C8F-A93B-204BAE9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5496-4C6F-43FB-A61B-556B909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789C-5E6A-474E-B834-9DD72C3F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976B-805E-4185-A9A5-3B074BF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7BEE1-F98B-45A7-97AD-B5506C4B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60F7-D166-4D2C-9033-D75B60C3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247-9948-4C13-9884-24EEDA9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073D-0958-4F0B-AF32-C8EBD88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0C9A9-7EE9-42CD-9783-78FC2F8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3D20-83A5-41B4-8EBD-B86A60D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9DD6-99C4-476E-967E-EF10CE4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65EE-BCE1-41CC-A513-440AD218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37C8-2CDC-4E65-A078-86189B6A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4EC5-2B74-453A-9EFF-E9B26EF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0D3A-7B15-47D8-927D-4B327E1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1F11-7D70-4703-B628-B90CD01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A3AD-0E4D-472A-A7EF-CCB963E4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276-1F1D-4288-9908-88871D2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1169-3054-4839-82F9-43A22EAD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6B3D-492F-442A-82DA-39E2E33A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A4FA-B263-4510-AA0E-CFC0DEB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EBAF-0AD4-49E2-8121-6DF1B26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961F-A97E-4F8E-AC1E-03A0066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2F9E-CB6A-4490-9B5F-60D3678F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A868-5122-4B8D-B1AC-7BC3AAD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D9A8-744B-473C-A3C4-05F4C0E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472F-6A33-4BC0-AA7C-A1C42C5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61F4-11ED-4BA7-B0C7-673F03F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BA4-D75F-43EA-811F-8E4BB79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F008-4E94-4D7F-8529-5F01C59B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FFB4-E975-4D88-BA38-49E4FF9C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5879-6699-41D2-9FC0-7A2B86C2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1C68-0135-4B3F-A1EF-E7A69D56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9C815-D168-4015-A918-2FCE15DE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19BA-7BC9-491E-94F9-4A9C37A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447EF-0249-4042-97AD-900C0F9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F17F-CB55-4299-9EAB-B31F2C44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D1B9-88EB-43EE-BF46-5795E28B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D143-9157-43D0-9C55-ABA4433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333-4A73-4B0F-90C6-9076FE3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0776-B9E2-4B09-93DC-E6AE044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85F4F-86E3-486D-80FB-E32DA73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B62F-6B7B-46EA-BF39-E800DCB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8BAB2-321A-4D46-B2BC-AB440661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8B1F8-CADC-4277-8725-8CD0A702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1F7E-38DA-49F1-8F97-7EC49BDF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7D3D-DB41-4159-8D8D-19DDAA2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A3E3E-DA4E-4A04-815A-F5FAEAB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E87F-8D91-4D4E-B97A-F9F5E51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EF63-47AC-4250-AF6B-0F878A5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1A0-1D00-49D4-BB97-AB30DC3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83EFC-F49C-4D9E-902E-BA6D39B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71D8-B1F7-4B8F-B5EE-7D1372A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E7C1E-8CCA-460C-96CB-192D5A0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2CFE3-5473-4B27-8A9A-0B1D540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74D7-1867-4C90-89EA-E441F21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6E501-60C0-4101-ABF3-A92C329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CC84-F3E0-43EA-863B-4AE0088B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4A8A-ADB9-4B77-804B-5B4F89B65678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BE3-D0C9-49EA-87A7-532A45D2AD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E810-349D-4FCD-9EA5-2467CF32E2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693-9ECC-4743-A516-B180A3646A65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51E9-2D8C-4B19-B5C8-ED5FA7972174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B01F-E77A-4E2A-BB1B-E691BC6F159B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4F3-AA20-422C-9997-F19AB441416E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D3A-4120-4D9D-A7EB-7BBE5FE4AAFB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Otoño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921A-B4BD-4781-BF2B-24DD874F084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418-515F-485F-B24A-B8AF7992AC8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6FE1-DE53-4E96-A9FC-E95E932548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F28-1E88-460C-BD30-1CCBE9C9642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31B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36D-41B7-4DD2-9F59-AB6616DC5E6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90D-CA6A-41E1-8847-EC0506F8A03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509-F859-4082-AD6B-A6459B7B025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 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s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6B6-F6FF-439F-B8D7-391A454D5E8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2B3-1C3A-4AC2-8E8C-A2EBFE831D4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46D-FA61-42AC-A13C-4E0C9ABDF04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AEA8-E710-4BC7-A969-36D43E0D3C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3AA-2351-4615-ABF2-A6D1EB92D13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5D0-1331-46B1-B779-F929A5408A8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473" name="Text Box 5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FB76-3EC6-4B36-AB03-3E5515495D6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09C3-82D9-4385-84BA-B43679CB4A8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C99-5ED2-4557-9AE3-63901C97FE5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AEA-6E76-4785-BD47-758732A9E9F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5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4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11C-B97C-486F-9DDB-657F8A08E2C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C112-31B1-4AB3-B94E-A2B5D60FE0C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E1A-AE4A-49FF-ADB8-03B8E61749E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E94-CC02-415B-86A0-6356E2F02F6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697-07E3-4BC5-97C0-EDAF378884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9F1-42B0-4A61-8E63-99A0841620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28T16:22:27Z</dcterms:modified>
  <cp:revision>4</cp:revision>
  <dc:subject/>
  <dc:title>CC31B – Desarrollo de Software de Aplicación</dc:title>
</cp:coreProperties>
</file>