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0F0-6D6B-4657-8BA8-7645A140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FF1-F896-4568-8EBE-DCCEB23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070-A4DF-4BAE-B408-8EEA894C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805-C2C2-4198-B505-6D0AD2C7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CE4-94A9-4D4A-B924-7A5E6CA6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8E6-E88A-4636-9524-72F0C66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5CE-CACA-49B0-9D55-16CDAAE2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1A0-EF94-4D6D-97FB-D2B45DB0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851-4D85-4DF1-A5B6-591C052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E27-E1AB-4E4A-93E8-1A35243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0F5-6498-4D24-8C09-0D9F3C3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104-4E2C-49C3-812B-0F48686F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C36-55C3-457F-AC73-84742C61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77920"/>
          <a:ext cx="8793000" cy="75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8793000" cy="75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Escribir los métodos ok y 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k(x,y,z): 1 si x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Є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[y,z]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, 0 si no. Ej:ok(1.5,1,2)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//calcular nota final del cur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C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T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ota Final =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X=70%NC + 30%NT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 y N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I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4 y 3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NT&lt;4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R si NC&lt;4 o NT&lt;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rograma debe terminar si algún dato está fuera de ran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9145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y&lt;=x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lt;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90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nota final = “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0.7*nc+0.3*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&amp;&amp;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0.7*nc+0.3*nt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lt;4 || nt&lt;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puesto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. Considerar también el requisito de tener 20 ejercic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Nº de ejercicios (0-30)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88960" y="488880"/>
          <a:ext cx="8204040" cy="75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88880"/>
                    <a:ext cx="8204040" cy="75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9880" y="498600"/>
          <a:ext cx="793440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9344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4440"/>
          <a:ext cx="725328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4440"/>
                    <a:ext cx="725328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9-08-04T19:35:06Z</dcterms:modified>
  <cp:revision>33</cp:revision>
  <dc:subject/>
  <dc:title>Sin título de diapositiva</dc:title>
</cp:coreProperties>
</file>