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6F01-4039-4ADC-A660-568A8B6B2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336D-87C0-4FEE-952A-F23856EC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9A74-2FA0-4C8A-BE7F-46395EF8D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AC03-2EA6-460E-88D6-7CFEB3F28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7125-DAD6-4EC3-AF18-6E51D7C6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2177-93B1-4080-B5E1-1C237A67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AF33-F8A5-4BFF-88D4-54BB33D5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05A6-887E-47E3-BE4D-1D232CEE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80E2-6F3A-405A-9DD2-19A10326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696D-EC2C-4F3C-A375-991A48A1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878C-5D61-4A53-B2E1-FCD3EFDB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27BA-2D58-4B99-BC4A-73B6FE29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89B1-1F24-4909-A9E0-DEE45F9E8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04920" y="277920"/>
          <a:ext cx="8793000" cy="751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77920"/>
                    <a:ext cx="8793000" cy="75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07960" y="406440"/>
          <a:ext cx="8534520" cy="678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06440"/>
                    <a:ext cx="8534520" cy="67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965160" y="606600"/>
          <a:ext cx="7867800" cy="59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606600"/>
                    <a:ext cx="786780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200240" y="841320"/>
          <a:ext cx="740880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841320"/>
                    <a:ext cx="740880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939636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Ejercicio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. Escribir los métodos ok y m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class Programa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ok(x,y,z): 1 si x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Є</a:t>
            </a:r>
            <a:r>
              <a:rPr b="1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[y,z]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, 0 si no. Ej:ok(1.5,1,2)=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ok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double x,double y,double z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//calcular nota final del cur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String[]arg)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Diálogo del programa princip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NC (1.0-7.0) ? __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NT (1.0-7.0) ? __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Nota Final = 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X=70%NC + 30%NT si NC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4 y NT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X=I si NC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4 y 3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NT&lt;4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X=R si NC&lt;4 o NT&lt;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El programa debe terminar si algún dato está fuera de rang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0920" y="333360"/>
            <a:ext cx="914544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ok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double x,double y,double z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f( y&lt;=x </a:t>
            </a: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x&lt;=z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ok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double x,double y,double z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f( x&lt;y </a:t>
            </a: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x&gt;z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ok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double x,double y,double z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f(x&lt;y </a:t>
            </a: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x&gt;z) return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89000"/>
            <a:ext cx="91440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String[]ar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throws IO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ouble nc=U.readDouble(“NC (1.0-7.0)?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ouble nt=U.readDouble(“NT (1.0-7.0)?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f(ok(nc,1,7)==0 </a:t>
            </a: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||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ok(nt,1,7)==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U.println(“error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U.println(“nota final = “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f( nc&gt;=4 </a:t>
            </a: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nt&gt;=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U.println(0.7*nc+0.3*nt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se if(nc&gt;=4 </a:t>
            </a: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nt&gt;=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U.println(“I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U.println(“R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9000"/>
            <a:ext cx="9144000" cy="58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ouble nc=U.readDouble(“NC (1.0-7.0)?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f(ok(nc,1,7)==0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U.println(“error”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ouble nt=U.readDouble(“NT (1.0-7.0)?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f(ok(nt,1,7)==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U.println(“error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se if(nc&gt;=4 &amp;&amp; nt&gt;=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U.println(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“nota final 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0.7*nc+0.3*nt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se if(nc&lt;4 || nt&lt;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U.println(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“nota final =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R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U.println(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“nota final =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Times New Roman"/>
              </a:rPr>
              <a:t>Propuesto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. Considerar también el requisito de tener 20 ejercici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Nº de ejercicios (0-30)? __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901800" y="698400"/>
          <a:ext cx="7532640" cy="696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698400"/>
                    <a:ext cx="7532640" cy="69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588960" y="488880"/>
          <a:ext cx="8204040" cy="756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960" y="488880"/>
                    <a:ext cx="8204040" cy="756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39880" y="498600"/>
          <a:ext cx="7934400" cy="621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498600"/>
                    <a:ext cx="7934400" cy="62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475560"/>
            <a:ext cx="8424720" cy="60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3 (más nat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int x, int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 x &gt; y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058760" y="685800"/>
          <a:ext cx="7759800" cy="688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685800"/>
                    <a:ext cx="7759800" cy="68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058760" y="685800"/>
          <a:ext cx="7759800" cy="688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685800"/>
                    <a:ext cx="7759800" cy="68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914400" y="514440"/>
          <a:ext cx="7253280" cy="564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4440"/>
                    <a:ext cx="7253280" cy="56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988920" y="642960"/>
          <a:ext cx="801684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42960"/>
                    <a:ext cx="801684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014480" y="803160"/>
          <a:ext cx="789156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03160"/>
                    <a:ext cx="789156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058760" y="806400"/>
          <a:ext cx="7543800" cy="543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806400"/>
                    <a:ext cx="754380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jalvarez</cp:lastModifiedBy>
  <cp:lastPrinted>2006-03-17T17:08:51Z</cp:lastPrinted>
  <dcterms:modified xsi:type="dcterms:W3CDTF">2009-08-04T19:35:06Z</dcterms:modified>
  <cp:revision>33</cp:revision>
  <dc:subject/>
  <dc:title>Sin título de diapositiva</dc:title>
</cp:coreProperties>
</file>