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569-CEFB-4CD0-B4DB-DDFDB90C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7E3-8A93-4495-87B6-9AEFFF1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981-972D-4FE4-93DF-86A13741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2FF-1BC3-4383-9018-5CCEF328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CC2-377B-494D-B1C2-814E265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EA6-F61F-47BB-AAB6-F436CAA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330-CF4A-4CF6-B909-FB50BEC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386-8534-41B6-A68A-32DB473D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40FF-E17B-46D6-95C9-1E126D9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55F-2D61-4CD1-B222-C6FA240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F8C-19A6-4014-B266-3A3D9DF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8F0-9659-4832-91E4-141CB4C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F318-AB2A-482D-88DA-9AA87763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277920"/>
          <a:ext cx="8793000" cy="75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8793000" cy="75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7960" y="406440"/>
          <a:ext cx="8534520" cy="67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06440"/>
                    <a:ext cx="853452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9396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. Escribir los métodos ok y m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k(x,y,z): 1 si x </a:t>
            </a: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Є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[y,z]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, 0 si no. Ej:ok(1.5,1,2)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//calcular nota final del cur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iálogo del programa princip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C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T (1.0-7.0) 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Nota Final = 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X=70%NC + 30%NT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 y NT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I si NC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4 y 3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NT&lt;4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X=R si NC&lt;4 o NT&lt;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l programa debe terminar si algún dato está fuera de ran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91454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y&lt;=x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lt;=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ok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x&lt;y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x&gt;z) return 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90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String[]ar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||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nota final = “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 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0.7*nc+0.3*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nt&gt;=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0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c=U.readDouble(“NC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c,1,7)==0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ouble nt=U.readDouble(“NT (1.0-7.0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(ok(nt,1,7)==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“erro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gt;=4 &amp;&amp; nt&gt;=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0.7*nc+0.3*nt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 if(nc&lt;4 || nt&lt;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“nota final =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puesto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. Considerar también el requisito de tener 20 ejercici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Nº de ejercicios (0-30)? _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01800" y="698400"/>
          <a:ext cx="7532640" cy="696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698400"/>
                    <a:ext cx="7532640" cy="69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88960" y="488880"/>
          <a:ext cx="8204040" cy="75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88880"/>
                    <a:ext cx="8204040" cy="75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39880" y="498600"/>
          <a:ext cx="793440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93440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14400" y="514440"/>
          <a:ext cx="725328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4440"/>
                    <a:ext cx="725328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09-08-04T19:35:06Z</dcterms:modified>
  <cp:revision>33</cp:revision>
  <dc:subject/>
  <dc:title>Sin título de diapositiva</dc:title>
</cp:coreProperties>
</file>