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5F2-8D17-4863-9543-F2B3B7A2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FDF-0265-403F-B6F6-FF936695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B81-FC17-438A-9BFE-E00337CA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516-13DD-46D7-B286-A33FD640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CC5-E075-473A-9263-851246B5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A4E-2565-442F-9CAE-38EBA79D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B3A-851A-40BF-993A-B21A4D0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3D9-6ECE-48D3-8451-E806DDE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F61-59FD-469F-AA69-7992D37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005-11A7-49AC-AAC1-53BE7DD7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892-FF85-44A8-A466-FA8A288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384-5D90-4C86-8EA6-D11574D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2D2-A7E9-4920-9BBF-073791598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77920"/>
          <a:ext cx="8793000" cy="75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7920"/>
                    <a:ext cx="8793000" cy="75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. Escribir los métodos ok y 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k(x,y,z): 1 si x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Є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[y,z]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, 0 si no. Ej:ok(1.5,1,2)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//calcular nota final del cur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C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T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ota Final =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X=70%NC + 30%NT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 y N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I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4 y 3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NT&lt;4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R si NC&lt;4 o NT&lt;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rograma debe terminar si algún dato está fuera de ran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3360"/>
            <a:ext cx="9145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y&lt;=x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lt;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90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nota final = “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0.7*nc+0.3*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90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&amp;&amp;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0.7*nc+0.3*nt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lt;4 || nt&lt;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puesto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. Considerar también el requisito de tener 20 ejercic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Nº de ejercicios (0-30)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88960" y="488880"/>
          <a:ext cx="8204040" cy="756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488880"/>
                    <a:ext cx="8204040" cy="75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9880" y="498600"/>
          <a:ext cx="793440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9344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4440"/>
          <a:ext cx="725328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4440"/>
                    <a:ext cx="725328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9-08-04T19:35:06Z</dcterms:modified>
  <cp:revision>33</cp:revision>
  <dc:subject/>
  <dc:title>Sin título de diapositiva</dc:title>
</cp:coreProperties>
</file>