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D8F-B837-40B3-AD64-326A5D91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AEF-CBA4-4584-88CA-0505F58D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0CB-DD1E-43EF-A7F6-5070119A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7DD-17C4-4C98-918C-0AC9189E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6755-8E94-45CD-B46A-4ED0D0FC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9C0-AD53-4A6E-A958-DA39B41C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14E-BB1A-4587-A66B-A03A237C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968-63DA-498F-ABCE-1E8E1B23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CC9-7BFE-4530-AC68-A31FDDA0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08A-695F-4B37-A7CA-98C748C8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B9C-4202-4D5E-8177-FA4ACA3F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E10-5C40-40CA-A2CD-2F5E1395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BCAF-47AF-4C1B-B265-07D487A92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7680" y="411120"/>
          <a:ext cx="853416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11120"/>
                    <a:ext cx="853416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77720" y="463680"/>
          <a:ext cx="8440920" cy="58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3680"/>
                    <a:ext cx="844092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9480" y="622440"/>
          <a:ext cx="7832880" cy="54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22440"/>
                    <a:ext cx="783288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3720" y="490680"/>
          <a:ext cx="822960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490680"/>
                    <a:ext cx="822960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3600" y="469800"/>
          <a:ext cx="8497800" cy="58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9800"/>
                    <a:ext cx="84978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57120" y="463680"/>
          <a:ext cx="8494920" cy="588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3680"/>
                    <a:ext cx="8494920" cy="58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57120" y="463680"/>
          <a:ext cx="8481960" cy="58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3680"/>
                    <a:ext cx="848196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3680" y="490680"/>
          <a:ext cx="8362800" cy="60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90680"/>
                    <a:ext cx="8362800" cy="60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4200" y="484200"/>
          <a:ext cx="85662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84200"/>
                    <a:ext cx="8566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63600" y="698400"/>
          <a:ext cx="82692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98400"/>
                    <a:ext cx="82692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76200" y="496800"/>
          <a:ext cx="8659800" cy="711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96800"/>
                    <a:ext cx="8659800" cy="71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09-07-29T13:07:14Z</dcterms:modified>
  <cp:revision>44</cp:revision>
  <dc:subject/>
  <dc:title>Sin título de diapositiva</dc:title>
</cp:coreProperties>
</file>