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AF0-AEF7-4435-B908-FDDF5FDF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BDD-BA74-4003-BBEC-31089D94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272-8763-4997-BE90-DBC9403C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93C-415E-48E8-84A7-1AB3EA4B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519-41ED-4AF9-AA5F-A4F4C339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706-724C-4846-AE2A-6D2BFBE6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1DC-6030-4DB8-80D0-BC3DD86A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53E-D86E-41F7-9FDB-57193308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FC5-20E1-4EA4-8442-BF5E3A21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0BD-9350-4E9F-AB24-B90CECB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8F2-0BCE-4550-955F-4FD615A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B7E-E81E-4E50-8690-2FD4663B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6FBA-2DA5-4E40-85C4-5B46321BD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7680" y="411120"/>
          <a:ext cx="853416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11120"/>
                    <a:ext cx="85341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77720" y="463680"/>
          <a:ext cx="844092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3680"/>
                    <a:ext cx="8440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622440"/>
          <a:ext cx="7832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22440"/>
                    <a:ext cx="7832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3720" y="490680"/>
          <a:ext cx="82296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490680"/>
                    <a:ext cx="822960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57120" y="463680"/>
          <a:ext cx="8494920" cy="58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94920" cy="58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463680"/>
          <a:ext cx="8481960" cy="58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8196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3680" y="490680"/>
          <a:ext cx="8362800" cy="60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90680"/>
                    <a:ext cx="836280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9-07-29T13:07:14Z</dcterms:modified>
  <cp:revision>44</cp:revision>
  <dc:subject/>
  <dc:title>Sin título de diapositiva</dc:title>
</cp:coreProperties>
</file>