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5BDB-74AD-4D20-AC13-3CF1B448B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0773-DCFE-4C76-A99F-D9FA35EB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09DA-8C66-434D-8022-8FFD6B934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02F0-507D-490B-B0B2-FE66FCA5D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1922-1817-42DF-8FE0-2144571A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7FFB-80CA-4CEE-AB98-2ECEF20E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7176-97E3-4D69-BC90-86B94BAD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9FA6-730F-4642-954F-9A616105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B396-4354-40D7-8AD4-E81EB748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1F05-8FDD-47A8-8ADD-8EB9F9D4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5012-3CF4-46B8-88BA-541EACEB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CA7B-0F15-4755-BDEB-5F4CEDB0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4D7E-2C55-4B59-B0C2-ABFFC5911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17680" y="411120"/>
          <a:ext cx="8534160" cy="712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411120"/>
                    <a:ext cx="8534160" cy="71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209520" y="754200"/>
          <a:ext cx="8783640" cy="545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754200"/>
                    <a:ext cx="878364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77720" y="463680"/>
          <a:ext cx="8440920" cy="583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463680"/>
                    <a:ext cx="8440920" cy="58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09480" y="622440"/>
          <a:ext cx="7832880" cy="543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22440"/>
                    <a:ext cx="7832880" cy="54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23720" y="490680"/>
          <a:ext cx="8229600" cy="575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3720" y="490680"/>
                    <a:ext cx="8229600" cy="57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63600" y="469800"/>
          <a:ext cx="8497800" cy="589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469800"/>
                    <a:ext cx="8497800" cy="58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57120" y="463680"/>
          <a:ext cx="8494920" cy="588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463680"/>
                    <a:ext cx="8494920" cy="58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357120" y="463680"/>
          <a:ext cx="8481960" cy="589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463680"/>
                    <a:ext cx="8481960" cy="58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46120" y="482760"/>
          <a:ext cx="8458200" cy="767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482760"/>
                    <a:ext cx="8458200" cy="76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63680" y="490680"/>
          <a:ext cx="8362800" cy="606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490680"/>
                    <a:ext cx="8362800" cy="60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11360" y="736560"/>
          <a:ext cx="8051760" cy="53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736560"/>
                    <a:ext cx="8051760" cy="53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20560" y="647640"/>
          <a:ext cx="8344080" cy="57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647640"/>
                    <a:ext cx="83440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92280" y="544680"/>
          <a:ext cx="776916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44680"/>
                    <a:ext cx="776916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84200" y="484200"/>
          <a:ext cx="856620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84200"/>
                    <a:ext cx="85662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63600" y="698400"/>
          <a:ext cx="8269200" cy="593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698400"/>
                    <a:ext cx="8269200" cy="59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76200" y="496800"/>
          <a:ext cx="8659800" cy="711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496800"/>
                    <a:ext cx="8659800" cy="711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alvarez</dc:creator>
  <dc:description/>
  <dc:language>en-US</dc:language>
  <cp:lastModifiedBy>jalvarez</cp:lastModifiedBy>
  <cp:lastPrinted>2006-03-14T15:11:26Z</cp:lastPrinted>
  <dcterms:modified xsi:type="dcterms:W3CDTF">2009-07-29T13:07:14Z</dcterms:modified>
  <cp:revision>44</cp:revision>
  <dc:subject/>
  <dc:title>Sin título de diapositiva</dc:title>
</cp:coreProperties>
</file>