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9DC-E0CC-436C-898B-233B85A2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47A-2CBB-4B74-A7A4-83079237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D85-7E24-4637-9C45-ED1E3954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F17-68C9-447B-99B5-39DA2AEA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476-9911-49AF-ABAE-CADA235D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13B-589A-4067-849F-D3E26EC7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DCA-196F-4B23-B95E-FA6C12BA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BB0-6A5A-421B-A9D4-C39AB52F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9A9-D96F-47FA-8567-B4E66D6F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5AE-8635-4173-A2C4-2C0BAA12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233-5E55-4389-B353-505A0BD5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3CE-406F-42D1-84DC-D3D21D1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30C8-9CF1-41B7-A84D-417FD5584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7680" y="411120"/>
          <a:ext cx="853416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11120"/>
                    <a:ext cx="853416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77720" y="463680"/>
          <a:ext cx="844092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3680"/>
                    <a:ext cx="844092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9480" y="622440"/>
          <a:ext cx="7832880" cy="54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22440"/>
                    <a:ext cx="783288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3720" y="490680"/>
          <a:ext cx="822960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490680"/>
                    <a:ext cx="822960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3600" y="469800"/>
          <a:ext cx="8497800" cy="58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9800"/>
                    <a:ext cx="84978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57120" y="463680"/>
          <a:ext cx="8494920" cy="58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94920" cy="58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57120" y="463680"/>
          <a:ext cx="8481960" cy="58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8196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3680" y="490680"/>
          <a:ext cx="8362800" cy="60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90680"/>
                    <a:ext cx="8362800" cy="60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4200" y="484200"/>
          <a:ext cx="8566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56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63600" y="698400"/>
          <a:ext cx="82692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98400"/>
                    <a:ext cx="82692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76200" y="496800"/>
          <a:ext cx="8659800" cy="71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96800"/>
                    <a:ext cx="865980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9-07-29T13:07:14Z</dcterms:modified>
  <cp:revision>44</cp:revision>
  <dc:subject/>
  <dc:title>Sin título de diapositiva</dc:title>
</cp:coreProperties>
</file>