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793-4FE0-4F68-A18B-2AFC27B8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1F6-D1B1-4B9F-B171-A290E17C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1CA-025F-468E-ADD2-E2F56FAD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B28-AF72-47E3-97E2-A910A6F1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F84-DC7E-4767-80DA-A1B202DF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BD8-E2B9-4AA9-ADF7-DEC30728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669-879C-41B3-871E-7F7D13B8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55A-6A1E-43EC-AB12-338ABE4E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BCB-D1BA-4A50-A491-8A16285C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87E-6AD8-4417-980F-5A2C28D6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247-A938-4E87-93CB-0C48B7B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D00-98EE-4036-9820-DAF5A1FC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FC1BAF70-5310-4414-8315-00A57D25B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3124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3124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581040"/>
          <a:ext cx="832968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81040"/>
                    <a:ext cx="8329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71056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71056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395280"/>
          <a:ext cx="862488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5280"/>
                    <a:ext cx="862488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575560" cy="79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575560" cy="79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58280"/>
            <a:ext cx="856908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9-07-26T16:16:07Z</dcterms:modified>
  <cp:revision>79</cp:revision>
  <dc:subject/>
  <dc:title>Sin título de diapositiva</dc:title>
</cp:coreProperties>
</file>