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08E8-A622-46FD-ACBA-C68CCB4DE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3829-1407-49F2-924E-CB94EF69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676D-A750-4366-BC94-772191E7C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CCE9-6C54-4319-88FD-6B686D1EE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599A-B8AE-44D7-B070-D27E8C38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4314-B79C-42D0-884E-C604F91E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18E7-0AC5-4C26-A071-4B52282D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1F47-53C6-465B-BBA1-71B14FCD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15D8-43C1-4616-AEFC-EA8D1C69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5D59-6FF6-4386-8A52-4C35DDB7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A018-2422-48F0-B47F-460194A0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1F12-0A37-4B07-B2F0-20F0BADB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fld id="{245C2B4A-D902-463F-98B9-B8D5FC3711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03160" y="655560"/>
          <a:ext cx="8031240" cy="600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655560"/>
                    <a:ext cx="8031240" cy="60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17400" y="531720"/>
          <a:ext cx="8390160" cy="698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90160" cy="69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19120" y="493560"/>
          <a:ext cx="8477280" cy="75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93560"/>
                    <a:ext cx="8477280" cy="75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69800" y="630360"/>
          <a:ext cx="8674200" cy="657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30360"/>
                    <a:ext cx="8674200" cy="65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93560" y="581040"/>
          <a:ext cx="8329680" cy="590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581040"/>
                    <a:ext cx="832968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482760"/>
          <a:ext cx="8710560" cy="703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710560" cy="70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82760" y="395280"/>
          <a:ext cx="8624880" cy="721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395280"/>
                    <a:ext cx="8624880" cy="721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47680" y="358920"/>
          <a:ext cx="8637480" cy="64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358920"/>
                    <a:ext cx="8637480" cy="64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9280" y="173160"/>
            <a:ext cx="9288720" cy="67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U{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en archivo U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declaración de entrada estandar (tecl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BufferedRead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clad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BufferedReader(new InputStreamReader(System.in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funciones (métodos) para leer enteros y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Str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Li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(x); return teclado.readLin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Integer.parseInt(readLine(x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adInt(“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doub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throws IOException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Double.parseDouble(readLine(x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Dou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readDouble(“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79280" y="32400"/>
            <a:ext cx="9288720" cy="67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métodos para escribir frases, enteros y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double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tring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double x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//fin de clase 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82680" y="395280"/>
          <a:ext cx="8575560" cy="799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95280"/>
                    <a:ext cx="8575560" cy="79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69800" y="630360"/>
          <a:ext cx="8674200" cy="621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30360"/>
                    <a:ext cx="8674200" cy="62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Java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int, print, rea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print(...), 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terminan c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t, double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66800" y="901800"/>
          <a:ext cx="76104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901800"/>
                    <a:ext cx="7610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214560"/>
            <a:ext cx="864072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 = U.read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entero 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val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; //decl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</a:t>
            </a:r>
            <a:r>
              <a:rPr b="0" lang="en-US" sz="2400" spc="-1" strike="noStrike">
                <a:solidFill>
                  <a:srgbClr val="00cc99"/>
                </a:solidFill>
                <a:latin typeface="Courier New"/>
                <a:ea typeface="Times New Roman"/>
              </a:rPr>
              <a:t>U.readInt(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//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f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 comentario que contiene observaciones de utilidad para el programador, pero que es ignorado por el computador al ejecutar las instrucciones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44600" y="482760"/>
          <a:ext cx="8575560" cy="618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575560" cy="61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458280"/>
            <a:ext cx="8569080" cy="51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U.readIn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U.readTip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Tipo(): readInt() o readDoubl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étodo (función)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úmero se guarda en (asigna a )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7400" y="531720"/>
          <a:ext cx="8390160" cy="699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90160" cy="69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jalvarez</cp:lastModifiedBy>
  <cp:lastPrinted>2006-03-07T16:10:21Z</cp:lastPrinted>
  <dcterms:modified xsi:type="dcterms:W3CDTF">2009-07-26T16:16:07Z</dcterms:modified>
  <cp:revision>79</cp:revision>
  <dc:subject/>
  <dc:title>Sin título de diapositiva</dc:title>
</cp:coreProperties>
</file>