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0A5-4667-4485-AFF4-F9E4CBED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5BD-5617-4F01-B780-69C130F8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246-8208-401F-89C3-5C2BBCC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259-DBBB-4282-947B-28BF3095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6B7-6F1B-4C1D-82EB-571DD68B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564-4A2C-4C70-AB46-EFD2492D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33C-7C6D-4138-A3E9-45BE977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660-860B-4361-AD6B-A4AE2B42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D89-BB61-4E04-AF90-143C889E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CD9-5529-49C8-BED0-6517E39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636-A6FF-4D95-B0D1-DD7299AF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65E-562C-4F3D-B9C4-BD5D4A4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04B14ABE-B5A5-4AE7-BBE0-448C181DE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9-07-26T16:16:07Z</dcterms:modified>
  <cp:revision>79</cp:revision>
  <dc:subject/>
  <dc:title>Sin título de diapositiva</dc:title>
</cp:coreProperties>
</file>