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48F3-8EB3-4698-842F-61EDD9E1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03D-904C-4DFC-AE8F-2FE4DD49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3672-CEC0-467D-B09F-E42BCA59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130E-CFA8-415D-9898-AF4A94CD2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0357-4FF2-4A07-BECF-3594022C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D6FD-EAF7-4CB0-9C9F-E929DD9C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CC6F-A63E-447C-A714-DFA2D281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20B1-E03E-48C3-814B-C8B2003D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C4FE-0404-4AF9-8EF5-BE091D3F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5446-5071-4E6D-B2D1-A565A3F3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4BD2-110B-451B-89BD-54DB5E07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3175-AF7B-4928-B442-C7EAAD4A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0490264F-AD54-4019-8BB3-D294AB0C97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03160" y="655560"/>
          <a:ext cx="803124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655560"/>
                    <a:ext cx="803124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7400" y="531720"/>
          <a:ext cx="8390160" cy="69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9120" y="493560"/>
          <a:ext cx="8477280" cy="75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77280" cy="75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69800" y="630360"/>
          <a:ext cx="8674200" cy="65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5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93560" y="581040"/>
          <a:ext cx="8329680" cy="590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81040"/>
                    <a:ext cx="832968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710560" cy="70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710560" cy="70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82760" y="395280"/>
          <a:ext cx="8624880" cy="721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395280"/>
                    <a:ext cx="8624880" cy="721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47680" y="358920"/>
          <a:ext cx="8637480" cy="64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58920"/>
                    <a:ext cx="8637480" cy="64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173160"/>
            <a:ext cx="9288720" cy="67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eclaración de entrada estandar (tecl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System.in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unciones (métodos) para leer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 return teclado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Double.parseDouble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Double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9280" y="32400"/>
            <a:ext cx="9288720" cy="67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métodos para escribir frases,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//fin de clase 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2680" y="395280"/>
          <a:ext cx="8575560" cy="79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95280"/>
                    <a:ext cx="8575560" cy="79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21456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  <a:ea typeface="Times New Roman"/>
              </a:rPr>
              <a:t>U.readIn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75560" cy="61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7556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458280"/>
            <a:ext cx="8569080" cy="51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90160" cy="69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09-07-26T16:16:07Z</dcterms:modified>
  <cp:revision>79</cp:revision>
  <dc:subject/>
  <dc:title>Sin título de diapositiva</dc:title>
</cp:coreProperties>
</file>