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CCC-403A-4E46-86FF-4396DECD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CEA-0709-4F2F-89E4-93F28603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7BB-A7B6-42AA-A895-B67C4AEE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FEE-E5CC-4951-9F84-D2A09C0A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B55-8DAA-4F45-9D19-FB455ED2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A52-E209-4795-8F67-2D9DAFD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577-8BFA-47C0-863F-C003623F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E3B-88B1-4E07-9178-7BCF556F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DAE-6901-4E55-8451-A9B64754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CD0-9A13-4EA5-B2D1-5D7F66F1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2D2-624A-4B78-B0A7-AED184B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EAE-5BCC-451B-BCBE-34E1C9C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A25D-2A04-448C-A4A8-5F82C610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9-07-26T13:44:23Z</dcterms:modified>
  <cp:revision>26</cp:revision>
  <dc:subject/>
  <dc:title>Un curso intensivo de Introducción a la Programación Orientada a Objetos en Java  para estudiantes de secundaria </dc:title>
</cp:coreProperties>
</file>