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7DC-1AA1-4700-93AB-8F4087F5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023-6CCB-4A38-88FD-7323644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6CD-7579-41A7-BE79-5AABC218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0D8-A773-4D42-8418-0302B438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8B6-0572-44FC-BEF1-A41D0F28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720-A9AD-4990-8BFA-2742BA7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187-B32E-4BCD-B043-A424450B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B3D-832F-456B-AE54-B5C06EFC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B19-D162-4F7C-81CF-4CF0C278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A56-CA50-4CEF-BF55-FCCD4BD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2A3-77F4-4E1E-9A17-691D7CB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F00-B682-4650-86D5-D1A4B0CB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D5E-4FDF-444B-9F6B-641A1B22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7-26T13:44:23Z</dcterms:modified>
  <cp:revision>26</cp:revision>
  <dc:subject/>
  <dc:title>Un curso intensivo de Introducción a la Programación Orientada a Objetos en Java  para estudiantes de secundaria </dc:title>
</cp:coreProperties>
</file>