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041-2A12-4410-84DB-C372C65D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1CA0-B1F1-4B08-A72D-41D17D71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1D9-5325-4FC4-944D-48BBCB4B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1750-EAA3-46F6-963C-A08AEBF97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FF6E-C29C-4F6F-B91A-DB2CEA45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3FB-0987-44D2-B1AE-97A758BC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CBE-7B46-45C5-9CEE-E9786495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E9B9-D4B7-4A85-BFE5-82C7CA4F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BF6-BF34-424D-BC84-156C1FA2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C5CA-7898-448A-B1E9-8097D1A4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B34-6016-47C7-84CE-D5373FF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64B-E00A-4A00-A785-9046F25B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C9BE-99F5-45CD-83A1-72F0A0FB5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alvarez@dcc.uchile.cl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a través de U-curs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1280" y="189000"/>
            <a:ext cx="7489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836640"/>
            <a:ext cx="842472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 (1 por ca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i 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T&lt;4 y NC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4, NF=I + tarea ex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71640" y="330984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1981080"/>
            <a:ext cx="41036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 evalúan entre 1 y 4 (%=0,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33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66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1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e considera promed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los 20 mejores (de 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 tiene menos de 20, NF=I + tarea(s) extra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rven para eximi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examen de acuerdo a la sgte tab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8320" y="1981080"/>
          <a:ext cx="3809880" cy="455616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 c1,c2,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rcic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quie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7-26T13:44:23Z</dcterms:modified>
  <cp:revision>26</cp:revision>
  <dc:subject/>
  <dc:title>Un curso intensivo de Introducción a la Programación Orientada a Objetos en Java  para estudiantes de secundaria </dc:title>
</cp:coreProperties>
</file>