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C87-2953-4695-A116-9F654470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1B2-9BFA-44B0-8197-2A9948E9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7A1-8E92-4ACD-B326-EA22A478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39B-616B-4B2D-AFF3-3D6FAF8F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93A-25C3-48BF-AC2E-A4F3274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FF2-3C7F-49D4-9EBD-0075EE9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E39-03AC-4F70-B8B5-42E0170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1AC-A004-4E02-AC53-D5CE325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1C6-037E-4528-8ECF-09FF2DA9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DFD-7EAC-48EF-A042-4200A7D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F48-9113-45E6-BDA0-5364B41A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421-3047-4675-8B45-74A77CF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E8A6-503B-494A-85D0-C8423E70323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4200" y="-4375440"/>
            <a:ext cx="8501040" cy="167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químicas y condicione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lujo de producción des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ureza deseada del producto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terias primas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(es) de la reacción(es) química(s)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(es) de desactivación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izador(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restricción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s de la planta y lugar de ub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físicas de todos lo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ridad, toxicidad, e impacto ambiental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ateriale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de los subproductos, equipos y servici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33520" y="114300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4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4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5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24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26" name="Rectangle 6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4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4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156" name="Rectangle 5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5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7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4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5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6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3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191" name="Text Box 14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194" name="Rectangle 4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6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8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1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2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3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20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642960" y="142884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3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26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0040" y="164304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56" name="Rectangle 14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59" name="Rectangle 15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18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357120" y="1143000"/>
            <a:ext cx="81439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71" name="Rectangle 3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Ing Quimica</cp:lastModifiedBy>
  <dcterms:modified xsi:type="dcterms:W3CDTF">2009-08-14T15:31:13Z</dcterms:modified>
  <cp:revision>20</cp:revision>
  <dc:subject/>
  <dc:title>DISEÑO PRELIMINAR DE DIAGRAMAS DE FLUJOS </dc:title>
</cp:coreProperties>
</file>