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9B8-3A6A-458F-BA91-8DDD3F15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13C-84C4-4B0D-B282-78F661C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556-B748-426C-9468-391EFD70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6F1-554E-4B82-8585-6E2E4471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C2A-7D2B-4F0C-AD14-C6D0CEF4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8C4-C049-4DB3-8B55-CD2FD4DC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FEB-E5DD-4B2A-818F-1787D87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399-C525-4C69-A712-A545B7F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3B9-3653-4EAC-8759-48CFC13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219-653C-4B9C-BDE0-DA439AB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8F3-4CAA-42E2-8910-848E91C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C3E-05FC-4660-B880-EC31AC1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0F28-5BE3-45ED-B252-1B8480D31F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4200" y="-4375440"/>
            <a:ext cx="8501040" cy="167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químicas y condicione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lujo de producción des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ureza deseada del producto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terias primas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(es) de la reacción(es) química(s)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(es) de desactivación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izador(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restricción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s de la planta y lugar de ub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físicas de todos lo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ridad, toxicidad, e impacto ambiental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ateriale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de los subproductos, equipos y servici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33520" y="114300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4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4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5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24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26" name="Rectangle 6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4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4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156" name="Rectangle 5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5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7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4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5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6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3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191" name="Text Box 14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194" name="Rectangle 4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6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8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1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2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3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20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642960" y="142884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3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26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0040" y="164304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56" name="Rectangle 14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59" name="Rectangle 15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18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357120" y="1143000"/>
            <a:ext cx="81439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71" name="Rectangle 3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Ing Quimica</cp:lastModifiedBy>
  <dcterms:modified xsi:type="dcterms:W3CDTF">2009-08-14T15:31:13Z</dcterms:modified>
  <cp:revision>20</cp:revision>
  <dc:subject/>
  <dc:title>DISEÑO PRELIMINAR DE DIAGRAMAS DE FLUJOS </dc:title>
</cp:coreProperties>
</file>