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7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8C60-2701-4FDC-A38A-54C3724B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352F-608B-4A31-BA81-4E44CAF0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EA95-4814-4EF4-8CF9-BB5F0019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192-049B-46CF-BD62-03CDA8F1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ACEC-6234-466A-8DF8-320FB63A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698-4842-421A-87D4-5C5BE28E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623-DFC8-496E-98B7-3AAD0025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437-B2D0-48C6-B274-FBDF1A4D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FA7A-E456-43CA-84CD-70B02D78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FE8D-6F69-40F9-B92B-3FCB61A0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B1C9-D730-40D3-9375-A3C35B93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1B2-17ED-46FD-9A22-2C3CC69C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83FC-8321-4A6A-9E32-41C21AC45F7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-304920" y="22096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Tipos de Diagra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Taller de Diseño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onvenciones para la identificación de equip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compr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intercambiadores de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calentadores a ll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bom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reac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colum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K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estanques de almace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estanque de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Numeración de los equ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101 A/B identifica un bom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01 A/B identifica que la bomba esta ubicada en el área Nº 1 de la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/B identifica que la bomba es la número 01 de las n existentes en la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101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A/B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identifica que hay dos bombas identicas, una de respaldo (backu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64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Información para las corrientes de flu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20858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úmero de la 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emperatura (º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esión (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racción de va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total másico (kg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molar total (kmol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molar para cada componente (kmol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5640" y="2174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cciones molare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cciones másica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lujo volu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piedades físicas (densidad, viscosidad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atos termodinámicos (calor específico, entalpía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mbre de la 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926280" y="15462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om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656600" y="157464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chas veces, ademá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4520" y="15192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Convenciones para la identificación de las corrientes en los diagra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nomenclatura"/>
          <p:cNvPicPr/>
          <p:nvPr/>
        </p:nvPicPr>
        <p:blipFill>
          <a:blip r:embed="rId1"/>
          <a:stretch/>
        </p:blipFill>
        <p:spPr>
          <a:xfrm>
            <a:off x="2219400" y="1609560"/>
            <a:ext cx="390996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793800" y="0"/>
            <a:ext cx="9367920" cy="69897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611280" y="292428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iagrama de Flujo Planta Tratamiento de R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724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agramas P&amp;ID 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</a:rPr>
              <a:t>Conven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96960" y="1981080"/>
          <a:ext cx="7761240" cy="4114800"/>
        </p:xfrm>
        <a:graphic>
          <a:graphicData uri="http://schemas.openxmlformats.org/drawingml/2006/table">
            <a:tbl>
              <a:tblPr/>
              <a:tblGrid>
                <a:gridCol w="2468520"/>
                <a:gridCol w="52927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quipos de pro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ostrar equipos de respaldo, unidades paralelas, detalles principales para cada u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ñerí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amaño (usar estándares), espesor de pared (schedule), material de construcción, aislación (tipo y espes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strumen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dicadores, registradores, controladores y tipo, cañerías o alambres de los instru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adas y salidas de las corrientes (aire, vapor, etc.), salidas de las corrientes a las plantas de tratamiento de eflu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1880" y="14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Convenciones para los Instrumentos en los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3480" y="3132000"/>
            <a:ext cx="3810240" cy="35323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análi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quem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condu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volt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flu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corr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presión o vací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tempera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tiempo o pro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5640" y="3158640"/>
            <a:ext cx="3809880" cy="3497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ala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ele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máx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dic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estación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ori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004760" y="1419120"/>
            <a:ext cx="7374240" cy="1289160"/>
          </a:xfrm>
          <a:prstGeom prst="rect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6"/>
          <p:cNvSpPr/>
          <p:nvPr/>
        </p:nvSpPr>
        <p:spPr>
          <a:xfrm>
            <a:off x="1338120" y="1542960"/>
            <a:ext cx="297000" cy="26208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692000" y="150804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strumento en la pla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8"/>
          <p:cNvSpPr/>
          <p:nvPr/>
        </p:nvSpPr>
        <p:spPr>
          <a:xfrm>
            <a:off x="1341360" y="1892160"/>
            <a:ext cx="297000" cy="29556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9"/>
          <p:cNvSpPr/>
          <p:nvPr/>
        </p:nvSpPr>
        <p:spPr>
          <a:xfrm>
            <a:off x="1328760" y="2313000"/>
            <a:ext cx="297000" cy="26208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692000" y="1859040"/>
            <a:ext cx="30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strumento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en el panel de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1649160" y="2247840"/>
            <a:ext cx="49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strumento en la cara posterior del panel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1338120" y="2057400"/>
            <a:ext cx="298440" cy="0"/>
          </a:xfrm>
          <a:prstGeom prst="line">
            <a:avLst/>
          </a:prstGeom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1319040" y="2455920"/>
            <a:ext cx="309600" cy="0"/>
          </a:xfrm>
          <a:prstGeom prst="line">
            <a:avLst/>
          </a:prstGeom>
          <a:ln cap="rnd" w="9360">
            <a:solidFill>
              <a:srgbClr val="cc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1279440" y="272736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PRIMERA LETRA 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5200200" y="2751120"/>
            <a:ext cx="27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SEGUNDA LETRA 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16"/>
          <p:cNvSpPr/>
          <p:nvPr/>
        </p:nvSpPr>
        <p:spPr>
          <a:xfrm>
            <a:off x="6732720" y="1635120"/>
            <a:ext cx="822240" cy="696960"/>
          </a:xfrm>
          <a:prstGeom prst="ellipse">
            <a:avLst/>
          </a:prstGeom>
          <a:noFill/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6810480" y="1787400"/>
            <a:ext cx="7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XY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rcRect l="5881" t="12550" r="5881" b="12156"/>
          <a:stretch/>
        </p:blipFill>
        <p:spPr>
          <a:xfrm>
            <a:off x="0" y="0"/>
            <a:ext cx="8820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2320" y="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agramas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pid"/>
          <p:cNvPicPr/>
          <p:nvPr/>
        </p:nvPicPr>
        <p:blipFill>
          <a:blip r:embed="rId1"/>
          <a:stretch/>
        </p:blipFill>
        <p:spPr>
          <a:xfrm>
            <a:off x="285840" y="712800"/>
            <a:ext cx="84852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320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Un intercambi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pid1"/>
          <p:cNvPicPr/>
          <p:nvPr/>
        </p:nvPicPr>
        <p:blipFill>
          <a:blip r:embed="rId1"/>
          <a:stretch/>
        </p:blipFill>
        <p:spPr>
          <a:xfrm>
            <a:off x="1189080" y="1411200"/>
            <a:ext cx="57578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IAGRAMAS DE ENTRADA (INPUT) Y SALIDA (OUTPUT)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IAGRAMA I-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 u="sng">
                <a:solidFill>
                  <a:srgbClr val="000000"/>
                </a:solidFill>
                <a:uFillTx/>
                <a:latin typeface="Times New Roman"/>
              </a:rPr>
              <a:t>Otros diagramas y  pla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Mecánico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Mecánico Ele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Eléct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Isomét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rcRect l="3029" t="10342" r="3029" b="9507"/>
          <a:stretch/>
        </p:blipFill>
        <p:spPr>
          <a:xfrm>
            <a:off x="684360" y="1003320"/>
            <a:ext cx="7488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924680" cy="4660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457200" y="5562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Esquema del Proceso LIX-SX-EW, Radomiro 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Mecánico Pla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rcRect l="12923" t="18783" r="12920" b="19025"/>
          <a:stretch/>
        </p:blipFill>
        <p:spPr>
          <a:xfrm>
            <a:off x="395280" y="784080"/>
            <a:ext cx="777708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Mecánico Ele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rcRect l="3029" t="10342" r="2019" b="10799"/>
          <a:stretch/>
        </p:blipFill>
        <p:spPr>
          <a:xfrm>
            <a:off x="611280" y="946080"/>
            <a:ext cx="74898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Eléc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rcRect l="41053" t="9431" r="4296" b="11087"/>
          <a:stretch/>
        </p:blipFill>
        <p:spPr>
          <a:xfrm>
            <a:off x="539640" y="890640"/>
            <a:ext cx="7561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rcRect l="10103" t="15513" r="10103" b="15971"/>
          <a:stretch/>
        </p:blipFill>
        <p:spPr>
          <a:xfrm>
            <a:off x="755640" y="1009800"/>
            <a:ext cx="7488360" cy="5848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Isomé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522936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IAGRAMA GENERAL ENTRADA-SALIDA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ROCESO HIDROMETALURGICO DEL COB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3"/>
          <p:cNvGraphicFramePr/>
          <p:nvPr/>
        </p:nvGraphicFramePr>
        <p:xfrm>
          <a:off x="395280" y="609480"/>
          <a:ext cx="7910640" cy="41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9480"/>
                    <a:ext cx="7910640" cy="41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IAGRAMA GENERAL ENTRADA-SALIDA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ROCESO DE PRODUCCION DE BIOMASA (LEVADURA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4"/>
          <p:cNvGraphicFramePr/>
          <p:nvPr/>
        </p:nvGraphicFramePr>
        <p:xfrm>
          <a:off x="684360" y="1989000"/>
          <a:ext cx="687528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687528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AGRAMAS DE BLO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9360" y="13064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3333cc"/>
                </a:solidFill>
                <a:uFillTx/>
                <a:latin typeface="Comic Sans MS"/>
              </a:rPr>
              <a:t>Conven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Cada operación se representa por un bl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Las corrientes de flujo principal se representan por líneas flechadas en la dirección del fl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Los flujos van desde la izquierda a la derecha del diagr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Se incluye la información crítica para entender el proce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95280" y="5715000"/>
            <a:ext cx="87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iagrama de Bloques de producción de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5"/>
          <p:cNvGraphicFramePr/>
          <p:nvPr/>
        </p:nvGraphicFramePr>
        <p:xfrm>
          <a:off x="395280" y="549360"/>
          <a:ext cx="84978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84978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AGRAMAS DE FLU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Comic Sans MS"/>
              </a:rPr>
              <a:t>Conv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representan TODOS los equipos de proceso junto son su descripción. Cada equipo tiene un número y un nom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odas las corrientes de proceso tienen un nú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 incluir una descripción de las condiciones (temperatura, presión), flujos y composición química, ya sea en el diagrama o una TABLA adju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n representar TODAS las corrientes de servicios (vapor, aire, calefacción, etc.) que se alimentan a cada equipo de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n representar los loops de control básicos que aseguran la estabilidad de las condiciones del proceso durante la operación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rcRect l="10203" t="16572" r="9185" b="17029"/>
          <a:stretch/>
        </p:blipFill>
        <p:spPr>
          <a:xfrm>
            <a:off x="250920" y="334800"/>
            <a:ext cx="835344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fdiagram"/>
          <p:cNvPicPr/>
          <p:nvPr/>
        </p:nvPicPr>
        <p:blipFill>
          <a:blip r:embed="rId1"/>
          <a:stretch/>
        </p:blipFill>
        <p:spPr>
          <a:xfrm>
            <a:off x="755640" y="0"/>
            <a:ext cx="7956720" cy="537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0" y="4653000"/>
          <a:ext cx="5203800" cy="2438280"/>
        </p:xfrm>
        <a:graphic>
          <a:graphicData uri="http://schemas.openxmlformats.org/drawingml/2006/table">
            <a:tbl>
              <a:tblPr/>
              <a:tblGrid>
                <a:gridCol w="1403280"/>
                <a:gridCol w="720720"/>
                <a:gridCol w="719280"/>
                <a:gridCol w="628560"/>
                <a:gridCol w="866880"/>
                <a:gridCol w="86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[kg/día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 [kg/día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era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>Miguel</dc:creator>
  <dc:description/>
  <dc:language>en-US</dc:language>
  <cp:lastModifiedBy>Ing Quimica</cp:lastModifiedBy>
  <cp:lastPrinted>2000-11-24T00:59:13Z</cp:lastPrinted>
  <dcterms:modified xsi:type="dcterms:W3CDTF">2009-08-14T15:29:24Z</dcterms:modified>
  <cp:revision>69</cp:revision>
  <dc:subject/>
  <dc:title>Principios y Metodología de Modelación</dc:title>
</cp:coreProperties>
</file>