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png" ContentType="image/png"/>
  <Override PartName="/ppt/media/image7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E00D-1AE7-48FB-8313-333E5D62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1ED-C178-4C31-8D2F-E4A6303C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F67F-AB40-4108-87FD-A568593C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CE10-86CF-4EB4-A075-6B0601A9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C074-5A6B-4611-AD04-7EF45B65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5563-4EC8-4FB9-B5B7-8B06E54C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3BF7-3715-4C60-A6F6-DBE871B9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5E77-62D1-4B85-A091-789BE2EF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A974-911E-4A55-ACA3-AD80D8D9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DA5F-C25A-4088-B5DB-519A6F26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FE53-A3D5-4C4F-8BA4-A236FF3E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E076-79E1-4927-BD34-CB8B77EB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51E6-8DA5-4ECF-AC14-3C5FD900E19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-304920" y="220968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Tipos de Diagra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Taller de Diseño de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onvenciones para la identificación de equip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compre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intercambiadores de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calentadores a ll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bom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reac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colum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K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estanques de almace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estanque de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Numeración de los equi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101 A/B identifica un bom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-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01 A/B identifica que la bomba esta ubicada en el área Nº 1 de la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-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A/B identifica que la bomba es la número 01 de las n existentes en la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-101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A/B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identifica que hay dos bombas identicas, una de respaldo (backu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364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Información para las corrientes de flu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20858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Número de la cor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emperatura (º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esión (b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racción de va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lujo total másico (kg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lujo molar total (kmol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lujo molar para cada componente (kmol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5640" y="2174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acciones molares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acciones másicas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lujo volu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piedades físicas (densidad, viscosidad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atos termodinámicos (calor específico, entalpía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mbre de la corr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926280" y="154620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Com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4656600" y="157464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uchas veces, ademá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4520" y="15192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Convenciones para la identificación de las corrientes en los diagra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nomenclatura"/>
          <p:cNvPicPr/>
          <p:nvPr/>
        </p:nvPicPr>
        <p:blipFill>
          <a:blip r:embed="rId1"/>
          <a:stretch/>
        </p:blipFill>
        <p:spPr>
          <a:xfrm>
            <a:off x="2219400" y="1609560"/>
            <a:ext cx="390996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793800" y="0"/>
            <a:ext cx="9367920" cy="69897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611280" y="292428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iagrama de Flujo Planta Tratamiento de R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724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iagramas P&amp;ID </a:t>
            </a: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</a:rPr>
              <a:t>Conven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96960" y="1981080"/>
          <a:ext cx="7761240" cy="4114800"/>
        </p:xfrm>
        <a:graphic>
          <a:graphicData uri="http://schemas.openxmlformats.org/drawingml/2006/table">
            <a:tbl>
              <a:tblPr/>
              <a:tblGrid>
                <a:gridCol w="2468520"/>
                <a:gridCol w="52927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quipos de pro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ostrar equipos de respaldo, unidades paralelas, detalles principales para cada u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ñerí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amaño (usar estándares), espesor de pared (schedule), material de construcción, aislación (tipo y espes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strumen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dicadores, registradores, controladores y tipo, cañerías o alambres de los instrume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adas y salidas de las corrientes (aire, vapor, etc.), salidas de las corrientes a las plantas de tratamiento de eflu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1880" y="14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Convenciones para los Instrumentos en los P&amp;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3480" y="3132000"/>
            <a:ext cx="3810240" cy="35323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análi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quem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condu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volt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flu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corr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presión o vací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tempera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tiempo o prog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5640" y="3158640"/>
            <a:ext cx="3809880" cy="3497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ala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ele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máx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I 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indic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estación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ori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 r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004760" y="1419120"/>
            <a:ext cx="7374240" cy="1289160"/>
          </a:xfrm>
          <a:prstGeom prst="rect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6"/>
          <p:cNvSpPr/>
          <p:nvPr/>
        </p:nvSpPr>
        <p:spPr>
          <a:xfrm>
            <a:off x="1338120" y="1542960"/>
            <a:ext cx="297000" cy="262080"/>
          </a:xfrm>
          <a:prstGeom prst="ellipse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692000" y="150804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Instrumento en la pla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8"/>
          <p:cNvSpPr/>
          <p:nvPr/>
        </p:nvSpPr>
        <p:spPr>
          <a:xfrm>
            <a:off x="1341360" y="1892160"/>
            <a:ext cx="297000" cy="295560"/>
          </a:xfrm>
          <a:prstGeom prst="ellipse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9"/>
          <p:cNvSpPr/>
          <p:nvPr/>
        </p:nvSpPr>
        <p:spPr>
          <a:xfrm>
            <a:off x="1328760" y="2313000"/>
            <a:ext cx="297000" cy="262080"/>
          </a:xfrm>
          <a:prstGeom prst="ellipse">
            <a:avLst/>
          </a:prstGeom>
          <a:noFill/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692000" y="1859040"/>
            <a:ext cx="30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Instrumento</a:t>
            </a:r>
            <a:r>
              <a:rPr b="0" lang="es-ES_tradnl" sz="1600" spc="-1" strike="noStrike">
                <a:solidFill>
                  <a:srgbClr val="3333cc"/>
                </a:solidFill>
                <a:latin typeface="Times New Roman"/>
              </a:rPr>
              <a:t> en el panel de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1649160" y="2247840"/>
            <a:ext cx="49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Times New Roman"/>
              </a:rPr>
              <a:t>Instrumento en la cara posterior del panel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1338120" y="2057400"/>
            <a:ext cx="298440" cy="0"/>
          </a:xfrm>
          <a:prstGeom prst="line">
            <a:avLst/>
          </a:prstGeom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1319040" y="2455920"/>
            <a:ext cx="309600" cy="0"/>
          </a:xfrm>
          <a:prstGeom prst="line">
            <a:avLst/>
          </a:prstGeom>
          <a:ln cap="rnd" w="9360">
            <a:solidFill>
              <a:srgbClr val="cc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1279440" y="272736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PRIMERA LETRA 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5200200" y="2751120"/>
            <a:ext cx="27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SEGUNDA LETRA 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16"/>
          <p:cNvSpPr/>
          <p:nvPr/>
        </p:nvSpPr>
        <p:spPr>
          <a:xfrm>
            <a:off x="6732720" y="1635120"/>
            <a:ext cx="822240" cy="696960"/>
          </a:xfrm>
          <a:prstGeom prst="ellipse">
            <a:avLst/>
          </a:prstGeom>
          <a:noFill/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6810480" y="1787400"/>
            <a:ext cx="73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XY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rcRect l="5881" t="12550" r="5881" b="12156"/>
          <a:stretch/>
        </p:blipFill>
        <p:spPr>
          <a:xfrm>
            <a:off x="0" y="0"/>
            <a:ext cx="8820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2320" y="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Diagramas P&amp;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pid"/>
          <p:cNvPicPr/>
          <p:nvPr/>
        </p:nvPicPr>
        <p:blipFill>
          <a:blip r:embed="rId1"/>
          <a:stretch/>
        </p:blipFill>
        <p:spPr>
          <a:xfrm>
            <a:off x="285840" y="712800"/>
            <a:ext cx="84852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320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cc"/>
                </a:solidFill>
                <a:latin typeface="Times New Roman"/>
              </a:rPr>
              <a:t>Un intercambi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pid1"/>
          <p:cNvPicPr/>
          <p:nvPr/>
        </p:nvPicPr>
        <p:blipFill>
          <a:blip r:embed="rId1"/>
          <a:stretch/>
        </p:blipFill>
        <p:spPr>
          <a:xfrm>
            <a:off x="1189080" y="1411200"/>
            <a:ext cx="57578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IAGRAMAS DE ENTRADA (INPUT) Y SALIDA (OUTPUT)</a:t>
            </a:r>
            <a:br>
              <a:rPr sz="4000"/>
            </a:b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IAGRAMA I-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 u="sng">
                <a:solidFill>
                  <a:srgbClr val="000000"/>
                </a:solidFill>
                <a:uFillTx/>
                <a:latin typeface="Times New Roman"/>
              </a:rPr>
              <a:t>Otros diagramas y  pla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Lay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Mecánico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Mecánico Ele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Eléct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o Isomét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Lay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rcRect l="3029" t="10342" r="3029" b="9507"/>
          <a:stretch/>
        </p:blipFill>
        <p:spPr>
          <a:xfrm>
            <a:off x="684360" y="1003320"/>
            <a:ext cx="7488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924680" cy="46609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457200" y="5562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Times New Roman"/>
              </a:rPr>
              <a:t>Esquema del Proceso LIX-SX-EW, Radomiro 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Mecánico Plan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rcRect l="12923" t="18783" r="12920" b="19025"/>
          <a:stretch/>
        </p:blipFill>
        <p:spPr>
          <a:xfrm>
            <a:off x="395280" y="784080"/>
            <a:ext cx="777708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Mecánico Ele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rcRect l="3029" t="10342" r="2019" b="10799"/>
          <a:stretch/>
        </p:blipFill>
        <p:spPr>
          <a:xfrm>
            <a:off x="611280" y="946080"/>
            <a:ext cx="74898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Eléct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rcRect l="41053" t="9431" r="4296" b="11087"/>
          <a:stretch/>
        </p:blipFill>
        <p:spPr>
          <a:xfrm>
            <a:off x="539640" y="890640"/>
            <a:ext cx="75614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rcRect l="10103" t="15513" r="10103" b="15971"/>
          <a:stretch/>
        </p:blipFill>
        <p:spPr>
          <a:xfrm>
            <a:off x="755640" y="1009800"/>
            <a:ext cx="7488360" cy="58482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o Isomét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522936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DIAGRAMA GENERAL ENTRADA-SALIDA 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ROCESO HIDROMETALURGICO DEL COB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3"/>
          <p:cNvGraphicFramePr/>
          <p:nvPr/>
        </p:nvGraphicFramePr>
        <p:xfrm>
          <a:off x="395280" y="609480"/>
          <a:ext cx="7910640" cy="41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09480"/>
                    <a:ext cx="7910640" cy="41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DIAGRAMA GENERAL ENTRADA-SALIDA 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ROCESO DE PRODUCCION DE BIOMASA (LEVADURA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Object 4"/>
          <p:cNvGraphicFramePr/>
          <p:nvPr/>
        </p:nvGraphicFramePr>
        <p:xfrm>
          <a:off x="684360" y="1989000"/>
          <a:ext cx="687528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687528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AGRAMAS DE BLO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79360" y="13064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3333cc"/>
                </a:solidFill>
                <a:uFillTx/>
                <a:latin typeface="Comic Sans MS"/>
              </a:rPr>
              <a:t>Conven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Cada operación se representa por un bl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Las corrientes de flujo principal se representan por líneas flechadas en la dirección del fl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Los flujos van desde la izquierda a la derecha del diagr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Se incluye la información crítica para entender el proce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95280" y="5715000"/>
            <a:ext cx="87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Diagrama de Bloques de producción de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5"/>
          <p:cNvGraphicFramePr/>
          <p:nvPr/>
        </p:nvGraphicFramePr>
        <p:xfrm>
          <a:off x="395280" y="549360"/>
          <a:ext cx="849780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84978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AGRAMAS DE FLU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3333cc"/>
                </a:solidFill>
                <a:uFillTx/>
                <a:latin typeface="Comic Sans MS"/>
              </a:rPr>
              <a:t>Conven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representan TODOS los equipos de proceso junto son su descripción. Cada equipo tiene un número y un nomb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odas las corrientes de proceso tienen un nú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 incluir una descripción de las condiciones (temperatura, presión), flujos y composición química, ya sea en el diagrama o una TABLA adju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n representar TODAS las corrientes de servicios (vapor, aire, calefacción, etc.) que se alimentan a cada equipo de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 deben representar los loops de control básicos que aseguran la estabilidad de las condiciones del proceso durante la operación 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rcRect l="10203" t="16572" r="9185" b="17029"/>
          <a:stretch/>
        </p:blipFill>
        <p:spPr>
          <a:xfrm>
            <a:off x="250920" y="334800"/>
            <a:ext cx="835344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fdiagram"/>
          <p:cNvPicPr/>
          <p:nvPr/>
        </p:nvPicPr>
        <p:blipFill>
          <a:blip r:embed="rId1"/>
          <a:stretch/>
        </p:blipFill>
        <p:spPr>
          <a:xfrm>
            <a:off x="755640" y="0"/>
            <a:ext cx="7956720" cy="537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0" y="4653000"/>
          <a:ext cx="5203800" cy="2438280"/>
        </p:xfrm>
        <a:graphic>
          <a:graphicData uri="http://schemas.openxmlformats.org/drawingml/2006/table">
            <a:tbl>
              <a:tblPr/>
              <a:tblGrid>
                <a:gridCol w="1403280"/>
                <a:gridCol w="720720"/>
                <a:gridCol w="719280"/>
                <a:gridCol w="628560"/>
                <a:gridCol w="866880"/>
                <a:gridCol w="865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r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1[kg/día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3 [kg/día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erat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3T19:51:52Z</dcterms:created>
  <dc:creator>Miguel</dc:creator>
  <dc:description/>
  <dc:language>en-US</dc:language>
  <cp:lastModifiedBy>Ing Quimica</cp:lastModifiedBy>
  <cp:lastPrinted>2000-11-24T00:59:13Z</cp:lastPrinted>
  <dcterms:modified xsi:type="dcterms:W3CDTF">2009-08-14T15:29:24Z</dcterms:modified>
  <cp:revision>69</cp:revision>
  <dc:subject/>
  <dc:title>Principios y Metodología de Modelación</dc:title>
</cp:coreProperties>
</file>