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C8C-6FCA-4FBA-B5C9-01CCEA6A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9BE-CEDE-4AC3-B11E-9F459E64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66B-016D-4545-86A4-C03DD745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398-3E22-4CDC-BE00-465F554F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3A0-120A-4394-8DD1-900C8DC3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D41-353C-4DD0-9F67-A568551A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DF8-74E1-41A3-A6CC-F1AEE548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E92-371D-4D90-96C5-4BEA560E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271-8690-43E6-AE6E-D05EDE0E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BEB-1539-4AC0-BACD-D5BA50B2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37A-A006-4C5A-8E0A-43713CFA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193-C226-4BC7-B406-97D3DE4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846C-BC44-414C-9580-373151CBFC9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A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71680" y="407196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ller de Diseñ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mestre Primavera 200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. Carta Conduct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 informe debe ir acompañada de una carta conductora, dirigida a quién corresponda, y con copias a los que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llamar la atención debe incluirse varias frases claves que entreguen el resumen y sus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r estar siempre firmada en señal de que se reconoce la responsabilidad total de la n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mage11"/>
          <p:cNvPicPr/>
          <p:nvPr/>
        </p:nvPicPr>
        <p:blipFill>
          <a:blip r:embed="rId1"/>
          <a:stretch/>
        </p:blipFill>
        <p:spPr>
          <a:xfrm>
            <a:off x="205740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685800" y="685800"/>
            <a:ext cx="8457480" cy="1066680"/>
            <a:chOff x="685800" y="685800"/>
            <a:chExt cx="8457480" cy="1066680"/>
          </a:xfrm>
        </p:grpSpPr>
        <p:sp>
          <p:nvSpPr>
            <p:cNvPr id="65" name="Rectangle 2"/>
            <p:cNvSpPr/>
            <p:nvPr/>
          </p:nvSpPr>
          <p:spPr>
            <a:xfrm>
              <a:off x="685800" y="685800"/>
              <a:ext cx="4158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eñor                                                                                                                                    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Presente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4844160" y="685800"/>
              <a:ext cx="4299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antiago, .............................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5"/>
          <p:cNvSpPr/>
          <p:nvPr/>
        </p:nvSpPr>
        <p:spPr>
          <a:xfrm>
            <a:off x="0" y="1822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unto con la presente se adjunta el .....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l estudio de mercado efectuado se obtiene 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sarrollo de la ingeniería 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partir de las cotizaciones se estima 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 vista de todos estos antecedentes se recomienda 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peramos que el contenido de este informe le sea útil para la toma de decisiones, estamos prestos a recibir cualquier opinión y/o sugerencia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o saludan atentame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Firmas</a:t>
            </a:r>
            <a:r>
              <a:rPr b="0" lang="es-ES_tradnl" sz="17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2.  La Carátula del In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ítulo completo y auto explicatorio del In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s completos de los au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 de la empresa y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ñeta que señale el Número del Informe, la historia de su elaboración, revisión y fechas, junto con las aprobaciones y destinos cuando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r los procedimientos establecidos en las empresas junto con las normas de calidad ISO 9000 o 14000 cuando ex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age2"/>
          <p:cNvPicPr/>
          <p:nvPr/>
        </p:nvPicPr>
        <p:blipFill>
          <a:blip r:embed="rId1"/>
          <a:stretch/>
        </p:blipFill>
        <p:spPr>
          <a:xfrm>
            <a:off x="2666880" y="380880"/>
            <a:ext cx="3524400" cy="436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11"/>
          <p:cNvPicPr/>
          <p:nvPr/>
        </p:nvPicPr>
        <p:blipFill>
          <a:blip r:embed="rId2"/>
          <a:stretch/>
        </p:blipFill>
        <p:spPr>
          <a:xfrm>
            <a:off x="1143000" y="4753080"/>
            <a:ext cx="7095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age2"/>
          <p:cNvPicPr/>
          <p:nvPr/>
        </p:nvPicPr>
        <p:blipFill>
          <a:blip r:embed="rId1"/>
          <a:stretch/>
        </p:blipFill>
        <p:spPr>
          <a:xfrm>
            <a:off x="2971800" y="914400"/>
            <a:ext cx="30672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399960" y="-152280"/>
            <a:ext cx="8744040" cy="6553080"/>
            <a:chOff x="399960" y="-152280"/>
            <a:chExt cx="8744040" cy="6553080"/>
          </a:xfrm>
        </p:grpSpPr>
        <p:pic>
          <p:nvPicPr>
            <p:cNvPr id="74" name="Picture 3" descr="Image2"/>
            <p:cNvPicPr/>
            <p:nvPr/>
          </p:nvPicPr>
          <p:blipFill>
            <a:blip r:embed="rId2"/>
            <a:stretch/>
          </p:blipFill>
          <p:spPr>
            <a:xfrm>
              <a:off x="447840" y="5638680"/>
              <a:ext cx="86961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Image3"/>
            <p:cNvPicPr/>
            <p:nvPr/>
          </p:nvPicPr>
          <p:blipFill>
            <a:blip r:embed="rId3"/>
            <a:stretch/>
          </p:blipFill>
          <p:spPr>
            <a:xfrm>
              <a:off x="399960" y="-152280"/>
              <a:ext cx="87440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la parte crucial del Informe, preparado para responder las inquietudes de la alta g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las conclusiones y las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detalles sólo en el caso de que estos sean significativos para la evaluación del riesgo y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permitir establecer qué se hizo, cómo se hizo y que se recomienda o concl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cuta procedimientos a menos que se hayan obtenidos resultados inespe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a gráficos de alt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mpezarse en página aparte, y ser de la menor extensión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ingenieros jóvenes deben requerir ayuda para saber que tipo de información contendrá el Resumen Ejecutiv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4. Los Índices de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ólo los informes largos requieren de incluir subsecciones, índices de Tablas y Fig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páginas del Informe deben estar siempre numeradas, de preferencia al centro o el costado izquierdo superior, y una viñeta descriptiva y el número del documento y revisión al pie de pág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ntroducción debe estar en la pági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5. 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ser un recordatorio y una guía para la lectura del informe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incluir la definición del problema, los antecedentes previos, las limitantes claves que determinan la solución y el cómo el proyecto fue desarro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sta donde sea posible, entregue información de como el proyecto impacta a la empresa o la organización que lo encarg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4392720"/>
            <a:ext cx="7643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Bloq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Flujos Prelimin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Sistema de Separ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Integración de Energía del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5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Completo del Diagrama de Fluj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n forma precisa e ilustrada entre ot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agramas de flujo completos, con identificación y viñetas claramente legi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2521080"/>
            <a:ext cx="90392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Balances de masa y energía en forma de tablas asignadas a cada corriente, con indicación de temperatura, presión, fases y flujos totales molares y másicos para cada componente y la corriente to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152280" y="91440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agrama de Fluj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Informe Final se debe plot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tra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0930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ali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diagram"/>
          <p:cNvPicPr/>
          <p:nvPr/>
        </p:nvPicPr>
        <p:blipFill>
          <a:blip r:embed="rId1"/>
          <a:stretch/>
        </p:blipFill>
        <p:spPr>
          <a:xfrm>
            <a:off x="403200" y="0"/>
            <a:ext cx="8740800" cy="430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8640" y="4292640"/>
          <a:ext cx="8226720" cy="2617920"/>
        </p:xfrm>
        <a:graphic>
          <a:graphicData uri="http://schemas.openxmlformats.org/drawingml/2006/table">
            <a:tbl>
              <a:tblPr/>
              <a:tblGrid>
                <a:gridCol w="1175040"/>
                <a:gridCol w="471240"/>
                <a:gridCol w="820800"/>
                <a:gridCol w="824040"/>
                <a:gridCol w="822240"/>
                <a:gridCol w="822240"/>
                <a:gridCol w="824040"/>
                <a:gridCol w="820800"/>
                <a:gridCol w="823680"/>
                <a:gridCol w="822600"/>
              </a:tblGrid>
              <a:tr h="572040"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puesto/Corrie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1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3 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jo tot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 gridSpan="5"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ª (BALANCE DE ENERGIA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Oval 69"/>
          <p:cNvSpPr/>
          <p:nvPr/>
        </p:nvSpPr>
        <p:spPr>
          <a:xfrm>
            <a:off x="4957920" y="3068640"/>
            <a:ext cx="4186080" cy="1211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3362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iagrama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220680" y="1209600"/>
            <a:ext cx="84456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 ...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ina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No es sólo un listado de tablas y figu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texto debe servir de guía al le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resultados se incluyen en figuras o tablas (que no aparezcan en forma duplicad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Sea consistente con los forma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con cuidado el color (las copias son hechas normalmente mediante fotocopia monocolor) y buena calidad de figu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los Anexos para las memorias de cálculo y no entregue detalles innecesari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7. Disc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egue más detalles sobre la forma en que obtuvo los resultados, incluyendo las razones del porqué de la selección de los procedimientos y el descarte de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uta los métodos específicos y las limitaciones de cualquier tipo (falta de datos, dificultades en los algoritm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8.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cluya nunca nuev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escribirla, discuta seriamente los resultados con los co-autores (ayuda que uno de los miembros prepare previamente una pauta de discu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resumen completo de las conclusiones debe aparecer en el Informe Ejec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9. Recomend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acciones a seguir a partir de l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forma separada, la necesidad de continuar los estudios, si procede, con el alcance de estos estu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0. Referencia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e ponen antes de los Anexos, estos deben tener una bibliografía sepa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haga referencias a materiales que no ha utiliz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software no se cita, a  menos que contenga datos utilizados en los cálc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ilice (nombre, año) en el texto, y Nombre, año, “titulo del artículo”, fuente o revista, pag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1280" y="1484280"/>
            <a:ext cx="7920000" cy="3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1. Otras s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caso de Informes extensos, incluir secciones separadas sobre seguridad industrial, estudios ambientales, los supuestos del estudio, evaluación del riesgo y los aspectos comerciales y d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2. Ane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a todos los anexos necesarios con los detalles del cálculo, los programas computacion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ítulos auto explicativos deben ser incluidos en el Índice de los Con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nform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971640" y="126828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troducción y objetiv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ntecedentes y Descripción del proceso diseñ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I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conomía Poten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de Blo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Fluj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alances Masa y Energí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scusiones y Conclusi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emorias de cálcul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484280"/>
            <a:ext cx="792000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Bibliografí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1357200" y="5000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Viernes 14 de Agosto, presentan grup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 10 minutos por grupo)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4 , 5 y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 FIN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1- Página de Encabezamien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2- Resumen Ejecutiv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3- Antecedentes (Introducción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4- Objetivos y Alcan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5- Actividades. Planos y Descripción del Proces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6- Discusión y Comentari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7- Conclusion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8- Bibliografí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9- Anexos. Memoria de Cálcul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y muchas formas de hacer estos informes ésta es una de el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mendaciones gener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usar lenguaje coloqu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structura de un Informe Técnico e Informes parciales (Tare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ta condu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men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Índice de los Conten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l In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resultad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cusión de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lus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erencias bibli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tras s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l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8-06T17:36:26Z</dcterms:modified>
  <cp:revision>72</cp:revision>
  <dc:subject/>
  <dc:title>El ingeniero, etica y sociedad</dc:title>
</cp:coreProperties>
</file>