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embeddings/oleObject1.xlsx" ContentType="application/vnd.openxmlformats-officedocument.spreadsheetml.sheet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724C-1658-4CF9-AD34-C544127AD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532D-7834-4EC5-BC2C-E94F5B4D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1524-C302-490E-8FCC-40C34E41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B1A0-FAC0-43D3-8879-74E01550D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FFFD-01F5-42CC-91B8-C912F772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C36F-1F27-4C98-ACC2-FC8E68F9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34B9-58BF-4CB9-8766-D1C230E9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3146-25F4-4948-97F4-E4468D0B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DCC7-42DB-4990-918B-6DF2F939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49C4-EEFA-4184-91AF-9555058C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EBD8-115F-4875-ACB9-7CD743A3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DB52-21D9-4CAB-9957-CC287D2F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675D-675E-48C4-8DF6-FD84BEB21A1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9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0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-533520" y="228600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INTRODUCCION A LOS PROCE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INDUSTRI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0" y="4572000"/>
            <a:ext cx="8915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80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sultado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una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ctividad Recursiv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íntesis-Análisi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para Definir l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nsformación de Recursos e Insum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n Productos, Operaciones y Procesos Productivos que Resuelven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Necesidades Human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80880" y="39625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Diseño Conceptual de Procesos Industria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143000" y="30492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DISEÑO DE PROCESOS INDUSTR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457200" y="106668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0000"/>
                </a:solidFill>
                <a:latin typeface="Times New Roman"/>
              </a:rPr>
              <a:t>Diseño en Ingenier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ctividad Recursiva de Acción-Decisición para producir los Planes por los cuales los Recursos sean Convertidos en Sistemas o Artefactos que Resuelven Necesidade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19520" y="28951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DISEÑO</a:t>
            </a:r>
            <a:br>
              <a:rPr sz="4400"/>
            </a:b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3"/>
          <p:cNvSpPr/>
          <p:nvPr/>
        </p:nvSpPr>
        <p:spPr>
          <a:xfrm>
            <a:off x="1905120" y="2286000"/>
            <a:ext cx="1066680" cy="274320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479880 h 2743200"/>
              <a:gd name="textAreaBottom" fmla="*/ 198900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4"/>
          <p:cNvSpPr/>
          <p:nvPr/>
        </p:nvSpPr>
        <p:spPr>
          <a:xfrm rot="10631400">
            <a:off x="6705360" y="2057040"/>
            <a:ext cx="1098360" cy="2590920"/>
          </a:xfrm>
          <a:custGeom>
            <a:avLst/>
            <a:gdLst>
              <a:gd name="textAreaLeft" fmla="*/ 146880 w 1098360"/>
              <a:gd name="textAreaRight" fmla="*/ 951480 w 1098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Group 5"/>
          <p:cNvGrpSpPr/>
          <p:nvPr/>
        </p:nvGrpSpPr>
        <p:grpSpPr>
          <a:xfrm>
            <a:off x="2895480" y="304920"/>
            <a:ext cx="4038840" cy="1143000"/>
            <a:chOff x="2895480" y="304920"/>
            <a:chExt cx="4038840" cy="1143000"/>
          </a:xfrm>
        </p:grpSpPr>
        <p:sp>
          <p:nvSpPr>
            <p:cNvPr id="144" name="Rectangle 6"/>
            <p:cNvSpPr/>
            <p:nvPr/>
          </p:nvSpPr>
          <p:spPr>
            <a:xfrm>
              <a:off x="2895480" y="304920"/>
              <a:ext cx="40388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ff0000"/>
                  </a:solidFill>
                  <a:latin typeface="Times New Roman"/>
                </a:rPr>
                <a:t>SINTESI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Oval 7"/>
            <p:cNvSpPr/>
            <p:nvPr/>
          </p:nvSpPr>
          <p:spPr>
            <a:xfrm>
              <a:off x="3429000" y="380880"/>
              <a:ext cx="3048120" cy="990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8"/>
          <p:cNvGrpSpPr/>
          <p:nvPr/>
        </p:nvGrpSpPr>
        <p:grpSpPr>
          <a:xfrm>
            <a:off x="2743200" y="5486400"/>
            <a:ext cx="4038480" cy="1143000"/>
            <a:chOff x="2743200" y="5486400"/>
            <a:chExt cx="4038480" cy="1143000"/>
          </a:xfrm>
        </p:grpSpPr>
        <p:sp>
          <p:nvSpPr>
            <p:cNvPr id="147" name="Rectangle 9"/>
            <p:cNvSpPr/>
            <p:nvPr/>
          </p:nvSpPr>
          <p:spPr>
            <a:xfrm>
              <a:off x="2743200" y="5486400"/>
              <a:ext cx="4038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ff0000"/>
                  </a:solidFill>
                  <a:latin typeface="Times New Roman"/>
                </a:rPr>
                <a:t>ANALISI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10"/>
            <p:cNvSpPr/>
            <p:nvPr/>
          </p:nvSpPr>
          <p:spPr>
            <a:xfrm>
              <a:off x="3200400" y="5486400"/>
              <a:ext cx="3200400" cy="10666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AutoShape 11"/>
          <p:cNvSpPr/>
          <p:nvPr/>
        </p:nvSpPr>
        <p:spPr>
          <a:xfrm>
            <a:off x="4648320" y="1447920"/>
            <a:ext cx="485640" cy="838080"/>
          </a:xfrm>
          <a:prstGeom prst="downArrow">
            <a:avLst>
              <a:gd name="adj1" fmla="val 50000"/>
              <a:gd name="adj2" fmla="val 431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4495680" y="4572000"/>
            <a:ext cx="486000" cy="762120"/>
          </a:xfrm>
          <a:prstGeom prst="upArrow">
            <a:avLst>
              <a:gd name="adj1" fmla="val 50000"/>
              <a:gd name="adj2" fmla="val 392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Object 2"/>
          <p:cNvGraphicFramePr/>
          <p:nvPr/>
        </p:nvGraphicFramePr>
        <p:xfrm>
          <a:off x="-228600" y="4724280"/>
          <a:ext cx="7807320" cy="98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4724280"/>
                    <a:ext cx="780732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3"/>
          <p:cNvGraphicFramePr/>
          <p:nvPr/>
        </p:nvGraphicFramePr>
        <p:xfrm>
          <a:off x="762120" y="304920"/>
          <a:ext cx="7750080" cy="952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04920"/>
                    <a:ext cx="7750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4"/>
          <p:cNvGraphicFramePr/>
          <p:nvPr/>
        </p:nvGraphicFramePr>
        <p:xfrm>
          <a:off x="888840" y="838080"/>
          <a:ext cx="8255160" cy="5637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88840" y="838080"/>
                    <a:ext cx="82551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5"/>
          <p:cNvGraphicFramePr/>
          <p:nvPr/>
        </p:nvGraphicFramePr>
        <p:xfrm>
          <a:off x="685800" y="1523880"/>
          <a:ext cx="8067600" cy="7797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5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1523880"/>
                    <a:ext cx="8067600" cy="7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6"/>
          <p:cNvGraphicFramePr/>
          <p:nvPr/>
        </p:nvGraphicFramePr>
        <p:xfrm>
          <a:off x="0" y="2666880"/>
          <a:ext cx="7951680" cy="111132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60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2666880"/>
                    <a:ext cx="795168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7"/>
          <p:cNvGraphicFramePr/>
          <p:nvPr/>
        </p:nvGraphicFramePr>
        <p:xfrm>
          <a:off x="5943600" y="3581280"/>
          <a:ext cx="2928960" cy="79380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162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43600" y="3581280"/>
                    <a:ext cx="29289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8"/>
          <p:cNvSpPr/>
          <p:nvPr/>
        </p:nvSpPr>
        <p:spPr>
          <a:xfrm>
            <a:off x="4572000" y="5867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de lo Chico a lo Gra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Object 2"/>
          <p:cNvGraphicFramePr/>
          <p:nvPr/>
        </p:nvGraphicFramePr>
        <p:xfrm>
          <a:off x="-762120" y="457200"/>
          <a:ext cx="10972800" cy="51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2120" y="457200"/>
                    <a:ext cx="1097280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3"/>
          <p:cNvGraphicFramePr/>
          <p:nvPr/>
        </p:nvGraphicFramePr>
        <p:xfrm>
          <a:off x="457200" y="1371600"/>
          <a:ext cx="8305920" cy="186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6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371600"/>
                    <a:ext cx="830592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8" name="Picture 4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5943600" y="3352680"/>
            <a:ext cx="2933640" cy="2286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6"/>
          <a:stretch/>
        </p:blipFill>
        <p:spPr>
          <a:xfrm>
            <a:off x="2971800" y="3124080"/>
            <a:ext cx="3048120" cy="297180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6"/>
          <p:cNvGrpSpPr/>
          <p:nvPr/>
        </p:nvGrpSpPr>
        <p:grpSpPr>
          <a:xfrm>
            <a:off x="152280" y="3733920"/>
            <a:ext cx="3047760" cy="1447200"/>
            <a:chOff x="152280" y="3733920"/>
            <a:chExt cx="3047760" cy="1447200"/>
          </a:xfrm>
        </p:grpSpPr>
        <p:sp>
          <p:nvSpPr>
            <p:cNvPr id="171" name="Text Box 7"/>
            <p:cNvSpPr/>
            <p:nvPr/>
          </p:nvSpPr>
          <p:spPr>
            <a:xfrm>
              <a:off x="2159280" y="3990960"/>
              <a:ext cx="104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Produc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Group 8"/>
            <p:cNvGrpSpPr/>
            <p:nvPr/>
          </p:nvGrpSpPr>
          <p:grpSpPr>
            <a:xfrm>
              <a:off x="226440" y="3990960"/>
              <a:ext cx="2750040" cy="1019880"/>
              <a:chOff x="226440" y="3990960"/>
              <a:chExt cx="2750040" cy="1019880"/>
            </a:xfrm>
          </p:grpSpPr>
          <p:sp>
            <p:nvSpPr>
              <p:cNvPr id="173" name="Oval 9"/>
              <p:cNvSpPr/>
              <p:nvPr/>
            </p:nvSpPr>
            <p:spPr>
              <a:xfrm>
                <a:off x="1043640" y="4074120"/>
                <a:ext cx="1114920" cy="936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Line 10"/>
              <p:cNvSpPr/>
              <p:nvPr/>
            </p:nvSpPr>
            <p:spPr>
              <a:xfrm>
                <a:off x="226440" y="4500000"/>
                <a:ext cx="81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Line 11"/>
              <p:cNvSpPr/>
              <p:nvPr/>
            </p:nvSpPr>
            <p:spPr>
              <a:xfrm>
                <a:off x="2158920" y="4500000"/>
                <a:ext cx="817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Text Box 12"/>
              <p:cNvSpPr/>
              <p:nvPr/>
            </p:nvSpPr>
            <p:spPr>
              <a:xfrm>
                <a:off x="226440" y="3990960"/>
                <a:ext cx="894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insum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Text Box 13"/>
              <p:cNvSpPr/>
              <p:nvPr/>
            </p:nvSpPr>
            <p:spPr>
              <a:xfrm>
                <a:off x="1043640" y="4331520"/>
                <a:ext cx="111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ROCES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Rectangle 14"/>
            <p:cNvSpPr/>
            <p:nvPr/>
          </p:nvSpPr>
          <p:spPr>
            <a:xfrm>
              <a:off x="152280" y="3733920"/>
              <a:ext cx="2973600" cy="14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Rectangle 15"/>
          <p:cNvSpPr/>
          <p:nvPr/>
        </p:nvSpPr>
        <p:spPr>
          <a:xfrm>
            <a:off x="5715000" y="3276720"/>
            <a:ext cx="3200400" cy="281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228600" y="5257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ntrada-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809880" y="5791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Blo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6019920" y="6172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99"/>
                </a:solidFill>
                <a:latin typeface="Times New Roman"/>
              </a:rPr>
              <a:t>Diagrama de Flu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1158840" y="9954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1163520" y="995400"/>
            <a:ext cx="4226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5389560" y="9954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5394240" y="995400"/>
            <a:ext cx="185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7250040" y="9954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7254720" y="995400"/>
            <a:ext cx="15336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8788320" y="995400"/>
            <a:ext cx="46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8788320" y="9954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8788320" y="1003320"/>
            <a:ext cx="4680" cy="61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1"/>
          <p:cNvSpPr/>
          <p:nvPr/>
        </p:nvSpPr>
        <p:spPr>
          <a:xfrm>
            <a:off x="8788320" y="162072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1158840" y="3822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1158840" y="3822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4"/>
          <p:cNvSpPr/>
          <p:nvPr/>
        </p:nvSpPr>
        <p:spPr>
          <a:xfrm>
            <a:off x="1163520" y="3822840"/>
            <a:ext cx="4226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5"/>
          <p:cNvSpPr/>
          <p:nvPr/>
        </p:nvSpPr>
        <p:spPr>
          <a:xfrm>
            <a:off x="5389560" y="3822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6"/>
          <p:cNvSpPr/>
          <p:nvPr/>
        </p:nvSpPr>
        <p:spPr>
          <a:xfrm>
            <a:off x="5394240" y="3822840"/>
            <a:ext cx="185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7250040" y="3822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8"/>
          <p:cNvSpPr/>
          <p:nvPr/>
        </p:nvSpPr>
        <p:spPr>
          <a:xfrm>
            <a:off x="7254720" y="3822840"/>
            <a:ext cx="15336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8788320" y="1627200"/>
            <a:ext cx="4680" cy="219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0"/>
          <p:cNvSpPr/>
          <p:nvPr/>
        </p:nvSpPr>
        <p:spPr>
          <a:xfrm>
            <a:off x="8788320" y="3822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21"/>
          <p:cNvSpPr/>
          <p:nvPr/>
        </p:nvSpPr>
        <p:spPr>
          <a:xfrm>
            <a:off x="8788320" y="3822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TIPOS DE DISEÑO EN INGENI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23"/>
          <p:cNvGrpSpPr/>
          <p:nvPr/>
        </p:nvGrpSpPr>
        <p:grpSpPr>
          <a:xfrm>
            <a:off x="1158840" y="995400"/>
            <a:ext cx="7629480" cy="5636520"/>
            <a:chOff x="1158840" y="995400"/>
            <a:chExt cx="7629480" cy="5636520"/>
          </a:xfrm>
        </p:grpSpPr>
        <p:sp>
          <p:nvSpPr>
            <p:cNvPr id="205" name="Rectangle 24"/>
            <p:cNvSpPr/>
            <p:nvPr/>
          </p:nvSpPr>
          <p:spPr>
            <a:xfrm>
              <a:off x="3055680" y="1008000"/>
              <a:ext cx="576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ip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25"/>
            <p:cNvSpPr/>
            <p:nvPr/>
          </p:nvSpPr>
          <p:spPr>
            <a:xfrm>
              <a:off x="5768640" y="1008000"/>
              <a:ext cx="1256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rror, (%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26"/>
            <p:cNvSpPr/>
            <p:nvPr/>
          </p:nvSpPr>
          <p:spPr>
            <a:xfrm>
              <a:off x="7431120" y="1008000"/>
              <a:ext cx="1323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Costo, (%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27"/>
            <p:cNvSpPr/>
            <p:nvPr/>
          </p:nvSpPr>
          <p:spPr>
            <a:xfrm>
              <a:off x="1158840" y="995400"/>
              <a:ext cx="46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28"/>
            <p:cNvSpPr/>
            <p:nvPr/>
          </p:nvSpPr>
          <p:spPr>
            <a:xfrm>
              <a:off x="5389560" y="1000080"/>
              <a:ext cx="468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29"/>
            <p:cNvSpPr/>
            <p:nvPr/>
          </p:nvSpPr>
          <p:spPr>
            <a:xfrm>
              <a:off x="7250040" y="1000080"/>
              <a:ext cx="468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30"/>
            <p:cNvSpPr/>
            <p:nvPr/>
          </p:nvSpPr>
          <p:spPr>
            <a:xfrm>
              <a:off x="1158840" y="1003320"/>
              <a:ext cx="4680" cy="61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31"/>
            <p:cNvSpPr/>
            <p:nvPr/>
          </p:nvSpPr>
          <p:spPr>
            <a:xfrm>
              <a:off x="5389560" y="1003320"/>
              <a:ext cx="4680" cy="61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32"/>
            <p:cNvSpPr/>
            <p:nvPr/>
          </p:nvSpPr>
          <p:spPr>
            <a:xfrm>
              <a:off x="7250040" y="1003320"/>
              <a:ext cx="4680" cy="61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33"/>
            <p:cNvSpPr/>
            <p:nvPr/>
          </p:nvSpPr>
          <p:spPr>
            <a:xfrm>
              <a:off x="1289880" y="1633680"/>
              <a:ext cx="2390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rden de Magnitu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34"/>
            <p:cNvSpPr/>
            <p:nvPr/>
          </p:nvSpPr>
          <p:spPr>
            <a:xfrm>
              <a:off x="1289520" y="1978200"/>
              <a:ext cx="405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Ingeniería Conceptual o de Perf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35"/>
            <p:cNvSpPr/>
            <p:nvPr/>
          </p:nvSpPr>
          <p:spPr>
            <a:xfrm>
              <a:off x="1287720" y="2322360"/>
              <a:ext cx="2129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Ingeniería Bás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36"/>
            <p:cNvSpPr/>
            <p:nvPr/>
          </p:nvSpPr>
          <p:spPr>
            <a:xfrm>
              <a:off x="1288080" y="2666880"/>
              <a:ext cx="2681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Ingeniería de Detal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37"/>
            <p:cNvSpPr/>
            <p:nvPr/>
          </p:nvSpPr>
          <p:spPr>
            <a:xfrm>
              <a:off x="1290240" y="3013200"/>
              <a:ext cx="2432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lanta Funcionan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38"/>
            <p:cNvSpPr/>
            <p:nvPr/>
          </p:nvSpPr>
          <p:spPr>
            <a:xfrm>
              <a:off x="5958720" y="1633680"/>
              <a:ext cx="864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50-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39"/>
            <p:cNvSpPr/>
            <p:nvPr/>
          </p:nvSpPr>
          <p:spPr>
            <a:xfrm>
              <a:off x="6033240" y="1978200"/>
              <a:ext cx="71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30-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40"/>
            <p:cNvSpPr/>
            <p:nvPr/>
          </p:nvSpPr>
          <p:spPr>
            <a:xfrm>
              <a:off x="6033240" y="2322360"/>
              <a:ext cx="71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5-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41"/>
            <p:cNvSpPr/>
            <p:nvPr/>
          </p:nvSpPr>
          <p:spPr>
            <a:xfrm>
              <a:off x="6108120" y="2666880"/>
              <a:ext cx="560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5-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42"/>
            <p:cNvSpPr/>
            <p:nvPr/>
          </p:nvSpPr>
          <p:spPr>
            <a:xfrm>
              <a:off x="6182640" y="301320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0-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43"/>
            <p:cNvSpPr/>
            <p:nvPr/>
          </p:nvSpPr>
          <p:spPr>
            <a:xfrm>
              <a:off x="8006400" y="16336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44"/>
            <p:cNvSpPr/>
            <p:nvPr/>
          </p:nvSpPr>
          <p:spPr>
            <a:xfrm>
              <a:off x="7929720" y="197820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45"/>
            <p:cNvSpPr/>
            <p:nvPr/>
          </p:nvSpPr>
          <p:spPr>
            <a:xfrm>
              <a:off x="7929720" y="232236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4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46"/>
            <p:cNvSpPr/>
            <p:nvPr/>
          </p:nvSpPr>
          <p:spPr>
            <a:xfrm>
              <a:off x="7929720" y="266688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Rectangle 47"/>
            <p:cNvSpPr/>
            <p:nvPr/>
          </p:nvSpPr>
          <p:spPr>
            <a:xfrm>
              <a:off x="8006400" y="30132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48"/>
            <p:cNvSpPr/>
            <p:nvPr/>
          </p:nvSpPr>
          <p:spPr>
            <a:xfrm>
              <a:off x="1158840" y="1620720"/>
              <a:ext cx="46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49"/>
            <p:cNvSpPr/>
            <p:nvPr/>
          </p:nvSpPr>
          <p:spPr>
            <a:xfrm>
              <a:off x="1163520" y="1620720"/>
              <a:ext cx="422604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50"/>
            <p:cNvSpPr/>
            <p:nvPr/>
          </p:nvSpPr>
          <p:spPr>
            <a:xfrm>
              <a:off x="5389560" y="1620720"/>
              <a:ext cx="46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51"/>
            <p:cNvSpPr/>
            <p:nvPr/>
          </p:nvSpPr>
          <p:spPr>
            <a:xfrm>
              <a:off x="5394240" y="1620720"/>
              <a:ext cx="185580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52"/>
            <p:cNvSpPr/>
            <p:nvPr/>
          </p:nvSpPr>
          <p:spPr>
            <a:xfrm>
              <a:off x="7250040" y="1620720"/>
              <a:ext cx="46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53"/>
            <p:cNvSpPr/>
            <p:nvPr/>
          </p:nvSpPr>
          <p:spPr>
            <a:xfrm>
              <a:off x="7254720" y="1620720"/>
              <a:ext cx="153360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54"/>
            <p:cNvSpPr/>
            <p:nvPr/>
          </p:nvSpPr>
          <p:spPr>
            <a:xfrm>
              <a:off x="1158840" y="1627200"/>
              <a:ext cx="4680" cy="219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55"/>
            <p:cNvSpPr/>
            <p:nvPr/>
          </p:nvSpPr>
          <p:spPr>
            <a:xfrm>
              <a:off x="5389560" y="1627200"/>
              <a:ext cx="4680" cy="219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56"/>
            <p:cNvSpPr/>
            <p:nvPr/>
          </p:nvSpPr>
          <p:spPr>
            <a:xfrm>
              <a:off x="7250040" y="1627200"/>
              <a:ext cx="4680" cy="219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Group 57"/>
            <p:cNvGrpSpPr/>
            <p:nvPr/>
          </p:nvGrpSpPr>
          <p:grpSpPr>
            <a:xfrm>
              <a:off x="1295280" y="2362320"/>
              <a:ext cx="7467840" cy="4269600"/>
              <a:chOff x="1295280" y="2362320"/>
              <a:chExt cx="7467840" cy="4269600"/>
            </a:xfrm>
          </p:grpSpPr>
          <p:grpSp>
            <p:nvGrpSpPr>
              <p:cNvPr id="239" name="Group 58"/>
              <p:cNvGrpSpPr/>
              <p:nvPr/>
            </p:nvGrpSpPr>
            <p:grpSpPr>
              <a:xfrm>
                <a:off x="1295280" y="4266720"/>
                <a:ext cx="7467840" cy="2365200"/>
                <a:chOff x="1295280" y="4266720"/>
                <a:chExt cx="7467840" cy="2365200"/>
              </a:xfrm>
            </p:grpSpPr>
            <p:sp>
              <p:nvSpPr>
                <p:cNvPr id="240" name="Line 59"/>
                <p:cNvSpPr/>
                <p:nvPr/>
              </p:nvSpPr>
              <p:spPr>
                <a:xfrm flipV="1">
                  <a:off x="3352680" y="4266720"/>
                  <a:ext cx="0" cy="1752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Line 60"/>
                <p:cNvSpPr/>
                <p:nvPr/>
              </p:nvSpPr>
              <p:spPr>
                <a:xfrm>
                  <a:off x="3352680" y="6019920"/>
                  <a:ext cx="4876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Arc 61"/>
                <p:cNvSpPr/>
                <p:nvPr/>
              </p:nvSpPr>
              <p:spPr>
                <a:xfrm>
                  <a:off x="3733920" y="4267080"/>
                  <a:ext cx="3695760" cy="160200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Text Box 62"/>
                <p:cNvSpPr/>
                <p:nvPr/>
              </p:nvSpPr>
              <p:spPr>
                <a:xfrm>
                  <a:off x="1295280" y="4343400"/>
                  <a:ext cx="190512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Error del Proyecto, (%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Text Box 63"/>
                <p:cNvSpPr/>
                <p:nvPr/>
              </p:nvSpPr>
              <p:spPr>
                <a:xfrm>
                  <a:off x="3962520" y="6172200"/>
                  <a:ext cx="4800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Cantidad de Ingeniería Realizad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Group 64"/>
              <p:cNvGrpSpPr/>
              <p:nvPr/>
            </p:nvGrpSpPr>
            <p:grpSpPr>
              <a:xfrm>
                <a:off x="3962520" y="2362320"/>
                <a:ext cx="2057400" cy="3429000"/>
                <a:chOff x="3962520" y="2362320"/>
                <a:chExt cx="2057400" cy="3429000"/>
              </a:xfrm>
            </p:grpSpPr>
            <p:sp>
              <p:nvSpPr>
                <p:cNvPr id="246" name="Line 65"/>
                <p:cNvSpPr/>
                <p:nvPr/>
              </p:nvSpPr>
              <p:spPr>
                <a:xfrm>
                  <a:off x="3962520" y="2362320"/>
                  <a:ext cx="0" cy="2514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Line 66"/>
                <p:cNvSpPr/>
                <p:nvPr/>
              </p:nvSpPr>
              <p:spPr>
                <a:xfrm>
                  <a:off x="4495680" y="2514600"/>
                  <a:ext cx="381240" cy="297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Line 67"/>
                <p:cNvSpPr/>
                <p:nvPr/>
              </p:nvSpPr>
              <p:spPr>
                <a:xfrm>
                  <a:off x="5029200" y="2895480"/>
                  <a:ext cx="990720" cy="289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Line 68"/>
                <p:cNvSpPr/>
                <p:nvPr/>
              </p:nvSpPr>
              <p:spPr>
                <a:xfrm>
                  <a:off x="4724280" y="28954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Line 69"/>
                <p:cNvSpPr/>
                <p:nvPr/>
              </p:nvSpPr>
              <p:spPr>
                <a:xfrm>
                  <a:off x="4114800" y="25146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stos de Ingeni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533520" y="1536840"/>
            <a:ext cx="8228160" cy="4846320"/>
            <a:chOff x="533520" y="1536840"/>
            <a:chExt cx="8228160" cy="4846320"/>
          </a:xfrm>
        </p:grpSpPr>
        <p:sp>
          <p:nvSpPr>
            <p:cNvPr id="253" name="Rectangle 4"/>
            <p:cNvSpPr/>
            <p:nvPr/>
          </p:nvSpPr>
          <p:spPr>
            <a:xfrm>
              <a:off x="933480" y="1882800"/>
              <a:ext cx="1330200" cy="34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5"/>
            <p:cNvSpPr/>
            <p:nvPr/>
          </p:nvSpPr>
          <p:spPr>
            <a:xfrm>
              <a:off x="912240" y="1905120"/>
              <a:ext cx="1241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800080"/>
                  </a:solidFill>
                  <a:latin typeface="Arial"/>
                </a:rPr>
                <a:t>Concepció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6"/>
            <p:cNvSpPr/>
            <p:nvPr/>
          </p:nvSpPr>
          <p:spPr>
            <a:xfrm>
              <a:off x="2209680" y="1600200"/>
              <a:ext cx="1013040" cy="6080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7"/>
            <p:cNvSpPr/>
            <p:nvPr/>
          </p:nvSpPr>
          <p:spPr>
            <a:xfrm>
              <a:off x="2346840" y="166860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8"/>
            <p:cNvSpPr/>
            <p:nvPr/>
          </p:nvSpPr>
          <p:spPr>
            <a:xfrm>
              <a:off x="2437920" y="1600200"/>
              <a:ext cx="384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ff"/>
                  </a:solidFill>
                  <a:latin typeface="Arial"/>
                </a:rPr>
                <a:t>Ing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9"/>
            <p:cNvSpPr/>
            <p:nvPr/>
          </p:nvSpPr>
          <p:spPr>
            <a:xfrm>
              <a:off x="2284200" y="1905120"/>
              <a:ext cx="927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ff"/>
                  </a:solidFill>
                  <a:latin typeface="Arial"/>
                </a:rPr>
                <a:t>Concept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10"/>
            <p:cNvSpPr/>
            <p:nvPr/>
          </p:nvSpPr>
          <p:spPr>
            <a:xfrm>
              <a:off x="3200400" y="1752480"/>
              <a:ext cx="2209680" cy="4352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11"/>
            <p:cNvSpPr/>
            <p:nvPr/>
          </p:nvSpPr>
          <p:spPr>
            <a:xfrm>
              <a:off x="3581280" y="1828800"/>
              <a:ext cx="1447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ff0000"/>
                  </a:solidFill>
                  <a:latin typeface="Arial"/>
                </a:rPr>
                <a:t>Ing. Básic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12"/>
            <p:cNvSpPr/>
            <p:nvPr/>
          </p:nvSpPr>
          <p:spPr>
            <a:xfrm>
              <a:off x="5334120" y="1752480"/>
              <a:ext cx="2133360" cy="4352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13"/>
            <p:cNvSpPr/>
            <p:nvPr/>
          </p:nvSpPr>
          <p:spPr>
            <a:xfrm>
              <a:off x="5638680" y="1828800"/>
              <a:ext cx="1572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00ff00"/>
                  </a:solidFill>
                  <a:latin typeface="Arial"/>
                </a:rPr>
                <a:t>Ing. Detalle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14"/>
            <p:cNvSpPr/>
            <p:nvPr/>
          </p:nvSpPr>
          <p:spPr>
            <a:xfrm>
              <a:off x="541440" y="1536840"/>
              <a:ext cx="8062920" cy="48463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15"/>
            <p:cNvSpPr/>
            <p:nvPr/>
          </p:nvSpPr>
          <p:spPr>
            <a:xfrm>
              <a:off x="2878200" y="2228760"/>
              <a:ext cx="23760" cy="8622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16"/>
            <p:cNvSpPr/>
            <p:nvPr/>
          </p:nvSpPr>
          <p:spPr>
            <a:xfrm>
              <a:off x="4052880" y="2228760"/>
              <a:ext cx="23760" cy="862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17"/>
            <p:cNvSpPr/>
            <p:nvPr/>
          </p:nvSpPr>
          <p:spPr>
            <a:xfrm>
              <a:off x="5931000" y="2228760"/>
              <a:ext cx="23760" cy="8622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Group 18"/>
            <p:cNvGrpSpPr/>
            <p:nvPr/>
          </p:nvGrpSpPr>
          <p:grpSpPr>
            <a:xfrm>
              <a:off x="2498760" y="3019320"/>
              <a:ext cx="782640" cy="146160"/>
              <a:chOff x="2498760" y="3019320"/>
              <a:chExt cx="782640" cy="146160"/>
            </a:xfrm>
          </p:grpSpPr>
          <p:sp>
            <p:nvSpPr>
              <p:cNvPr id="268" name="Freeform 19"/>
              <p:cNvSpPr/>
              <p:nvPr/>
            </p:nvSpPr>
            <p:spPr>
              <a:xfrm>
                <a:off x="2619360" y="3079800"/>
                <a:ext cx="539640" cy="2844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20"/>
              <p:cNvSpPr/>
              <p:nvPr/>
            </p:nvSpPr>
            <p:spPr>
              <a:xfrm>
                <a:off x="2498760" y="3019320"/>
                <a:ext cx="125280" cy="14148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21"/>
              <p:cNvSpPr/>
              <p:nvPr/>
            </p:nvSpPr>
            <p:spPr>
              <a:xfrm>
                <a:off x="3154320" y="3024360"/>
                <a:ext cx="127080" cy="1411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Group 22"/>
            <p:cNvGrpSpPr/>
            <p:nvPr/>
          </p:nvGrpSpPr>
          <p:grpSpPr>
            <a:xfrm>
              <a:off x="3281400" y="3019320"/>
              <a:ext cx="1798560" cy="146160"/>
              <a:chOff x="3281400" y="3019320"/>
              <a:chExt cx="1798560" cy="146160"/>
            </a:xfrm>
          </p:grpSpPr>
          <p:sp>
            <p:nvSpPr>
              <p:cNvPr id="272" name="Freeform 23"/>
              <p:cNvSpPr/>
              <p:nvPr/>
            </p:nvSpPr>
            <p:spPr>
              <a:xfrm>
                <a:off x="3402000" y="3079800"/>
                <a:ext cx="1557360" cy="284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Freeform 24"/>
              <p:cNvSpPr/>
              <p:nvPr/>
            </p:nvSpPr>
            <p:spPr>
              <a:xfrm>
                <a:off x="3281400" y="3019320"/>
                <a:ext cx="125280" cy="1414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Freeform 25"/>
              <p:cNvSpPr/>
              <p:nvPr/>
            </p:nvSpPr>
            <p:spPr>
              <a:xfrm>
                <a:off x="4954680" y="3024360"/>
                <a:ext cx="125280" cy="1411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Group 26"/>
            <p:cNvGrpSpPr/>
            <p:nvPr/>
          </p:nvGrpSpPr>
          <p:grpSpPr>
            <a:xfrm>
              <a:off x="5079960" y="3019320"/>
              <a:ext cx="2035080" cy="146160"/>
              <a:chOff x="5079960" y="3019320"/>
              <a:chExt cx="2035080" cy="146160"/>
            </a:xfrm>
          </p:grpSpPr>
          <p:sp>
            <p:nvSpPr>
              <p:cNvPr id="276" name="Freeform 27"/>
              <p:cNvSpPr/>
              <p:nvPr/>
            </p:nvSpPr>
            <p:spPr>
              <a:xfrm>
                <a:off x="5202360" y="3079800"/>
                <a:ext cx="1790640" cy="284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Freeform 28"/>
              <p:cNvSpPr/>
              <p:nvPr/>
            </p:nvSpPr>
            <p:spPr>
              <a:xfrm>
                <a:off x="5079960" y="3019320"/>
                <a:ext cx="127080" cy="1414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Freeform 29"/>
              <p:cNvSpPr/>
              <p:nvPr/>
            </p:nvSpPr>
            <p:spPr>
              <a:xfrm>
                <a:off x="6989760" y="3024360"/>
                <a:ext cx="125280" cy="141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Rectangle 30"/>
            <p:cNvSpPr/>
            <p:nvPr/>
          </p:nvSpPr>
          <p:spPr>
            <a:xfrm>
              <a:off x="7387920" y="2133720"/>
              <a:ext cx="1373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66"/>
                  </a:solidFill>
                  <a:latin typeface="Arial"/>
                </a:rPr>
                <a:t>Funcio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0" name="Object 31"/>
            <p:cNvGraphicFramePr/>
            <p:nvPr/>
          </p:nvGraphicFramePr>
          <p:xfrm>
            <a:off x="533520" y="2286000"/>
            <a:ext cx="7391160" cy="3929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81" name="Object 3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2286000"/>
                      <a:ext cx="7391160" cy="392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2" name="Line 32"/>
            <p:cNvSpPr/>
            <p:nvPr/>
          </p:nvSpPr>
          <p:spPr>
            <a:xfrm>
              <a:off x="1676520" y="2133720"/>
              <a:ext cx="838080" cy="60948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33"/>
            <p:cNvSpPr/>
            <p:nvPr/>
          </p:nvSpPr>
          <p:spPr>
            <a:xfrm>
              <a:off x="2895480" y="2209680"/>
              <a:ext cx="0" cy="914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34"/>
            <p:cNvSpPr/>
            <p:nvPr/>
          </p:nvSpPr>
          <p:spPr>
            <a:xfrm>
              <a:off x="2438280" y="3124080"/>
              <a:ext cx="762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35"/>
            <p:cNvSpPr/>
            <p:nvPr/>
          </p:nvSpPr>
          <p:spPr>
            <a:xfrm>
              <a:off x="4038480" y="2209680"/>
              <a:ext cx="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36"/>
            <p:cNvSpPr/>
            <p:nvPr/>
          </p:nvSpPr>
          <p:spPr>
            <a:xfrm>
              <a:off x="3200400" y="3124080"/>
              <a:ext cx="2133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37"/>
            <p:cNvSpPr/>
            <p:nvPr/>
          </p:nvSpPr>
          <p:spPr>
            <a:xfrm>
              <a:off x="5943600" y="2209680"/>
              <a:ext cx="0" cy="91440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38"/>
            <p:cNvSpPr/>
            <p:nvPr/>
          </p:nvSpPr>
          <p:spPr>
            <a:xfrm>
              <a:off x="5334120" y="3124080"/>
              <a:ext cx="2057400" cy="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39"/>
            <p:cNvSpPr/>
            <p:nvPr/>
          </p:nvSpPr>
          <p:spPr>
            <a:xfrm flipH="1">
              <a:off x="7467120" y="2362320"/>
              <a:ext cx="68580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EJEMPLO: Proceso para producir benceno</a:t>
            </a:r>
            <a:br>
              <a:rPr sz="2800"/>
            </a:b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a partir de tolueno (Proceso H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250920" y="1197000"/>
            <a:ext cx="8893080" cy="60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Reacciones: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olueno + 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------&gt;     Benceno + C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 Bencen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&lt;====&gt;     Difenilo + 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emperatura de reacción &gt; 1150ºC  (velocidad de reacción alta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esión en el reactor: 500 p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lectividad (S)  = moles de benceno en la salida del reactor / moles de tolueno convert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 = 1 - 0.0036 / (1 -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)1.544 ;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&lt;  0.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versión (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= moles de tolueno convertidos en el reactor / moles de tolueno alimentados al rea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ase gas y no se utilizan cataliza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DIAGRAMA DE ENTRADA-SALIDA PROCESO H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Group 4"/>
          <p:cNvGrpSpPr/>
          <p:nvPr/>
        </p:nvGrpSpPr>
        <p:grpSpPr>
          <a:xfrm>
            <a:off x="412920" y="2250360"/>
            <a:ext cx="8150400" cy="2731320"/>
            <a:chOff x="412920" y="2250360"/>
            <a:chExt cx="8150400" cy="2731320"/>
          </a:xfrm>
        </p:grpSpPr>
        <p:sp>
          <p:nvSpPr>
            <p:cNvPr id="294" name="Rectangle 5"/>
            <p:cNvSpPr/>
            <p:nvPr/>
          </p:nvSpPr>
          <p:spPr>
            <a:xfrm>
              <a:off x="2959200" y="3267000"/>
              <a:ext cx="2336760" cy="1208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6"/>
            <p:cNvSpPr/>
            <p:nvPr/>
          </p:nvSpPr>
          <p:spPr>
            <a:xfrm>
              <a:off x="1351080" y="364644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7"/>
            <p:cNvSpPr/>
            <p:nvPr/>
          </p:nvSpPr>
          <p:spPr>
            <a:xfrm>
              <a:off x="1351080" y="409248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8"/>
            <p:cNvSpPr/>
            <p:nvPr/>
          </p:nvSpPr>
          <p:spPr>
            <a:xfrm>
              <a:off x="5330880" y="377352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9"/>
            <p:cNvSpPr/>
            <p:nvPr/>
          </p:nvSpPr>
          <p:spPr>
            <a:xfrm>
              <a:off x="5078520" y="498168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10"/>
            <p:cNvSpPr/>
            <p:nvPr/>
          </p:nvSpPr>
          <p:spPr>
            <a:xfrm flipV="1">
              <a:off x="5078520" y="4473360"/>
              <a:ext cx="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11"/>
            <p:cNvSpPr/>
            <p:nvPr/>
          </p:nvSpPr>
          <p:spPr>
            <a:xfrm flipV="1">
              <a:off x="5962680" y="2820600"/>
              <a:ext cx="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12"/>
            <p:cNvSpPr/>
            <p:nvPr/>
          </p:nvSpPr>
          <p:spPr>
            <a:xfrm>
              <a:off x="5330880" y="3328920"/>
              <a:ext cx="63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13"/>
            <p:cNvSpPr/>
            <p:nvPr/>
          </p:nvSpPr>
          <p:spPr>
            <a:xfrm flipH="1">
              <a:off x="3371400" y="2820960"/>
              <a:ext cx="259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14"/>
            <p:cNvSpPr/>
            <p:nvPr/>
          </p:nvSpPr>
          <p:spPr>
            <a:xfrm>
              <a:off x="3371760" y="2820960"/>
              <a:ext cx="0" cy="44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 Box 15"/>
            <p:cNvSpPr/>
            <p:nvPr/>
          </p:nvSpPr>
          <p:spPr>
            <a:xfrm>
              <a:off x="4033800" y="227556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Recic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16"/>
            <p:cNvSpPr/>
            <p:nvPr/>
          </p:nvSpPr>
          <p:spPr>
            <a:xfrm>
              <a:off x="412920" y="3164760"/>
              <a:ext cx="239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 Tolueno  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17"/>
            <p:cNvSpPr/>
            <p:nvPr/>
          </p:nvSpPr>
          <p:spPr>
            <a:xfrm>
              <a:off x="723240" y="4091760"/>
              <a:ext cx="220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 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Text Box 18"/>
            <p:cNvSpPr/>
            <p:nvPr/>
          </p:nvSpPr>
          <p:spPr>
            <a:xfrm>
              <a:off x="6396840" y="3240720"/>
              <a:ext cx="216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= 265 mol/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19"/>
            <p:cNvSpPr/>
            <p:nvPr/>
          </p:nvSpPr>
          <p:spPr>
            <a:xfrm>
              <a:off x="5245200" y="438372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4) P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, Difeni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20"/>
            <p:cNvSpPr/>
            <p:nvPr/>
          </p:nvSpPr>
          <p:spPr>
            <a:xfrm>
              <a:off x="5962680" y="2820960"/>
              <a:ext cx="120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Text Box 21"/>
            <p:cNvSpPr/>
            <p:nvPr/>
          </p:nvSpPr>
          <p:spPr>
            <a:xfrm>
              <a:off x="5626800" y="2250360"/>
              <a:ext cx="212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22"/>
            <p:cNvSpPr/>
            <p:nvPr/>
          </p:nvSpPr>
          <p:spPr>
            <a:xfrm>
              <a:off x="3219480" y="3337920"/>
              <a:ext cx="19587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</a:rPr>
                <a:t>PROCE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</a:rPr>
                <a:t>H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23"/>
            <p:cNvSpPr/>
            <p:nvPr/>
          </p:nvSpPr>
          <p:spPr>
            <a:xfrm>
              <a:off x="6160680" y="3800520"/>
              <a:ext cx="171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3) Bence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Tabla de Corr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Object 3"/>
          <p:cNvGraphicFramePr/>
          <p:nvPr/>
        </p:nvGraphicFramePr>
        <p:xfrm>
          <a:off x="457200" y="2971800"/>
          <a:ext cx="868680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971800"/>
                    <a:ext cx="86868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6" name="Group 4"/>
          <p:cNvGrpSpPr/>
          <p:nvPr/>
        </p:nvGrpSpPr>
        <p:grpSpPr>
          <a:xfrm>
            <a:off x="1477440" y="259200"/>
            <a:ext cx="6417000" cy="2706120"/>
            <a:chOff x="1477440" y="259200"/>
            <a:chExt cx="6417000" cy="2706120"/>
          </a:xfrm>
        </p:grpSpPr>
        <p:sp>
          <p:nvSpPr>
            <p:cNvPr id="317" name="Text Box 5"/>
            <p:cNvSpPr/>
            <p:nvPr/>
          </p:nvSpPr>
          <p:spPr>
            <a:xfrm>
              <a:off x="4168440" y="25920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Recic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6"/>
            <p:cNvSpPr/>
            <p:nvPr/>
          </p:nvSpPr>
          <p:spPr>
            <a:xfrm>
              <a:off x="6555600" y="25920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Group 7"/>
            <p:cNvGrpSpPr/>
            <p:nvPr/>
          </p:nvGrpSpPr>
          <p:grpSpPr>
            <a:xfrm>
              <a:off x="1477440" y="804240"/>
              <a:ext cx="6417000" cy="2161080"/>
              <a:chOff x="1477440" y="804240"/>
              <a:chExt cx="6417000" cy="2161080"/>
            </a:xfrm>
          </p:grpSpPr>
          <p:sp>
            <p:nvSpPr>
              <p:cNvPr id="320" name="Rectangle 8"/>
              <p:cNvSpPr/>
              <p:nvPr/>
            </p:nvSpPr>
            <p:spPr>
              <a:xfrm>
                <a:off x="3093840" y="1250640"/>
                <a:ext cx="2336760" cy="120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Line 9"/>
              <p:cNvSpPr/>
              <p:nvPr/>
            </p:nvSpPr>
            <p:spPr>
              <a:xfrm>
                <a:off x="1485720" y="163008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Line 10"/>
              <p:cNvSpPr/>
              <p:nvPr/>
            </p:nvSpPr>
            <p:spPr>
              <a:xfrm>
                <a:off x="1485720" y="207612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Line 11"/>
              <p:cNvSpPr/>
              <p:nvPr/>
            </p:nvSpPr>
            <p:spPr>
              <a:xfrm>
                <a:off x="5465520" y="175716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Line 12"/>
              <p:cNvSpPr/>
              <p:nvPr/>
            </p:nvSpPr>
            <p:spPr>
              <a:xfrm>
                <a:off x="5213160" y="296532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Line 13"/>
              <p:cNvSpPr/>
              <p:nvPr/>
            </p:nvSpPr>
            <p:spPr>
              <a:xfrm flipV="1">
                <a:off x="5213160" y="2457000"/>
                <a:ext cx="0" cy="507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Line 14"/>
              <p:cNvSpPr/>
              <p:nvPr/>
            </p:nvSpPr>
            <p:spPr>
              <a:xfrm flipV="1">
                <a:off x="6097320" y="804240"/>
                <a:ext cx="0" cy="507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Line 15"/>
              <p:cNvSpPr/>
              <p:nvPr/>
            </p:nvSpPr>
            <p:spPr>
              <a:xfrm>
                <a:off x="5465520" y="1312560"/>
                <a:ext cx="63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Line 16"/>
              <p:cNvSpPr/>
              <p:nvPr/>
            </p:nvSpPr>
            <p:spPr>
              <a:xfrm flipH="1">
                <a:off x="3506760" y="804600"/>
                <a:ext cx="2590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Line 17"/>
              <p:cNvSpPr/>
              <p:nvPr/>
            </p:nvSpPr>
            <p:spPr>
              <a:xfrm>
                <a:off x="3506760" y="804600"/>
                <a:ext cx="0" cy="444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Text Box 18"/>
              <p:cNvSpPr/>
              <p:nvPr/>
            </p:nvSpPr>
            <p:spPr>
              <a:xfrm>
                <a:off x="1477440" y="117360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(2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Text Box 19"/>
              <p:cNvSpPr/>
              <p:nvPr/>
            </p:nvSpPr>
            <p:spPr>
              <a:xfrm>
                <a:off x="1689840" y="210060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(1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Text Box 20"/>
              <p:cNvSpPr/>
              <p:nvPr/>
            </p:nvSpPr>
            <p:spPr>
              <a:xfrm>
                <a:off x="5379840" y="239256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(4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Line 21"/>
              <p:cNvSpPr/>
              <p:nvPr/>
            </p:nvSpPr>
            <p:spPr>
              <a:xfrm>
                <a:off x="6097320" y="804600"/>
                <a:ext cx="1200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22"/>
              <p:cNvSpPr/>
              <p:nvPr/>
            </p:nvSpPr>
            <p:spPr>
              <a:xfrm>
                <a:off x="3354120" y="1321560"/>
                <a:ext cx="19591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PROCES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HD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Rectangle 23"/>
              <p:cNvSpPr/>
              <p:nvPr/>
            </p:nvSpPr>
            <p:spPr>
              <a:xfrm>
                <a:off x="6627240" y="125064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(3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42920" y="486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Potencial Económico del Proceso H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Object 3"/>
          <p:cNvGraphicFramePr/>
          <p:nvPr/>
        </p:nvGraphicFramePr>
        <p:xfrm>
          <a:off x="838080" y="304920"/>
          <a:ext cx="7772400" cy="450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04920"/>
                    <a:ext cx="777240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Text Box 4"/>
          <p:cNvSpPr/>
          <p:nvPr/>
        </p:nvSpPr>
        <p:spPr>
          <a:xfrm>
            <a:off x="5943600" y="838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PH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 =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3429000" y="160020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cc0000"/>
                </a:solidFill>
                <a:latin typeface="Times New Roman"/>
              </a:rPr>
              <a:t>PH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</a:rPr>
              <a:t> = 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5867280" y="228600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ff00"/>
                </a:solidFill>
                <a:latin typeface="Times New Roman"/>
              </a:rPr>
              <a:t>PH</a:t>
            </a:r>
            <a:r>
              <a:rPr b="0" lang="es-ES_tradnl" sz="2400" spc="-1" strike="noStrike">
                <a:solidFill>
                  <a:srgbClr val="00ff00"/>
                </a:solidFill>
                <a:latin typeface="Times New Roman"/>
              </a:rPr>
              <a:t> = 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7"/>
          <p:cNvSpPr/>
          <p:nvPr/>
        </p:nvSpPr>
        <p:spPr>
          <a:xfrm flipV="1">
            <a:off x="4419720" y="1294920"/>
            <a:ext cx="990360" cy="3812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2"/>
          <p:cNvSpPr/>
          <p:nvPr/>
        </p:nvSpPr>
        <p:spPr>
          <a:xfrm>
            <a:off x="0" y="0"/>
            <a:ext cx="2925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80"/>
                </a:solidFill>
                <a:latin typeface="Times New Roman"/>
              </a:rPr>
              <a:t>Combusti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85"/>
          <p:cNvSpPr/>
          <p:nvPr/>
        </p:nvSpPr>
        <p:spPr>
          <a:xfrm>
            <a:off x="6675480" y="182520"/>
            <a:ext cx="2468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ff00"/>
                </a:solidFill>
                <a:latin typeface="Times New Roman"/>
              </a:rPr>
              <a:t>Fárma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92"/>
          <p:cNvGrpSpPr/>
          <p:nvPr/>
        </p:nvGrpSpPr>
        <p:grpSpPr>
          <a:xfrm>
            <a:off x="228600" y="92160"/>
            <a:ext cx="8640720" cy="6216480"/>
            <a:chOff x="228600" y="92160"/>
            <a:chExt cx="8640720" cy="6216480"/>
          </a:xfrm>
        </p:grpSpPr>
        <p:sp>
          <p:nvSpPr>
            <p:cNvPr id="45" name="Oval 73"/>
            <p:cNvSpPr/>
            <p:nvPr/>
          </p:nvSpPr>
          <p:spPr>
            <a:xfrm>
              <a:off x="3200400" y="1646280"/>
              <a:ext cx="3567240" cy="2011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74"/>
            <p:cNvSpPr/>
            <p:nvPr/>
          </p:nvSpPr>
          <p:spPr>
            <a:xfrm>
              <a:off x="274680" y="5029200"/>
              <a:ext cx="2651040" cy="1189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75"/>
            <p:cNvSpPr/>
            <p:nvPr/>
          </p:nvSpPr>
          <p:spPr>
            <a:xfrm>
              <a:off x="3292560" y="5029200"/>
              <a:ext cx="2651040" cy="1189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Text Box 76"/>
            <p:cNvSpPr/>
            <p:nvPr/>
          </p:nvSpPr>
          <p:spPr>
            <a:xfrm>
              <a:off x="639720" y="5029200"/>
              <a:ext cx="2468520" cy="12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ciencia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básica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Text Box 77"/>
            <p:cNvSpPr/>
            <p:nvPr/>
          </p:nvSpPr>
          <p:spPr>
            <a:xfrm>
              <a:off x="3429000" y="4952880"/>
              <a:ext cx="2835360" cy="12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operaci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unitaria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Text Box 78"/>
            <p:cNvSpPr/>
            <p:nvPr/>
          </p:nvSpPr>
          <p:spPr>
            <a:xfrm>
              <a:off x="3749760" y="2286000"/>
              <a:ext cx="2743200" cy="12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ff"/>
                  </a:solidFill>
                  <a:latin typeface="Times New Roman"/>
                </a:rPr>
                <a:t>PROCESO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79"/>
            <p:cNvSpPr/>
            <p:nvPr/>
          </p:nvSpPr>
          <p:spPr>
            <a:xfrm flipV="1">
              <a:off x="1279440" y="3382560"/>
              <a:ext cx="2560680" cy="155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80"/>
            <p:cNvSpPr/>
            <p:nvPr/>
          </p:nvSpPr>
          <p:spPr>
            <a:xfrm>
              <a:off x="6310440" y="3382920"/>
              <a:ext cx="255888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81"/>
            <p:cNvSpPr/>
            <p:nvPr/>
          </p:nvSpPr>
          <p:spPr>
            <a:xfrm flipV="1">
              <a:off x="4938840" y="3749760"/>
              <a:ext cx="0" cy="127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82"/>
            <p:cNvSpPr/>
            <p:nvPr/>
          </p:nvSpPr>
          <p:spPr>
            <a:xfrm flipV="1">
              <a:off x="6218280" y="1066320"/>
              <a:ext cx="792000" cy="66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83"/>
            <p:cNvSpPr/>
            <p:nvPr/>
          </p:nvSpPr>
          <p:spPr>
            <a:xfrm>
              <a:off x="2743200" y="1096920"/>
              <a:ext cx="1006560" cy="63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84"/>
            <p:cNvSpPr/>
            <p:nvPr/>
          </p:nvSpPr>
          <p:spPr>
            <a:xfrm>
              <a:off x="3840120" y="914400"/>
              <a:ext cx="24703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ff00"/>
                  </a:solidFill>
                  <a:latin typeface="Times New Roman"/>
                </a:rPr>
                <a:t>Alimento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86"/>
            <p:cNvSpPr/>
            <p:nvPr/>
          </p:nvSpPr>
          <p:spPr>
            <a:xfrm>
              <a:off x="3840120" y="92160"/>
              <a:ext cx="247032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0000"/>
                  </a:solidFill>
                  <a:latin typeface="Times New Roman"/>
                </a:rPr>
                <a:t>Chemical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87"/>
            <p:cNvSpPr/>
            <p:nvPr/>
          </p:nvSpPr>
          <p:spPr>
            <a:xfrm>
              <a:off x="6095880" y="5029200"/>
              <a:ext cx="2743200" cy="1189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88"/>
            <p:cNvSpPr/>
            <p:nvPr/>
          </p:nvSpPr>
          <p:spPr>
            <a:xfrm>
              <a:off x="6095880" y="5029200"/>
              <a:ext cx="2743200" cy="12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ciencias d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la ingenierí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90"/>
            <p:cNvSpPr/>
            <p:nvPr/>
          </p:nvSpPr>
          <p:spPr>
            <a:xfrm>
              <a:off x="228600" y="990720"/>
              <a:ext cx="2925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0000"/>
                  </a:solidFill>
                  <a:latin typeface="Times New Roman"/>
                </a:rPr>
                <a:t>Metal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91"/>
          <p:cNvSpPr/>
          <p:nvPr/>
        </p:nvSpPr>
        <p:spPr>
          <a:xfrm>
            <a:off x="7162920" y="914400"/>
            <a:ext cx="2925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99"/>
                </a:solidFill>
                <a:latin typeface="Times New Roman"/>
              </a:rPr>
              <a:t>Plást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Estructura de los Sistemas de Sepa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Object 3"/>
          <p:cNvGraphicFramePr/>
          <p:nvPr/>
        </p:nvGraphicFramePr>
        <p:xfrm>
          <a:off x="304920" y="1143000"/>
          <a:ext cx="8305560" cy="54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305560" cy="54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1187280" y="133200"/>
            <a:ext cx="6769440" cy="593892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3"/>
          <p:cNvSpPr/>
          <p:nvPr/>
        </p:nvSpPr>
        <p:spPr>
          <a:xfrm>
            <a:off x="1547640" y="627840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a50021"/>
                </a:solidFill>
                <a:latin typeface="Times New Roman"/>
              </a:rPr>
              <a:t>Diagrama de Flu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611280" y="0"/>
            <a:ext cx="8072280" cy="517680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3"/>
          <p:cNvSpPr/>
          <p:nvPr/>
        </p:nvSpPr>
        <p:spPr>
          <a:xfrm>
            <a:off x="1835280" y="573408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a50021"/>
                </a:solidFill>
                <a:latin typeface="Times New Roman"/>
              </a:rPr>
              <a:t>Diagrama de Flujos y Ener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76312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Courier New"/>
              </a:rPr>
              <a:t>Secuencia de Desarrollo de un Nuevo 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838080" y="2514600"/>
            <a:ext cx="7391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scubrimiento Científ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udios Experimentales  1-5 a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udios Piloto 1-3 a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tente 10- 15 a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ocimiento Públ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216000" y="1484280"/>
            <a:ext cx="8748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cubrimiento científico:  años 40-5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udios Experimentales: años 60-9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udios Piloto: años 70-9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ducción a Pequeña Escala: años 86-00 (SMP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ducción a Mediana Escala: años 94-04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Cerro Colorado, Quebrada Blanca, SBL Chuquicamat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evas Plantas : años 95–hasta ho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Zaldívar, Ivan-Zar, Los Bronces SBL, Escondida SBL, Collahuasi SBL, etc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755640" y="40464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Ejemplo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Proceso de Bio-Lixiv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de Minerales de Cobre en Pi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G Times"/>
              </a:rPr>
              <a:t>Etapas en el Desarrollo de un Proceso Industrial (Niveles del Diseño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457200" y="1752480"/>
            <a:ext cx="830592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cepción y Defin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eño Conceptual (diagramas PFD y PI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valuación de Impacto Ambien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eño de Equipos, Instrumentación y Cont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valuación Económica Detall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ptimización Técnico-Económ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mplementación y Constru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8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guimiento, Ajuste, Re-Diseño y Re-Evalu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Object 2"/>
          <p:cNvGraphicFramePr/>
          <p:nvPr/>
        </p:nvGraphicFramePr>
        <p:xfrm>
          <a:off x="457200" y="1447920"/>
          <a:ext cx="8283600" cy="502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83600" cy="50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Rectangle 3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Contenidos de un Proyecto de Diseño Conceptual de Proce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304920" y="380880"/>
            <a:ext cx="8610480" cy="63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3- Fundamentos del Proceso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Reacciones químicas principale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Mecanismos de regeneración de reactivo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Antecedentes termodinámicos y cinético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4- Resultados Experimentales de Etapas Principales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Criterios de diseño de las etapa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Criterios de escalamient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Consumos específicos de principales insumo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5- Diseño de Diagramas y Evaluación de Alternativas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Diagramas: Entrada-Salida, Bloques, Flujos, Instrumentación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Balances de Masa y Energí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Evaluación Económica Simplificad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 Comparación y Selección de Alternativa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6- Memoria de Cálculo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Métodos de Cálcul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Tablas de Balance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228600" y="838080"/>
            <a:ext cx="853452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es-ES_tradnl" sz="2400" spc="-1" strike="noStrike">
                <a:solidFill>
                  <a:srgbClr val="990000"/>
                </a:solidFill>
                <a:latin typeface="Times New Roman"/>
              </a:rPr>
              <a:t>Proyect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s la realización de una actividad en forma programada y organizada de acuerdo a una cierta necesidad ó problema a resolv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trabajo en proyectos es una de las principales actividades que hoy en día todo profesional debe enfrentar en su mundo labo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 proyecto consta de varias partes, com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- Una propuesta de proyecto que un cliente debe especifica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probar y contra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- Informes de actividades contratados de acuer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 la propuesta aprob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- Entrega de la obra final,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estudio completo, Plan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etc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acuerdo a la propuesta contrat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304920" y="228600"/>
            <a:ext cx="8839080" cy="65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Industrias de Procesos Quím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iment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bebidas, azúcar, jugos, conservas, congelados, lácteos, 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Vin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, cervez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bustibles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petróleo, carbón, gas natural, gasolina,  lubricantes y deriv, 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</a:rPr>
              <a:t>Biodiesel, bietanol, biogas, H</a:t>
            </a:r>
            <a:r>
              <a:rPr b="1" lang="es-ES_tradnl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estos Quím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rgánicos (petroquímicos, solventes, caucho, et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orgánicos (sales, fertilizantes,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Li, I, B, KNO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et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losivos. Detergentes y Jabones. Pinturas y Pigm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eneración de Vapor y Energía Termo-Eléctrica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teriales (cemento, vidrio, cerámica, adhesivos, construcc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Metalurgi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acero y aleaciones, metales: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Cu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Ag, Au,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Mo, R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et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Papel ,Celulosa, Bioetan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Pesquer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harina y aceite de pescado, conservas,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Salm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lásticos, Textiles y Fibras Sinté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tamientos Aguas, Efluentes Industriales (Gases, RILes, RIS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ármacos, Esencias, Aceites Espe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Object 2"/>
          <p:cNvGraphicFramePr/>
          <p:nvPr/>
        </p:nvGraphicFramePr>
        <p:xfrm>
          <a:off x="606600" y="2511360"/>
          <a:ext cx="8370720" cy="229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2511360"/>
                    <a:ext cx="83707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3"/>
          <p:cNvGraphicFramePr/>
          <p:nvPr/>
        </p:nvGraphicFramePr>
        <p:xfrm>
          <a:off x="1442880" y="4878360"/>
          <a:ext cx="6840720" cy="1558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2880" y="4878360"/>
                    <a:ext cx="6840720" cy="15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Text Box 4"/>
          <p:cNvSpPr/>
          <p:nvPr/>
        </p:nvSpPr>
        <p:spPr>
          <a:xfrm>
            <a:off x="380880" y="22860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- Un proyecto de ingeniería conceptual de un proceso industrial consiste en realizar un conjunto de actividades para generar un diagrama de flujos e instrumentación del proces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- Este Proyecto sirve para realizar una evaluación preliminar de un posible nuevo negocio industrial ó lograr una mejora técnica, “ambiental” y/o económica de un proceso existe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1143000" y="4800600"/>
            <a:ext cx="70102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un Diagrama de Blo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un Diagrama de Flujos Prelimi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un Sistema de Sepa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Integración de Energía del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Completo del Diagrama de Fluj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1868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Búsqueda Bibliográfica del Tema de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609480" y="1523880"/>
            <a:ext cx="815364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Arial"/>
                <a:ea typeface="Arial"/>
              </a:rPr>
              <a:t>Búsqueda en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Enciclopedias Tecnológicas  (a lo menos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Libros (a lo menos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Memorias de Título (a lo menos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Revistas Técnicas y/o cientifcas (a lo menos 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Internet (sitios universitarios, a lo menos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Oficina de Patentes (Nacionales e Internacionales) (a lo menos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omisión Nacional del Medio Ambiente (DIA, EIA).  (OPCIONAL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1868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Búsqueda Bibliográfica del Tema de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609480" y="152388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Arial"/>
                <a:ea typeface="Arial"/>
              </a:rPr>
              <a:t>Búsqueda en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Enciclopedias Tecnológicas  (a lo menos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1428840" y="2714760"/>
            <a:ext cx="2404800" cy="3824280"/>
          </a:xfrm>
          <a:prstGeom prst="rect">
            <a:avLst/>
          </a:prstGeom>
          <a:ln w="0">
            <a:noFill/>
          </a:ln>
        </p:spPr>
      </p:pic>
      <p:sp>
        <p:nvSpPr>
          <p:cNvPr id="374" name="4 CuadroTexto"/>
          <p:cNvSpPr/>
          <p:nvPr/>
        </p:nvSpPr>
        <p:spPr>
          <a:xfrm>
            <a:off x="4071960" y="31431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CICLOPEDIA QUIMICA KIRK OTH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5 CuadroTexto"/>
          <p:cNvSpPr/>
          <p:nvPr/>
        </p:nvSpPr>
        <p:spPr>
          <a:xfrm>
            <a:off x="4500720" y="4572000"/>
            <a:ext cx="421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Viernes 7 de Agosto, presentan grupos, justificando la selección del mater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( 3 minutos por integra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1,2 y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3"/>
          <p:cNvSpPr/>
          <p:nvPr/>
        </p:nvSpPr>
        <p:spPr>
          <a:xfrm>
            <a:off x="470880" y="260280"/>
            <a:ext cx="81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PROPUESTA DE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(DISEÑO CONCEPTUAL de un PROCESO INDUSTR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611280" y="1484280"/>
            <a:ext cx="792000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ítu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t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ntecedentes Bibliográf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Obje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Actividades a Realizar. (Basarse en el progra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1143000" y="4392720"/>
            <a:ext cx="70102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un Diagrama de Blo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un Diagrama de Flujos Prelimi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un Sistema de Sepa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Integración de Energía del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Completo del Diagrama de Fluj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3"/>
          <p:cNvSpPr/>
          <p:nvPr/>
        </p:nvSpPr>
        <p:spPr>
          <a:xfrm>
            <a:off x="470880" y="260280"/>
            <a:ext cx="81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PROPUESTA DE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(DISEÑO CONCEPTUAL de un PROCESO INDUSTR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4"/>
          <p:cNvSpPr/>
          <p:nvPr/>
        </p:nvSpPr>
        <p:spPr>
          <a:xfrm>
            <a:off x="611280" y="1484280"/>
            <a:ext cx="7920000" cy="37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ítu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troduc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tecedentes Bibliográf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Obje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Actividades a Realizar. (Basarse en el program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sto del trabajo y Just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lan de Trabajo (Carta Gant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ibliograf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3 CuadroTexto"/>
          <p:cNvSpPr/>
          <p:nvPr/>
        </p:nvSpPr>
        <p:spPr>
          <a:xfrm>
            <a:off x="1357200" y="55008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Viernes 14 de Agosto, presentan grup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( 10 minutos por grupo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4 , 5 y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INFORME TÉCNICO</a:t>
            </a:r>
            <a:br>
              <a:rPr sz="2800"/>
            </a:b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REPORTE DE ACTIVIDADAES DEL PROYEC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990720" y="1989000"/>
            <a:ext cx="815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- Página de Encabez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- Resumen Ejecu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- Antecedentes (Introducc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- Objetivos y Alc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5- Actividades. Planos y Descripción del Proce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- Discusión y Coment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7- Conclu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8- Bibliograf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9- Anexos. Memoria de Cálcu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4296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1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tos de Limpieza mediante planta multipropósito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Fco. Gracia y Vida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amila Cabezas, Jorge Lascani, Daniela López,Felipe Zuñiga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2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Producción de combustibles a partir de Macroalgas (M.Elena y M. Paz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arlos Aguilera M., Osvaldo Rodriguez C.,Diego Guiachetti T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3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ecuperación de Aluminio (Fco Gracia y Alejandra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iego Bracho, Javier Carrillo,Francisco Contreras,Rodrigo Varela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4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on de biogas (M.Elena y Vida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bastian Juri, Daniela Robledo, Elisa Rubí</a:t>
            </a:r>
            <a:br>
              <a:rPr sz="1000"/>
            </a:br>
            <a:br>
              <a:rPr sz="1000"/>
            </a:br>
            <a:br>
              <a:rPr sz="1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3 Rectángulo"/>
          <p:cNvSpPr/>
          <p:nvPr/>
        </p:nvSpPr>
        <p:spPr>
          <a:xfrm>
            <a:off x="2796120" y="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TEMAS Y GRU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14240" y="2642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5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Plásticos degradables (M.Elena y VIda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atías Ortega, José Miguel Carrasco, Sing-hi Wang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6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etanol segunda generación y de productos biorefinería (M. Elena y M.Paz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iego Díaz, Natalia Moraga, Sebastián Porras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7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ceso de remoción de sulfato de aguas, (100,000 m3/d, 2 g/L de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ulfato, Norma aguas superficiales).  (Fco Gracia y Alejandra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aniela Ugalde H.,Igor Saavedra, Constanza Cohens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8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sulfihidrato de sodio (NaSH)  (Fco Gracia y Alejandra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atalia Jiménez, María Loreto Rodríguez, Javier Pérez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1143000" y="0"/>
          <a:ext cx="7372440" cy="65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0"/>
                    <a:ext cx="7372440" cy="65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838080" y="171360"/>
          <a:ext cx="7867800" cy="668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1360"/>
                    <a:ext cx="7867800" cy="668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2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es-ES_tradnl" sz="3400" spc="-1" strike="noStrike">
                <a:solidFill>
                  <a:srgbClr val="a50021"/>
                </a:solidFill>
                <a:latin typeface="Times New Roman"/>
              </a:rPr>
              <a:t>DISEÑO CONCEPTUAL DE PROCESOS INDUSTRIAL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14"/>
          <p:cNvGrpSpPr/>
          <p:nvPr/>
        </p:nvGrpSpPr>
        <p:grpSpPr>
          <a:xfrm>
            <a:off x="1175760" y="2071800"/>
            <a:ext cx="7071840" cy="4126320"/>
            <a:chOff x="1175760" y="2071800"/>
            <a:chExt cx="7071840" cy="4126320"/>
          </a:xfrm>
        </p:grpSpPr>
        <p:sp>
          <p:nvSpPr>
            <p:cNvPr id="69" name="Oval 3"/>
            <p:cNvSpPr/>
            <p:nvPr/>
          </p:nvSpPr>
          <p:spPr>
            <a:xfrm>
              <a:off x="3814920" y="2071800"/>
              <a:ext cx="2185920" cy="1720800"/>
            </a:xfrm>
            <a:prstGeom prst="ellipse">
              <a:avLst/>
            </a:prstGeom>
            <a:noFill/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4"/>
            <p:cNvSpPr/>
            <p:nvPr/>
          </p:nvSpPr>
          <p:spPr>
            <a:xfrm>
              <a:off x="1679400" y="2870280"/>
              <a:ext cx="207504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5"/>
            <p:cNvSpPr/>
            <p:nvPr/>
          </p:nvSpPr>
          <p:spPr>
            <a:xfrm>
              <a:off x="6014880" y="2870280"/>
              <a:ext cx="207504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6"/>
            <p:cNvSpPr/>
            <p:nvPr/>
          </p:nvSpPr>
          <p:spPr>
            <a:xfrm>
              <a:off x="1175760" y="2141640"/>
              <a:ext cx="24476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MATERIAS PRIMA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1326240" y="3132000"/>
              <a:ext cx="12650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INSUMO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6594120" y="2395440"/>
              <a:ext cx="1653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3333cc"/>
                  </a:solidFill>
                  <a:latin typeface="Times New Roman"/>
                </a:rPr>
                <a:t>PRODUCTO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3924360" y="2565360"/>
              <a:ext cx="220176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3100" spc="-1" strike="noStrike">
                  <a:solidFill>
                    <a:srgbClr val="000000"/>
                  </a:solidFill>
                  <a:latin typeface="Times New Roman"/>
                </a:rPr>
                <a:t>PROCESO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10"/>
            <p:cNvSpPr/>
            <p:nvPr/>
          </p:nvSpPr>
          <p:spPr>
            <a:xfrm flipV="1">
              <a:off x="4830840" y="3817800"/>
              <a:ext cx="0" cy="174168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11"/>
            <p:cNvSpPr/>
            <p:nvPr/>
          </p:nvSpPr>
          <p:spPr>
            <a:xfrm>
              <a:off x="1536120" y="4681440"/>
              <a:ext cx="2770920" cy="15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CONOCIMIENT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INGENIERÍ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RECURSOS HUMANO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ENERGÍ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CAPITAL, $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2"/>
            <p:cNvSpPr/>
            <p:nvPr/>
          </p:nvSpPr>
          <p:spPr>
            <a:xfrm>
              <a:off x="6334920" y="4448160"/>
              <a:ext cx="164772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3100" spc="-1" strike="noStrike">
                  <a:solidFill>
                    <a:srgbClr val="ff0000"/>
                  </a:solidFill>
                  <a:latin typeface="Times New Roman"/>
                </a:rPr>
                <a:t>DISEÑO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13"/>
            <p:cNvSpPr/>
            <p:nvPr/>
          </p:nvSpPr>
          <p:spPr>
            <a:xfrm flipH="1" flipV="1">
              <a:off x="5973840" y="3513240"/>
              <a:ext cx="1371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533520" y="514440"/>
          <a:ext cx="8076960" cy="287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14440"/>
                    <a:ext cx="8076960" cy="28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3"/>
          <p:cNvGraphicFramePr/>
          <p:nvPr/>
        </p:nvGraphicFramePr>
        <p:xfrm>
          <a:off x="533520" y="2590920"/>
          <a:ext cx="8076960" cy="4019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590920"/>
                    <a:ext cx="807696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ESTRUCTURA GENERAL DE UN PROCESO PRODU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3"/>
          <p:cNvGraphicFramePr/>
          <p:nvPr/>
        </p:nvGraphicFramePr>
        <p:xfrm>
          <a:off x="1219320" y="457200"/>
          <a:ext cx="7315200" cy="48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57200"/>
                    <a:ext cx="731520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4"/>
          <p:cNvSpPr/>
          <p:nvPr/>
        </p:nvSpPr>
        <p:spPr>
          <a:xfrm>
            <a:off x="684360" y="333360"/>
            <a:ext cx="14396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Materias Pr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6732720" y="404640"/>
            <a:ext cx="1655640" cy="648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1403280" y="3429000"/>
            <a:ext cx="7272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1187280" y="515772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Tratamientos de RILes, RI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549360" y="-228600"/>
            <a:ext cx="8594280" cy="5562720"/>
            <a:chOff x="549360" y="-228600"/>
            <a:chExt cx="8594280" cy="5562720"/>
          </a:xfrm>
        </p:grpSpPr>
        <p:grpSp>
          <p:nvGrpSpPr>
            <p:cNvPr id="92" name="Group 3"/>
            <p:cNvGrpSpPr/>
            <p:nvPr/>
          </p:nvGrpSpPr>
          <p:grpSpPr>
            <a:xfrm>
              <a:off x="549360" y="242640"/>
              <a:ext cx="8594280" cy="5091480"/>
              <a:chOff x="549360" y="242640"/>
              <a:chExt cx="8594280" cy="5091480"/>
            </a:xfrm>
          </p:grpSpPr>
          <p:sp>
            <p:nvSpPr>
              <p:cNvPr id="93" name="Rectangle 4"/>
              <p:cNvSpPr/>
              <p:nvPr/>
            </p:nvSpPr>
            <p:spPr>
              <a:xfrm>
                <a:off x="1555200" y="969840"/>
                <a:ext cx="2926080" cy="1909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5"/>
              <p:cNvSpPr/>
              <p:nvPr/>
            </p:nvSpPr>
            <p:spPr>
              <a:xfrm>
                <a:off x="5761800" y="1060920"/>
                <a:ext cx="2468880" cy="1636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6"/>
              <p:cNvSpPr/>
              <p:nvPr/>
            </p:nvSpPr>
            <p:spPr>
              <a:xfrm>
                <a:off x="5853240" y="1424520"/>
                <a:ext cx="2468880" cy="10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     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RED DE INTERCAMBIADOR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   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DE CAL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Line 7"/>
              <p:cNvSpPr/>
              <p:nvPr/>
            </p:nvSpPr>
            <p:spPr>
              <a:xfrm flipV="1">
                <a:off x="3841200" y="333000"/>
                <a:ext cx="0" cy="63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Line 8"/>
              <p:cNvSpPr/>
              <p:nvPr/>
            </p:nvSpPr>
            <p:spPr>
              <a:xfrm>
                <a:off x="549360" y="1606320"/>
                <a:ext cx="100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Line 9"/>
              <p:cNvSpPr/>
              <p:nvPr/>
            </p:nvSpPr>
            <p:spPr>
              <a:xfrm>
                <a:off x="1463760" y="4697640"/>
                <a:ext cx="146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Line 10"/>
              <p:cNvSpPr/>
              <p:nvPr/>
            </p:nvSpPr>
            <p:spPr>
              <a:xfrm>
                <a:off x="1463760" y="5243400"/>
                <a:ext cx="146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11"/>
              <p:cNvSpPr/>
              <p:nvPr/>
            </p:nvSpPr>
            <p:spPr>
              <a:xfrm>
                <a:off x="3841200" y="2879280"/>
                <a:ext cx="0" cy="90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12"/>
              <p:cNvSpPr/>
              <p:nvPr/>
            </p:nvSpPr>
            <p:spPr>
              <a:xfrm>
                <a:off x="3292560" y="2879280"/>
                <a:ext cx="0" cy="90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Line 13"/>
              <p:cNvSpPr/>
              <p:nvPr/>
            </p:nvSpPr>
            <p:spPr>
              <a:xfrm>
                <a:off x="4481640" y="1242720"/>
                <a:ext cx="128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14"/>
              <p:cNvSpPr/>
              <p:nvPr/>
            </p:nvSpPr>
            <p:spPr>
              <a:xfrm>
                <a:off x="4481640" y="2515680"/>
                <a:ext cx="128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Line 15"/>
              <p:cNvSpPr/>
              <p:nvPr/>
            </p:nvSpPr>
            <p:spPr>
              <a:xfrm>
                <a:off x="6401880" y="2697480"/>
                <a:ext cx="0" cy="109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16"/>
              <p:cNvSpPr/>
              <p:nvPr/>
            </p:nvSpPr>
            <p:spPr>
              <a:xfrm>
                <a:off x="6767640" y="2697480"/>
                <a:ext cx="0" cy="109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Line 17"/>
              <p:cNvSpPr/>
              <p:nvPr/>
            </p:nvSpPr>
            <p:spPr>
              <a:xfrm flipH="1">
                <a:off x="8230680" y="1424520"/>
                <a:ext cx="73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18"/>
              <p:cNvSpPr/>
              <p:nvPr/>
            </p:nvSpPr>
            <p:spPr>
              <a:xfrm flipH="1">
                <a:off x="7682040" y="4697640"/>
                <a:ext cx="128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19"/>
              <p:cNvSpPr/>
              <p:nvPr/>
            </p:nvSpPr>
            <p:spPr>
              <a:xfrm>
                <a:off x="8962560" y="1424520"/>
                <a:ext cx="0" cy="327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Line 20"/>
              <p:cNvSpPr/>
              <p:nvPr/>
            </p:nvSpPr>
            <p:spPr>
              <a:xfrm>
                <a:off x="1463760" y="4152240"/>
                <a:ext cx="146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Line 21"/>
              <p:cNvSpPr/>
              <p:nvPr/>
            </p:nvSpPr>
            <p:spPr>
              <a:xfrm>
                <a:off x="549360" y="2515680"/>
                <a:ext cx="100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22"/>
              <p:cNvSpPr/>
              <p:nvPr/>
            </p:nvSpPr>
            <p:spPr>
              <a:xfrm>
                <a:off x="549360" y="2061000"/>
                <a:ext cx="100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Text Box 23"/>
              <p:cNvSpPr/>
              <p:nvPr/>
            </p:nvSpPr>
            <p:spPr>
              <a:xfrm>
                <a:off x="1463760" y="1333440"/>
                <a:ext cx="3200400" cy="10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LANTA   D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ROCESOS   QUIMIC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Rectangle 24"/>
              <p:cNvSpPr/>
              <p:nvPr/>
            </p:nvSpPr>
            <p:spPr>
              <a:xfrm>
                <a:off x="2926800" y="3788640"/>
                <a:ext cx="4755240" cy="15454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Text Box 25"/>
              <p:cNvSpPr/>
              <p:nvPr/>
            </p:nvSpPr>
            <p:spPr>
              <a:xfrm>
                <a:off x="549360" y="1151640"/>
                <a:ext cx="10058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Materi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Text Box 26"/>
              <p:cNvSpPr/>
              <p:nvPr/>
            </p:nvSpPr>
            <p:spPr>
              <a:xfrm>
                <a:off x="549360" y="1697400"/>
                <a:ext cx="10058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rim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Text Box 27"/>
              <p:cNvSpPr/>
              <p:nvPr/>
            </p:nvSpPr>
            <p:spPr>
              <a:xfrm>
                <a:off x="549360" y="2151720"/>
                <a:ext cx="10972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Insum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8"/>
              <p:cNvSpPr/>
              <p:nvPr/>
            </p:nvSpPr>
            <p:spPr>
              <a:xfrm flipV="1">
                <a:off x="2561040" y="333000"/>
                <a:ext cx="0" cy="63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Text Box 29"/>
              <p:cNvSpPr/>
              <p:nvPr/>
            </p:nvSpPr>
            <p:spPr>
              <a:xfrm>
                <a:off x="2652480" y="242640"/>
                <a:ext cx="10972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roduct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Text Box 30"/>
              <p:cNvSpPr/>
              <p:nvPr/>
            </p:nvSpPr>
            <p:spPr>
              <a:xfrm>
                <a:off x="3841200" y="3333960"/>
                <a:ext cx="118872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y Servici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Text Box 31"/>
              <p:cNvSpPr/>
              <p:nvPr/>
            </p:nvSpPr>
            <p:spPr>
              <a:xfrm>
                <a:off x="3841200" y="3061080"/>
                <a:ext cx="128016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Suministr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Text Box 32"/>
              <p:cNvSpPr/>
              <p:nvPr/>
            </p:nvSpPr>
            <p:spPr>
              <a:xfrm>
                <a:off x="2012400" y="3061080"/>
                <a:ext cx="128016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Electricid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Text Box 33"/>
              <p:cNvSpPr/>
              <p:nvPr/>
            </p:nvSpPr>
            <p:spPr>
              <a:xfrm>
                <a:off x="1920960" y="3788640"/>
                <a:ext cx="82296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Agu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Text Box 34"/>
              <p:cNvSpPr/>
              <p:nvPr/>
            </p:nvSpPr>
            <p:spPr>
              <a:xfrm>
                <a:off x="1555200" y="4334040"/>
                <a:ext cx="137160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ombustibl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Text Box 35"/>
              <p:cNvSpPr/>
              <p:nvPr/>
            </p:nvSpPr>
            <p:spPr>
              <a:xfrm>
                <a:off x="2012400" y="4879440"/>
                <a:ext cx="6400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Ai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Text Box 36"/>
              <p:cNvSpPr/>
              <p:nvPr/>
            </p:nvSpPr>
            <p:spPr>
              <a:xfrm>
                <a:off x="4573080" y="1969920"/>
                <a:ext cx="1371600" cy="72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orri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Frí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Text Box 37"/>
              <p:cNvSpPr/>
              <p:nvPr/>
            </p:nvSpPr>
            <p:spPr>
              <a:xfrm>
                <a:off x="4573080" y="696960"/>
                <a:ext cx="1371600" cy="72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orri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ali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Text Box 38"/>
              <p:cNvSpPr/>
              <p:nvPr/>
            </p:nvSpPr>
            <p:spPr>
              <a:xfrm>
                <a:off x="6676200" y="2879280"/>
                <a:ext cx="1461600" cy="63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Servicio 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alentamien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Text Box 39"/>
              <p:cNvSpPr/>
              <p:nvPr/>
            </p:nvSpPr>
            <p:spPr>
              <a:xfrm>
                <a:off x="7682040" y="3788640"/>
                <a:ext cx="1461600" cy="63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Servicio 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Enfriamien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Text Box 40"/>
              <p:cNvSpPr/>
              <p:nvPr/>
            </p:nvSpPr>
            <p:spPr>
              <a:xfrm>
                <a:off x="3841200" y="3970440"/>
                <a:ext cx="265176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LANTAS DE SERVICI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Text Box 41"/>
              <p:cNvSpPr/>
              <p:nvPr/>
            </p:nvSpPr>
            <p:spPr>
              <a:xfrm>
                <a:off x="4115520" y="4424760"/>
                <a:ext cx="25603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alderas, Turbin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Aire Comprimid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Oxígeno, Vací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Text Box 42"/>
            <p:cNvSpPr/>
            <p:nvPr/>
          </p:nvSpPr>
          <p:spPr>
            <a:xfrm>
              <a:off x="2194920" y="-228600"/>
              <a:ext cx="5760360" cy="5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2" name="Object 43"/>
          <p:cNvGraphicFramePr/>
          <p:nvPr/>
        </p:nvGraphicFramePr>
        <p:xfrm>
          <a:off x="876240" y="6172200"/>
          <a:ext cx="802008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Object 4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6172200"/>
                    <a:ext cx="80200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Oval 44"/>
          <p:cNvSpPr/>
          <p:nvPr/>
        </p:nvSpPr>
        <p:spPr>
          <a:xfrm>
            <a:off x="5364000" y="549360"/>
            <a:ext cx="3203640" cy="25192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45"/>
          <p:cNvSpPr/>
          <p:nvPr/>
        </p:nvSpPr>
        <p:spPr>
          <a:xfrm>
            <a:off x="1476360" y="692280"/>
            <a:ext cx="3203640" cy="25192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04:00:31Z</dcterms:created>
  <dc:creator>Jesús Casas</dc:creator>
  <dc:description/>
  <dc:language>en-US</dc:language>
  <cp:lastModifiedBy>Ing Quimica</cp:lastModifiedBy>
  <dcterms:modified xsi:type="dcterms:W3CDTF">2009-08-03T18:59:04Z</dcterms:modified>
  <cp:revision>19</cp:revision>
  <dc:subject/>
  <dc:title>Sin título de diapositiva</dc:title>
</cp:coreProperties>
</file>