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8534-7BCF-4100-B0C3-B362889E6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DA15-5B3D-4AA6-95D1-68BDDB696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BB4C-7B54-4390-9910-D49F752E7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F966-9C26-4347-B979-687C8EEA5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F729-CD8C-4A04-93ED-54D3B3FAD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945B-CABC-464F-B01C-71A3A9E01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BE9F-C6C3-4F6F-B8A6-10CCCA02F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A485-FBF7-4044-A178-35A651844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BA12-E9A6-4B17-AF34-B9DB4BE9B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5F0B-D447-4650-82E8-CEC6B41B1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4DDA-8818-4114-B07A-9040DFC59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3359-9200-4788-B6BB-F76C7CACA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34280-E187-435F-BE3C-1288B12A93B9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-228600" y="380880"/>
            <a:ext cx="9144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TALLER DE DISEÑO DE PROCES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Object 9"/>
          <p:cNvGraphicFramePr/>
          <p:nvPr/>
        </p:nvGraphicFramePr>
        <p:xfrm>
          <a:off x="1371600" y="2209680"/>
          <a:ext cx="7010280" cy="3391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209680"/>
                    <a:ext cx="7010280" cy="339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4" name="Text Box 10" descr=""/>
          <p:cNvPicPr/>
          <p:nvPr/>
        </p:nvPicPr>
        <p:blipFill>
          <a:blip r:embed="rId3"/>
          <a:stretch/>
        </p:blipFill>
        <p:spPr>
          <a:xfrm>
            <a:off x="907920" y="2919240"/>
            <a:ext cx="7712280" cy="347508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1"/>
          <p:cNvSpPr/>
          <p:nvPr/>
        </p:nvSpPr>
        <p:spPr>
          <a:xfrm>
            <a:off x="2438280" y="160020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00"/>
                </a:solidFill>
                <a:latin typeface="Times New Roman"/>
              </a:rPr>
              <a:t>IQ-58B y BT-65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TRABAJOS (SEMANALE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304920" y="1700280"/>
            <a:ext cx="883908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1-</a:t>
            </a: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Elaboración de una Propuesta de Proyecto (2 partes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2-</a:t>
            </a: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Diseño del Diagrama de Entrada-Salid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3-</a:t>
            </a: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Diseño del Diagrama de Bloqu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4-</a:t>
            </a: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Diseño de los Sistemas de Separación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5-</a:t>
            </a: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Diseño de los Sistemas de Integración de Energía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6-</a:t>
            </a: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Programación y Planificación de la Producción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7-</a:t>
            </a: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Diseño del Diagrama de Flujos  completo (inform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71640" y="571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cc"/>
                </a:solidFill>
                <a:latin typeface="Arial"/>
                <a:ea typeface="Arial"/>
              </a:rPr>
              <a:t>P</a:t>
            </a:r>
            <a:r>
              <a:rPr b="1" lang="es-ES" sz="2800" spc="-1" strike="noStrike">
                <a:solidFill>
                  <a:srgbClr val="3333cc"/>
                </a:solidFill>
                <a:latin typeface="Arial"/>
                <a:ea typeface="Arial"/>
              </a:rPr>
              <a:t>resenta</a:t>
            </a:r>
            <a:r>
              <a:rPr b="1" lang="es-MX" sz="2800" spc="-1" strike="noStrike">
                <a:solidFill>
                  <a:srgbClr val="3333cc"/>
                </a:solidFill>
                <a:latin typeface="Arial"/>
                <a:ea typeface="Arial"/>
              </a:rPr>
              <a:t>ción</a:t>
            </a:r>
            <a:r>
              <a:rPr b="1" lang="es-ES" sz="28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1" lang="es-MX" sz="2800" spc="-1" strike="noStrike">
                <a:solidFill>
                  <a:srgbClr val="3333cc"/>
                </a:solidFill>
                <a:latin typeface="Arial"/>
                <a:ea typeface="Arial"/>
              </a:rPr>
              <a:t>O</a:t>
            </a:r>
            <a:r>
              <a:rPr b="1" lang="es-ES" sz="2800" spc="-1" strike="noStrike">
                <a:solidFill>
                  <a:srgbClr val="3333cc"/>
                </a:solidFill>
                <a:latin typeface="Arial"/>
                <a:ea typeface="Arial"/>
              </a:rPr>
              <a:t>ral y </a:t>
            </a:r>
            <a:r>
              <a:rPr b="1" lang="es-MX" sz="2800" spc="-1" strike="noStrike">
                <a:solidFill>
                  <a:srgbClr val="3333cc"/>
                </a:solidFill>
                <a:latin typeface="Arial"/>
                <a:ea typeface="Arial"/>
              </a:rPr>
              <a:t>E</a:t>
            </a:r>
            <a:r>
              <a:rPr b="1" lang="es-ES" sz="2800" spc="-1" strike="noStrike">
                <a:solidFill>
                  <a:srgbClr val="3333cc"/>
                </a:solidFill>
                <a:latin typeface="Arial"/>
                <a:ea typeface="Arial"/>
              </a:rPr>
              <a:t>scrita en Gru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684360" y="1844640"/>
            <a:ext cx="76960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Títu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Introducción y Antecedentes Bibliográf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Obje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Actividades a Realiz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Costo del Trabajo y Justific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Plan de Trabajo (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carta Gantt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Bibliograf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684360" y="476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cc"/>
                </a:solidFill>
                <a:latin typeface="Times New Roman"/>
              </a:rPr>
              <a:t>PROPUESTA DE PROYECTO</a:t>
            </a:r>
            <a:br>
              <a:rPr sz="3200"/>
            </a:br>
            <a:r>
              <a:rPr b="1" lang="es-MX" sz="3200" spc="-1" strike="noStrike">
                <a:solidFill>
                  <a:srgbClr val="a50021"/>
                </a:solidFill>
                <a:latin typeface="Times New Roman"/>
              </a:rPr>
              <a:t>R</a:t>
            </a:r>
            <a:r>
              <a:rPr b="1" lang="es-ES" sz="3200" spc="-1" strike="noStrike">
                <a:solidFill>
                  <a:srgbClr val="a50021"/>
                </a:solidFill>
                <a:latin typeface="Times New Roman"/>
              </a:rPr>
              <a:t>ealizar un </a:t>
            </a:r>
            <a:r>
              <a:rPr b="1" lang="es-MX" sz="3200" spc="-1" strike="noStrike">
                <a:solidFill>
                  <a:srgbClr val="a50021"/>
                </a:solidFill>
                <a:latin typeface="Times New Roman"/>
              </a:rPr>
              <a:t>D</a:t>
            </a:r>
            <a:r>
              <a:rPr b="1" lang="es-ES" sz="3200" spc="-1" strike="noStrike">
                <a:solidFill>
                  <a:srgbClr val="a50021"/>
                </a:solidFill>
                <a:latin typeface="Times New Roman"/>
              </a:rPr>
              <a:t>iseño </a:t>
            </a:r>
            <a:r>
              <a:rPr b="1" lang="es-MX" sz="3200" spc="-1" strike="noStrike">
                <a:solidFill>
                  <a:srgbClr val="a50021"/>
                </a:solidFill>
                <a:latin typeface="Times New Roman"/>
              </a:rPr>
              <a:t>C</a:t>
            </a:r>
            <a:r>
              <a:rPr b="1" lang="es-ES" sz="3200" spc="-1" strike="noStrike">
                <a:solidFill>
                  <a:srgbClr val="a50021"/>
                </a:solidFill>
                <a:latin typeface="Times New Roman"/>
              </a:rPr>
              <a:t>onceptual de Proces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868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Búsqueda Bibliográfica del Tema de Proye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609480" y="1523880"/>
            <a:ext cx="81536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50021"/>
                </a:solidFill>
                <a:latin typeface="Arial"/>
                <a:ea typeface="Arial"/>
              </a:rPr>
              <a:t>Búsqueda en: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Enciclopedias Tecnológ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Lib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Memorias de Tít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Revistas Té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Internet (sitios universitari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Oficina de Patentes (Nacionales e Internacion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Comisión Nacional del Medio Ambiente (DIA, EIA)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OBJETIVOS DEL CUR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Object 0"/>
          <p:cNvGraphicFramePr/>
          <p:nvPr/>
        </p:nvGraphicFramePr>
        <p:xfrm>
          <a:off x="457200" y="1295280"/>
          <a:ext cx="8096400" cy="215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95280"/>
                    <a:ext cx="8096400" cy="21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Text Box 6"/>
          <p:cNvSpPr/>
          <p:nvPr/>
        </p:nvSpPr>
        <p:spPr>
          <a:xfrm>
            <a:off x="533520" y="536400"/>
            <a:ext cx="8229600" cy="51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a50021"/>
                </a:solidFill>
                <a:uFillTx/>
                <a:latin typeface="Times New Roman"/>
              </a:rPr>
              <a:t>Generales: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Desarrollo de un proyecto grupal de diseño conceptual para un proceso productivo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- Elaboración de un diagrama de flujos e instrumentación para un proceso productivo con los estándares de ingenierí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OBJETIVOS DEL CUR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Object 0"/>
          <p:cNvGraphicFramePr/>
          <p:nvPr/>
        </p:nvGraphicFramePr>
        <p:xfrm>
          <a:off x="457200" y="1295280"/>
          <a:ext cx="8096400" cy="215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95280"/>
                    <a:ext cx="8096400" cy="21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Text Box 7"/>
          <p:cNvSpPr/>
          <p:nvPr/>
        </p:nvSpPr>
        <p:spPr>
          <a:xfrm>
            <a:off x="285840" y="785880"/>
            <a:ext cx="85341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cc99"/>
                </a:solidFill>
                <a:uFillTx/>
                <a:latin typeface="Times New Roman"/>
              </a:rPr>
              <a:t>Específico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- Aprender metodologías de ing. de procesos y criterios de diseño heurísticos de procesos productivos y tratamiento de efluentes, de modo de concebir y crear nuevos diagramas de flujos e instrumentación, así como también mejorar los diagramas de procesos existent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- Aprender y utilizar métodos de integración de energía, diseño de sistemas de separación y elaboración de diagramas de flujos con los estándares de ingeniería para la síntesis de productos y tratamiento de efluentes de la industria de proces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0"/>
          <p:cNvGraphicFramePr/>
          <p:nvPr/>
        </p:nvGraphicFramePr>
        <p:xfrm>
          <a:off x="838080" y="457200"/>
          <a:ext cx="8020080" cy="594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457200"/>
                    <a:ext cx="802008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Text Box 3"/>
          <p:cNvSpPr/>
          <p:nvPr/>
        </p:nvSpPr>
        <p:spPr>
          <a:xfrm>
            <a:off x="971640" y="0"/>
            <a:ext cx="77040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ff"/>
                </a:solidFill>
                <a:uFillTx/>
                <a:latin typeface="Times New Roman"/>
              </a:rPr>
              <a:t>CONTENIDOS</a:t>
            </a:r>
            <a:r>
              <a:rPr b="1" lang="es-ES_tradnl" sz="32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a50021"/>
                </a:solidFill>
                <a:latin typeface="Times New Roman"/>
              </a:rPr>
              <a:t>1- Introdu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a50021"/>
                </a:solidFill>
                <a:latin typeface="Times New Roman"/>
              </a:rPr>
              <a:t>2- Diseño del Diagrama de  Fluj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a50021"/>
                </a:solidFill>
                <a:latin typeface="Times New Roman"/>
              </a:rPr>
              <a:t>3- Sistemas de Rea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a50021"/>
                </a:solidFill>
                <a:latin typeface="Times New Roman"/>
              </a:rPr>
              <a:t>4- Diseño de Sistemas de Separ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a50021"/>
                </a:solidFill>
                <a:latin typeface="Times New Roman"/>
              </a:rPr>
              <a:t>5- Diseño del Sistema de Integración de Energí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a50021"/>
                </a:solidFill>
                <a:latin typeface="Times New Roman"/>
              </a:rPr>
              <a:t>6- Programación de Procesos Discontinu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a50021"/>
                </a:solidFill>
                <a:latin typeface="Times New Roman"/>
              </a:rPr>
              <a:t>7- Estudio de Ca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027"/>
          <p:cNvSpPr/>
          <p:nvPr/>
        </p:nvSpPr>
        <p:spPr>
          <a:xfrm>
            <a:off x="7621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STRATEGIA JERARQUICA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DE DISEÑO DE PROCESOS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(onion-mode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1028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76197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7621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BIBLIOGRAF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Object 3"/>
          <p:cNvGraphicFramePr/>
          <p:nvPr/>
        </p:nvGraphicFramePr>
        <p:xfrm>
          <a:off x="380880" y="1447920"/>
          <a:ext cx="8191800" cy="411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47920"/>
                    <a:ext cx="81918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Text Box 4"/>
          <p:cNvSpPr/>
          <p:nvPr/>
        </p:nvSpPr>
        <p:spPr>
          <a:xfrm>
            <a:off x="380880" y="1295280"/>
            <a:ext cx="84582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1-</a:t>
            </a: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Douglas J.M. "Conceptual Design of Chemical Processes"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McGraw-Hill, New York, USA, 1988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2-</a:t>
            </a: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Mah R.S.H., "Chemical Process Structures and Inform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Flows".  Butterworths. Boston, USA, 1990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3-</a:t>
            </a: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Rudd D.F., G.J. Powers and J.J. Siirola. "Process Synthesis"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Prentice-Hall. Englewood Cliffs, 1973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4-</a:t>
            </a: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Perry R.H. and D.W. Green (eds.). "Perry's Chemical Engineers' </a:t>
            </a: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Handbook". 7th Edition, McGraw Hill, USA, 1998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5-</a:t>
            </a: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Sinnott  R.K. "Chemical Engineering Design". Chemica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Engineering,  Vol. 6, Pergamon Press, Oxford, UK., 1993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6-</a:t>
            </a: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Smith R.  "Chemical Process Design". McGraw-Hill, USA, 1995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50021"/>
                </a:solidFill>
                <a:latin typeface="Times New Roman"/>
              </a:rPr>
              <a:t>7-</a:t>
            </a:r>
            <a:r>
              <a:rPr b="1" lang="en-US" sz="2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a50021"/>
                </a:solidFill>
                <a:latin typeface="Times New Roman"/>
              </a:rPr>
              <a:t>Seider W.D., J.D. Seader and D.R, Lewin "Process Design Principles - Synthesis, Analysis and Evaluation". John Wiley and Sons, USA., 1999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755640" y="299736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EVALU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685800" y="304920"/>
            <a:ext cx="8001000" cy="29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a50021"/>
                </a:solidFill>
                <a:latin typeface="Times New Roman"/>
              </a:rPr>
              <a:t>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átedras-Talleres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1-2 sesiones / sem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areas y Presentaciones Semanales 7 / semest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yecto de  Diseño PFD-                 1 proyecto / semest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ara un Proceso Productivo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(2 Infor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900000" y="39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E  = Tareas Sema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C = Nota de Control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(Informes Parcial + Informe Final + Exam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F =  Nota Final (NC*0.7 + NE*0.3)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/u 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4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PROYEC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143000"/>
            <a:ext cx="8305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just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Realización de una actividad en forma programada de acuerdo a una cierta neces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28840" indent="-1428840" algn="just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28840" indent="-1428840" algn="just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artes de un Proyec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28840" indent="-1428840" algn="just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 Una 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Propuest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de Proyecto que un </a:t>
            </a:r>
            <a:r>
              <a:rPr b="1" lang="es-ES_tradnl" sz="2400" spc="-1" strike="noStrike">
                <a:solidFill>
                  <a:srgbClr val="a50021"/>
                </a:solidFill>
                <a:latin typeface="Times New Roman"/>
              </a:rPr>
              <a:t>Cliente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debe especificar, aprobar y contrat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28840" indent="-1428840" algn="just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Informes Técnicos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de actividades contratad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476440"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 acuerdo a la propuesta aprob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28840" indent="-1428840" algn="just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 Entrega de la </a:t>
            </a:r>
            <a:r>
              <a:rPr b="1" lang="es-ES_tradnl" sz="2400" spc="-1" strike="noStrike">
                <a:solidFill>
                  <a:srgbClr val="a50021"/>
                </a:solidFill>
                <a:latin typeface="Times New Roman"/>
              </a:rPr>
              <a:t>Obra Final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o estudio complet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476440"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 acuerdo a la propuesta contrat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28840" indent="-1428840" algn="just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28840" indent="-1428840" algn="just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50021"/>
                </a:solidFill>
                <a:latin typeface="Times New Roman"/>
              </a:rPr>
              <a:t>Objetivo: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Realizar un Proyecto de Ingeniería Conceptual de un Proceso Industrial para generar un Diagrama de Flujos (PFD) e Instrumentación (PID) del Sistema productiv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395280" y="0"/>
            <a:ext cx="87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a50021"/>
                </a:solidFill>
                <a:latin typeface="Arial"/>
              </a:rPr>
              <a:t>PROYECTOS: Diseño Conceptual de un Proceso Industri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a50021"/>
                </a:solidFill>
                <a:latin typeface="Arial"/>
              </a:rPr>
              <a:t>para producir, recuperar, o trat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4 CuadroTexto"/>
          <p:cNvSpPr/>
          <p:nvPr/>
        </p:nvSpPr>
        <p:spPr>
          <a:xfrm>
            <a:off x="285840" y="1428840"/>
            <a:ext cx="85010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ducción de anticuerpos monoclo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ducción de vacunas (influenza, artritis, cáncer, alcoholism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ducción de etanol segunda generación y de productos biorefiner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ducción de combustibles a partir de Macroalg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ducción de Biogá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ducción de Plásticos degrad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ompuestos de Renio Fin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Recuperación de Aluminio de soluciones metalúrgicas mediante extracción por solventes (800 m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/d, 12 g/L de Al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ductos de Limpieza mediante planta multipropósito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lavalozas, limpiadores, detergentes líquidos, ..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ducción de sulfihidrato de sodio (NaSH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ceso de remoción de sulfato de aguas, (100,000 m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/d,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2 g/L de sulfato, Norma aguas superficiale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PUESTO POR EL ALUM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3T19:51:52Z</dcterms:created>
  <dc:creator/>
  <dc:description/>
  <dc:language>en-US</dc:language>
  <cp:lastModifiedBy>Ing Quimica</cp:lastModifiedBy>
  <cp:lastPrinted>2000-11-24T00:59:13Z</cp:lastPrinted>
  <dcterms:modified xsi:type="dcterms:W3CDTF">2009-07-23T23:05:28Z</dcterms:modified>
  <cp:revision>97</cp:revision>
  <dc:subject/>
  <dc:title>Sin título de diapositiva</dc:title>
</cp:coreProperties>
</file>