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2C9-9373-4E8F-B282-C5BBDE3A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34D-579C-4B10-AC57-6F35381D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8DD-38BE-4EF1-8EBF-010091C6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FCB-DF73-4A5F-84B7-C4DF3990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76C-5B91-4645-BECF-6437E680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4AF-44E9-4B52-918E-050ABD60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582-9271-4ADC-B14A-955D020C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B1C-3049-4BAE-AE20-4D0FB4E0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1E4-2397-4606-AAEB-9768B65E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0DF-C8CE-4DC9-ACA8-6612069C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0EC-4D13-479C-A7B8-9052DCE9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1B5-4FF6-4F17-A06C-5E207399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639E-2682-4841-BA08-57132F9833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Rectangle 7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Line 9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4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Text Box 6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Text Box 3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Text Box 8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Text Box 3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Text Box 6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7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4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Text Box 5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Group 4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Group 5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Rectangle 6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7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8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Rectangle 9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0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1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Rectangle 12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3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4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Rectangle 15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16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17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Rectangle 18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9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0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Rectangle 21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22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23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Rectangle 24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25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6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Rectangle 27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8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29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Rectangle 30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31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2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Rectangle 33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34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35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Rectangle 36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37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8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Rectangle 39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0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Rectangle 41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43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50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43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5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Object 4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Text Box 5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6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7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8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Group 9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Object 10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Text Box 11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2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13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Group 4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Rectangle 5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6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Group 7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Group 8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Rectangle 9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Rectangle 10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1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Rectangle 12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13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4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Rectangle 15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Rectangle 16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17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Rectangle 18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Rectangle 19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20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Rectangle 21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22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23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Rectangle 24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25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26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Rectangle 27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28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29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Rectangle 30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Rectangle 31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32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Rectangle 33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Rectangle 34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35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Rectangle 36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37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38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Rectangle 39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Rectangle 40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41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Rectangle 42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Rectangle 43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Rectangle 44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45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Text Box 4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7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Text Box 5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6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7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8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Object 3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Text Box 4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5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 Box 6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Object 7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Group 8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Text Box 9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Object 10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11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Object 12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Text Box 13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5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y tama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9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timo (Optimo Nivel de Pureza y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), se supone que los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</a:t>
            </a:r>
            <a:r>
              <a:rPr b="1" lang="es-ES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ó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m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 de transferencia de masa el ancho de los peak (o 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)  se ve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lterado por las variables L y v.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4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8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Interna y adsorc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í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ú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escala se utilizaron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uena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Poca disper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en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S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 se utiliza una par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s geo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</a:t>
            </a:r>
            <a:r>
              <a:rPr b="1" lang="es-ES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0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Line 7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Text Box 11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49108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 Box 72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67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Text Box 37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Group 4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Group 5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Rectangle 6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7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Rectangle 9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10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1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Rectangle 12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13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14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Rectangle 15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16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17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Rectangle 18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19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0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Rectangle 21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22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3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Rectangle 24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25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6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Rectangle 27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28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29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Rectangle 30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31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32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Rectangle 33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34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35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Rectangle 36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37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38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Rectangle 39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40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Rectangle 41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2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3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Group 43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Object 44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Object 4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Text Box 45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46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47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8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1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2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Object 607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6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609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Object 60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10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6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Object 7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Text Box 8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0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8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Text Box 4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5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Object 6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9-08-28T19:29:01Z</dcterms:modified>
  <cp:revision>16</cp:revision>
  <dc:subject/>
  <dc:title>Perfiles Cromatográficos</dc:title>
</cp:coreProperties>
</file>