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16.png" ContentType="image/png"/>
  <Override PartName="/ppt/media/image15.png" ContentType="image/png"/>
  <Override PartName="/ppt/media/image14.wmf" ContentType="image/x-wmf"/>
  <Override PartName="/ppt/media/image1.wmf" ContentType="image/x-wmf"/>
  <Override PartName="/ppt/media/image2.wmf" ContentType="image/x-wmf"/>
  <Override PartName="/ppt/media/image3.png" ContentType="image/png"/>
  <Override PartName="/ppt/media/image10.png" ContentType="image/png"/>
  <Override PartName="/ppt/media/image13.wmf" ContentType="image/x-wmf"/>
  <Override PartName="/ppt/media/image5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4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348D-C239-4028-BA31-FD277F52B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A40D-A5F3-4BC7-8FB2-205141538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131D-865C-438B-AC30-E502CD7BA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E3C4-7A51-4CFD-99C7-10E72BC49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D724-A19C-49BB-9A4B-EF59815B3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1FEF-770C-4130-8FF1-4942BE21A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E028-DF12-478C-8FC6-EADC8EBF2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21F3-E010-429C-977E-9B3F2A7E1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047C-6049-46C8-ABE3-D0140C47A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B089-E6DD-4F55-BC74-D96DE12DC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40D4-FEBC-4BD3-8F80-CDCDC92C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0A54-6C12-4E2A-A018-B4DE47A8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FE5FE-1ED7-4BF5-9E53-857728EA277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cc"/>
                </a:solidFill>
                <a:latin typeface="Comic Sans MS"/>
              </a:rPr>
              <a:t>Tratamiento de desechos celul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3333cc"/>
                </a:solidFill>
                <a:uFillTx/>
                <a:latin typeface="Comic Sans MS"/>
              </a:rPr>
              <a:t>Trozos de membra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838080" y="25909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914400" y="2057400"/>
            <a:ext cx="7620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Los trozos de membrana se pueden separar utilizado las operaciones de separación sólido-líquido ya mencionadas como son microfiltración, centrifugación o extracción líquido-líqui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3333cc"/>
                </a:solidFill>
                <a:uFillTx/>
                <a:latin typeface="Comic Sans MS"/>
              </a:rPr>
              <a:t>Organelos celul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838080" y="25909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380880" y="2057400"/>
            <a:ext cx="815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Para cada organelo, ya se sea mitocondria, cloroplasto, núcleo, etc. existen procedimientos específ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Ve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Harris and Angel (1989) “ Protein purification methods: a practical approach”, IRL Press, pp 97-1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rocesamiento de proteínas agregadas </a:t>
            </a:r>
            <a:br>
              <a:rPr sz="2800"/>
            </a:br>
            <a:r>
              <a:rPr b="1" lang="es-ES" sz="2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(Inclusion bodi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080" y="25909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152280" y="1371600"/>
            <a:ext cx="8686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élulas modificadas genéticamente </a:t>
            </a:r>
            <a:r>
              <a:rPr b="0" lang="es-E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proteínas recombinantes </a:t>
            </a:r>
            <a:r>
              <a:rPr b="0" lang="es-E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cuerpos inclui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 Cómo s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n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solub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a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 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0" lang="es-ES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V</a:t>
            </a:r>
            <a:r>
              <a:rPr b="0" lang="es-ES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nta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ormación beneficiosa: Agregaciones no son degradadas significativamente por proteasas, ya que los sitios sensible a la actividad de proteasas se encuentran inaccesibl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Object 5"/>
          <p:cNvGraphicFramePr/>
          <p:nvPr/>
        </p:nvGraphicFramePr>
        <p:xfrm>
          <a:off x="5867280" y="2514600"/>
          <a:ext cx="2571840" cy="187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2514600"/>
                    <a:ext cx="2571840" cy="18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838080" y="25909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380880" y="380880"/>
            <a:ext cx="2971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    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cantidad de proteína  40  a 50 % del total de polipéptidos que forman estas agregacion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áciles de de separar de otros desechos celulares y componentes solubles de la célula por medio de centrifugación moderad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Object 4"/>
          <p:cNvGraphicFramePr/>
          <p:nvPr/>
        </p:nvGraphicFramePr>
        <p:xfrm>
          <a:off x="4091040" y="228600"/>
          <a:ext cx="5052960" cy="652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91040" y="228600"/>
                    <a:ext cx="5052960" cy="652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838080" y="25909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457200" y="533520"/>
            <a:ext cx="8305920" cy="48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ost tratamiento (Renatur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parar los cuerpos inclu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olubiliz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ratamiento con  Hidrocloruro de guanidina (GdmCl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las proteínas contienen cisteína se debe agregar un agente reductor como DT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la proteína contiene enlaces disulfuro el DTT debe ser eliminado por medio de diáli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folding (Re-enroll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olubilizado de proteínas deben ser diluidas a una concentración muy bajas (5 - 20 mg/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dicionar buffer fosfato con una solución de glutathione reducido y glutathione oxidad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66"/>
                </a:solidFill>
                <a:latin typeface="Comic Sans MS"/>
              </a:rPr>
              <a:t>Concentración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66"/>
                </a:solidFill>
                <a:latin typeface="Comic Sans MS"/>
              </a:rPr>
              <a:t>Separación y Procesos Biotecnológ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2073240" y="504720"/>
            <a:ext cx="40719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963720" y="1676520"/>
            <a:ext cx="2693880" cy="3322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Rompimiento Cel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838080" y="3352680"/>
            <a:ext cx="2979720" cy="45396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Precipitación  Ácidos Nucleicos, Proteas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4495320" y="4437000"/>
            <a:ext cx="1845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0000"/>
                </a:solidFill>
                <a:latin typeface="Comic Sans MS"/>
              </a:rPr>
              <a:t>Concent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4176000" y="5357880"/>
            <a:ext cx="1530360" cy="515160"/>
          </a:xfrm>
          <a:prstGeom prst="rect">
            <a:avLst/>
          </a:prstGeom>
          <a:solidFill>
            <a:srgbClr val="fdc0e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urificación Al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solu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4041360" y="6429240"/>
            <a:ext cx="1304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fina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838080" y="2666880"/>
            <a:ext cx="3043440" cy="241200"/>
          </a:xfrm>
          <a:prstGeom prst="rect">
            <a:avLst/>
          </a:prstGeom>
          <a:noFill/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omic Sans MS"/>
              </a:rPr>
              <a:t>Separación Material Intracelul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3142080" y="0"/>
            <a:ext cx="2945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aldo de Fer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0"/>
          <p:cNvSpPr/>
          <p:nvPr/>
        </p:nvSpPr>
        <p:spPr>
          <a:xfrm>
            <a:off x="2351160" y="1008000"/>
            <a:ext cx="3038400" cy="399960"/>
          </a:xfrm>
          <a:prstGeom prst="rect">
            <a:avLst/>
          </a:prstGeom>
          <a:noFill/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11"/>
          <p:cNvSpPr/>
          <p:nvPr/>
        </p:nvSpPr>
        <p:spPr>
          <a:xfrm>
            <a:off x="4116240" y="4427640"/>
            <a:ext cx="2306880" cy="363600"/>
          </a:xfrm>
          <a:prstGeom prst="rect">
            <a:avLst/>
          </a:prstGeom>
          <a:noFill/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12"/>
          <p:cNvSpPr/>
          <p:nvPr/>
        </p:nvSpPr>
        <p:spPr>
          <a:xfrm>
            <a:off x="3462480" y="6303960"/>
            <a:ext cx="2489040" cy="487440"/>
          </a:xfrm>
          <a:prstGeom prst="rect">
            <a:avLst/>
          </a:prstGeom>
          <a:noFill/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13"/>
          <p:cNvSpPr/>
          <p:nvPr/>
        </p:nvSpPr>
        <p:spPr>
          <a:xfrm>
            <a:off x="2351160" y="1071720"/>
            <a:ext cx="3211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Separación de Célu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14"/>
          <p:cNvSpPr/>
          <p:nvPr/>
        </p:nvSpPr>
        <p:spPr>
          <a:xfrm>
            <a:off x="1905120" y="3048120"/>
            <a:ext cx="0" cy="31428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15"/>
          <p:cNvSpPr/>
          <p:nvPr/>
        </p:nvSpPr>
        <p:spPr>
          <a:xfrm>
            <a:off x="2259000" y="4727520"/>
            <a:ext cx="1835280" cy="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1889280" y="1260360"/>
            <a:ext cx="0" cy="44136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7"/>
          <p:cNvSpPr/>
          <p:nvPr/>
        </p:nvSpPr>
        <p:spPr>
          <a:xfrm>
            <a:off x="4572000" y="693720"/>
            <a:ext cx="3408480" cy="0"/>
          </a:xfrm>
          <a:prstGeom prst="line">
            <a:avLst/>
          </a:prstGeom>
          <a:ln w="763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6422760" y="4600440"/>
            <a:ext cx="1587240" cy="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19"/>
          <p:cNvSpPr/>
          <p:nvPr/>
        </p:nvSpPr>
        <p:spPr>
          <a:xfrm flipH="1">
            <a:off x="3462480" y="693720"/>
            <a:ext cx="1125360" cy="0"/>
          </a:xfrm>
          <a:prstGeom prst="line">
            <a:avLst/>
          </a:prstGeom>
          <a:ln w="763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20"/>
          <p:cNvSpPr/>
          <p:nvPr/>
        </p:nvSpPr>
        <p:spPr>
          <a:xfrm>
            <a:off x="5405400" y="1260360"/>
            <a:ext cx="276120" cy="0"/>
          </a:xfrm>
          <a:prstGeom prst="line">
            <a:avLst/>
          </a:prstGeom>
          <a:ln w="763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21"/>
          <p:cNvSpPr/>
          <p:nvPr/>
        </p:nvSpPr>
        <p:spPr>
          <a:xfrm>
            <a:off x="3462480" y="693720"/>
            <a:ext cx="0" cy="38880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22"/>
          <p:cNvSpPr/>
          <p:nvPr/>
        </p:nvSpPr>
        <p:spPr>
          <a:xfrm>
            <a:off x="5033880" y="316080"/>
            <a:ext cx="0" cy="37764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23"/>
          <p:cNvSpPr/>
          <p:nvPr/>
        </p:nvSpPr>
        <p:spPr>
          <a:xfrm>
            <a:off x="6893640" y="1676520"/>
            <a:ext cx="2031120" cy="82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n Célu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élulas inmoviliza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élulas reteni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24"/>
          <p:cNvSpPr/>
          <p:nvPr/>
        </p:nvSpPr>
        <p:spPr>
          <a:xfrm>
            <a:off x="2095920" y="457200"/>
            <a:ext cx="1351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Con Célul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25"/>
          <p:cNvSpPr/>
          <p:nvPr/>
        </p:nvSpPr>
        <p:spPr>
          <a:xfrm>
            <a:off x="1905120" y="2209680"/>
            <a:ext cx="15840" cy="435240"/>
          </a:xfrm>
          <a:prstGeom prst="line">
            <a:avLst/>
          </a:prstGeom>
          <a:ln w="76320">
            <a:solidFill>
              <a:srgbClr val="b50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26"/>
          <p:cNvSpPr/>
          <p:nvPr/>
        </p:nvSpPr>
        <p:spPr>
          <a:xfrm>
            <a:off x="1889280" y="1260360"/>
            <a:ext cx="446040" cy="0"/>
          </a:xfrm>
          <a:prstGeom prst="line">
            <a:avLst/>
          </a:prstGeom>
          <a:ln w="763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27"/>
          <p:cNvSpPr/>
          <p:nvPr/>
        </p:nvSpPr>
        <p:spPr>
          <a:xfrm>
            <a:off x="2259000" y="4475160"/>
            <a:ext cx="0" cy="252360"/>
          </a:xfrm>
          <a:prstGeom prst="line">
            <a:avLst/>
          </a:prstGeom>
          <a:ln w="763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28"/>
          <p:cNvSpPr/>
          <p:nvPr/>
        </p:nvSpPr>
        <p:spPr>
          <a:xfrm>
            <a:off x="7996320" y="693720"/>
            <a:ext cx="0" cy="3906720"/>
          </a:xfrm>
          <a:prstGeom prst="line">
            <a:avLst/>
          </a:prstGeom>
          <a:ln w="763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29"/>
          <p:cNvSpPr/>
          <p:nvPr/>
        </p:nvSpPr>
        <p:spPr>
          <a:xfrm>
            <a:off x="5681520" y="1260360"/>
            <a:ext cx="0" cy="314640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30"/>
          <p:cNvSpPr/>
          <p:nvPr/>
        </p:nvSpPr>
        <p:spPr>
          <a:xfrm>
            <a:off x="4941720" y="4791240"/>
            <a:ext cx="0" cy="56664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31"/>
          <p:cNvSpPr/>
          <p:nvPr/>
        </p:nvSpPr>
        <p:spPr>
          <a:xfrm>
            <a:off x="4941720" y="5862600"/>
            <a:ext cx="0" cy="43020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32"/>
          <p:cNvSpPr/>
          <p:nvPr/>
        </p:nvSpPr>
        <p:spPr>
          <a:xfrm>
            <a:off x="0" y="762120"/>
            <a:ext cx="1905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0000"/>
                </a:solidFill>
                <a:latin typeface="Comic Sans MS"/>
              </a:rPr>
              <a:t>Proteín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0000"/>
                </a:solidFill>
                <a:latin typeface="Comic Sans MS"/>
              </a:rPr>
              <a:t>Intracel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33"/>
          <p:cNvSpPr/>
          <p:nvPr/>
        </p:nvSpPr>
        <p:spPr>
          <a:xfrm>
            <a:off x="4651560" y="2773440"/>
            <a:ext cx="13654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Sobrenad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34"/>
          <p:cNvSpPr/>
          <p:nvPr/>
        </p:nvSpPr>
        <p:spPr>
          <a:xfrm>
            <a:off x="685800" y="5357880"/>
            <a:ext cx="18108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35"/>
          <p:cNvSpPr/>
          <p:nvPr/>
        </p:nvSpPr>
        <p:spPr>
          <a:xfrm>
            <a:off x="838080" y="4114800"/>
            <a:ext cx="2979720" cy="30204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Tratamiento de cuerpos inclui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36"/>
          <p:cNvSpPr/>
          <p:nvPr/>
        </p:nvSpPr>
        <p:spPr>
          <a:xfrm>
            <a:off x="1905120" y="3809880"/>
            <a:ext cx="0" cy="31428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37"/>
          <p:cNvSpPr/>
          <p:nvPr/>
        </p:nvSpPr>
        <p:spPr>
          <a:xfrm>
            <a:off x="6423120" y="5357880"/>
            <a:ext cx="203508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38"/>
          <p:cNvSpPr/>
          <p:nvPr/>
        </p:nvSpPr>
        <p:spPr>
          <a:xfrm>
            <a:off x="6053040" y="6240600"/>
            <a:ext cx="240516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000000"/>
                </a:solidFill>
                <a:uFillTx/>
                <a:latin typeface="Comic Sans MS"/>
              </a:rPr>
              <a:t>Perm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Altos niveles de purez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Estabilidad del produ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Oval 39"/>
          <p:cNvSpPr/>
          <p:nvPr/>
        </p:nvSpPr>
        <p:spPr>
          <a:xfrm>
            <a:off x="3780000" y="4005360"/>
            <a:ext cx="3311280" cy="108108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6"/>
          <p:cNvSpPr/>
          <p:nvPr/>
        </p:nvSpPr>
        <p:spPr>
          <a:xfrm>
            <a:off x="380880" y="380880"/>
            <a:ext cx="830592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oncentración</a:t>
            </a:r>
            <a:r>
              <a:rPr b="1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última etapa en el proceso de recuperación de proteínas es la concentración del extracto, a esta altura del proceso el extracto contiene  una mezcla del producto deseado con otros compuestos celulares solubles. Se debe reducir la masa o volumen al máximo eliminando agua, para ellos se utilizan  a operaciones unitarias del tip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ltrafiltra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xtrac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ecipi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iofi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380880" y="380880"/>
            <a:ext cx="8305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PRECIPITACI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Ha sido una de las técnicas más utilizas para la concentración de proteín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Definici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 una operación que permite la concentración de una solución mediante la adición de un </a:t>
            </a:r>
            <a:r>
              <a:rPr b="0" lang="es-ES_tradnl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“agente precipitante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533520" y="3429000"/>
            <a:ext cx="830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Venta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Operación fácil de esca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uede utilizarse en forma contin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quipos senci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ispone de muchos agente precipitantes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380880" y="68580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Caracter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í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sti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o producir desnaturación del soluto de inter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ben proveer una mayor estabilidad al soluto de inter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2073240" y="504720"/>
            <a:ext cx="40719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963720" y="1676520"/>
            <a:ext cx="2693880" cy="3322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Rompimiento Cel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838080" y="3352680"/>
            <a:ext cx="2979720" cy="45396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c0000"/>
                </a:solidFill>
                <a:latin typeface="Comic Sans MS"/>
              </a:rPr>
              <a:t>Precipitación  Ácidos Nucleicos, Proteas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4275000" y="4462560"/>
            <a:ext cx="1394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oncentr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4176000" y="5357880"/>
            <a:ext cx="1530360" cy="515160"/>
          </a:xfrm>
          <a:prstGeom prst="rect">
            <a:avLst/>
          </a:prstGeom>
          <a:solidFill>
            <a:srgbClr val="fdc0e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urificación Al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solu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4041360" y="6429240"/>
            <a:ext cx="1304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fina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838080" y="2666880"/>
            <a:ext cx="3043440" cy="241200"/>
          </a:xfrm>
          <a:prstGeom prst="rect">
            <a:avLst/>
          </a:prstGeom>
          <a:noFill/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omic Sans MS"/>
              </a:rPr>
              <a:t>Separación Material Intracelul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3142080" y="0"/>
            <a:ext cx="2945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aldo de Fer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2351160" y="1008000"/>
            <a:ext cx="3038400" cy="399960"/>
          </a:xfrm>
          <a:prstGeom prst="rect">
            <a:avLst/>
          </a:prstGeom>
          <a:noFill/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4116240" y="4427640"/>
            <a:ext cx="2306880" cy="363600"/>
          </a:xfrm>
          <a:prstGeom prst="rect">
            <a:avLst/>
          </a:prstGeom>
          <a:noFill/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3462480" y="6303960"/>
            <a:ext cx="2489040" cy="487440"/>
          </a:xfrm>
          <a:prstGeom prst="rect">
            <a:avLst/>
          </a:prstGeom>
          <a:noFill/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3"/>
          <p:cNvSpPr/>
          <p:nvPr/>
        </p:nvSpPr>
        <p:spPr>
          <a:xfrm>
            <a:off x="2351160" y="1071720"/>
            <a:ext cx="3211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Separación de Célu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4"/>
          <p:cNvSpPr/>
          <p:nvPr/>
        </p:nvSpPr>
        <p:spPr>
          <a:xfrm>
            <a:off x="1905120" y="3048120"/>
            <a:ext cx="0" cy="31428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5"/>
          <p:cNvSpPr/>
          <p:nvPr/>
        </p:nvSpPr>
        <p:spPr>
          <a:xfrm>
            <a:off x="2259000" y="4727520"/>
            <a:ext cx="1835280" cy="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6"/>
          <p:cNvSpPr/>
          <p:nvPr/>
        </p:nvSpPr>
        <p:spPr>
          <a:xfrm>
            <a:off x="1889280" y="1260360"/>
            <a:ext cx="0" cy="44136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7"/>
          <p:cNvSpPr/>
          <p:nvPr/>
        </p:nvSpPr>
        <p:spPr>
          <a:xfrm>
            <a:off x="4572000" y="693720"/>
            <a:ext cx="3408480" cy="0"/>
          </a:xfrm>
          <a:prstGeom prst="line">
            <a:avLst/>
          </a:prstGeom>
          <a:ln w="763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18"/>
          <p:cNvSpPr/>
          <p:nvPr/>
        </p:nvSpPr>
        <p:spPr>
          <a:xfrm flipH="1">
            <a:off x="6422760" y="4600440"/>
            <a:ext cx="1587240" cy="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19"/>
          <p:cNvSpPr/>
          <p:nvPr/>
        </p:nvSpPr>
        <p:spPr>
          <a:xfrm flipH="1">
            <a:off x="3462480" y="693720"/>
            <a:ext cx="1125360" cy="0"/>
          </a:xfrm>
          <a:prstGeom prst="line">
            <a:avLst/>
          </a:prstGeom>
          <a:ln w="763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20"/>
          <p:cNvSpPr/>
          <p:nvPr/>
        </p:nvSpPr>
        <p:spPr>
          <a:xfrm>
            <a:off x="5405400" y="1260360"/>
            <a:ext cx="276120" cy="0"/>
          </a:xfrm>
          <a:prstGeom prst="line">
            <a:avLst/>
          </a:prstGeom>
          <a:ln w="763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21"/>
          <p:cNvSpPr/>
          <p:nvPr/>
        </p:nvSpPr>
        <p:spPr>
          <a:xfrm>
            <a:off x="3462480" y="693720"/>
            <a:ext cx="0" cy="38880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2"/>
          <p:cNvSpPr/>
          <p:nvPr/>
        </p:nvSpPr>
        <p:spPr>
          <a:xfrm>
            <a:off x="5033880" y="316080"/>
            <a:ext cx="0" cy="37764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23"/>
          <p:cNvSpPr/>
          <p:nvPr/>
        </p:nvSpPr>
        <p:spPr>
          <a:xfrm>
            <a:off x="6893640" y="1676520"/>
            <a:ext cx="2031120" cy="82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n Célu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élulas inmoviliza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élulas reteni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24"/>
          <p:cNvSpPr/>
          <p:nvPr/>
        </p:nvSpPr>
        <p:spPr>
          <a:xfrm>
            <a:off x="2095920" y="457200"/>
            <a:ext cx="1351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Con Célul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25"/>
          <p:cNvSpPr/>
          <p:nvPr/>
        </p:nvSpPr>
        <p:spPr>
          <a:xfrm>
            <a:off x="1905120" y="2209680"/>
            <a:ext cx="15840" cy="435240"/>
          </a:xfrm>
          <a:prstGeom prst="line">
            <a:avLst/>
          </a:prstGeom>
          <a:ln w="76320">
            <a:solidFill>
              <a:srgbClr val="b50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26"/>
          <p:cNvSpPr/>
          <p:nvPr/>
        </p:nvSpPr>
        <p:spPr>
          <a:xfrm>
            <a:off x="1889280" y="1260360"/>
            <a:ext cx="446040" cy="0"/>
          </a:xfrm>
          <a:prstGeom prst="line">
            <a:avLst/>
          </a:prstGeom>
          <a:ln w="763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27"/>
          <p:cNvSpPr/>
          <p:nvPr/>
        </p:nvSpPr>
        <p:spPr>
          <a:xfrm>
            <a:off x="2259000" y="4475160"/>
            <a:ext cx="0" cy="252360"/>
          </a:xfrm>
          <a:prstGeom prst="line">
            <a:avLst/>
          </a:prstGeom>
          <a:ln w="763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28"/>
          <p:cNvSpPr/>
          <p:nvPr/>
        </p:nvSpPr>
        <p:spPr>
          <a:xfrm>
            <a:off x="7996320" y="693720"/>
            <a:ext cx="0" cy="3906720"/>
          </a:xfrm>
          <a:prstGeom prst="line">
            <a:avLst/>
          </a:prstGeom>
          <a:ln w="763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29"/>
          <p:cNvSpPr/>
          <p:nvPr/>
        </p:nvSpPr>
        <p:spPr>
          <a:xfrm>
            <a:off x="5681520" y="1260360"/>
            <a:ext cx="0" cy="314640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30"/>
          <p:cNvSpPr/>
          <p:nvPr/>
        </p:nvSpPr>
        <p:spPr>
          <a:xfrm>
            <a:off x="4941720" y="4791240"/>
            <a:ext cx="0" cy="56664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31"/>
          <p:cNvSpPr/>
          <p:nvPr/>
        </p:nvSpPr>
        <p:spPr>
          <a:xfrm>
            <a:off x="4941720" y="5862600"/>
            <a:ext cx="0" cy="43020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32"/>
          <p:cNvSpPr/>
          <p:nvPr/>
        </p:nvSpPr>
        <p:spPr>
          <a:xfrm>
            <a:off x="0" y="762120"/>
            <a:ext cx="1905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0000"/>
                </a:solidFill>
                <a:latin typeface="Comic Sans MS"/>
              </a:rPr>
              <a:t>Proteín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0000"/>
                </a:solidFill>
                <a:latin typeface="Comic Sans MS"/>
              </a:rPr>
              <a:t>Intracel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33"/>
          <p:cNvSpPr/>
          <p:nvPr/>
        </p:nvSpPr>
        <p:spPr>
          <a:xfrm>
            <a:off x="4651560" y="2773440"/>
            <a:ext cx="13654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Sobrenad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34"/>
          <p:cNvSpPr/>
          <p:nvPr/>
        </p:nvSpPr>
        <p:spPr>
          <a:xfrm>
            <a:off x="685800" y="5357880"/>
            <a:ext cx="18108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35"/>
          <p:cNvSpPr/>
          <p:nvPr/>
        </p:nvSpPr>
        <p:spPr>
          <a:xfrm>
            <a:off x="838080" y="4114800"/>
            <a:ext cx="2979720" cy="30204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cc0000"/>
                </a:solidFill>
                <a:latin typeface="Comic Sans MS"/>
              </a:rPr>
              <a:t>Tratamiento de cuerpos inclui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36"/>
          <p:cNvSpPr/>
          <p:nvPr/>
        </p:nvSpPr>
        <p:spPr>
          <a:xfrm>
            <a:off x="1905120" y="3809880"/>
            <a:ext cx="0" cy="31428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37"/>
          <p:cNvSpPr/>
          <p:nvPr/>
        </p:nvSpPr>
        <p:spPr>
          <a:xfrm>
            <a:off x="6423120" y="5357880"/>
            <a:ext cx="203508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38"/>
          <p:cNvSpPr/>
          <p:nvPr/>
        </p:nvSpPr>
        <p:spPr>
          <a:xfrm>
            <a:off x="6053040" y="6240600"/>
            <a:ext cx="240516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000000"/>
                </a:solidFill>
                <a:uFillTx/>
                <a:latin typeface="Comic Sans MS"/>
              </a:rPr>
              <a:t>Perm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Altos niveles de purez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Estabilidad del produ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Oval 39"/>
          <p:cNvSpPr/>
          <p:nvPr/>
        </p:nvSpPr>
        <p:spPr>
          <a:xfrm>
            <a:off x="250920" y="3213000"/>
            <a:ext cx="4103640" cy="144000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3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380880" y="3049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Tipos de precipitación</a:t>
            </a: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28600" y="1066680"/>
          <a:ext cx="8686800" cy="5307120"/>
        </p:xfrm>
        <a:graphic>
          <a:graphicData uri="http://schemas.openxmlformats.org/drawingml/2006/table">
            <a:tbl>
              <a:tblPr/>
              <a:tblGrid>
                <a:gridCol w="3962520"/>
                <a:gridCol w="4724280"/>
              </a:tblGrid>
              <a:tr h="50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undamento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entes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Disminución de la solubilid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Precipitación no selectiva</a:t>
                      </a:r>
                      <a:r>
                        <a:rPr b="0" lang="es-E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s-ES_tradnl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A) </a:t>
                      </a:r>
                      <a:r>
                        <a:rPr b="0" lang="es-ES_tradnl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Sales : Sulfato de amonio , sulfato de sodi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s-ES_tradnl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B) pH :  Trabajar en el pI de la proteí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s-ES_tradnl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C) Solventes: Etanol, aceto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s-ES_tradnl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D) Polímeros no iónicos : PEG</a:t>
                      </a:r>
                      <a:r>
                        <a:rPr b="0" lang="es-E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s-E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E) Polielectrolitos sintéticos y natur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Precipitación selectiva por Afinidad</a:t>
                      </a:r>
                      <a:r>
                        <a:rPr b="0" lang="es-E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Formación de complejos por interacción de los sitios activos de las  proteínas con ligandos específicos</a:t>
                      </a:r>
                      <a:r>
                        <a:rPr b="0" lang="es-E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Desnaturación selectiv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Cambio en la conformación de las proteínas</a:t>
                      </a:r>
                      <a:r>
                        <a:rPr b="0" lang="es-ES" sz="24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s-ES_tradnl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p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s-ES_tradnl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Temperatu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s-ES_tradnl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Solvente</a:t>
                      </a:r>
                      <a:r>
                        <a:rPr b="0" lang="es-ES" sz="24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3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380880" y="685800"/>
            <a:ext cx="845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Estructura de las prote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í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as</a:t>
            </a:r>
            <a:r>
              <a:rPr b="1" lang="es-ES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solubilidad depende 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teracciones pola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teracciones hidrofóbicas entre las proteí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uerzas de repulsión electroestáticas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6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3151080" cy="243828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8"/>
          <p:cNvSpPr/>
          <p:nvPr/>
        </p:nvSpPr>
        <p:spPr>
          <a:xfrm>
            <a:off x="6245280" y="3200400"/>
            <a:ext cx="2898720" cy="69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8000"/>
                </a:solidFill>
                <a:latin typeface="Comic Sans MS"/>
              </a:rPr>
              <a:t>Zonas hidrofóbicas</a:t>
            </a:r>
            <a:r>
              <a:rPr b="1" lang="es-ES_tradnl" sz="2000" spc="-1" strike="noStrike">
                <a:solidFill>
                  <a:srgbClr val="008000"/>
                </a:solidFill>
                <a:latin typeface="Comic Sans MS"/>
              </a:rPr>
              <a:t> (no polar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9"/>
          <p:cNvSpPr/>
          <p:nvPr/>
        </p:nvSpPr>
        <p:spPr>
          <a:xfrm flipH="1">
            <a:off x="6629040" y="3809880"/>
            <a:ext cx="609480" cy="83844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10"/>
          <p:cNvSpPr/>
          <p:nvPr/>
        </p:nvSpPr>
        <p:spPr>
          <a:xfrm>
            <a:off x="3276720" y="3733920"/>
            <a:ext cx="1676160" cy="45720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380880" y="3352680"/>
            <a:ext cx="2898720" cy="69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00"/>
                </a:solidFill>
                <a:latin typeface="Comic Sans MS"/>
              </a:rPr>
              <a:t>Zonas</a:t>
            </a:r>
            <a:r>
              <a:rPr b="1" lang="es-ES_tradnl" sz="2000" spc="-1" strike="noStrike">
                <a:solidFill>
                  <a:srgbClr val="cc0000"/>
                </a:solidFill>
                <a:latin typeface="Comic Sans MS"/>
              </a:rPr>
              <a:t> cargadas posi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533520" y="5334120"/>
            <a:ext cx="2898720" cy="69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</a:rPr>
              <a:t>Zonas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 cargadas nega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13"/>
          <p:cNvSpPr/>
          <p:nvPr/>
        </p:nvSpPr>
        <p:spPr>
          <a:xfrm flipV="1">
            <a:off x="3505320" y="5105160"/>
            <a:ext cx="1523880" cy="53316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3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380880" y="304920"/>
            <a:ext cx="8001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Precipitaci</a:t>
            </a:r>
            <a:r>
              <a:rPr b="1" lang="es-ES_tradnl" sz="4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4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 No Selectiva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826920" y="1557360"/>
            <a:ext cx="74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tapas en el proceso de precipitación no sele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Group 12"/>
          <p:cNvGrpSpPr/>
          <p:nvPr/>
        </p:nvGrpSpPr>
        <p:grpSpPr>
          <a:xfrm>
            <a:off x="684360" y="2708280"/>
            <a:ext cx="7638840" cy="2987640"/>
            <a:chOff x="684360" y="2708280"/>
            <a:chExt cx="7638840" cy="2987640"/>
          </a:xfrm>
        </p:grpSpPr>
        <p:pic>
          <p:nvPicPr>
            <p:cNvPr id="177" name="Picture 8" descr=""/>
            <p:cNvPicPr/>
            <p:nvPr/>
          </p:nvPicPr>
          <p:blipFill>
            <a:blip r:embed="rId1"/>
            <a:stretch/>
          </p:blipFill>
          <p:spPr>
            <a:xfrm>
              <a:off x="684360" y="3355920"/>
              <a:ext cx="7638840" cy="23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Line 10"/>
            <p:cNvSpPr/>
            <p:nvPr/>
          </p:nvSpPr>
          <p:spPr>
            <a:xfrm>
              <a:off x="1260360" y="2779920"/>
              <a:ext cx="0" cy="86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11"/>
            <p:cNvSpPr/>
            <p:nvPr/>
          </p:nvSpPr>
          <p:spPr>
            <a:xfrm>
              <a:off x="1404720" y="2708280"/>
              <a:ext cx="323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Agente Precipitan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380880" y="304920"/>
            <a:ext cx="8001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Precipitaci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 No Selectiva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a) Precipitaci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 con S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s uno de las metodolog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s m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 utilizadas. Las sales que m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 se utilizan son el sulfato de amonio y el sulfato de sod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Object 4"/>
          <p:cNvGraphicFramePr/>
          <p:nvPr/>
        </p:nvGraphicFramePr>
        <p:xfrm>
          <a:off x="4572000" y="2629080"/>
          <a:ext cx="4572000" cy="294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629080"/>
                    <a:ext cx="4572000" cy="29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Text Box 5"/>
          <p:cNvSpPr/>
          <p:nvPr/>
        </p:nvSpPr>
        <p:spPr>
          <a:xfrm>
            <a:off x="457200" y="2971800"/>
            <a:ext cx="4114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as Curvas de solubilidad presentan dos zon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Zona solubiliza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  o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“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alting-i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Zona de precipita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   o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“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alting-out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”</a:t>
            </a:r>
            <a:r>
              <a:rPr b="1" lang="es-ES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685800" y="6095880"/>
            <a:ext cx="8458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odos estos procesos se realizan a temperaturas inferiores a 5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º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</a:t>
            </a:r>
            <a:r>
              <a:rPr b="1" lang="es-ES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380880" y="304920"/>
            <a:ext cx="8001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Mecan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a adi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de sal elimina el agua que hidrata las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s, dejando las regiones hidrof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icas en libertad de interaccion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as zonas hidr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obicas tienden a interactuar entre s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 lo cual resulta termodi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icamente favorable, dado que produce un aumento de la entrop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Group 6"/>
          <p:cNvGrpSpPr/>
          <p:nvPr/>
        </p:nvGrpSpPr>
        <p:grpSpPr>
          <a:xfrm>
            <a:off x="12600" y="3429000"/>
            <a:ext cx="9131400" cy="3187800"/>
            <a:chOff x="12600" y="3429000"/>
            <a:chExt cx="9131400" cy="3187800"/>
          </a:xfrm>
        </p:grpSpPr>
        <p:graphicFrame>
          <p:nvGraphicFramePr>
            <p:cNvPr id="189" name="Object 4"/>
            <p:cNvGraphicFramePr/>
            <p:nvPr/>
          </p:nvGraphicFramePr>
          <p:xfrm>
            <a:off x="12600" y="3429000"/>
            <a:ext cx="9131400" cy="3141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0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600" y="3429000"/>
                      <a:ext cx="9131400" cy="314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1" name="Text Box 5"/>
            <p:cNvSpPr/>
            <p:nvPr/>
          </p:nvSpPr>
          <p:spPr>
            <a:xfrm>
              <a:off x="5791320" y="5791320"/>
              <a:ext cx="3124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cc0000"/>
                  </a:solidFill>
                  <a:latin typeface="Times New Roman"/>
                </a:rPr>
                <a:t>Termodinámicamente favor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189000" y="-28440"/>
            <a:ext cx="8764560" cy="69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380880" y="30492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l interactuar las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s est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forman grandes estructuras las que sediment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as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s que presentan mayor hidrofobicidad son las que precipitan con menos s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838080" y="2666880"/>
            <a:ext cx="769644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cc0000"/>
                </a:solidFill>
                <a:uFillTx/>
                <a:latin typeface="Times New Roman"/>
                <a:ea typeface="Times New Roman"/>
              </a:rPr>
              <a:t>Ecuación de 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cuación de Co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log Sp = A – m [ sal]</a:t>
            </a: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do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p : Concentración de Proteína en S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[sal] : Concentración de 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: Constante que depende del pH, T, 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m: Constante que depende del tipo de sal y de la proteí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380880" y="304920"/>
            <a:ext cx="8229600" cy="64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j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00 litros de una solu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que contiene 10 g/lt de BSA y 5 gr/lt de una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 X se intentan separar por precipita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con sulfato de amon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l objetivo es recuperar el 90% de la BSA en el precipitado. Para ello se han determinado, con anterioridad, las solubilidades de cada una de estas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s en presencia de sulfato de amon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BSA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Ln S</a:t>
            </a:r>
            <a:r>
              <a:rPr b="0" lang="es-ES_tradnl" sz="2000" spc="-1" strike="noStrike" baseline="-30000">
                <a:solidFill>
                  <a:srgbClr val="a50021"/>
                </a:solidFill>
                <a:latin typeface="Times New Roman"/>
                <a:ea typeface="Times New Roman"/>
              </a:rPr>
              <a:t>BSA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= 21.6 </a:t>
            </a: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–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7.65 [Sulfato de Amonio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Prote</a:t>
            </a:r>
            <a:r>
              <a:rPr b="0" lang="es-ES_tradnl" sz="20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í</a:t>
            </a:r>
            <a:r>
              <a:rPr b="0" lang="es-ES_tradnl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na X </a:t>
            </a:r>
            <a:r>
              <a:rPr b="0" lang="es-ES_tradnl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Ln Sx = 20.0 </a:t>
            </a:r>
            <a:r>
              <a:rPr b="0" lang="es-ES_tradnl" sz="20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–</a:t>
            </a:r>
            <a:r>
              <a:rPr b="0" lang="es-ES_tradnl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7.00 [Sulfato de Amonio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on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 (Solubilidad) se expresa en g/lt y [Sulfato de Amonio] en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sumiendo que la solubilidad es independiente de la presencia de otra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, determine la pureza con respecto al BSA en el precipitado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380880" y="304920"/>
            <a:ext cx="82296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b) Precipitaci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 Isoel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é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ctric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Mecan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as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s con carga se repelen, si se trabaja </a:t>
            </a: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erca del pI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de las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s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é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tas presentan una carga m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ima y no hay repuls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y tienden a una atrac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m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i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609480" y="5029200"/>
            <a:ext cx="7772400" cy="20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Los </a:t>
            </a:r>
            <a:r>
              <a:rPr b="0" lang="es-ES_tradnl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á</a:t>
            </a: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idos m</a:t>
            </a:r>
            <a:r>
              <a:rPr b="0" lang="es-ES_tradnl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á</a:t>
            </a: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 utilizados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Fosf</a:t>
            </a:r>
            <a:r>
              <a:rPr b="0" lang="es-ES_tradnl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ó</a:t>
            </a:r>
            <a:r>
              <a:rPr b="0" lang="es-ES_tradn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r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lorh</a:t>
            </a:r>
            <a:r>
              <a:rPr b="0" lang="es-ES_tradnl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í</a:t>
            </a:r>
            <a:r>
              <a:rPr b="0" lang="es-ES_tradn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dr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ulf</a:t>
            </a:r>
            <a:r>
              <a:rPr b="0" lang="es-ES_tradnl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ú</a:t>
            </a:r>
            <a:r>
              <a:rPr b="0" lang="es-ES_tradn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rico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1" name="Object 5"/>
          <p:cNvGraphicFramePr/>
          <p:nvPr/>
        </p:nvGraphicFramePr>
        <p:xfrm>
          <a:off x="1447920" y="2143080"/>
          <a:ext cx="5257800" cy="290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143080"/>
                    <a:ext cx="5257800" cy="290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380880" y="304920"/>
            <a:ext cx="8763120" cy="42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c) Precipitaci</a:t>
            </a:r>
            <a:r>
              <a:rPr b="1" lang="es-ES_tradnl" sz="2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28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 por solventes a baja temperatura 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(-5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º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Mecan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imilar al efecto de la sal, se desplaza el agua por los solv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Ecuaci</a:t>
            </a: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 de dise</a:t>
            </a: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ñ</a:t>
            </a: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odelo emp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ico esta dado por la expres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og S = log So +  K/D 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</a:t>
            </a:r>
            <a:r>
              <a:rPr b="0" lang="es-ES_tradnl" sz="20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s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: Constante Diel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é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t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o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: Solubilidad en agua.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324000" y="4941720"/>
            <a:ext cx="77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cc0000"/>
                </a:solidFill>
                <a:uFillTx/>
                <a:latin typeface="Times New Roman"/>
                <a:ea typeface="Times New Roman"/>
              </a:rPr>
              <a:t>Selecci</a:t>
            </a:r>
            <a:r>
              <a:rPr b="1" lang="es-ES_tradnl" sz="24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2400" spc="-1" strike="noStrike" u="sng">
                <a:solidFill>
                  <a:srgbClr val="cc0000"/>
                </a:solidFill>
                <a:uFillTx/>
                <a:latin typeface="Times New Roman"/>
                <a:ea typeface="Times New Roman"/>
              </a:rPr>
              <a:t>n del solv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         </a:t>
            </a: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Debe ser Seg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Miscible en a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No reaccionar con las prote</a:t>
            </a:r>
            <a:r>
              <a:rPr b="0" lang="es-ES_tradnl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nas</a:t>
            </a:r>
            <a:r>
              <a:rPr b="0" lang="es-E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Object 6"/>
          <p:cNvGraphicFramePr/>
          <p:nvPr/>
        </p:nvGraphicFramePr>
        <p:xfrm>
          <a:off x="5257800" y="2819520"/>
          <a:ext cx="3886200" cy="30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2819520"/>
                    <a:ext cx="388620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1828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3333cc"/>
                </a:solidFill>
                <a:uFillTx/>
                <a:latin typeface="Comic Sans MS"/>
              </a:rPr>
              <a:t>Separación de desechos celulares</a:t>
            </a:r>
            <a:br>
              <a:rPr sz="3600"/>
            </a:br>
            <a:br>
              <a:rPr sz="3600"/>
            </a:br>
            <a:r>
              <a:rPr b="0" lang="es-ES" sz="3600" spc="-1" strike="noStrike">
                <a:solidFill>
                  <a:srgbClr val="3333cc"/>
                </a:solidFill>
                <a:latin typeface="Comic Sans MS"/>
              </a:rPr>
              <a:t>Rompimiento</a:t>
            </a:r>
            <a:br>
              <a:rPr sz="3600"/>
            </a:br>
            <a:r>
              <a:rPr b="0" lang="es-ES" sz="3600" spc="-1" strike="noStrike">
                <a:solidFill>
                  <a:srgbClr val="3333cc"/>
                </a:solidFill>
                <a:latin typeface="Comic Sans MS"/>
              </a:rPr>
              <a:t>Clarificación</a:t>
            </a:r>
            <a:br>
              <a:rPr sz="3600"/>
            </a:br>
            <a:r>
              <a:rPr b="0" lang="es-ES" sz="36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Tamaño de los desechos celulares 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(debris)</a:t>
            </a:r>
            <a:br>
              <a:rPr sz="3200"/>
            </a:b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Viscosidad del extrac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389520" y="4724280"/>
            <a:ext cx="832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990033"/>
                </a:solidFill>
                <a:latin typeface="Comic Sans MS"/>
              </a:rPr>
              <a:t>Esta etapa resulta ser un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990033"/>
                </a:solidFill>
                <a:latin typeface="Comic Sans MS"/>
              </a:rPr>
              <a:t>de las etapas más difíciles y costosa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380880" y="304920"/>
            <a:ext cx="82296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d) Precipitaci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 por Pol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í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mero no i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Mecanis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odelo de Ogston (en base  a la termodi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i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os pol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eros reducen la cantidad efectiva de agua disponible para la solvata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de las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s.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304920" y="3352680"/>
            <a:ext cx="7003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Ecuaci</a:t>
            </a:r>
            <a:r>
              <a:rPr b="1" lang="es-ES_tradnl" sz="24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24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n de dise</a:t>
            </a:r>
            <a:r>
              <a:rPr b="1" lang="es-ES_tradnl" sz="24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ñ</a:t>
            </a:r>
            <a:r>
              <a:rPr b="1" lang="es-ES_tradnl" sz="24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La solubilidad se puede expres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log S = X  - a C</a:t>
            </a:r>
            <a:r>
              <a:rPr b="0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C: Concentraci</a:t>
            </a:r>
            <a:r>
              <a:rPr b="0" lang="es-ES_tradnl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n de pol</a:t>
            </a:r>
            <a:r>
              <a:rPr b="0" lang="es-ES_tradnl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a: Cons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380880" y="304920"/>
            <a:ext cx="82296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Selecci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 del pol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í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ol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ero neu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oluble en a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uidar que no produzca aumentos en la viscosidad, viscosidad mode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oncentra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- Baja para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s de alto peso molecular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- Alta para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s de bajo peso mole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Venta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stabiliza las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s ( Interac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-pol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e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e puede trabajar a temperatura amb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l pol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ero se puede separar por intercambio ionico (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Por qu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é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?)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3995640" y="1052640"/>
            <a:ext cx="4905360" cy="403200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5"/>
          <p:cNvSpPr/>
          <p:nvPr/>
        </p:nvSpPr>
        <p:spPr>
          <a:xfrm>
            <a:off x="461880" y="378000"/>
            <a:ext cx="630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</a:rPr>
              <a:t>e) Precipitación por Polielectroli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4356000" y="5373720"/>
            <a:ext cx="352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cc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Times New Roman"/>
              </a:rPr>
              <a:t>polication-polian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cc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cc0000"/>
                </a:solidFill>
                <a:latin typeface="Times New Roman"/>
              </a:rPr>
              <a:t>polication-proteína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cc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Times New Roman"/>
              </a:rPr>
              <a:t>Polianfolito-proteí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539640" y="981000"/>
            <a:ext cx="3168720" cy="52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polielectrolito modifica las caracteristicas superficiales, en forma reversible, de las proteína y hacen que éstan interactu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bien los polielectrolitos son caros se utilizan en pequeñas cantidades y se pueden recic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028"/>
          <p:cNvSpPr/>
          <p:nvPr/>
        </p:nvSpPr>
        <p:spPr>
          <a:xfrm>
            <a:off x="438840" y="0"/>
            <a:ext cx="6417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2.- Precipitaci</a:t>
            </a:r>
            <a:r>
              <a:rPr b="1" lang="es-ES_tradnl" sz="4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4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 Selecti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029"/>
          <p:cNvSpPr/>
          <p:nvPr/>
        </p:nvSpPr>
        <p:spPr>
          <a:xfrm>
            <a:off x="380880" y="1066680"/>
            <a:ext cx="701064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ecipitación Selectiva por Afinidad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ecipitación selectiva de la proteína de interés, basándose en la capacidad que tiene la proteína para unirse a sitios ac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finidad a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        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ust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        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hib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        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nticuer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1030"/>
          <p:cNvSpPr/>
          <p:nvPr/>
        </p:nvSpPr>
        <p:spPr>
          <a:xfrm>
            <a:off x="4934160" y="3110040"/>
            <a:ext cx="292392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-   Pseudoafinidad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5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Color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5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Me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" descr=""/>
          <p:cNvPicPr/>
          <p:nvPr/>
        </p:nvPicPr>
        <p:blipFill>
          <a:blip r:embed="rId1"/>
          <a:stretch/>
        </p:blipFill>
        <p:spPr>
          <a:xfrm>
            <a:off x="3203640" y="404640"/>
            <a:ext cx="5290920" cy="612000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5"/>
          <p:cNvSpPr/>
          <p:nvPr/>
        </p:nvSpPr>
        <p:spPr>
          <a:xfrm>
            <a:off x="395280" y="620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Times New Roman"/>
              </a:rPr>
              <a:t>Homo-fun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395280" y="27813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Times New Roman"/>
              </a:rPr>
              <a:t>Hetero-fun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6" descr=""/>
          <p:cNvPicPr/>
          <p:nvPr/>
        </p:nvPicPr>
        <p:blipFill>
          <a:blip r:embed="rId1"/>
          <a:stretch/>
        </p:blipFill>
        <p:spPr>
          <a:xfrm>
            <a:off x="2000160" y="-241200"/>
            <a:ext cx="7143840" cy="709920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7"/>
          <p:cNvSpPr/>
          <p:nvPr/>
        </p:nvSpPr>
        <p:spPr>
          <a:xfrm>
            <a:off x="395280" y="836640"/>
            <a:ext cx="151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ipos de Polím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380880" y="304920"/>
            <a:ext cx="822960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3.- Precipitaci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 por Desnaturaci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 selectiva</a:t>
            </a:r>
            <a:r>
              <a:rPr b="1" lang="es-ES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Princip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e desnaturan los contaminantes por condiciones extremas de pH, T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ª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o solventes org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as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 contamin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.- Se despliega,  quedando mucha zonas expue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2.- Dichas zonas interact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ú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3.- Luego las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s contaminantes precipitan, mientras que la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 de inter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é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 se mantiene en solu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.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762120" y="1371600"/>
            <a:ext cx="76197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Teor</a:t>
            </a:r>
            <a:r>
              <a:rPr b="0" lang="es-ES_tradnl" sz="24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í</a:t>
            </a:r>
            <a:r>
              <a:rPr b="0" lang="es-ES_tradnl" sz="24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Hay prote</a:t>
            </a:r>
            <a:r>
              <a:rPr b="0" lang="es-ES_tradnl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nas que son estables a altas temperaturas, mientras que otras n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1219320" y="5335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Desnaturaci</a:t>
            </a:r>
            <a:r>
              <a:rPr b="1" lang="es-ES_tradnl" sz="24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24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n por Temperatura</a:t>
            </a: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0" name="Object 7"/>
          <p:cNvGraphicFramePr/>
          <p:nvPr/>
        </p:nvGraphicFramePr>
        <p:xfrm>
          <a:off x="2362320" y="2971800"/>
          <a:ext cx="4343400" cy="34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971800"/>
                    <a:ext cx="4343400" cy="34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380880" y="304920"/>
            <a:ext cx="82296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a ci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é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ica de desnatura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 tiene la form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onde [P]: Conc. de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 disue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       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k : Constante, f(temperatu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Proce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-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      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alentamiento y luego enfri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n presencia de sulfato de amonio para estabilizar las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s e inhibir las proteasas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57660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6"/>
              <p:cNvSpPr txBox="1"/>
              <p:nvPr/>
            </p:nvSpPr>
            <p:spPr>
              <a:xfrm>
                <a:off x="1447920" y="990720"/>
                <a:ext cx="4038480" cy="12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P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k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ΔE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den>
                            </m:f>
                          </m:e>
                        </m:d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380880" y="304920"/>
            <a:ext cx="8229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Ej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Cin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é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tica de desnaturalizaci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a desnatura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de una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 tiene una energ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 de activa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de 400.000 J/mol. Cuando esta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 se mantiene a 50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º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 por un lapso de 10 minutos se desnatura en un 50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) Calcule la constante de la velocidad espec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ica de desnaturaliza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) Calcule la temperatura a la cual la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 s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o se desnatura el 10% en 10 min.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 u="sng">
                <a:solidFill>
                  <a:srgbClr val="3333cc"/>
                </a:solidFill>
                <a:uFillTx/>
                <a:latin typeface="Comic Sans MS"/>
              </a:rPr>
              <a:t>Operaciones unitarias </a:t>
            </a:r>
            <a:br>
              <a:rPr sz="3600"/>
            </a:br>
            <a:r>
              <a:rPr b="0" lang="es-ES" sz="36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990720" y="1828800"/>
            <a:ext cx="761976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Centrifuga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Micro o Ultrafilt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Extracción en dos fases acuosas 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(utilizando un sistema de 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polietilenglicol (PEG) -dextra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Adsorción en lechos expandidos 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(Expanded bed adsorptio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380880" y="304920"/>
            <a:ext cx="8229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Desnaturaci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 por pH extre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au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orma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de regiones con igual carga que se repel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ompimiento de las fuerzas de atrac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que dan la conforma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a las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s.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380880" y="304920"/>
            <a:ext cx="82296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Desnaturaci</a:t>
            </a: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 por solv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gentes org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icos alteran las caracter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ticas superficiales de las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s, lo cual produce su desnatura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y posterior interac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entre las zonas expues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e pueden utilizar solventes co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tanol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cet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lorofor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ondi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emperaturas entre 20-30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º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, acelera el proceso y permite el ahorro de solv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e debe estudiar el efecto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Otros agentes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380880" y="304920"/>
            <a:ext cx="8229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EQUIPOS DE PRECIPIT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e trata esencialmente de reactores, que pueden operar en for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) B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) Continua Flujo Pist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) Continua Perfectamente Agi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Object 4"/>
          <p:cNvGraphicFramePr/>
          <p:nvPr/>
        </p:nvGraphicFramePr>
        <p:xfrm>
          <a:off x="914400" y="3200400"/>
          <a:ext cx="7315200" cy="26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200400"/>
                    <a:ext cx="7315200" cy="26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380880" y="304920"/>
            <a:ext cx="82296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Etapas principales en un proceso de precipitaci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ualquiera de ellas puede ser la limit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ezclado Inicial: La solu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proteica se mezcla con el agente precipitante para eliminar las barreras de transferencia de ma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uclea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: Al disminuir la solubilidad de la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 se inicia la precipita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al formarse en el seno de la solu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pequ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ñ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s part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ulas o 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ú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le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recimiento Perici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é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ico  o Crecimiento Limitado por difus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: En esta fase los 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ú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leos van creciendo conforme la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 difunde desde el seno de la solu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hasta los 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ú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leos. La frecuencia de las colisiones est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limitada por la velocidad de difus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de las mol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é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ulas y no por el mezclado. Se forman part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ulas primarias de 0.1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–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10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-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   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380880" y="30492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4.- Crecimiento Ortoci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é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ico (Influenciado por el flujo): El mezclado favorece el crecimiento del agregado form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dose part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ulas en el rango entre 1-100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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5.- Flocula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: Los agregados forman los grandes floculos.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685800" y="2971800"/>
            <a:ext cx="7848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Parámetros fundamentales a consider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500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Velocidad de agi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500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Fuerza iónica</a:t>
            </a:r>
            <a:r>
              <a:rPr b="0" lang="es-ES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Refer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ecipitation of Proteins: Nonspecific and Specific.Ashok Kumar, Igor Yu. Galaev, and Bo Mattiasson en ISOLATIONAND PURIFICATIONOF PROTEINS edited by Rajni Hutti-Kaul Bo Mattiasson, MARCEL DEKKER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Comic Sans MS"/>
              </a:rPr>
              <a:t>Tipos de desech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990720" y="2286000"/>
            <a:ext cx="6858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Ácidos nucle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Proteas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Trozos de membr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Organelos celula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Cuerpos Inclu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3333cc"/>
                </a:solidFill>
                <a:uFillTx/>
                <a:latin typeface="Comic Sans MS"/>
              </a:rPr>
              <a:t>Remoción de Proteas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838080" y="25909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971640" y="119700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La presencia de enzimas proteolíticas puede producir alteraciones en el producto por este motivo se puede reducir este tipo de actividad enzimát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Alternativ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Inhibidor de proteasas:  Agregando Floruro de feni-metil-sulfonil (PMSF) en EDTA u otro inhibidor especí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971640" y="4365720"/>
            <a:ext cx="777708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250920" y="-674640"/>
            <a:ext cx="8628120" cy="70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3333cc"/>
                </a:solidFill>
                <a:uFillTx/>
                <a:latin typeface="Comic Sans MS"/>
              </a:rPr>
              <a:t>Remoción de Proteas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838080" y="25909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914400" y="2057400"/>
            <a:ext cx="76201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La presencia de enzimas proteolíticas puede producir alteraciones en el producto por este motivo se puede reducir este tipo de actividad enzimát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Alternativ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Inhibidor de proteasas:  Agregando Floruro de feni-metil-sulfonil (PMSF) en EDTA u otro inhibidor especí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Trabajar a bajas temperatu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Ajustar el pH químic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3333cc"/>
                </a:solidFill>
                <a:uFillTx/>
                <a:latin typeface="Comic Sans MS"/>
              </a:rPr>
              <a:t>Remoción de Ácidos Nucleic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838080" y="25909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380880" y="2057400"/>
            <a:ext cx="8153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El DNA aumenta la viscosidad del extracto, por otra parte si el producto es de uso terapéutico e inyectable todos los ácidos nucleicos deben ser removid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Las alternativas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Precipitar el DNA formando agregados con macromoléculas policationicas, tales como sulfato de protami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Utilizar DNA-asa para reducir la viscosidad, pero se deber en cuenta que al agregar productos al extracto se dificultan las etapas siguientes de purific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2:24:41Z</dcterms:created>
  <dc:creator>Maria Elena Lienqueo C.</dc:creator>
  <dc:description/>
  <dc:language>en-US</dc:language>
  <cp:lastModifiedBy>Ing Quimica</cp:lastModifiedBy>
  <dcterms:modified xsi:type="dcterms:W3CDTF">2009-08-20T21:19:11Z</dcterms:modified>
  <cp:revision>115</cp:revision>
  <dc:subject/>
  <dc:title>Separación Sólido-Líquido</dc:title>
</cp:coreProperties>
</file>