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67E-7EC6-4609-A2BC-1EE91057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76D-EED9-4356-9823-73C67F16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45E-B1EB-4505-964A-176C0C0E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2B6-FEA8-4884-AF1E-2B4C91BF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37C-2AFF-4E21-9DA4-43225B44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675B-FD67-4A4C-A290-E445068C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74A-3DF1-4DC6-9DBB-E0381A62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50C-6B2D-4977-9638-85EBFE8B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30BC-31EB-4849-B5C7-A8C19378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C69-3D32-437F-9DC0-E67D6D5C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970-92EF-4BF4-91E1-9DECB671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EA83-4784-4AD5-A340-1655AE74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B654-4B81-456F-9056-21A85BCAEC0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533520" y="304920"/>
            <a:ext cx="83818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ifu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auxilia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ción líquido-lí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58000" y="13716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unitaria utilizada para la separación: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-líquido   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íquido-líqu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centrifuga"/>
          <p:cNvPicPr/>
          <p:nvPr/>
        </p:nvPicPr>
        <p:blipFill>
          <a:blip r:embed="rId1"/>
          <a:stretch/>
        </p:blipFill>
        <p:spPr>
          <a:xfrm>
            <a:off x="3352680" y="4267080"/>
            <a:ext cx="3040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04920" y="45720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 utiliza la diferencia de densidad entre los sólidos y el fluido que lo ro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de las principales operaciones utilizadas en la separación de células desde caldos biológicos, especialmente cuando los caldos no son fáciles de fil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mbién se emplea en la remoción de desechos celulares, separación de precipitados proteicos y recuperación de productos insolubles (cuerpos inclu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086600" y="685800"/>
          <a:ext cx="1409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85800"/>
                    <a:ext cx="1409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Group 4"/>
          <p:cNvGrpSpPr/>
          <p:nvPr/>
        </p:nvGrpSpPr>
        <p:grpSpPr>
          <a:xfrm>
            <a:off x="0" y="4114800"/>
            <a:ext cx="9144000" cy="2745720"/>
            <a:chOff x="0" y="4114800"/>
            <a:chExt cx="9144000" cy="2745720"/>
          </a:xfrm>
        </p:grpSpPr>
        <p:grpSp>
          <p:nvGrpSpPr>
            <p:cNvPr id="142" name="Group 5"/>
            <p:cNvGrpSpPr/>
            <p:nvPr/>
          </p:nvGrpSpPr>
          <p:grpSpPr>
            <a:xfrm>
              <a:off x="5791320" y="4419720"/>
              <a:ext cx="3352680" cy="2440800"/>
              <a:chOff x="5791320" y="4419720"/>
              <a:chExt cx="3352680" cy="2440800"/>
            </a:xfrm>
          </p:grpSpPr>
          <p:pic>
            <p:nvPicPr>
              <p:cNvPr id="143" name="Picture 6" descr="centrifuge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4419720"/>
                <a:ext cx="27428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Text Box 7"/>
              <p:cNvSpPr/>
              <p:nvPr/>
            </p:nvSpPr>
            <p:spPr>
              <a:xfrm>
                <a:off x="579132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Escala Industr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8"/>
            <p:cNvGrpSpPr/>
            <p:nvPr/>
          </p:nvGrpSpPr>
          <p:grpSpPr>
            <a:xfrm>
              <a:off x="0" y="4114800"/>
              <a:ext cx="3352680" cy="2745720"/>
              <a:chOff x="0" y="4114800"/>
              <a:chExt cx="3352680" cy="2745720"/>
            </a:xfrm>
          </p:grpSpPr>
          <p:pic>
            <p:nvPicPr>
              <p:cNvPr id="146" name="Picture 9" descr="micro"/>
              <p:cNvPicPr/>
              <p:nvPr/>
            </p:nvPicPr>
            <p:blipFill>
              <a:blip r:embed="rId4"/>
              <a:stretch/>
            </p:blipFill>
            <p:spPr>
              <a:xfrm>
                <a:off x="723960" y="4114800"/>
                <a:ext cx="2400120" cy="24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0"/>
              <p:cNvSpPr/>
              <p:nvPr/>
            </p:nvSpPr>
            <p:spPr>
              <a:xfrm>
                <a:off x="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Escala Laborator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11"/>
            <p:cNvSpPr/>
            <p:nvPr/>
          </p:nvSpPr>
          <p:spPr>
            <a:xfrm>
              <a:off x="3048120" y="4724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Diferentes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s-E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esca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57200" y="533520"/>
            <a:ext cx="52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íón v/s 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la suspensión se encuentra detenida los sólidos más densos comienzan a decantar 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La acción de la fuerza de gravedad, proceso llamado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campo centrífugo  el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lama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sedimentation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1860480"/>
          </a:xfrm>
          <a:prstGeom prst="rect">
            <a:avLst/>
          </a:prstGeom>
          <a:ln w="0">
            <a:noFill/>
          </a:ln>
        </p:spPr>
      </p:pic>
      <p:sp>
        <p:nvSpPr>
          <p:cNvPr id="151" name="Line 4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4008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33520" y="46483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utiliza la centrifugación l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ferencia entre la densidad los sólid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élulas o partículas) y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l caldo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se incrementa por la acción de la fuerza centrífugas que se generan por las altas velocidades de rotación de los equipos. El proceso de separación es más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80880" y="259092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s de Centrifu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457200" y="304920"/>
          <a:ext cx="31622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1622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4800600" y="380880"/>
          <a:ext cx="229536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22953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4"/>
          <p:cNvGraphicFramePr/>
          <p:nvPr/>
        </p:nvGraphicFramePr>
        <p:xfrm>
          <a:off x="1447920" y="3429000"/>
          <a:ext cx="5467320" cy="23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54673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5"/>
          <p:cNvSpPr/>
          <p:nvPr/>
        </p:nvSpPr>
        <p:spPr>
          <a:xfrm>
            <a:off x="28195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Tipo Tu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1600200" y="380880"/>
          <a:ext cx="583092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83092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"/>
          <p:cNvGraphicFramePr/>
          <p:nvPr/>
        </p:nvGraphicFramePr>
        <p:xfrm>
          <a:off x="2590920" y="4038480"/>
          <a:ext cx="401004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40100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32004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De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0"/>
          <p:cNvGraphicFramePr/>
          <p:nvPr/>
        </p:nvGraphicFramePr>
        <p:xfrm>
          <a:off x="533520" y="1447920"/>
          <a:ext cx="792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92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685800" y="1523880"/>
          <a:ext cx="8072280" cy="35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22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a materia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457200" y="958680"/>
          <a:ext cx="807732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80773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¿Cuáles son las etapas en las cuales hay una Separación Sólido-Líqui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04920" y="457200"/>
            <a:ext cx="693396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ON DE SO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partícula al moverse en un medio continuo e infinito se ve afectada por 2 fuer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Fl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partícula es acelerada por la fuerza de flotación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que es la resultante de la diferencia de densidades entre la partícula y el fluido (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 Según Newton (suponiendo partículas esféricas)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467480" y="1143000"/>
            <a:ext cx="1143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7794720" y="1866960"/>
            <a:ext cx="16344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7958160" y="20480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 flipV="1">
            <a:off x="7794720" y="15048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7848720" y="1295280"/>
            <a:ext cx="7286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8001000" y="2057400"/>
            <a:ext cx="490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380880" y="4876920"/>
            <a:ext cx="8305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 partícula y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celeración del campo al cual está sometido la partícul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1828800" y="4038480"/>
                <a:ext cx="4114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Text Box 12"/>
          <p:cNvSpPr/>
          <p:nvPr/>
        </p:nvSpPr>
        <p:spPr>
          <a:xfrm>
            <a:off x="70866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304920" y="457200"/>
            <a:ext cx="69339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 otra parte, la partícula al moverse se ve retardada por la fuerza de roce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que se opone al movimiento. Según la Ley de Stok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7315200" y="1600200"/>
            <a:ext cx="1143000" cy="1447920"/>
            <a:chOff x="7315200" y="1600200"/>
            <a:chExt cx="1143000" cy="1447920"/>
          </a:xfrm>
        </p:grpSpPr>
        <p:sp>
          <p:nvSpPr>
            <p:cNvPr id="189" name="Rectangle 4"/>
            <p:cNvSpPr/>
            <p:nvPr/>
          </p:nvSpPr>
          <p:spPr>
            <a:xfrm>
              <a:off x="7315200" y="16002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5"/>
            <p:cNvSpPr/>
            <p:nvPr/>
          </p:nvSpPr>
          <p:spPr>
            <a:xfrm>
              <a:off x="7641720" y="2324160"/>
              <a:ext cx="163080" cy="18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7804800" y="25052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 flipV="1">
              <a:off x="7641720" y="196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7804800" y="196200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7968240" y="250524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10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1981080" y="2057400"/>
            <a:ext cx="3886200" cy="459720"/>
            <a:chOff x="1981080" y="2057400"/>
            <a:chExt cx="3886200" cy="459720"/>
          </a:xfrm>
        </p:grpSpPr>
        <mc:AlternateContent>
          <mc:Choice xmlns:a14="http://schemas.microsoft.com/office/drawing/2010/main" Requires="a14">
            <p:sp>
              <p:nvSpPr>
                <p:cNvPr id="197" name="Object 12"/>
                <p:cNvSpPr txBox="1"/>
                <p:nvPr/>
              </p:nvSpPr>
              <p:spPr>
                <a:xfrm>
                  <a:off x="1981080" y="2057400"/>
                  <a:ext cx="2266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Text Box 13"/>
            <p:cNvSpPr/>
            <p:nvPr/>
          </p:nvSpPr>
          <p:spPr>
            <a:xfrm>
              <a:off x="518148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1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535680" y="2286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685800" y="274320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 viscosidad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velocidad de la part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15"/>
          <p:cNvGrpSpPr/>
          <p:nvPr/>
        </p:nvGrpSpPr>
        <p:grpSpPr>
          <a:xfrm>
            <a:off x="380880" y="685800"/>
            <a:ext cx="8077320" cy="3197520"/>
            <a:chOff x="380880" y="685800"/>
            <a:chExt cx="8077320" cy="3197520"/>
          </a:xfrm>
        </p:grpSpPr>
        <p:sp>
          <p:nvSpPr>
            <p:cNvPr id="205" name="Rectangle 16"/>
            <p:cNvSpPr/>
            <p:nvPr/>
          </p:nvSpPr>
          <p:spPr>
            <a:xfrm>
              <a:off x="380880" y="685800"/>
              <a:ext cx="807732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ebido a estas 2 fuerzas, cuando el sistema alcance el equilibrio, la partícula se moverá a una velocidad constante, igual a la velocidad terminal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D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       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stas condiciones se cumplen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asi siempre se cumple en sistemas  biológicos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7"/>
                <p:cNvSpPr txBox="1"/>
                <p:nvPr/>
              </p:nvSpPr>
              <p:spPr>
                <a:xfrm>
                  <a:off x="6477120" y="2606400"/>
                  <a:ext cx="167616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⋅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7" name="Group 24"/>
          <p:cNvGrpSpPr/>
          <p:nvPr/>
        </p:nvGrpSpPr>
        <p:grpSpPr>
          <a:xfrm>
            <a:off x="457200" y="4121280"/>
            <a:ext cx="8077320" cy="674640"/>
            <a:chOff x="457200" y="4121280"/>
            <a:chExt cx="8077320" cy="674640"/>
          </a:xfrm>
        </p:grpSpPr>
        <mc:AlternateContent>
          <mc:Choice xmlns:a14="http://schemas.microsoft.com/office/drawing/2010/main" Requires="a14">
            <p:sp>
              <p:nvSpPr>
                <p:cNvPr id="208" name="Object 20"/>
                <p:cNvSpPr txBox="1"/>
                <p:nvPr/>
              </p:nvSpPr>
              <p:spPr>
                <a:xfrm>
                  <a:off x="457200" y="4121280"/>
                  <a:ext cx="4267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09" name="Group 21"/>
            <p:cNvGrpSpPr/>
            <p:nvPr/>
          </p:nvGrpSpPr>
          <p:grpSpPr>
            <a:xfrm>
              <a:off x="4648320" y="4267080"/>
              <a:ext cx="3886200" cy="457200"/>
              <a:chOff x="4648320" y="4267080"/>
              <a:chExt cx="3886200" cy="457200"/>
            </a:xfrm>
          </p:grpSpPr>
          <mc:AlternateContent>
            <mc:Choice xmlns:a14="http://schemas.microsoft.com/office/drawing/2010/main" Requires="a14">
              <p:sp>
                <p:nvSpPr>
                  <p:cNvPr id="210" name="Object 22"/>
                  <p:cNvSpPr txBox="1"/>
                  <p:nvPr/>
                </p:nvSpPr>
                <p:spPr>
                  <a:xfrm>
                    <a:off x="4648320" y="4267080"/>
                    <a:ext cx="22669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1" name="Text Box 23"/>
              <p:cNvSpPr/>
              <p:nvPr/>
            </p:nvSpPr>
            <p:spPr>
              <a:xfrm>
                <a:off x="7848720" y="426708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Oval 25"/>
          <p:cNvSpPr/>
          <p:nvPr/>
        </p:nvSpPr>
        <p:spPr>
          <a:xfrm>
            <a:off x="6629400" y="41148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04920" y="457200"/>
            <a:ext cx="693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partir de (3) se puede determinar la velocidad terminal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286000" y="25909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 del campo al cual se encuentre sometid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851040" y="1655640"/>
                <a:ext cx="447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Text Box 8"/>
          <p:cNvSpPr/>
          <p:nvPr/>
        </p:nvSpPr>
        <p:spPr>
          <a:xfrm>
            <a:off x="66294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 flipV="1">
            <a:off x="5029200" y="2209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13"/>
          <p:cNvGrpSpPr/>
          <p:nvPr/>
        </p:nvGrpSpPr>
        <p:grpSpPr>
          <a:xfrm>
            <a:off x="457200" y="3200400"/>
            <a:ext cx="7772400" cy="718920"/>
            <a:chOff x="457200" y="3200400"/>
            <a:chExt cx="7772400" cy="718920"/>
          </a:xfrm>
        </p:grpSpPr>
        <p:sp>
          <p:nvSpPr>
            <p:cNvPr id="225" name="Rectangle 14"/>
            <p:cNvSpPr/>
            <p:nvPr/>
          </p:nvSpPr>
          <p:spPr>
            <a:xfrm>
              <a:off x="457200" y="32767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 u="sng">
                  <a:solidFill>
                    <a:srgbClr val="cc0000"/>
                  </a:solidFill>
                  <a:uFillTx/>
                  <a:latin typeface="Comic Sans MS"/>
                  <a:ea typeface="Times New Roman"/>
                </a:rPr>
                <a:t>Si es campo gravitacional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(sedimentación)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Object 15"/>
                <p:cNvSpPr txBox="1"/>
                <p:nvPr/>
              </p:nvSpPr>
              <p:spPr>
                <a:xfrm>
                  <a:off x="4267080" y="3200400"/>
                  <a:ext cx="2971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g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Text Box 16"/>
            <p:cNvSpPr/>
            <p:nvPr/>
          </p:nvSpPr>
          <p:spPr>
            <a:xfrm>
              <a:off x="75438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7"/>
          <p:cNvGrpSpPr/>
          <p:nvPr/>
        </p:nvGrpSpPr>
        <p:grpSpPr>
          <a:xfrm>
            <a:off x="1066680" y="4572000"/>
            <a:ext cx="7162920" cy="789120"/>
            <a:chOff x="1066680" y="4572000"/>
            <a:chExt cx="7162920" cy="789120"/>
          </a:xfrm>
        </p:grpSpPr>
        <mc:AlternateContent>
          <mc:Choice xmlns:a14="http://schemas.microsoft.com/office/drawing/2010/main" Requires="a14">
            <p:sp>
              <p:nvSpPr>
                <p:cNvPr id="229" name="Object 18"/>
                <p:cNvSpPr txBox="1"/>
                <p:nvPr/>
              </p:nvSpPr>
              <p:spPr>
                <a:xfrm>
                  <a:off x="1066680" y="4572000"/>
                  <a:ext cx="52578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b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mor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dimenta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Text Box 19"/>
            <p:cNvSpPr/>
            <p:nvPr/>
          </p:nvSpPr>
          <p:spPr>
            <a:xfrm>
              <a:off x="716292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5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762120" y="762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 1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Sedimentaci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n de  c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é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lulas inmovi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uch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animales son cultivadas en la superficie de micro-esferas Esas esferas (microcarrier) tienen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2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 d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etro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50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.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 Un fermentador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50 litros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es usado para el crecimiento de est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en los microcarrier para producir una vacuna.  Despu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s que l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han crecido, la agitac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es detenida y los microcarrier comienzan a sedimentar.  El estanque tiene una raz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entr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altura y di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etro de 1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l flujo libre de microcarrier tiene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0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a visco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,1 cP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. (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0.011 [g/cm sec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Calcule el tiempo de sedimentac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de estos microcarrier suponiendo que sedimentan a su velocidad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8"/>
          <p:cNvGrpSpPr/>
          <p:nvPr/>
        </p:nvGrpSpPr>
        <p:grpSpPr>
          <a:xfrm>
            <a:off x="304920" y="2666880"/>
            <a:ext cx="8381880" cy="2014200"/>
            <a:chOff x="304920" y="2666880"/>
            <a:chExt cx="8381880" cy="2014200"/>
          </a:xfrm>
        </p:grpSpPr>
        <mc:AlternateContent>
          <mc:Choice xmlns:a14="http://schemas.microsoft.com/office/drawing/2010/main" Requires="a14">
            <p:sp>
              <p:nvSpPr>
                <p:cNvPr id="239" name="Object 9"/>
                <p:cNvSpPr txBox="1"/>
                <p:nvPr/>
              </p:nvSpPr>
              <p:spPr>
                <a:xfrm>
                  <a:off x="4572000" y="3657600"/>
                  <a:ext cx="18939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Rectangle 10"/>
            <p:cNvSpPr/>
            <p:nvPr/>
          </p:nvSpPr>
          <p:spPr>
            <a:xfrm>
              <a:off x="304920" y="2666880"/>
              <a:ext cx="8381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o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 :  radio desde el centro de la centrífuga a la posición donde se encuentra la partíc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: velocidad angular de ro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: revoluciones por min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11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i es un campo centrífug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3"/>
              <p:cNvSpPr txBox="1"/>
              <p:nvPr/>
            </p:nvSpPr>
            <p:spPr>
              <a:xfrm>
                <a:off x="3043080" y="1449360"/>
                <a:ext cx="2845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14"/>
          <p:cNvSpPr/>
          <p:nvPr/>
        </p:nvSpPr>
        <p:spPr>
          <a:xfrm>
            <a:off x="6408720" y="1487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5"/>
          <p:cNvGrpSpPr/>
          <p:nvPr/>
        </p:nvGrpSpPr>
        <p:grpSpPr>
          <a:xfrm>
            <a:off x="1965240" y="4952880"/>
            <a:ext cx="6721560" cy="830520"/>
            <a:chOff x="1965240" y="4952880"/>
            <a:chExt cx="6721560" cy="830520"/>
          </a:xfrm>
        </p:grpSpPr>
        <mc:AlternateContent>
          <mc:Choice xmlns:a14="http://schemas.microsoft.com/office/drawing/2010/main" Requires="a14">
            <p:sp>
              <p:nvSpPr>
                <p:cNvPr id="245" name="Object 16"/>
                <p:cNvSpPr txBox="1"/>
                <p:nvPr/>
              </p:nvSpPr>
              <p:spPr>
                <a:xfrm>
                  <a:off x="1965240" y="4995720"/>
                  <a:ext cx="513576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 que se debe 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 que demora en recorrerl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Text Box 17"/>
            <p:cNvSpPr/>
            <p:nvPr/>
          </p:nvSpPr>
          <p:spPr>
            <a:xfrm>
              <a:off x="7848720" y="495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6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04920" y="457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correlacionar las 2 velocidades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1"/>
              <p:cNvSpPr txBox="1"/>
              <p:nvPr/>
            </p:nvSpPr>
            <p:spPr>
              <a:xfrm>
                <a:off x="3352680" y="1295280"/>
                <a:ext cx="2819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45720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actor “G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Distinto a la eficiencia granulométr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fine el 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actor “G”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racterización y escalamiento de centrífugas es una medida relativa de  la velocidad de sedimentación de una partícula en un campo centrífugo con respecto a su gravit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mente las condiciones de operación de definen en función de los “G” que se deben aplic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2"/>
              <p:cNvSpPr txBox="1"/>
              <p:nvPr/>
            </p:nvSpPr>
            <p:spPr>
              <a:xfrm>
                <a:off x="3505320" y="3124080"/>
                <a:ext cx="2286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57200" y="2057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914400" y="1143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DE BOTELLA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6"/>
              <p:cNvSpPr txBox="1"/>
              <p:nvPr/>
            </p:nvSpPr>
            <p:spPr>
              <a:xfrm>
                <a:off x="457200" y="2666880"/>
                <a:ext cx="5497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4" name="Group 17"/>
          <p:cNvGrpSpPr/>
          <p:nvPr/>
        </p:nvGrpSpPr>
        <p:grpSpPr>
          <a:xfrm>
            <a:off x="1523880" y="2666880"/>
            <a:ext cx="4496040" cy="914400"/>
            <a:chOff x="1523880" y="2666880"/>
            <a:chExt cx="4496040" cy="914400"/>
          </a:xfrm>
        </p:grpSpPr>
        <p:sp>
          <p:nvSpPr>
            <p:cNvPr id="285" name="Rectangle 18"/>
            <p:cNvSpPr/>
            <p:nvPr/>
          </p:nvSpPr>
          <p:spPr>
            <a:xfrm>
              <a:off x="1523880" y="2666880"/>
              <a:ext cx="45720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9"/>
            <p:cNvSpPr/>
            <p:nvPr/>
          </p:nvSpPr>
          <p:spPr>
            <a:xfrm>
              <a:off x="4648320" y="2666880"/>
              <a:ext cx="1371600" cy="914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7" name="Object 20"/>
              <p:cNvSpPr txBox="1"/>
              <p:nvPr/>
            </p:nvSpPr>
            <p:spPr>
              <a:xfrm>
                <a:off x="1066680" y="3962520"/>
                <a:ext cx="2743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1"/>
              <p:cNvSpPr txBox="1"/>
              <p:nvPr/>
            </p:nvSpPr>
            <p:spPr>
              <a:xfrm>
                <a:off x="2057400" y="5410080"/>
                <a:ext cx="29145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Rectangle 22"/>
          <p:cNvSpPr/>
          <p:nvPr/>
        </p:nvSpPr>
        <p:spPr>
          <a:xfrm>
            <a:off x="228600" y="5105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6172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4572000" y="4267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7" descr=""/>
          <p:cNvPicPr/>
          <p:nvPr/>
        </p:nvPicPr>
        <p:blipFill>
          <a:blip r:embed="rId1"/>
          <a:stretch/>
        </p:blipFill>
        <p:spPr>
          <a:xfrm>
            <a:off x="6364440" y="533520"/>
            <a:ext cx="2779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762120" y="380880"/>
            <a:ext cx="815328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 2 Centrifugaci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n discontinua de C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é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lulas de lev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, que utiliza  botellas, es usada para colectar 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levadura luego de una fermen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.  Durante la centrifug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la distancia entre la superficie del 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quido y el eje de ro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(eje axial)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la distancia entre el fondo del cilindro al eje axial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0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levadura se pueden asumir como par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culas esf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icas con un d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etro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8.0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densidad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5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El fluido tiene propiedades similares al agua p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 Densidad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0 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viscosidad de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0.01 g/cm sec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 centrifuga es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operando 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500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termine el tiempo que toma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una separ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completa de las levadura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45" name="Rectangle 1027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1028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029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030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031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32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33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034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035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036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037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38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039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040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041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042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43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044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045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046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047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048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049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50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051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052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053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054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055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1056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57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58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59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60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61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062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63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64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065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E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457200" y="2057400"/>
            <a:ext cx="4800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z 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“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TUBULAR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6"/>
              <p:cNvSpPr txBox="1"/>
              <p:nvPr/>
            </p:nvSpPr>
            <p:spPr>
              <a:xfrm>
                <a:off x="685800" y="3276720"/>
                <a:ext cx="331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10" name="Object 21"/>
          <p:cNvGraphicFramePr/>
          <p:nvPr/>
        </p:nvGraphicFramePr>
        <p:xfrm>
          <a:off x="5486400" y="762120"/>
          <a:ext cx="352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762120"/>
                    <a:ext cx="352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33520" y="533520"/>
            <a:ext cx="74674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radial “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El movimiento comb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5"/>
              <p:cNvSpPr txBox="1"/>
              <p:nvPr/>
            </p:nvSpPr>
            <p:spPr>
              <a:xfrm>
                <a:off x="1165320" y="1374840"/>
                <a:ext cx="531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Rectangle 16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17"/>
              <p:cNvSpPr txBox="1"/>
              <p:nvPr/>
            </p:nvSpPr>
            <p:spPr>
              <a:xfrm>
                <a:off x="1676520" y="4648320"/>
                <a:ext cx="4257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18"/>
          <p:cNvSpPr/>
          <p:nvPr/>
        </p:nvSpPr>
        <p:spPr>
          <a:xfrm>
            <a:off x="739152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33520" y="533520"/>
            <a:ext cx="746748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los valores de v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g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Q dependerá la posición  de la partícula en la centrífu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un flujo óptimo para que una partícula que ingresa por el centro, sólo se pegue a la pared al final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 =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R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una centrífuga tubular: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17"/>
              <p:cNvSpPr txBox="1"/>
              <p:nvPr/>
            </p:nvSpPr>
            <p:spPr>
              <a:xfrm>
                <a:off x="1852560" y="5065560"/>
                <a:ext cx="2795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45" name="Object 19"/>
          <p:cNvGraphicFramePr/>
          <p:nvPr/>
        </p:nvGraphicFramePr>
        <p:xfrm>
          <a:off x="6095880" y="2438280"/>
          <a:ext cx="30481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38280"/>
                    <a:ext cx="3048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533520" y="533520"/>
            <a:ext cx="830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icand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 de una centrífuga tubul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6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29336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18"/>
              <p:cNvSpPr txBox="1"/>
              <p:nvPr/>
            </p:nvSpPr>
            <p:spPr>
              <a:xfrm>
                <a:off x="2886120" y="979560"/>
                <a:ext cx="4324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               donde   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19"/>
          <p:cNvSpPr/>
          <p:nvPr/>
        </p:nvSpPr>
        <p:spPr>
          <a:xfrm>
            <a:off x="31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20"/>
              <p:cNvSpPr txBox="1"/>
              <p:nvPr/>
            </p:nvSpPr>
            <p:spPr>
              <a:xfrm>
                <a:off x="1206360" y="3386160"/>
                <a:ext cx="4318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buL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Line 21"/>
          <p:cNvSpPr/>
          <p:nvPr/>
        </p:nvSpPr>
        <p:spPr>
          <a:xfrm flipV="1">
            <a:off x="762120" y="3962160"/>
            <a:ext cx="53316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22"/>
          <p:cNvSpPr/>
          <p:nvPr/>
        </p:nvSpPr>
        <p:spPr>
          <a:xfrm flipV="1">
            <a:off x="1752480" y="411444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3"/>
          <p:cNvSpPr/>
          <p:nvPr/>
        </p:nvSpPr>
        <p:spPr>
          <a:xfrm flipH="1" flipV="1">
            <a:off x="3504960" y="4266720"/>
            <a:ext cx="114300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24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5"/>
          <p:cNvSpPr/>
          <p:nvPr/>
        </p:nvSpPr>
        <p:spPr>
          <a:xfrm>
            <a:off x="609480" y="4844880"/>
            <a:ext cx="8534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ística de la centrífuga y condiciones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ámetr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ujo    Función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457200" y="2057400"/>
            <a:ext cx="45720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 análisis análogo para centrífugas de disco se tiene como ecuación de  diseño: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Número de discos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ás detalles ver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ENTRIFUGA DE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4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15"/>
              <p:cNvSpPr txBox="1"/>
              <p:nvPr/>
            </p:nvSpPr>
            <p:spPr>
              <a:xfrm>
                <a:off x="817560" y="3222720"/>
                <a:ext cx="5672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Oval 16"/>
          <p:cNvSpPr/>
          <p:nvPr/>
        </p:nvSpPr>
        <p:spPr>
          <a:xfrm>
            <a:off x="5638680" y="32767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17"/>
          <p:cNvGraphicFramePr/>
          <p:nvPr/>
        </p:nvGraphicFramePr>
        <p:xfrm>
          <a:off x="6114960" y="838080"/>
          <a:ext cx="302904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838080"/>
                    <a:ext cx="30290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 Box 18"/>
          <p:cNvSpPr/>
          <p:nvPr/>
        </p:nvSpPr>
        <p:spPr>
          <a:xfrm>
            <a:off x="74674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533520" y="5791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lter P., Cussler E.L. and Hu Wei Shou "Bioseparations : Dowstream Process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228600" y="380880"/>
            <a:ext cx="8686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3 Centrifuga continua de Disco para </a:t>
            </a:r>
            <a:r>
              <a:rPr b="1" i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Chlo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de </a:t>
            </a:r>
            <a:r>
              <a:rPr b="0" i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lorella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han sido cultivadas en un estanque abierto, 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se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 cosechadas h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dolas pasar a trav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 de un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de d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velocidad de sedimen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 de est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 ha sido medida y es de 1.07 x 10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4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cm/s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tiene 80 discos con u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gulo de 40°, el radio externo es 15,7 cm y el d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etro interno de 6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e planea operar l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a 6000 r/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a cantidad de flujo que puede ser procesado en est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304920" y="380880"/>
            <a:ext cx="8534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Escalamiento de Centrifu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diseño de centrífugas a gran escala involucra el uso de información de laboratorio para predecir el comportamiento de las centrífug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que se pueden utilizar para tratar de adaptar los procesos de laboratorio a gran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Métodos Cual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"/>
          <p:cNvSpPr/>
          <p:nvPr/>
        </p:nvSpPr>
        <p:spPr>
          <a:xfrm>
            <a:off x="228600" y="9144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 Métodos cualitativo   (Estimación Gru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ablece un coeficiente de dificultad que tiene una separación dada para lo cual se calcula un coeficiente entre “G” y el tiempo aplicad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ie, “G 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14"/>
              <p:cNvSpPr txBox="1"/>
              <p:nvPr/>
            </p:nvSpPr>
            <p:spPr>
              <a:xfrm>
                <a:off x="2192400" y="2803680"/>
                <a:ext cx="2717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 Box 15"/>
          <p:cNvSpPr/>
          <p:nvPr/>
        </p:nvSpPr>
        <p:spPr>
          <a:xfrm>
            <a:off x="380880" y="4343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: radio característico o máximo de la centrí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7315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228600" y="45720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n valores característico para cada variedad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            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ec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eucarion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oplast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echos células eucario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úcleo de célula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ínas precipitada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tocond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echos 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4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Lis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Rib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Poli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</a:t>
            </a:r>
            <a:r>
              <a:rPr b="0" lang="es-E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 gran escala se debe mantener el mismo valor de “G t”, para ello se determina “G” o “t” y se selecciona que equipo puede ser útil</a:t>
            </a:r>
            <a:r>
              <a:rPr b="0" lang="es-ES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4"/>
          <p:cNvSpPr/>
          <p:nvPr/>
        </p:nvSpPr>
        <p:spPr>
          <a:xfrm>
            <a:off x="304920" y="228600"/>
            <a:ext cx="8534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ada tipo de centrífuga se define según una ecu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omparar 2 centrífugas de diferente tipo se deben considerar factores de eficiencia y se debe cumpl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cia, 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da tipo de centrífuga,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po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ficiencia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ellas (lab)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ubular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o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5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0"/>
              <p:cNvSpPr txBox="1"/>
              <p:nvPr/>
            </p:nvSpPr>
            <p:spPr>
              <a:xfrm>
                <a:off x="2585880" y="1542960"/>
                <a:ext cx="31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po 1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7" name="Rectangle 17"/>
          <p:cNvSpPr/>
          <p:nvPr/>
        </p:nvSpPr>
        <p:spPr>
          <a:xfrm>
            <a:off x="37339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1"/>
              <p:cNvSpPr txBox="1"/>
              <p:nvPr/>
            </p:nvSpPr>
            <p:spPr>
              <a:xfrm>
                <a:off x="2590920" y="32767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9" name="Text Box 19"/>
          <p:cNvSpPr/>
          <p:nvPr/>
        </p:nvSpPr>
        <p:spPr>
          <a:xfrm>
            <a:off x="7543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20"/>
          <p:cNvSpPr/>
          <p:nvPr/>
        </p:nvSpPr>
        <p:spPr>
          <a:xfrm>
            <a:off x="7467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026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85" name="Rectangle 1027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028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029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030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031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032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033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034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035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036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37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1038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039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040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041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042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043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044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045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046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047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048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049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050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051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052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053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054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055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056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057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058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059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060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061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062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063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064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065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066"/>
          <p:cNvGrpSpPr/>
          <p:nvPr/>
        </p:nvGrpSpPr>
        <p:grpSpPr>
          <a:xfrm>
            <a:off x="533520" y="762120"/>
            <a:ext cx="6553080" cy="4419360"/>
            <a:chOff x="533520" y="762120"/>
            <a:chExt cx="6553080" cy="4419360"/>
          </a:xfrm>
        </p:grpSpPr>
        <p:sp>
          <p:nvSpPr>
            <p:cNvPr id="125" name="Oval 1067"/>
            <p:cNvSpPr/>
            <p:nvPr/>
          </p:nvSpPr>
          <p:spPr>
            <a:xfrm>
              <a:off x="2057400" y="7621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068"/>
            <p:cNvSpPr/>
            <p:nvPr/>
          </p:nvSpPr>
          <p:spPr>
            <a:xfrm>
              <a:off x="609480" y="20574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069"/>
            <p:cNvSpPr/>
            <p:nvPr/>
          </p:nvSpPr>
          <p:spPr>
            <a:xfrm>
              <a:off x="3429000" y="41148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070"/>
            <p:cNvSpPr/>
            <p:nvPr/>
          </p:nvSpPr>
          <p:spPr>
            <a:xfrm>
              <a:off x="533520" y="37339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228600" y="380880"/>
            <a:ext cx="86868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4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han realizado pruebas de laboratorio para definir el pa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etro de escalamiento para el procesamiento de un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con material celular. En el experimento se procesaron 3.3 [lt/min] de un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de c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</a:t>
            </a:r>
            <a:r>
              <a:rPr b="0" i="1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.coli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, en una centrifuga tubular de 12.7 [cm] de radio interno y 73 [cm] de largo. Se utiliz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una velocidad de rotac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de 16000 r.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requiere seleccionar una cent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 para procesar 800 [lt/hr] de la mism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antes mencionada. Para ello se cuenta con las siguientes alternativas de cent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s de disco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533520" y="3657600"/>
            <a:ext cx="8228880" cy="2971800"/>
            <a:chOff x="533520" y="3657600"/>
            <a:chExt cx="8228880" cy="2971800"/>
          </a:xfrm>
        </p:grpSpPr>
        <p:sp>
          <p:nvSpPr>
            <p:cNvPr id="463" name="Rectangle 4"/>
            <p:cNvSpPr/>
            <p:nvPr/>
          </p:nvSpPr>
          <p:spPr>
            <a:xfrm>
              <a:off x="585720" y="420480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º de d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5"/>
            <p:cNvSpPr/>
            <p:nvPr/>
          </p:nvSpPr>
          <p:spPr>
            <a:xfrm>
              <a:off x="3615840" y="420480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5075280" y="420480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6455880" y="420480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8"/>
            <p:cNvSpPr/>
            <p:nvPr/>
          </p:nvSpPr>
          <p:spPr>
            <a:xfrm>
              <a:off x="585720" y="459576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ex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9"/>
            <p:cNvSpPr/>
            <p:nvPr/>
          </p:nvSpPr>
          <p:spPr>
            <a:xfrm>
              <a:off x="3615840" y="459576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5075280" y="459576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11"/>
            <p:cNvSpPr/>
            <p:nvPr/>
          </p:nvSpPr>
          <p:spPr>
            <a:xfrm>
              <a:off x="6455880" y="459576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12"/>
            <p:cNvSpPr/>
            <p:nvPr/>
          </p:nvSpPr>
          <p:spPr>
            <a:xfrm>
              <a:off x="585720" y="4987080"/>
              <a:ext cx="3030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in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13"/>
            <p:cNvSpPr/>
            <p:nvPr/>
          </p:nvSpPr>
          <p:spPr>
            <a:xfrm>
              <a:off x="3615840" y="4987080"/>
              <a:ext cx="1459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14"/>
            <p:cNvSpPr/>
            <p:nvPr/>
          </p:nvSpPr>
          <p:spPr>
            <a:xfrm>
              <a:off x="5075280" y="4987080"/>
              <a:ext cx="1380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15"/>
            <p:cNvSpPr/>
            <p:nvPr/>
          </p:nvSpPr>
          <p:spPr>
            <a:xfrm>
              <a:off x="6455880" y="4987080"/>
              <a:ext cx="194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16"/>
            <p:cNvSpPr/>
            <p:nvPr/>
          </p:nvSpPr>
          <p:spPr>
            <a:xfrm>
              <a:off x="585720" y="537804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ngulo [º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17"/>
            <p:cNvSpPr/>
            <p:nvPr/>
          </p:nvSpPr>
          <p:spPr>
            <a:xfrm>
              <a:off x="3615840" y="537804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18"/>
            <p:cNvSpPr/>
            <p:nvPr/>
          </p:nvSpPr>
          <p:spPr>
            <a:xfrm>
              <a:off x="5075280" y="537804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19"/>
            <p:cNvSpPr/>
            <p:nvPr/>
          </p:nvSpPr>
          <p:spPr>
            <a:xfrm>
              <a:off x="6455880" y="537804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20"/>
            <p:cNvSpPr/>
            <p:nvPr/>
          </p:nvSpPr>
          <p:spPr>
            <a:xfrm>
              <a:off x="585720" y="5769000"/>
              <a:ext cx="30301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locidad máxima</a:t>
              </a:r>
              <a:br>
                <a:rPr sz="2000"/>
              </a:b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tación [r.p.m.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21"/>
            <p:cNvSpPr/>
            <p:nvPr/>
          </p:nvSpPr>
          <p:spPr>
            <a:xfrm>
              <a:off x="3615840" y="5769000"/>
              <a:ext cx="14590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22"/>
            <p:cNvSpPr/>
            <p:nvPr/>
          </p:nvSpPr>
          <p:spPr>
            <a:xfrm>
              <a:off x="5075280" y="5769000"/>
              <a:ext cx="13802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3"/>
            <p:cNvSpPr/>
            <p:nvPr/>
          </p:nvSpPr>
          <p:spPr>
            <a:xfrm>
              <a:off x="6455880" y="5769000"/>
              <a:ext cx="1940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Group 24"/>
            <p:cNvGrpSpPr/>
            <p:nvPr/>
          </p:nvGrpSpPr>
          <p:grpSpPr>
            <a:xfrm>
              <a:off x="533520" y="3657600"/>
              <a:ext cx="3134880" cy="547200"/>
              <a:chOff x="533520" y="3657600"/>
              <a:chExt cx="3134880" cy="547200"/>
            </a:xfrm>
          </p:grpSpPr>
          <p:sp>
            <p:nvSpPr>
              <p:cNvPr id="484" name="Rectangle 25"/>
              <p:cNvSpPr/>
              <p:nvPr/>
            </p:nvSpPr>
            <p:spPr>
              <a:xfrm>
                <a:off x="533520" y="3657600"/>
                <a:ext cx="31348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5" name="Group 26"/>
              <p:cNvGrpSpPr/>
              <p:nvPr/>
            </p:nvGrpSpPr>
            <p:grpSpPr>
              <a:xfrm>
                <a:off x="533520" y="3657600"/>
                <a:ext cx="3134520" cy="547200"/>
                <a:chOff x="533520" y="3657600"/>
                <a:chExt cx="3134520" cy="547200"/>
              </a:xfrm>
            </p:grpSpPr>
            <p:sp>
              <p:nvSpPr>
                <p:cNvPr id="486" name="Rectangle 27"/>
                <p:cNvSpPr/>
                <p:nvPr/>
              </p:nvSpPr>
              <p:spPr>
                <a:xfrm>
                  <a:off x="585720" y="3657600"/>
                  <a:ext cx="302976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pie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Rectangle 28"/>
                <p:cNvSpPr/>
                <p:nvPr/>
              </p:nvSpPr>
              <p:spPr>
                <a:xfrm>
                  <a:off x="533520" y="3657600"/>
                  <a:ext cx="3134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" name="Group 29"/>
            <p:cNvGrpSpPr/>
            <p:nvPr/>
          </p:nvGrpSpPr>
          <p:grpSpPr>
            <a:xfrm>
              <a:off x="3668760" y="3657600"/>
              <a:ext cx="1563480" cy="547200"/>
              <a:chOff x="3668760" y="3657600"/>
              <a:chExt cx="1563480" cy="547200"/>
            </a:xfrm>
          </p:grpSpPr>
          <p:sp>
            <p:nvSpPr>
              <p:cNvPr id="489" name="Rectangle 30"/>
              <p:cNvSpPr/>
              <p:nvPr/>
            </p:nvSpPr>
            <p:spPr>
              <a:xfrm>
                <a:off x="3668760" y="3657600"/>
                <a:ext cx="15634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Group 31"/>
              <p:cNvGrpSpPr/>
              <p:nvPr/>
            </p:nvGrpSpPr>
            <p:grpSpPr>
              <a:xfrm>
                <a:off x="3668760" y="3657600"/>
                <a:ext cx="1563120" cy="547200"/>
                <a:chOff x="3668760" y="3657600"/>
                <a:chExt cx="1563120" cy="547200"/>
              </a:xfrm>
            </p:grpSpPr>
            <p:sp>
              <p:nvSpPr>
                <p:cNvPr id="491" name="Rectangle 32"/>
                <p:cNvSpPr/>
                <p:nvPr/>
              </p:nvSpPr>
              <p:spPr>
                <a:xfrm>
                  <a:off x="3720960" y="3657600"/>
                  <a:ext cx="14587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Rectangle 33"/>
                <p:cNvSpPr/>
                <p:nvPr/>
              </p:nvSpPr>
              <p:spPr>
                <a:xfrm>
                  <a:off x="3668760" y="3657600"/>
                  <a:ext cx="15631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Group 34"/>
            <p:cNvGrpSpPr/>
            <p:nvPr/>
          </p:nvGrpSpPr>
          <p:grpSpPr>
            <a:xfrm>
              <a:off x="5232600" y="3657600"/>
              <a:ext cx="1484640" cy="547200"/>
              <a:chOff x="5232600" y="3657600"/>
              <a:chExt cx="1484640" cy="547200"/>
            </a:xfrm>
          </p:grpSpPr>
          <p:sp>
            <p:nvSpPr>
              <p:cNvPr id="494" name="Rectangle 35"/>
              <p:cNvSpPr/>
              <p:nvPr/>
            </p:nvSpPr>
            <p:spPr>
              <a:xfrm>
                <a:off x="5232600" y="3657600"/>
                <a:ext cx="14846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Group 36"/>
              <p:cNvGrpSpPr/>
              <p:nvPr/>
            </p:nvGrpSpPr>
            <p:grpSpPr>
              <a:xfrm>
                <a:off x="5232600" y="3657600"/>
                <a:ext cx="1484280" cy="547200"/>
                <a:chOff x="5232600" y="3657600"/>
                <a:chExt cx="1484280" cy="547200"/>
              </a:xfrm>
            </p:grpSpPr>
            <p:sp>
              <p:nvSpPr>
                <p:cNvPr id="496" name="Rectangle 37"/>
                <p:cNvSpPr/>
                <p:nvPr/>
              </p:nvSpPr>
              <p:spPr>
                <a:xfrm>
                  <a:off x="5284800" y="3657600"/>
                  <a:ext cx="13795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Rectangle 38"/>
                <p:cNvSpPr/>
                <p:nvPr/>
              </p:nvSpPr>
              <p:spPr>
                <a:xfrm>
                  <a:off x="5232600" y="3657600"/>
                  <a:ext cx="14842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Group 39"/>
            <p:cNvGrpSpPr/>
            <p:nvPr/>
          </p:nvGrpSpPr>
          <p:grpSpPr>
            <a:xfrm>
              <a:off x="6717960" y="3657600"/>
              <a:ext cx="2044440" cy="547200"/>
              <a:chOff x="6717960" y="3657600"/>
              <a:chExt cx="2044440" cy="547200"/>
            </a:xfrm>
          </p:grpSpPr>
          <p:sp>
            <p:nvSpPr>
              <p:cNvPr id="499" name="Rectangle 40"/>
              <p:cNvSpPr/>
              <p:nvPr/>
            </p:nvSpPr>
            <p:spPr>
              <a:xfrm>
                <a:off x="6717960" y="3657600"/>
                <a:ext cx="20444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Group 41"/>
              <p:cNvGrpSpPr/>
              <p:nvPr/>
            </p:nvGrpSpPr>
            <p:grpSpPr>
              <a:xfrm>
                <a:off x="6717960" y="3657600"/>
                <a:ext cx="2044080" cy="547200"/>
                <a:chOff x="6717960" y="3657600"/>
                <a:chExt cx="2044080" cy="547200"/>
              </a:xfrm>
            </p:grpSpPr>
            <p:sp>
              <p:nvSpPr>
                <p:cNvPr id="501" name="Rectangle 42"/>
                <p:cNvSpPr/>
                <p:nvPr/>
              </p:nvSpPr>
              <p:spPr>
                <a:xfrm>
                  <a:off x="6770160" y="3657600"/>
                  <a:ext cx="193968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Rectangle 43"/>
                <p:cNvSpPr/>
                <p:nvPr/>
              </p:nvSpPr>
              <p:spPr>
                <a:xfrm>
                  <a:off x="6717960" y="3657600"/>
                  <a:ext cx="20440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Group 44"/>
            <p:cNvGrpSpPr/>
            <p:nvPr/>
          </p:nvGrpSpPr>
          <p:grpSpPr>
            <a:xfrm>
              <a:off x="533520" y="6316560"/>
              <a:ext cx="3134880" cy="312840"/>
              <a:chOff x="533520" y="6316560"/>
              <a:chExt cx="3134880" cy="312840"/>
            </a:xfrm>
          </p:grpSpPr>
          <p:sp>
            <p:nvSpPr>
              <p:cNvPr id="504" name="Rectangle 45"/>
              <p:cNvSpPr/>
              <p:nvPr/>
            </p:nvSpPr>
            <p:spPr>
              <a:xfrm>
                <a:off x="585720" y="6316560"/>
                <a:ext cx="3030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Rectangle 46"/>
              <p:cNvSpPr/>
              <p:nvPr/>
            </p:nvSpPr>
            <p:spPr>
              <a:xfrm>
                <a:off x="533520" y="6316560"/>
                <a:ext cx="31348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47"/>
            <p:cNvGrpSpPr/>
            <p:nvPr/>
          </p:nvGrpSpPr>
          <p:grpSpPr>
            <a:xfrm>
              <a:off x="3668760" y="6316560"/>
              <a:ext cx="1563480" cy="312840"/>
              <a:chOff x="3668760" y="6316560"/>
              <a:chExt cx="1563480" cy="312840"/>
            </a:xfrm>
          </p:grpSpPr>
          <p:sp>
            <p:nvSpPr>
              <p:cNvPr id="507" name="Rectangle 48"/>
              <p:cNvSpPr/>
              <p:nvPr/>
            </p:nvSpPr>
            <p:spPr>
              <a:xfrm>
                <a:off x="3720960" y="6316560"/>
                <a:ext cx="1459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49"/>
              <p:cNvSpPr/>
              <p:nvPr/>
            </p:nvSpPr>
            <p:spPr>
              <a:xfrm>
                <a:off x="3668760" y="6316560"/>
                <a:ext cx="15634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50"/>
            <p:cNvGrpSpPr/>
            <p:nvPr/>
          </p:nvGrpSpPr>
          <p:grpSpPr>
            <a:xfrm>
              <a:off x="5232600" y="6316560"/>
              <a:ext cx="1484640" cy="312840"/>
              <a:chOff x="5232600" y="6316560"/>
              <a:chExt cx="1484640" cy="312840"/>
            </a:xfrm>
          </p:grpSpPr>
          <p:sp>
            <p:nvSpPr>
              <p:cNvPr id="510" name="Rectangle 51"/>
              <p:cNvSpPr/>
              <p:nvPr/>
            </p:nvSpPr>
            <p:spPr>
              <a:xfrm>
                <a:off x="5284800" y="6316560"/>
                <a:ext cx="1379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52"/>
              <p:cNvSpPr/>
              <p:nvPr/>
            </p:nvSpPr>
            <p:spPr>
              <a:xfrm>
                <a:off x="5232600" y="6316560"/>
                <a:ext cx="14846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53"/>
            <p:cNvGrpSpPr/>
            <p:nvPr/>
          </p:nvGrpSpPr>
          <p:grpSpPr>
            <a:xfrm>
              <a:off x="6717960" y="6316560"/>
              <a:ext cx="2044440" cy="312840"/>
              <a:chOff x="6717960" y="6316560"/>
              <a:chExt cx="2044440" cy="312840"/>
            </a:xfrm>
          </p:grpSpPr>
          <p:sp>
            <p:nvSpPr>
              <p:cNvPr id="513" name="Rectangle 54"/>
              <p:cNvSpPr/>
              <p:nvPr/>
            </p:nvSpPr>
            <p:spPr>
              <a:xfrm>
                <a:off x="6770160" y="6316560"/>
                <a:ext cx="1940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Rectangle 55"/>
              <p:cNvSpPr/>
              <p:nvPr/>
            </p:nvSpPr>
            <p:spPr>
              <a:xfrm>
                <a:off x="6717960" y="6316560"/>
                <a:ext cx="20444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533520" y="380880"/>
            <a:ext cx="83818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tencia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potencia consumida por una centrifuga depende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del caudal al tratar Q, de la velocidad angular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y del radi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As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su consumo energ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ico es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Potencia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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Q* 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</a:t>
            </a:r>
            <a:r>
              <a:rPr b="0" i="1" lang="es-ES" sz="2400" spc="-1" strike="noStrike">
                <a:solidFill>
                  <a:srgbClr val="ff0000"/>
                </a:solidFill>
                <a:latin typeface="NewCaledonia-Italic"/>
                <a:ea typeface="Arial"/>
              </a:rPr>
              <a:t>R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NewCaledoni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Donde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es una constante que depende del tipo de centri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228600" y="380880"/>
            <a:ext cx="8686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sto de Centrifu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l valor depende generalmente del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de la centrifuga, 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Object 0"/>
          <p:cNvGraphicFramePr/>
          <p:nvPr/>
        </p:nvGraphicFramePr>
        <p:xfrm>
          <a:off x="304920" y="1812960"/>
          <a:ext cx="8839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2960"/>
                    <a:ext cx="8839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Variaciones en el tiempo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= 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 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/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: precio compr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:  indice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1: base de costeo a tiempo t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2: tiempo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NDICES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emical Eng Plant Cos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arshall &amp; Swif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ost Inde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1888920" y="457200"/>
            <a:ext cx="522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ctualizaci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n de los costos co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457200" y="685800"/>
            <a:ext cx="81532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26"/>
          <p:cNvSpPr/>
          <p:nvPr/>
        </p:nvSpPr>
        <p:spPr>
          <a:xfrm>
            <a:off x="304920" y="49320"/>
            <a:ext cx="838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26"/>
          <p:cNvSpPr/>
          <p:nvPr/>
        </p:nvSpPr>
        <p:spPr>
          <a:xfrm>
            <a:off x="304920" y="49320"/>
            <a:ext cx="838188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04920" y="49320"/>
            <a:ext cx="8381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4920" y="49320"/>
            <a:ext cx="838188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contiene la suspensión proveniente del ferment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o i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gmentos de m.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só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redientes insolubles del medio, i.e gluc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in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líquid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Metabolit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ctos des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os productos 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26"/>
          <p:cNvSpPr/>
          <p:nvPr/>
        </p:nvSpPr>
        <p:spPr>
          <a:xfrm>
            <a:off x="533520" y="3049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 ¿ Cuáles conocen sus ecuaciones de diseñ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Maria Elena Lienqueo</cp:lastModifiedBy>
  <dcterms:modified xsi:type="dcterms:W3CDTF">2009-08-03T02:42:39Z</dcterms:modified>
  <cp:revision>23</cp:revision>
  <dc:subject/>
  <dc:title>Centrifugación    Operación unitaria utilizada para la separación: sólido-líquido    líquido-líquido</dc:title>
</cp:coreProperties>
</file>