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ED5-2F9E-4308-A1F3-3113E6CA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B31-ED98-4CF4-A9D4-1D92FA75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021-1821-4FDB-B3D8-D66550C6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3F3-978F-4C56-8C08-2F12FD52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71D-01A9-4029-B73E-4F46B18A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634-F4E7-44B7-B949-02547DCD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AE9-D153-40B2-97C2-3413E537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13F-5FA6-4E26-815D-E68368C1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246-EF37-4E3D-975A-131483A5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83D-D2D2-40F1-9801-724CF2C9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FAA-9C4E-496C-B07B-732D25D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37E-A0A8-4242-9429-046D0F04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C56B-448E-4581-8955-7542194E995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centrifuga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ógicos, especial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icos y recuperación de productos insolubles (cuerpos inclu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Group 4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42" name="Group 5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43" name="Picture 6" descr="centrifuge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Text Box 7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8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46" name="Picture 9" descr="micro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0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1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s-E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sedimentation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151" name="Line 4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4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5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0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Text Box 12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189" name="Rectangle 4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5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10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197" name="Object 12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Text Box 13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15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05" name="Rectangle 16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7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Group 24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08" name="Object 20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9" name="Group 21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10" name="Object 22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1" name="Text Box 23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Oval 25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Text Box 8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25" name="Rectangle 14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Object 15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Text Box 16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29" name="Object 18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Text Box 19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n de  c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é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en los microcarrier para producir una vacuna.  Despu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s que l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han crecido, la agitac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es detenida y los microcarrier comienzan a sedimentar.  El estanque tiene una raz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39" name="Object 9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Rectangle 10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1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14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5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45" name="Object 16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Text Box 17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1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2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6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4" name="Group 17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285" name="Rectangle 18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9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Object 20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1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22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7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n discontinua de C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é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, que utiliza  botellas, es usada para colectar 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levadura luego de una fermen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.  Durante la centrifug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la distancia entre la superficie del 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quido y el eje de ro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levadura se pueden asumir como par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culas esf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icas con un d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una separ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5" name="Rectangle 1027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1028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029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030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31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32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33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034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035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036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037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38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39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040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041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042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43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044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045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046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47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048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49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50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051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052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53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054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055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056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57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58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59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60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61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062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63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64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065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6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0" name="Object 21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5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Rectangle 16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7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8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7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45" name="Object 19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8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19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20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Line 21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2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3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24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5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15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Oval 16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17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18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se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 cosechadas h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dolas pasar a trav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 de un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 de est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tiene 80 discos con u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gulo de 40°, el radio externo es 15,7 cm y el d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14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15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0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7" name="Rectangle 17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Text Box 19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026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85" name="Rectangle 1027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028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029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030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031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032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33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034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035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036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37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038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039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40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041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42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43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044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045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046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047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048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49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050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051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052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053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054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55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056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57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058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059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060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061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62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063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064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065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066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25" name="Oval 1067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068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069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070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etro de escalamiento para el procesamiento de un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con material celular. En el experimento se procesaron 3.3 [lt/min] de un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de c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una velocidad de rotac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 para procesar 800 [lt/hr] de la mism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antes mencionada. Para ello se cuenta con las siguientes alternativas de cent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463" name="Rectangle 4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5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9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4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15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6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7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8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19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20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21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22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3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Group 24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484" name="Rectangle 25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Group 26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486" name="Rectangle 27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Rectangle 28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Group 29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489" name="Rectangle 30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Group 31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491" name="Rectangle 32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Rectangle 33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Group 34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494" name="Rectangle 35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Group 36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496" name="Rectangle 37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Rectangle 38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Group 39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499" name="Rectangle 40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Group 41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01" name="Rectangle 42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Rectangle 43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Group 44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04" name="Rectangle 45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46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47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07" name="Rectangle 48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49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50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10" name="Rectangle 51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52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53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13" name="Rectangle 54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55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su consumo energ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ico es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Object 0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1888920" y="457200"/>
            <a:ext cx="522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26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26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26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Maria Elena Lienqueo</cp:lastModifiedBy>
  <dcterms:modified xsi:type="dcterms:W3CDTF">2009-08-03T02:42:39Z</dcterms:modified>
  <cp:revision>23</cp:revision>
  <dc:subject/>
  <dc:title>Centrifugación    Operación unitaria utilizada para la separación: sólido-líquido    líquido-líquido</dc:title>
</cp:coreProperties>
</file>