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A89-7ABA-4320-AC1D-9BD7E20F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4A3-EC48-4DDB-B4BC-0645AF34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D60-2378-48AB-B3E7-67B2A34E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010-3F92-403C-B48E-399B1345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179-F20B-4CFF-9D2B-0D5239B7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461-1347-432B-AE8D-7DFE6AD1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DE9-CA85-4D36-9D41-FE9C0862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CD5-0D4F-4913-B4A2-A6D77ADE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C63-2F37-45F9-A560-5CDF2125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C73-ABF9-4B72-845C-9A0DD4C8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C4C-0462-4E9F-82EA-ED78F940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F16-FB84-4DF1-9EFF-FEC22753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C86-7FD4-4060-81B0-D2893512F2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mage8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8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Rectangle 3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0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8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9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0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1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2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3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4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5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6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8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43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4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45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Rectangle 46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7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48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Rectangle 49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50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51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Rectangle 52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53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Rectangle 55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56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7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Rectangle 58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59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60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Rectangle 61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62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3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Rectangle 64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65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66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Rectangle 67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8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69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Rectangle 70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71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2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Rectangle 73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4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5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Rectangle 76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7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78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Rectangle 79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80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Rectangle 81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82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Rectangle 3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Object 4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5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9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Picture 10" descr="images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11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7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1: Miércoles 26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2: Miércoles  7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3: Miércoles 11 de Noviembr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Rectangle 3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5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0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5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6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7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Group 38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Rectangle 39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40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41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Rectangle 42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3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44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46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47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Rectangle 48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49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50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Rectangle 51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52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Rectangle 54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55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56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Rectangle 57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58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59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Rectangle 60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61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62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Rectangle 63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64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65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Rectangle 66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67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Rectangle 6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9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Rectangle 3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6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9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7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8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1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2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33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Rectangle 34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35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36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Rectangle 37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38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39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Rectangle 40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41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Text Box 42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3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Rectangle 3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6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8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9-07-23T21:14:17Z</dcterms:modified>
  <cp:revision>29</cp:revision>
  <dc:subject/>
  <dc:title>Centrifugación    Operación unitaria utilizada para la separación: sólido-líquido    líquido-líquido </dc:title>
</cp:coreProperties>
</file>