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CDB-94DC-47E6-9F00-9959CB40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EAB-9D2A-4BBE-80EE-C3ED06BD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A6C-D1E2-43B1-9F8F-71026961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F4C-7D9B-43FF-9987-03AD5844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8C8-6315-4B4F-B1DA-2AE8E487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4DA-7012-4100-AD82-4734BAD5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E2C-5BB7-4656-966B-108A5975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38E-1854-43AE-A6BB-5D4CE191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941-B157-4254-91F4-9DA1CB2B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282-4795-40B1-80C8-9DFFA050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397-A1B6-4735-A4CB-538E447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AE0-4580-4A82-AF51-1A3B12BB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F732-0020-4FB4-8B37-6BA174A374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mage8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8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Rectangle 3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0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8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9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1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2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3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6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8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3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4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45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Rectangle 46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7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48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Rectangle 49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50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51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Rectangle 52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53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Rectangle 55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56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7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Rectangle 58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59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60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Rectangle 61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62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3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Rectangle 64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65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66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Rectangle 67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8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69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Rectangle 70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71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2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Rectangle 73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4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5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Rectangle 76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7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78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Rectangle 79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80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81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2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Object 4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5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9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Picture 10" descr="images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11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1: Miércoles 26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2: Miércoles  7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3: Miércoles 11 de Noviemb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Rectangle 3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0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7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Rectangle 39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40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41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Rectangle 42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3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44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46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47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Rectangle 48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49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50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Rectangle 51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52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Rectangle 54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55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56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Rectangle 57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58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59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Rectangle 60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61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Rectangle 63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64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Rectangle 66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67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Rectangle 6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9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Rectangle 3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6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9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7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8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1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2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3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Rectangle 34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35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36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Rectangle 37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38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39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Rectangle 40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41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Text Box 42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3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Rectangle 3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6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8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9-07-23T21:14:17Z</dcterms:modified>
  <cp:revision>29</cp:revision>
  <dc:subject/>
  <dc:title>Centrifugación    Operación unitaria utilizada para la separación: sólido-líquido    líquido-líquido </dc:title>
</cp:coreProperties>
</file>