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AE0-FDF8-4441-81F6-0BFC877D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B46-F722-489F-90EC-1C2F36F6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DB9-664F-4663-8A5A-C5DB803F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D2B-94C6-4923-AF10-343CF236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48A-0CDD-4894-9B5D-5FAF3D1E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A08-2280-42CF-924A-7EEC076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B18-C0D7-4A56-B7B8-75B6E81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B8D-39AF-4E0B-BCE8-90246E9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568-CD03-4AA2-9C7A-8BB7C09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E41-1F9F-4CA5-BC4D-B726BA9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95A-1C7E-476D-A994-AB352CC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579-99A6-4122-88EC-3A7E49D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408B-A9AF-464D-BB6F-01E86DB721F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8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8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Rectangle 3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0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8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1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8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5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Rectangle 46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7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48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Rectangle 49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50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51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Rectangle 52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53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Rectangle 55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56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7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Rectangle 58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59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60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Rectangle 61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2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3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Rectangle 64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65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66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Rectangle 67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8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69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Rectangle 70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71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2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Rectangle 73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4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5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Rectangle 76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7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78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Rectangle 79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80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81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2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Object 4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5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9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Picture 10" descr="images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11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1: Miércoles 26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2: Miércoles  7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3: Miércoles 11 de Noviemb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Rectangle 3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Rectangle 39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40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41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Rectangle 42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3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44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46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47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49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50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Rectangle 51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52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Rectangle 54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55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56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Rectangle 57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8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59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Rectangle 60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61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Rectangle 63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64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Rectangle 66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7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Rectangle 6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9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Rectangle 3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6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9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7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8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3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Rectangle 34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35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36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Rectangle 37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38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39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Rectangle 40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41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Text Box 42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3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Rectangle 3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9-07-23T21:14:17Z</dcterms:modified>
  <cp:revision>29</cp:revision>
  <dc:subject/>
  <dc:title>Centrifugación    Operación unitaria utilizada para la separación: sólido-líquido    líquido-líquido </dc:title>
</cp:coreProperties>
</file>