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2E5-0A22-433D-8750-809D911D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CD0-191D-4D80-A87C-CA4A05EB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B28-7867-481E-ADA7-BB8B6569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A8D-1A07-4392-B0AF-99129D0B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4A2-D420-4C5E-9067-CD24843F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CA8-4FC7-48BE-AE95-84728201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1D7-C9C6-485C-9D96-05EA95D9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A74-C8AB-47D3-AD58-6C0C772C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AAD-C2C8-49AB-B044-CCE9CF5A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AA3-AB40-4483-B5E3-7E34285C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69D-9727-4358-AB89-6A5EE72D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0BD-D3B6-4409-9C52-E231CFC0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DED-E2FC-44F8-91E8-BCB99B20B39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71388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E:\gelww.jpg"/>
          <p:cNvPicPr/>
          <p:nvPr/>
        </p:nvPicPr>
        <p:blipFill>
          <a:blip r:embed="rId1"/>
          <a:stretch/>
        </p:blipFill>
        <p:spPr>
          <a:xfrm>
            <a:off x="2500200" y="914400"/>
            <a:ext cx="37148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20:01:44Z</dcterms:created>
  <dc:creator>Lab</dc:creator>
  <dc:description/>
  <dc:language>en-US</dc:language>
  <cp:lastModifiedBy>Lab</cp:lastModifiedBy>
  <dcterms:modified xsi:type="dcterms:W3CDTF">2009-10-19T20:07:45Z</dcterms:modified>
  <cp:revision>1</cp:revision>
  <dc:subject/>
  <dc:title>Diapositiva 1</dc:title>
</cp:coreProperties>
</file>