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8ABC-FD84-4CE9-B3BB-89ACA37CD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7167-603F-4F83-8F76-89DE54FD8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1912-43C7-43BC-B035-49368C06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B898-CBC3-405D-AB45-531779E45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C6D97-29D5-4B70-9ABC-B0B4A49D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971-FBDD-4A5D-A755-F81AC71B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1D1D-5E58-40AB-BAA4-B76785F17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2948-3B93-451C-8A26-B5E05C5B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E010-3603-49B0-A664-8CE5E2D2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8D5B-F91B-4C8C-9958-16A7C2C8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1093-E92D-4C6E-9466-4B4938E1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4A17-ACF6-4E88-AFFE-55722CBE2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8553-CAFD-4619-A2F3-8A5E216A4C74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713880"/>
            <a:ext cx="6400800" cy="49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2" name="Picture 2" descr="E:\gelww.jpg"/>
          <p:cNvPicPr/>
          <p:nvPr/>
        </p:nvPicPr>
        <p:blipFill>
          <a:blip r:embed="rId1"/>
          <a:stretch/>
        </p:blipFill>
        <p:spPr>
          <a:xfrm>
            <a:off x="2500200" y="914400"/>
            <a:ext cx="37148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9T20:01:44Z</dcterms:created>
  <dc:creator>Lab</dc:creator>
  <dc:description/>
  <dc:language>en-US</dc:language>
  <cp:lastModifiedBy>Lab</cp:lastModifiedBy>
  <dcterms:modified xsi:type="dcterms:W3CDTF">2009-10-19T20:07:45Z</dcterms:modified>
  <cp:revision>1</cp:revision>
  <dc:subject/>
  <dc:title>Diapositiva 1</dc:title>
</cp:coreProperties>
</file>