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A47F-B169-4052-B45D-AD8CE517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A03B-D8A5-4EC6-B4F4-1ECCFB54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8308-27D4-4D2E-B029-30B7428C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96D3-E83D-4BE2-AEA3-F74B1A97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F0DB-7EBE-4349-B0F7-1F08B433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F1C1-8827-4F05-AD7A-AEE31965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6E03-02E3-4897-9A4B-0F76447F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9270-47F7-4587-ADD7-1E70E671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6C2E-AE89-49AE-9A9A-987425DA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0CD7-F2A8-4D65-A924-34212B0E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FC78-5D25-4ECF-A47E-9B2AB4E7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B07C-51FF-4104-8C17-27026C0F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5DFD-0E2C-4BAD-BA6D-84670373BBD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713880"/>
            <a:ext cx="6400800" cy="49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2" descr="E:\gelww.jpg"/>
          <p:cNvPicPr/>
          <p:nvPr/>
        </p:nvPicPr>
        <p:blipFill>
          <a:blip r:embed="rId1"/>
          <a:stretch/>
        </p:blipFill>
        <p:spPr>
          <a:xfrm>
            <a:off x="2500200" y="914400"/>
            <a:ext cx="37148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20:01:44Z</dcterms:created>
  <dc:creator>Lab</dc:creator>
  <dc:description/>
  <dc:language>en-US</dc:language>
  <cp:lastModifiedBy>Lab</cp:lastModifiedBy>
  <dcterms:modified xsi:type="dcterms:W3CDTF">2009-10-19T20:07:45Z</dcterms:modified>
  <cp:revision>1</cp:revision>
  <dc:subject/>
  <dc:title>Diapositiva 1</dc:title>
</cp:coreProperties>
</file>