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EFE2-2369-4DF3-9F67-2B008543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2E56-099D-48FF-987E-76994C723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EE83-9A12-4430-B1F8-70622AFE1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C96E-AEAF-4BD1-9E73-B517F689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FEB-D9E2-44DA-A4DD-F735B89A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BA7-B201-4CC3-9413-95673BEC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F477-97BF-4C31-99B4-246950AD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77E-986C-4730-8CFF-B1EF7DC4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BD21-DA16-4B07-8029-52CDF139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9851-75BA-4E8E-AB02-9A74F0EC1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24AA-597F-40E6-BFFB-9A90C41C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6F75-35A4-4909-9339-87BC57FF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E79C5-6F19-47B1-813E-4383C0477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03640" y="1557360"/>
            <a:ext cx="2597040" cy="3913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0" y="1557360"/>
            <a:ext cx="2664000" cy="395928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82400" y="114444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9999"/>
                </a:solidFill>
                <a:latin typeface="Arial"/>
              </a:rPr>
              <a:t>M     G1   G2   G3   G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9T23:04:13Z</dcterms:created>
  <dc:creator>Rodrigo Pulgar</dc:creator>
  <dc:description/>
  <dc:language>en-US</dc:language>
  <cp:lastModifiedBy>Rodrigo Pulgar</cp:lastModifiedBy>
  <dcterms:modified xsi:type="dcterms:W3CDTF">2009-10-09T23:04:33Z</dcterms:modified>
  <cp:revision>1</cp:revision>
  <dc:subject/>
  <dc:title>Diapositiva 1</dc:title>
</cp:coreProperties>
</file>