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509-EE5E-42DE-B52B-34DFD92F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14D-7CAD-4286-B8B4-38E72616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A3D-6EBA-4141-A564-80EF9E06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E3C-5A0E-4FA6-B0D6-9047D976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CF5-52A8-4EC7-834A-2B1F652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1E0-68E4-40F2-B528-1BD0EF4F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F5E-F9E5-4000-B138-9C117BAB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34A-1344-47EF-A62A-A4772FDF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9A9-34A8-4F0B-9303-57AC1D92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73A-7993-4914-AE4C-2D40A3A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C71-7279-46F0-95BE-4BDC5FF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EB9-5090-4503-8D2D-74343E43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FD5B-CB70-4F40-BC6C-D75DA347D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2597040" cy="391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1557360"/>
            <a:ext cx="2664000" cy="3959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82400" y="11444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     G1   G2   G3   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23:04:13Z</dcterms:created>
  <dc:creator>Rodrigo Pulgar</dc:creator>
  <dc:description/>
  <dc:language>en-US</dc:language>
  <cp:lastModifiedBy>Rodrigo Pulgar</cp:lastModifiedBy>
  <dcterms:modified xsi:type="dcterms:W3CDTF">2009-10-09T23:04:33Z</dcterms:modified>
  <cp:revision>1</cp:revision>
  <dc:subject/>
  <dc:title>Diapositiva 1</dc:title>
</cp:coreProperties>
</file>