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C14-4338-4ED0-9F00-84278C24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144-DA4A-4933-B147-D6550BDF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475-B2B7-4FDB-BF1A-91B4BC8E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C87-55C5-479C-B189-EA5395CC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87B-7761-4D7A-BCAD-50852FC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E72-FF67-4DC5-8E53-4EAB60D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186-2F46-4ECE-92F1-060733B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89D-41B9-4B3B-A775-6E19728D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6BE-44B5-4974-9F20-372F07D9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C9B-6282-4D9B-9528-7503E2C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5F2-BA57-418C-B421-2307344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DCF-539B-4717-A13D-E6068258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B1F1-957D-496F-ABD6-9F69388E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597040" cy="391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1557360"/>
            <a:ext cx="2664000" cy="3959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82400" y="11444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     G1   G2   G3   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23:04:13Z</dcterms:created>
  <dc:creator>Rodrigo Pulgar</dc:creator>
  <dc:description/>
  <dc:language>en-US</dc:language>
  <cp:lastModifiedBy>Rodrigo Pulgar</cp:lastModifiedBy>
  <dcterms:modified xsi:type="dcterms:W3CDTF">2009-10-09T23:04:33Z</dcterms:modified>
  <cp:revision>1</cp:revision>
  <dc:subject/>
  <dc:title>Diapositiva 1</dc:title>
</cp:coreProperties>
</file>