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0EF0-CD85-4735-873F-78D20D52F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1FA0-EF6C-4484-A15E-E44D8D5B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0349-065B-4D8C-A51C-D5653D440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8444-09DF-4527-9EA8-A082ED38F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AC43-0C46-4CDA-8533-2114E9173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F655-00ED-438F-8144-E730E70B5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3B99-595A-4273-B6D8-300815AC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A0AF-A591-487E-8F99-BE4C5FC7F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331-C3F6-4AE7-B167-533C0C64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B93-8BF2-4A95-BEEC-334718D3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5E53-3367-4846-9F25-51B7C6B2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CC7-B40E-4053-88F7-0DF8339B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53A5C-FCAA-44E9-B6B7-37BF597735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771640" y="836640"/>
            <a:ext cx="5904000" cy="5065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71640" y="826920"/>
            <a:ext cx="5904000" cy="5327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16290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30T22:17:45Z</dcterms:created>
  <dc:creator>Rodrigo Pulgar</dc:creator>
  <dc:description/>
  <dc:language>en-US</dc:language>
  <cp:lastModifiedBy>Rodrigo Pulgar</cp:lastModifiedBy>
  <dcterms:modified xsi:type="dcterms:W3CDTF">2009-09-30T22:17:58Z</dcterms:modified>
  <cp:revision>1</cp:revision>
  <dc:subject/>
  <dc:title>Diapositiva 1</dc:title>
</cp:coreProperties>
</file>