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16B1-62D4-4305-9AE2-840EB0DB7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D27B-8247-4394-A0AE-27B70B4D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C564-E853-4D16-A2B5-EDF74840B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E138-D3C8-4D9E-A08B-08D579579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5A09-A486-44C1-BE26-78A8C787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6ACF-F6B6-457E-A519-38EB5090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E705-1D73-4918-8298-2DDF749B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87BD-E97D-4C97-B308-B6938D0C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6E61-79AA-4553-981B-165A3762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521E-FA6B-4C12-8004-C04327B0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569F-DF75-45D8-90CF-1A8BDE76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81A3-F415-47DC-8830-AC264845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05DE-2C99-4E3A-9BC6-03EDA6B9CBD1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906480" y="1285920"/>
            <a:ext cx="7432560" cy="4929120"/>
          </a:xfrm>
          <a:prstGeom prst="rect">
            <a:avLst/>
          </a:prstGeom>
          <a:ln w="0">
            <a:noFill/>
          </a:ln>
        </p:spPr>
      </p:pic>
      <p:grpSp>
        <p:nvGrpSpPr>
          <p:cNvPr id="42" name="35 Grupo"/>
          <p:cNvGrpSpPr/>
          <p:nvPr/>
        </p:nvGrpSpPr>
        <p:grpSpPr>
          <a:xfrm>
            <a:off x="1052640" y="1546200"/>
            <a:ext cx="2288880" cy="728640"/>
            <a:chOff x="1052640" y="1546200"/>
            <a:chExt cx="2288880" cy="728640"/>
          </a:xfrm>
        </p:grpSpPr>
        <p:sp>
          <p:nvSpPr>
            <p:cNvPr id="43" name="26 Cerrar llave"/>
            <p:cNvSpPr/>
            <p:nvPr/>
          </p:nvSpPr>
          <p:spPr>
            <a:xfrm rot="16200000">
              <a:off x="2035080" y="968400"/>
              <a:ext cx="324000" cy="2288880"/>
            </a:xfrm>
            <a:custGeom>
              <a:avLst/>
              <a:gdLst>
                <a:gd name="textAreaLeft" fmla="*/ 0 w 324000"/>
                <a:gd name="textAreaRight" fmla="*/ 117000 w 324000"/>
                <a:gd name="textAreaTop" fmla="*/ 8280 h 2288880"/>
                <a:gd name="textAreaBottom" fmla="*/ 2280600 h 228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28"/>
                    <a:pt x="10800" y="255"/>
                  </a:cubicBezTo>
                  <a:lnTo>
                    <a:pt x="10800" y="10873"/>
                  </a:lnTo>
                  <a:cubicBezTo>
                    <a:pt x="10800" y="11001"/>
                    <a:pt x="16200" y="11128"/>
                    <a:pt x="21600" y="11128"/>
                  </a:cubicBezTo>
                  <a:cubicBezTo>
                    <a:pt x="16200" y="11128"/>
                    <a:pt x="10800" y="11256"/>
                    <a:pt x="10800" y="11383"/>
                  </a:cubicBezTo>
                  <a:lnTo>
                    <a:pt x="10800" y="21345"/>
                  </a:lnTo>
                  <a:cubicBezTo>
                    <a:pt x="10800" y="21473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27 CuadroTexto"/>
            <p:cNvSpPr/>
            <p:nvPr/>
          </p:nvSpPr>
          <p:spPr>
            <a:xfrm>
              <a:off x="2070000" y="154620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c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30 Grupo"/>
          <p:cNvGrpSpPr/>
          <p:nvPr/>
        </p:nvGrpSpPr>
        <p:grpSpPr>
          <a:xfrm>
            <a:off x="3414600" y="1546200"/>
            <a:ext cx="2287800" cy="728640"/>
            <a:chOff x="3414600" y="1546200"/>
            <a:chExt cx="2287800" cy="728640"/>
          </a:xfrm>
        </p:grpSpPr>
        <p:sp>
          <p:nvSpPr>
            <p:cNvPr id="46" name="28 Cerrar llave"/>
            <p:cNvSpPr/>
            <p:nvPr/>
          </p:nvSpPr>
          <p:spPr>
            <a:xfrm rot="16200000">
              <a:off x="4396320" y="968760"/>
              <a:ext cx="324000" cy="2287800"/>
            </a:xfrm>
            <a:custGeom>
              <a:avLst/>
              <a:gdLst>
                <a:gd name="textAreaLeft" fmla="*/ 0 w 324000"/>
                <a:gd name="textAreaRight" fmla="*/ 117000 w 324000"/>
                <a:gd name="textAreaTop" fmla="*/ 8280 h 2287800"/>
                <a:gd name="textAreaBottom" fmla="*/ 2279520 h 228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28"/>
                    <a:pt x="10800" y="255"/>
                  </a:cubicBezTo>
                  <a:lnTo>
                    <a:pt x="10800" y="10873"/>
                  </a:lnTo>
                  <a:cubicBezTo>
                    <a:pt x="10800" y="11001"/>
                    <a:pt x="16200" y="11128"/>
                    <a:pt x="21600" y="11128"/>
                  </a:cubicBezTo>
                  <a:cubicBezTo>
                    <a:pt x="16200" y="11128"/>
                    <a:pt x="10800" y="11256"/>
                    <a:pt x="10800" y="11383"/>
                  </a:cubicBezTo>
                  <a:lnTo>
                    <a:pt x="10800" y="21345"/>
                  </a:lnTo>
                  <a:cubicBezTo>
                    <a:pt x="10800" y="21473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29 CuadroTexto"/>
            <p:cNvSpPr/>
            <p:nvPr/>
          </p:nvSpPr>
          <p:spPr>
            <a:xfrm>
              <a:off x="4431240" y="154620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c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31 Grupo"/>
          <p:cNvGrpSpPr/>
          <p:nvPr/>
        </p:nvGrpSpPr>
        <p:grpSpPr>
          <a:xfrm>
            <a:off x="5783400" y="1546200"/>
            <a:ext cx="2287440" cy="728640"/>
            <a:chOff x="5783400" y="1546200"/>
            <a:chExt cx="2287440" cy="728640"/>
          </a:xfrm>
        </p:grpSpPr>
        <p:sp>
          <p:nvSpPr>
            <p:cNvPr id="49" name="32 Cerrar llave"/>
            <p:cNvSpPr/>
            <p:nvPr/>
          </p:nvSpPr>
          <p:spPr>
            <a:xfrm rot="16200000">
              <a:off x="6765120" y="969120"/>
              <a:ext cx="324000" cy="2287440"/>
            </a:xfrm>
            <a:custGeom>
              <a:avLst/>
              <a:gdLst>
                <a:gd name="textAreaLeft" fmla="*/ 0 w 324000"/>
                <a:gd name="textAreaRight" fmla="*/ 117000 w 324000"/>
                <a:gd name="textAreaTop" fmla="*/ 8280 h 2287440"/>
                <a:gd name="textAreaBottom" fmla="*/ 2279160 h 228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28"/>
                    <a:pt x="10800" y="255"/>
                  </a:cubicBezTo>
                  <a:lnTo>
                    <a:pt x="10800" y="10873"/>
                  </a:lnTo>
                  <a:cubicBezTo>
                    <a:pt x="10800" y="11001"/>
                    <a:pt x="16200" y="11128"/>
                    <a:pt x="21600" y="11128"/>
                  </a:cubicBezTo>
                  <a:cubicBezTo>
                    <a:pt x="16200" y="11128"/>
                    <a:pt x="10800" y="11256"/>
                    <a:pt x="10800" y="11383"/>
                  </a:cubicBezTo>
                  <a:lnTo>
                    <a:pt x="10800" y="21345"/>
                  </a:lnTo>
                  <a:cubicBezTo>
                    <a:pt x="10800" y="21473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33 CuadroTexto"/>
            <p:cNvSpPr/>
            <p:nvPr/>
          </p:nvSpPr>
          <p:spPr>
            <a:xfrm>
              <a:off x="6799680" y="154620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c000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37 CuadroTexto"/>
          <p:cNvSpPr/>
          <p:nvPr/>
        </p:nvSpPr>
        <p:spPr>
          <a:xfrm>
            <a:off x="1215360" y="450720"/>
            <a:ext cx="44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Tamaño plasmidio = 3 K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rcRect l="3668" t="0" r="0" b="0"/>
          <a:stretch/>
        </p:blipFill>
        <p:spPr>
          <a:xfrm>
            <a:off x="1639800" y="954000"/>
            <a:ext cx="5629320" cy="4950000"/>
          </a:xfrm>
          <a:prstGeom prst="rect">
            <a:avLst/>
          </a:prstGeom>
          <a:ln w="0">
            <a:noFill/>
          </a:ln>
        </p:spPr>
      </p:pic>
      <p:grpSp>
        <p:nvGrpSpPr>
          <p:cNvPr id="53" name="23 Grupo"/>
          <p:cNvGrpSpPr/>
          <p:nvPr/>
        </p:nvGrpSpPr>
        <p:grpSpPr>
          <a:xfrm>
            <a:off x="1668600" y="1419120"/>
            <a:ext cx="2689200" cy="728640"/>
            <a:chOff x="1668600" y="1419120"/>
            <a:chExt cx="2689200" cy="728640"/>
          </a:xfrm>
        </p:grpSpPr>
        <p:sp>
          <p:nvSpPr>
            <p:cNvPr id="54" name="24 Cerrar llave"/>
            <p:cNvSpPr/>
            <p:nvPr/>
          </p:nvSpPr>
          <p:spPr>
            <a:xfrm rot="16200000">
              <a:off x="2851200" y="641160"/>
              <a:ext cx="324000" cy="2689200"/>
            </a:xfrm>
            <a:custGeom>
              <a:avLst/>
              <a:gdLst>
                <a:gd name="textAreaLeft" fmla="*/ 0 w 324000"/>
                <a:gd name="textAreaRight" fmla="*/ 117000 w 324000"/>
                <a:gd name="textAreaTop" fmla="*/ 9720 h 2689200"/>
                <a:gd name="textAreaBottom" fmla="*/ 2679480 h 268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28"/>
                    <a:pt x="10800" y="255"/>
                  </a:cubicBezTo>
                  <a:lnTo>
                    <a:pt x="10800" y="10873"/>
                  </a:lnTo>
                  <a:cubicBezTo>
                    <a:pt x="10800" y="11001"/>
                    <a:pt x="16200" y="11128"/>
                    <a:pt x="21600" y="11128"/>
                  </a:cubicBezTo>
                  <a:cubicBezTo>
                    <a:pt x="16200" y="11128"/>
                    <a:pt x="10800" y="11256"/>
                    <a:pt x="10800" y="11383"/>
                  </a:cubicBezTo>
                  <a:lnTo>
                    <a:pt x="10800" y="21345"/>
                  </a:lnTo>
                  <a:cubicBezTo>
                    <a:pt x="10800" y="21473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25 CuadroTexto"/>
            <p:cNvSpPr/>
            <p:nvPr/>
          </p:nvSpPr>
          <p:spPr>
            <a:xfrm>
              <a:off x="2863440" y="141912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c000"/>
                  </a:solidFill>
                  <a:latin typeface="Calibri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26 Grupo"/>
          <p:cNvGrpSpPr/>
          <p:nvPr/>
        </p:nvGrpSpPr>
        <p:grpSpPr>
          <a:xfrm>
            <a:off x="4444920" y="1419120"/>
            <a:ext cx="2552760" cy="728640"/>
            <a:chOff x="4444920" y="1419120"/>
            <a:chExt cx="2552760" cy="728640"/>
          </a:xfrm>
        </p:grpSpPr>
        <p:sp>
          <p:nvSpPr>
            <p:cNvPr id="57" name="27 Cerrar llave"/>
            <p:cNvSpPr/>
            <p:nvPr/>
          </p:nvSpPr>
          <p:spPr>
            <a:xfrm rot="16200000">
              <a:off x="5559120" y="709200"/>
              <a:ext cx="324000" cy="2552760"/>
            </a:xfrm>
            <a:custGeom>
              <a:avLst/>
              <a:gdLst>
                <a:gd name="textAreaLeft" fmla="*/ 0 w 324000"/>
                <a:gd name="textAreaRight" fmla="*/ 117000 w 324000"/>
                <a:gd name="textAreaTop" fmla="*/ 9360 h 2552760"/>
                <a:gd name="textAreaBottom" fmla="*/ 2543400 h 255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28"/>
                    <a:pt x="10800" y="255"/>
                  </a:cubicBezTo>
                  <a:lnTo>
                    <a:pt x="10800" y="10873"/>
                  </a:lnTo>
                  <a:cubicBezTo>
                    <a:pt x="10800" y="11001"/>
                    <a:pt x="16200" y="11128"/>
                    <a:pt x="21600" y="11128"/>
                  </a:cubicBezTo>
                  <a:cubicBezTo>
                    <a:pt x="16200" y="11128"/>
                    <a:pt x="10800" y="11256"/>
                    <a:pt x="10800" y="11383"/>
                  </a:cubicBezTo>
                  <a:lnTo>
                    <a:pt x="10800" y="21345"/>
                  </a:lnTo>
                  <a:cubicBezTo>
                    <a:pt x="10800" y="21473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28 CuadroTexto"/>
            <p:cNvSpPr/>
            <p:nvPr/>
          </p:nvSpPr>
          <p:spPr>
            <a:xfrm>
              <a:off x="5573880" y="141912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c000"/>
                  </a:solidFill>
                  <a:latin typeface="Calibri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ww.fermentas.com/catalog/electrophoresis/images/generulersm0311.jpg"/>
          <p:cNvPicPr/>
          <p:nvPr/>
        </p:nvPicPr>
        <p:blipFill>
          <a:blip r:embed="rId1"/>
          <a:srcRect l="0" t="8193" r="37798" b="0"/>
          <a:stretch/>
        </p:blipFill>
        <p:spPr>
          <a:xfrm>
            <a:off x="2540160" y="752400"/>
            <a:ext cx="1923840" cy="5548320"/>
          </a:xfrm>
          <a:prstGeom prst="rect">
            <a:avLst/>
          </a:prstGeom>
          <a:ln w="0">
            <a:noFill/>
          </a:ln>
        </p:spPr>
      </p:pic>
      <p:sp>
        <p:nvSpPr>
          <p:cNvPr id="60" name="2 CuadroTexto"/>
          <p:cNvSpPr/>
          <p:nvPr/>
        </p:nvSpPr>
        <p:spPr>
          <a:xfrm>
            <a:off x="71280" y="179280"/>
            <a:ext cx="40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Estándar tamaño (p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23:21:11Z</dcterms:created>
  <dc:creator>Veronica</dc:creator>
  <dc:description/>
  <dc:language>en-US</dc:language>
  <cp:lastModifiedBy>alumno</cp:lastModifiedBy>
  <dcterms:modified xsi:type="dcterms:W3CDTF">2009-09-09T15:44:01Z</dcterms:modified>
  <cp:revision>3</cp:revision>
  <dc:subject/>
  <dc:title>Diapositiva 1</dc:title>
</cp:coreProperties>
</file>