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712-6AE5-4EA1-8267-A8F8B7B3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655C-ED03-4F5B-A096-BDFE2135B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FDC6-162B-4B6B-931F-49DD677C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0FEB-923C-4FEA-8004-CF81E278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59E3-165A-49D1-B4ED-46417770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51A6-7C46-4284-B7D6-F8AF5B28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DCD0-3EAA-47CF-A30F-3D2E85C0F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7661-8D3A-418A-90AB-17C76D7D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909D-C5E4-4D6F-AF0B-6770A285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21CE-D962-4C03-B4AF-6DAB4E4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5247-7706-4B2E-9C86-477A291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760-D0CC-4548-84C7-834F3B84A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06D2-64F5-4C91-8F74-642C18CC86F3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906480" y="1285920"/>
            <a:ext cx="7432560" cy="4929120"/>
          </a:xfrm>
          <a:prstGeom prst="rect">
            <a:avLst/>
          </a:prstGeom>
          <a:ln w="0">
            <a:noFill/>
          </a:ln>
        </p:spPr>
      </p:pic>
      <p:grpSp>
        <p:nvGrpSpPr>
          <p:cNvPr id="42" name="35 Grupo"/>
          <p:cNvGrpSpPr/>
          <p:nvPr/>
        </p:nvGrpSpPr>
        <p:grpSpPr>
          <a:xfrm>
            <a:off x="1052640" y="1546200"/>
            <a:ext cx="2288880" cy="728640"/>
            <a:chOff x="1052640" y="1546200"/>
            <a:chExt cx="2288880" cy="728640"/>
          </a:xfrm>
        </p:grpSpPr>
        <p:sp>
          <p:nvSpPr>
            <p:cNvPr id="43" name="26 Cerrar llave"/>
            <p:cNvSpPr/>
            <p:nvPr/>
          </p:nvSpPr>
          <p:spPr>
            <a:xfrm rot="16200000">
              <a:off x="2035080" y="968400"/>
              <a:ext cx="324000" cy="228888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280 h 2288880"/>
                <a:gd name="textAreaBottom" fmla="*/ 2280600 h 228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27 CuadroTexto"/>
            <p:cNvSpPr/>
            <p:nvPr/>
          </p:nvSpPr>
          <p:spPr>
            <a:xfrm>
              <a:off x="2070000" y="1546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30 Grupo"/>
          <p:cNvGrpSpPr/>
          <p:nvPr/>
        </p:nvGrpSpPr>
        <p:grpSpPr>
          <a:xfrm>
            <a:off x="3414600" y="1546200"/>
            <a:ext cx="2287800" cy="728640"/>
            <a:chOff x="3414600" y="1546200"/>
            <a:chExt cx="2287800" cy="728640"/>
          </a:xfrm>
        </p:grpSpPr>
        <p:sp>
          <p:nvSpPr>
            <p:cNvPr id="46" name="28 Cerrar llave"/>
            <p:cNvSpPr/>
            <p:nvPr/>
          </p:nvSpPr>
          <p:spPr>
            <a:xfrm rot="16200000">
              <a:off x="4396320" y="968760"/>
              <a:ext cx="324000" cy="228780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280 h 2287800"/>
                <a:gd name="textAreaBottom" fmla="*/ 2279520 h 228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29 CuadroTexto"/>
            <p:cNvSpPr/>
            <p:nvPr/>
          </p:nvSpPr>
          <p:spPr>
            <a:xfrm>
              <a:off x="4431240" y="1546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31 Grupo"/>
          <p:cNvGrpSpPr/>
          <p:nvPr/>
        </p:nvGrpSpPr>
        <p:grpSpPr>
          <a:xfrm>
            <a:off x="5783400" y="1546200"/>
            <a:ext cx="2287440" cy="728640"/>
            <a:chOff x="5783400" y="1546200"/>
            <a:chExt cx="2287440" cy="728640"/>
          </a:xfrm>
        </p:grpSpPr>
        <p:sp>
          <p:nvSpPr>
            <p:cNvPr id="49" name="32 Cerrar llave"/>
            <p:cNvSpPr/>
            <p:nvPr/>
          </p:nvSpPr>
          <p:spPr>
            <a:xfrm rot="16200000">
              <a:off x="6765120" y="969120"/>
              <a:ext cx="324000" cy="228744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8280 h 2287440"/>
                <a:gd name="textAreaBottom" fmla="*/ 2279160 h 228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33 CuadroTexto"/>
            <p:cNvSpPr/>
            <p:nvPr/>
          </p:nvSpPr>
          <p:spPr>
            <a:xfrm>
              <a:off x="6799680" y="154620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37 CuadroTexto"/>
          <p:cNvSpPr/>
          <p:nvPr/>
        </p:nvSpPr>
        <p:spPr>
          <a:xfrm>
            <a:off x="1215360" y="450720"/>
            <a:ext cx="44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Calibri"/>
              </a:rPr>
              <a:t>Tamaño plasmidio = 3 K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rcRect l="3668" t="0" r="0" b="0"/>
          <a:stretch/>
        </p:blipFill>
        <p:spPr>
          <a:xfrm>
            <a:off x="1639800" y="954000"/>
            <a:ext cx="5629320" cy="4950000"/>
          </a:xfrm>
          <a:prstGeom prst="rect">
            <a:avLst/>
          </a:prstGeom>
          <a:ln w="0">
            <a:noFill/>
          </a:ln>
        </p:spPr>
      </p:pic>
      <p:grpSp>
        <p:nvGrpSpPr>
          <p:cNvPr id="53" name="23 Grupo"/>
          <p:cNvGrpSpPr/>
          <p:nvPr/>
        </p:nvGrpSpPr>
        <p:grpSpPr>
          <a:xfrm>
            <a:off x="1668600" y="1419120"/>
            <a:ext cx="2689200" cy="728640"/>
            <a:chOff x="1668600" y="1419120"/>
            <a:chExt cx="2689200" cy="728640"/>
          </a:xfrm>
        </p:grpSpPr>
        <p:sp>
          <p:nvSpPr>
            <p:cNvPr id="54" name="24 Cerrar llave"/>
            <p:cNvSpPr/>
            <p:nvPr/>
          </p:nvSpPr>
          <p:spPr>
            <a:xfrm rot="16200000">
              <a:off x="2851200" y="641160"/>
              <a:ext cx="324000" cy="268920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9720 h 2689200"/>
                <a:gd name="textAreaBottom" fmla="*/ 2679480 h 2689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25 CuadroTexto"/>
            <p:cNvSpPr/>
            <p:nvPr/>
          </p:nvSpPr>
          <p:spPr>
            <a:xfrm>
              <a:off x="2863440" y="14191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26 Grupo"/>
          <p:cNvGrpSpPr/>
          <p:nvPr/>
        </p:nvGrpSpPr>
        <p:grpSpPr>
          <a:xfrm>
            <a:off x="4444920" y="1419120"/>
            <a:ext cx="2552760" cy="728640"/>
            <a:chOff x="4444920" y="1419120"/>
            <a:chExt cx="2552760" cy="728640"/>
          </a:xfrm>
        </p:grpSpPr>
        <p:sp>
          <p:nvSpPr>
            <p:cNvPr id="57" name="27 Cerrar llave"/>
            <p:cNvSpPr/>
            <p:nvPr/>
          </p:nvSpPr>
          <p:spPr>
            <a:xfrm rot="16200000">
              <a:off x="5559120" y="709200"/>
              <a:ext cx="324000" cy="2552760"/>
            </a:xfrm>
            <a:custGeom>
              <a:avLst/>
              <a:gdLst>
                <a:gd name="textAreaLeft" fmla="*/ 0 w 324000"/>
                <a:gd name="textAreaRight" fmla="*/ 117000 w 324000"/>
                <a:gd name="textAreaTop" fmla="*/ 9360 h 2552760"/>
                <a:gd name="textAreaBottom" fmla="*/ 2543400 h 255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128"/>
                    <a:pt x="10800" y="255"/>
                  </a:cubicBezTo>
                  <a:lnTo>
                    <a:pt x="10800" y="10873"/>
                  </a:lnTo>
                  <a:cubicBezTo>
                    <a:pt x="10800" y="11001"/>
                    <a:pt x="16200" y="11128"/>
                    <a:pt x="21600" y="11128"/>
                  </a:cubicBezTo>
                  <a:cubicBezTo>
                    <a:pt x="16200" y="11128"/>
                    <a:pt x="10800" y="11256"/>
                    <a:pt x="10800" y="11383"/>
                  </a:cubicBezTo>
                  <a:lnTo>
                    <a:pt x="10800" y="21345"/>
                  </a:lnTo>
                  <a:cubicBezTo>
                    <a:pt x="10800" y="21473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28 CuadroTexto"/>
            <p:cNvSpPr/>
            <p:nvPr/>
          </p:nvSpPr>
          <p:spPr>
            <a:xfrm>
              <a:off x="5573880" y="1419120"/>
              <a:ext cx="31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ffc000"/>
                  </a:solidFill>
                  <a:latin typeface="Calibri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ttp://www.fermentas.com/catalog/electrophoresis/images/generulersm0311.jpg"/>
          <p:cNvPicPr/>
          <p:nvPr/>
        </p:nvPicPr>
        <p:blipFill>
          <a:blip r:embed="rId1"/>
          <a:srcRect l="0" t="8193" r="37798" b="0"/>
          <a:stretch/>
        </p:blipFill>
        <p:spPr>
          <a:xfrm>
            <a:off x="2540160" y="752400"/>
            <a:ext cx="1923840" cy="5548320"/>
          </a:xfrm>
          <a:prstGeom prst="rect">
            <a:avLst/>
          </a:prstGeom>
          <a:ln w="0">
            <a:noFill/>
          </a:ln>
        </p:spPr>
      </p:pic>
      <p:sp>
        <p:nvSpPr>
          <p:cNvPr id="60" name="2 CuadroTexto"/>
          <p:cNvSpPr/>
          <p:nvPr/>
        </p:nvSpPr>
        <p:spPr>
          <a:xfrm>
            <a:off x="71280" y="179280"/>
            <a:ext cx="401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Calibri"/>
              </a:rPr>
              <a:t>Estándar tamaño (p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8T23:21:11Z</dcterms:created>
  <dc:creator>Veronica</dc:creator>
  <dc:description/>
  <dc:language>en-US</dc:language>
  <cp:lastModifiedBy>alumno</cp:lastModifiedBy>
  <dcterms:modified xsi:type="dcterms:W3CDTF">2009-09-09T15:44:01Z</dcterms:modified>
  <cp:revision>3</cp:revision>
  <dc:subject/>
  <dc:title>Diapositiva 1</dc:title>
</cp:coreProperties>
</file>