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05EC-9C21-426E-AB88-DC791E85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816E-D499-43EE-B576-B78B4065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24F-7A44-476F-9CCF-65E334FD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F78D-0E2F-49B2-BEFA-02E9D824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6B2-900D-4E45-B634-93B3C7CE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BA3C-CA09-4400-878C-FD8A30E2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9D0-E128-4D97-AFFF-0F28E9B6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990-D4DF-409A-B031-FC7B95BE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028-74E4-43BE-B4D6-08ABEF43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78F-7B3D-47CE-8581-2CFA73E5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F03-D312-49FA-9A15-609EB3D5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1E7-75CD-4982-AF86-704243C9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DD04-40F8-4142-A2FB-81EBDE7705C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6480" y="1285920"/>
            <a:ext cx="7432560" cy="4929120"/>
          </a:xfrm>
          <a:prstGeom prst="rect">
            <a:avLst/>
          </a:prstGeom>
          <a:ln w="0">
            <a:noFill/>
          </a:ln>
        </p:spPr>
      </p:pic>
      <p:grpSp>
        <p:nvGrpSpPr>
          <p:cNvPr id="42" name="35 Grupo"/>
          <p:cNvGrpSpPr/>
          <p:nvPr/>
        </p:nvGrpSpPr>
        <p:grpSpPr>
          <a:xfrm>
            <a:off x="1052640" y="1546200"/>
            <a:ext cx="2288880" cy="728640"/>
            <a:chOff x="1052640" y="1546200"/>
            <a:chExt cx="2288880" cy="728640"/>
          </a:xfrm>
        </p:grpSpPr>
        <p:sp>
          <p:nvSpPr>
            <p:cNvPr id="43" name="26 Cerrar llave"/>
            <p:cNvSpPr/>
            <p:nvPr/>
          </p:nvSpPr>
          <p:spPr>
            <a:xfrm rot="16200000">
              <a:off x="2035080" y="968400"/>
              <a:ext cx="324000" cy="228888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8880"/>
                <a:gd name="textAreaBottom" fmla="*/ 2280600 h 22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27 CuadroTexto"/>
            <p:cNvSpPr/>
            <p:nvPr/>
          </p:nvSpPr>
          <p:spPr>
            <a:xfrm>
              <a:off x="207000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30 Grupo"/>
          <p:cNvGrpSpPr/>
          <p:nvPr/>
        </p:nvGrpSpPr>
        <p:grpSpPr>
          <a:xfrm>
            <a:off x="3414600" y="1546200"/>
            <a:ext cx="2287800" cy="728640"/>
            <a:chOff x="3414600" y="1546200"/>
            <a:chExt cx="2287800" cy="728640"/>
          </a:xfrm>
        </p:grpSpPr>
        <p:sp>
          <p:nvSpPr>
            <p:cNvPr id="46" name="28 Cerrar llave"/>
            <p:cNvSpPr/>
            <p:nvPr/>
          </p:nvSpPr>
          <p:spPr>
            <a:xfrm rot="16200000">
              <a:off x="4396320" y="968760"/>
              <a:ext cx="324000" cy="228780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7800"/>
                <a:gd name="textAreaBottom" fmla="*/ 2279520 h 228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29 CuadroTexto"/>
            <p:cNvSpPr/>
            <p:nvPr/>
          </p:nvSpPr>
          <p:spPr>
            <a:xfrm>
              <a:off x="443124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31 Grupo"/>
          <p:cNvGrpSpPr/>
          <p:nvPr/>
        </p:nvGrpSpPr>
        <p:grpSpPr>
          <a:xfrm>
            <a:off x="5783400" y="1546200"/>
            <a:ext cx="2287440" cy="728640"/>
            <a:chOff x="5783400" y="1546200"/>
            <a:chExt cx="2287440" cy="728640"/>
          </a:xfrm>
        </p:grpSpPr>
        <p:sp>
          <p:nvSpPr>
            <p:cNvPr id="49" name="32 Cerrar llave"/>
            <p:cNvSpPr/>
            <p:nvPr/>
          </p:nvSpPr>
          <p:spPr>
            <a:xfrm rot="16200000">
              <a:off x="6765120" y="969120"/>
              <a:ext cx="324000" cy="228744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7440"/>
                <a:gd name="textAreaBottom" fmla="*/ 2279160 h 22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33 CuadroTexto"/>
            <p:cNvSpPr/>
            <p:nvPr/>
          </p:nvSpPr>
          <p:spPr>
            <a:xfrm>
              <a:off x="679968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37 CuadroTexto"/>
          <p:cNvSpPr/>
          <p:nvPr/>
        </p:nvSpPr>
        <p:spPr>
          <a:xfrm>
            <a:off x="1215360" y="450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amaño plasmidio = 3 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3668" t="0" r="0" b="0"/>
          <a:stretch/>
        </p:blipFill>
        <p:spPr>
          <a:xfrm>
            <a:off x="1639800" y="954000"/>
            <a:ext cx="5629320" cy="4950000"/>
          </a:xfrm>
          <a:prstGeom prst="rect">
            <a:avLst/>
          </a:prstGeom>
          <a:ln w="0">
            <a:noFill/>
          </a:ln>
        </p:spPr>
      </p:pic>
      <p:grpSp>
        <p:nvGrpSpPr>
          <p:cNvPr id="53" name="23 Grupo"/>
          <p:cNvGrpSpPr/>
          <p:nvPr/>
        </p:nvGrpSpPr>
        <p:grpSpPr>
          <a:xfrm>
            <a:off x="1668600" y="1419120"/>
            <a:ext cx="2689200" cy="728640"/>
            <a:chOff x="1668600" y="1419120"/>
            <a:chExt cx="2689200" cy="728640"/>
          </a:xfrm>
        </p:grpSpPr>
        <p:sp>
          <p:nvSpPr>
            <p:cNvPr id="54" name="24 Cerrar llave"/>
            <p:cNvSpPr/>
            <p:nvPr/>
          </p:nvSpPr>
          <p:spPr>
            <a:xfrm rot="16200000">
              <a:off x="2851200" y="641160"/>
              <a:ext cx="324000" cy="268920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9720 h 2689200"/>
                <a:gd name="textAreaBottom" fmla="*/ 2679480 h 26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25 CuadroTexto"/>
            <p:cNvSpPr/>
            <p:nvPr/>
          </p:nvSpPr>
          <p:spPr>
            <a:xfrm>
              <a:off x="2863440" y="14191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6 Grupo"/>
          <p:cNvGrpSpPr/>
          <p:nvPr/>
        </p:nvGrpSpPr>
        <p:grpSpPr>
          <a:xfrm>
            <a:off x="4444920" y="1419120"/>
            <a:ext cx="2552760" cy="728640"/>
            <a:chOff x="4444920" y="1419120"/>
            <a:chExt cx="2552760" cy="728640"/>
          </a:xfrm>
        </p:grpSpPr>
        <p:sp>
          <p:nvSpPr>
            <p:cNvPr id="57" name="27 Cerrar llave"/>
            <p:cNvSpPr/>
            <p:nvPr/>
          </p:nvSpPr>
          <p:spPr>
            <a:xfrm rot="16200000">
              <a:off x="5559120" y="709200"/>
              <a:ext cx="324000" cy="255276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9360 h 2552760"/>
                <a:gd name="textAreaBottom" fmla="*/ 2543400 h 255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8 CuadroTexto"/>
            <p:cNvSpPr/>
            <p:nvPr/>
          </p:nvSpPr>
          <p:spPr>
            <a:xfrm>
              <a:off x="5573880" y="14191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fermentas.com/catalog/electrophoresis/images/generulersm0311.jpg"/>
          <p:cNvPicPr/>
          <p:nvPr/>
        </p:nvPicPr>
        <p:blipFill>
          <a:blip r:embed="rId1"/>
          <a:srcRect l="0" t="8193" r="37798" b="0"/>
          <a:stretch/>
        </p:blipFill>
        <p:spPr>
          <a:xfrm>
            <a:off x="2540160" y="752400"/>
            <a:ext cx="1923840" cy="554832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71280" y="179280"/>
            <a:ext cx="40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stándar tamaño (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23:21:11Z</dcterms:created>
  <dc:creator>Veronica</dc:creator>
  <dc:description/>
  <dc:language>en-US</dc:language>
  <cp:lastModifiedBy>alumno</cp:lastModifiedBy>
  <dcterms:modified xsi:type="dcterms:W3CDTF">2009-09-09T15:44:01Z</dcterms:modified>
  <cp:revision>3</cp:revision>
  <dc:subject/>
  <dc:title>Diapositiva 1</dc:title>
</cp:coreProperties>
</file>