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38F-2F10-4377-BC7D-B23914F7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CC9-700F-4A53-A3BC-FA5FC9E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8E1-2BE0-4C22-A4C8-16DE783B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B06-ECAC-4AAF-BD08-7A9897AD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113-9BE8-4494-9496-A84513D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0F6-74F1-44B7-92A1-C5E07245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ABD-3287-4EE8-8B0D-426D99E6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82E-18FC-4AD7-B961-A4D06276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55E-33E5-4FBB-91F5-3EE349F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1FB-5794-4701-BD75-4D6F289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655-E368-4756-B270-68F4E8B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225-C333-483F-A2D5-2512DB6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D0EC-219F-4B9D-9174-CD43AABD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457200"/>
            <a:ext cx="4368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: Introduction to C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560" y="182880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ctivity the basic 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 Imaging is expl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rner_of_eev" descr=""/>
          <p:cNvPicPr/>
          <p:nvPr/>
        </p:nvPicPr>
        <p:blipFill>
          <a:blip r:embed="rId1"/>
          <a:stretch/>
        </p:blipFill>
        <p:spPr>
          <a:xfrm>
            <a:off x="2908440" y="4038480"/>
            <a:ext cx="26762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m57" descr=""/>
          <p:cNvPicPr/>
          <p:nvPr/>
        </p:nvPicPr>
        <p:blipFill>
          <a:blip r:embed="rId2"/>
          <a:stretch/>
        </p:blipFill>
        <p:spPr>
          <a:xfrm>
            <a:off x="4051440" y="2743200"/>
            <a:ext cx="21207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5480" y="13064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on Tulloch    smt@ing.ia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19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23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24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25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26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26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27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28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28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129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129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3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3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3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3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3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3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3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3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402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408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414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1420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1426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43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43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44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49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512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518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524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530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536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542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1548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1554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560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566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57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60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62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62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64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64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65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659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665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671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167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6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6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69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70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71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72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74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74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76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76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77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781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787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793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677120" y="4276440"/>
            <a:ext cx="401760" cy="408600"/>
            <a:chOff x="4677120" y="4276440"/>
            <a:chExt cx="401760" cy="408600"/>
          </a:xfrm>
        </p:grpSpPr>
        <p:sp>
          <p:nvSpPr>
            <p:cNvPr id="1799" name=""/>
            <p:cNvSpPr/>
            <p:nvPr/>
          </p:nvSpPr>
          <p:spPr>
            <a:xfrm rot="4018800">
              <a:off x="4640040" y="44596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018800">
              <a:off x="4710240" y="439488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4018800">
              <a:off x="4799880" y="438660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731480" y="4303440"/>
              <a:ext cx="1627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849200" y="4599360"/>
              <a:ext cx="17460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80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81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4824360" y="4606920"/>
            <a:ext cx="428400" cy="11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82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82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83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86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88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89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89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90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91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91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92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92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93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94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95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98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98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2001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2005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2011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2017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2023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2029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2035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04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04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2057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2060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44840" y="1459080"/>
            <a:ext cx="59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t of empty buckets is set up on the horizontal conveyor and the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re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06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07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09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11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13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13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14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2149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2155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16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16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2177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18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18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20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22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247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253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259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2265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2271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277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2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2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30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30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31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33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34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35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36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37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37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238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238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39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40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34040" y="152280"/>
            <a:ext cx="22471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C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25800" y="3809520"/>
            <a:ext cx="2307960" cy="1953000"/>
            <a:chOff x="3025800" y="3809520"/>
            <a:chExt cx="2307960" cy="1953000"/>
          </a:xfrm>
        </p:grpSpPr>
        <p:grpSp>
          <p:nvGrpSpPr>
            <p:cNvPr id="48" name=""/>
            <p:cNvGrpSpPr/>
            <p:nvPr/>
          </p:nvGrpSpPr>
          <p:grpSpPr>
            <a:xfrm>
              <a:off x="3233520" y="3809520"/>
              <a:ext cx="2100240" cy="1044720"/>
              <a:chOff x="3233520" y="3809520"/>
              <a:chExt cx="2100240" cy="104472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047840" y="3818520"/>
                <a:ext cx="730800" cy="74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05000" y="455796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777840" y="4538520"/>
                <a:ext cx="188640" cy="315720"/>
                <a:chOff x="3777840" y="4538520"/>
                <a:chExt cx="188640" cy="31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777840" y="455724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45520" y="453852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>
                <a:off x="3839040" y="481968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85400" y="452772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819240" y="3815640"/>
                <a:ext cx="755640" cy="75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0840" y="381420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09440" y="381384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578120" y="3812040"/>
                <a:ext cx="309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03680" y="403380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93960" y="398772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074480" y="4031640"/>
                <a:ext cx="531720" cy="52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91800" y="383148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48960" y="455688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322160" y="4537440"/>
                <a:ext cx="188640" cy="315720"/>
                <a:chOff x="4322160" y="4537440"/>
                <a:chExt cx="188640" cy="315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322160" y="455616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389840" y="453744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H="1">
                <a:off x="4383360" y="481860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31880" y="45266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359240" y="3823200"/>
                <a:ext cx="719280" cy="7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651560" y="4026240"/>
                <a:ext cx="640440" cy="77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1000" y="381312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85360" y="403272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1760" y="399420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618440" y="4035960"/>
                <a:ext cx="47628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03160" y="3817800"/>
                <a:ext cx="792720" cy="74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60320" y="455652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33520" y="4536000"/>
                <a:ext cx="188640" cy="315720"/>
                <a:chOff x="3233520" y="4536000"/>
                <a:chExt cx="188640" cy="315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33520" y="455472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01200" y="453600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3294720" y="481824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720" y="45230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279600" y="3816720"/>
                <a:ext cx="806760" cy="74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559680" y="4023000"/>
                <a:ext cx="781920" cy="78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59160" y="381276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4122720" y="3809520"/>
                <a:ext cx="192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091400" y="3810240"/>
                <a:ext cx="309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16600" y="40320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00040" y="3983040"/>
                <a:ext cx="34200" cy="4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529800" y="4033440"/>
                <a:ext cx="581400" cy="51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103280" y="4017600"/>
                <a:ext cx="729000" cy="7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104440" y="3811680"/>
                <a:ext cx="17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081400" y="3809880"/>
                <a:ext cx="2304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025800" y="4916520"/>
              <a:ext cx="1666440" cy="452880"/>
              <a:chOff x="3025800" y="4916520"/>
              <a:chExt cx="1666440" cy="452880"/>
            </a:xfrm>
          </p:grpSpPr>
          <p:sp>
            <p:nvSpPr>
              <p:cNvPr id="95" name=""/>
              <p:cNvSpPr/>
              <p:nvPr/>
            </p:nvSpPr>
            <p:spPr>
              <a:xfrm>
                <a:off x="3025800" y="504504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074400" y="4926960"/>
                <a:ext cx="168120" cy="13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5400" y="4916520"/>
                <a:ext cx="619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453200" y="4938840"/>
                <a:ext cx="239040" cy="368640"/>
                <a:chOff x="4453200" y="4938840"/>
                <a:chExt cx="239040" cy="368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92440" y="4975560"/>
                  <a:ext cx="199800" cy="26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53200" y="4938840"/>
                  <a:ext cx="140040" cy="36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332960" y="510156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06600" y="491760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59760" y="5192280"/>
                <a:ext cx="802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478040" y="5219280"/>
                <a:ext cx="1710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3120840" y="5311440"/>
                <a:ext cx="1310400" cy="5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3000" y="5186520"/>
                <a:ext cx="1026360" cy="4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84560" y="5180040"/>
                <a:ext cx="120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900000">
                <a:off x="3123360" y="5011560"/>
                <a:ext cx="22428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7880" y="5013360"/>
                <a:ext cx="6912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3128400" y="504216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90560" y="4263840"/>
              <a:ext cx="171000" cy="163440"/>
              <a:chOff x="3490560" y="4263840"/>
              <a:chExt cx="171000" cy="16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3496680" y="436212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90560" y="429912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92000" y="4263840"/>
                <a:ext cx="167400" cy="6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92360" y="429876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656160" y="429696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13360" y="3858480"/>
              <a:ext cx="17136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537800" y="4264920"/>
              <a:ext cx="171000" cy="163440"/>
              <a:chOff x="4537800" y="4264920"/>
              <a:chExt cx="171000" cy="16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44280" y="4363200"/>
                <a:ext cx="15948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7800" y="430020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9240" y="4264920"/>
                <a:ext cx="1674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960" y="4299840"/>
                <a:ext cx="288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703400" y="429804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019040" y="4264920"/>
              <a:ext cx="172080" cy="163440"/>
              <a:chOff x="4019040" y="4264920"/>
              <a:chExt cx="172080" cy="163440"/>
            </a:xfrm>
          </p:grpSpPr>
          <p:sp>
            <p:nvSpPr>
              <p:cNvPr id="125" name=""/>
              <p:cNvSpPr/>
              <p:nvPr/>
            </p:nvSpPr>
            <p:spPr>
              <a:xfrm>
                <a:off x="4025160" y="436320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9040" y="4300200"/>
                <a:ext cx="170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0120" y="4264920"/>
                <a:ext cx="1677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0840" y="429984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185360" y="4298040"/>
                <a:ext cx="576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738320" y="4059360"/>
              <a:ext cx="163080" cy="159120"/>
              <a:chOff x="4738320" y="4059360"/>
              <a:chExt cx="163080" cy="15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44440" y="4154760"/>
                <a:ext cx="15120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320" y="4093560"/>
                <a:ext cx="16164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39400" y="405936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0120" y="4093200"/>
                <a:ext cx="288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95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6400" y="4059360"/>
              <a:ext cx="162000" cy="159120"/>
              <a:chOff x="4226400" y="4059360"/>
              <a:chExt cx="162000" cy="15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423252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640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2784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2856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82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02240" y="4059360"/>
              <a:ext cx="162000" cy="159120"/>
              <a:chOff x="3702240" y="4059360"/>
              <a:chExt cx="162000" cy="159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70836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224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368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0440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85848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97720" y="3892680"/>
              <a:ext cx="148680" cy="146160"/>
              <a:chOff x="3897720" y="3892680"/>
              <a:chExt cx="148680" cy="146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312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9772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916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952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04100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09640" y="3892680"/>
              <a:ext cx="149400" cy="146160"/>
              <a:chOff x="4409640" y="3892680"/>
              <a:chExt cx="149400" cy="146160"/>
            </a:xfrm>
          </p:grpSpPr>
          <p:sp>
            <p:nvSpPr>
              <p:cNvPr id="155" name=""/>
              <p:cNvSpPr/>
              <p:nvPr/>
            </p:nvSpPr>
            <p:spPr>
              <a:xfrm>
                <a:off x="4415400" y="3980520"/>
                <a:ext cx="13860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9640" y="3924000"/>
                <a:ext cx="14832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1080" y="3892680"/>
                <a:ext cx="14544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11800" y="3924000"/>
                <a:ext cx="216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5364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01400" y="3892680"/>
              <a:ext cx="148680" cy="146160"/>
              <a:chOff x="4901400" y="3892680"/>
              <a:chExt cx="148680" cy="1461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0680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140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248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20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04468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52960" y="4854240"/>
              <a:ext cx="189360" cy="176400"/>
              <a:chOff x="3252960" y="4854240"/>
              <a:chExt cx="189360" cy="1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9440" y="4960080"/>
                <a:ext cx="17676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2960" y="4892400"/>
                <a:ext cx="1882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4040" y="4854240"/>
                <a:ext cx="18540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4760" y="489204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436200" y="488988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67040" y="4862520"/>
              <a:ext cx="189000" cy="176760"/>
              <a:chOff x="3767040" y="4862520"/>
              <a:chExt cx="189000" cy="176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73880" y="4968720"/>
                <a:ext cx="17640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67040" y="4900680"/>
                <a:ext cx="18792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68480" y="4862520"/>
                <a:ext cx="18504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200" y="490032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949920" y="489816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09920" y="4876560"/>
              <a:ext cx="189360" cy="177480"/>
              <a:chOff x="4309920" y="4876560"/>
              <a:chExt cx="189360" cy="177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316760" y="4983120"/>
                <a:ext cx="176760" cy="70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09920" y="4914720"/>
                <a:ext cx="18828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11360" y="4876560"/>
                <a:ext cx="18540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12080" y="4914360"/>
                <a:ext cx="36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93160" y="4912200"/>
                <a:ext cx="61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06560" y="5477040"/>
              <a:ext cx="289080" cy="285480"/>
              <a:chOff x="4606560" y="5477040"/>
              <a:chExt cx="289080" cy="28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616280" y="5647320"/>
                <a:ext cx="271440" cy="11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6560" y="5539320"/>
                <a:ext cx="28764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8000" y="5477040"/>
                <a:ext cx="284760" cy="11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9080" y="5537520"/>
                <a:ext cx="7560" cy="16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87720" y="5533920"/>
                <a:ext cx="792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46600" y="5614200"/>
              <a:ext cx="34560" cy="143640"/>
              <a:chOff x="4746600" y="5614200"/>
              <a:chExt cx="34560" cy="143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46600" y="5614200"/>
                <a:ext cx="0" cy="14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48040" y="56268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8040" y="56444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48040" y="56606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48040" y="5676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48040" y="5694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48040" y="57114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48040" y="572796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48040" y="57430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655200" y="1535040"/>
            <a:ext cx="7491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Coupled Devices (CCDs) were invented in the 1970s and originally found application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 devices. Their light sensitive properties were quickly exploited for imaging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produced a major revolution in Astronomy. They improved the light gathering 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scopes by almost two orders of magnitude. Nowadays an amateur astronomer with a  CCD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 15 cm telescope can collect as much light as an astronomer of the 1960s equipped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graphic plate and a 1m tele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work by converting light into a pattern of electronic charge in a silicon chip. This patter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is converted into a video waveform, digitised and stored as an image file on a compu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6200" y="3733920"/>
            <a:ext cx="24382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41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41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45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47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48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48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2492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2498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5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5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5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5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5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5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5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5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2602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2608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61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62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63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64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66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67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69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70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70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713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7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7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7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7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7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799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805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811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81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82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82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83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84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86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88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88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90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90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91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921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9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9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94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94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97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99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99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300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011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017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023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02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03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3045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3048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0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05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05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07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0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10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118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124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130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136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142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15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15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16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18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9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321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22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22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23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24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25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26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29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0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3315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3321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3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3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34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36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38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9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6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3407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413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4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4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8840" y="152280"/>
            <a:ext cx="2692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990720"/>
            <a:ext cx="8113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is fundamental to the operation of a CCD. Atoms in a  silicon crystal have electrons arrang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energy bands. The lower energy band is called the Valence Band, the upper band is the Con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d. Most of the electrons occupy the Valence band but can be excited into the conduction band by 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by the absorption of a photon. The energy required for this transition is 1.26 electron volts. Once in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ion band the electron is free to move about in the lattice of the silicon crystal. It leaves behind a ‘hol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valence band which acts like a positively charged carrier. In the absence of an external electric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le and electron will quickly re-combine and be lost. In a CCD an electric field is introduced to swe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harge carriers apart and prevent recomb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2670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0532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9072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1280" y="37731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2240" y="42670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1360" y="34671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733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08960" y="38210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30524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434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3840" y="3187800"/>
            <a:ext cx="515160" cy="1398960"/>
            <a:chOff x="7143840" y="3187800"/>
            <a:chExt cx="515160" cy="1398960"/>
          </a:xfrm>
        </p:grpSpPr>
        <p:sp>
          <p:nvSpPr>
            <p:cNvPr id="215" name=""/>
            <p:cNvSpPr/>
            <p:nvPr/>
          </p:nvSpPr>
          <p:spPr>
            <a:xfrm flipV="1" rot="6473400">
              <a:off x="6678360" y="3849840"/>
              <a:ext cx="1445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55800" y="3193920"/>
              <a:ext cx="351720" cy="1091160"/>
              <a:chOff x="7255800" y="3193920"/>
              <a:chExt cx="351720" cy="109116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7592040" y="31939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579800" y="32011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76920" y="320832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75480" y="3222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1600" y="323496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0600" y="32482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9600" y="3263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602480" y="327636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588440" y="329004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572600" y="32965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557120" y="33040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544880" y="3309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42000" y="331632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40560" y="3330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6320" y="33433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5320" y="33584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64320" y="3371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567560" y="33858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552800" y="3398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537320" y="34066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521840" y="3412080"/>
                <a:ext cx="1512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509240" y="34192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507440" y="34261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280" y="34387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1040" y="345312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20400" y="34664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9040" y="34815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531920" y="349452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517880" y="3508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02040" y="351504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486560" y="35222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74320" y="35276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471800" y="3534480"/>
                <a:ext cx="252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70000" y="35488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6120" y="3561120"/>
                <a:ext cx="82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84760" y="35766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94120" y="358992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497000" y="360396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482600" y="36165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467120" y="36248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451640" y="36306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438680" y="363636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436880" y="364428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35080" y="36568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0480" y="36712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49840" y="3684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58480" y="370008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461360" y="3712320"/>
                <a:ext cx="360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447320" y="37270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431480" y="373320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416000" y="37404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03760" y="374580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401240" y="375264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9440" y="3767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05560" y="377964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4200" y="37947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23560" y="38080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38224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2040" y="383508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96560" y="38426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381080" y="38487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68480" y="38541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66320" y="386244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64520" y="38750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0280" y="388944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9280" y="39031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87920" y="39182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391160" y="393048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77120" y="3944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61640" y="39513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45800" y="39571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33200" y="39643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330680" y="397080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9240" y="39852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35360" y="399780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44000" y="40129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53000" y="402660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356240" y="40406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41480" y="4053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326360" y="406116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0880" y="406692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97920" y="40723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295760" y="40806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93960" y="4093920"/>
                <a:ext cx="576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99720" y="410724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09080" y="41212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7720" y="4136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320600" y="414864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6560" y="41630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291080" y="41691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275240" y="41752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63000" y="4182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260480" y="418896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58680" y="420336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64800" y="4215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3440" y="42310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2800" y="4244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5680" y="4258800"/>
                <a:ext cx="28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271280" y="427140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255800" y="42796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7218000" y="427536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1000" y="3147840"/>
            <a:ext cx="514800" cy="1398960"/>
            <a:chOff x="5571000" y="3147840"/>
            <a:chExt cx="514800" cy="1398960"/>
          </a:xfrm>
        </p:grpSpPr>
        <p:sp>
          <p:nvSpPr>
            <p:cNvPr id="319" name=""/>
            <p:cNvSpPr/>
            <p:nvPr/>
          </p:nvSpPr>
          <p:spPr>
            <a:xfrm flipH="1" flipV="1" rot="15126600">
              <a:off x="5105160" y="3809880"/>
              <a:ext cx="1446120" cy="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22120" y="3154320"/>
              <a:ext cx="352080" cy="1090800"/>
              <a:chOff x="5622120" y="3154320"/>
              <a:chExt cx="352080" cy="109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5622120" y="31543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7600" y="316116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49840" y="316836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48040" y="3182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39040" y="31950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630760" y="3208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24280" y="322344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24280" y="323640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9320" y="32500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1920" y="32565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57400" y="32641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72520" y="32695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4760" y="327672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682960" y="32907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674680" y="33037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65680" y="331848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659560" y="3331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59560" y="334584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64240" y="335844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77200" y="336672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2320" y="33724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8160" y="33796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0040" y="338616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718240" y="3398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709600" y="34131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00960" y="34264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694480" y="3441600"/>
                <a:ext cx="64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94840" y="34545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99880" y="346896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2480" y="34750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7960" y="348228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3080" y="34876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4960" y="349488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53520" y="350892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44880" y="35215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36240" y="35366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730120" y="354996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30120" y="35640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34440" y="3576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47760" y="35848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2880" y="35906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8000" y="3596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0600" y="36043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88800" y="361728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80160" y="36313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1520" y="364500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65040" y="366012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65040" y="36723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0080" y="36871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82680" y="369324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98520" y="370080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3280" y="3705840"/>
                <a:ext cx="126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5520" y="371268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23720" y="3727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15440" y="37396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806440" y="375480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00320" y="37681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0680" y="378252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5000" y="37951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8320" y="3802680"/>
                <a:ext cx="1476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3440" y="380880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48200" y="38142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0800" y="3822840"/>
                <a:ext cx="25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59360" y="38354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50360" y="384948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842080" y="38631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35600" y="38782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35600" y="389052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0640" y="3904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53240" y="39114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360" y="39171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840" y="39247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95720" y="393084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894280" y="394524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86000" y="39578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77000" y="397296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870880" y="398664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0880" y="40006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75560" y="40136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8880" y="402156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3640" y="40269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8760" y="4032360"/>
                <a:ext cx="1296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31360" y="40410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29560" y="405396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920920" y="406764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2640" y="4081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05800" y="4096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06160" y="410904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0840" y="41230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23440" y="41292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38920" y="41353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4400" y="4142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6280" y="414936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64840" y="4163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56200" y="4176000"/>
                <a:ext cx="86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47560" y="419112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41440" y="4204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1440" y="42188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5760" y="42314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9080" y="42397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970600" y="423612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609588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08660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29280" y="4371840"/>
            <a:ext cx="152280" cy="152640"/>
            <a:chOff x="6029280" y="4371840"/>
            <a:chExt cx="152280" cy="152640"/>
          </a:xfrm>
        </p:grpSpPr>
        <p:sp>
          <p:nvSpPr>
            <p:cNvPr id="425" name=""/>
            <p:cNvSpPr/>
            <p:nvPr/>
          </p:nvSpPr>
          <p:spPr>
            <a:xfrm>
              <a:off x="6029280" y="437184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9280" y="444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05240" y="437184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0000" y="4362120"/>
            <a:ext cx="152280" cy="152640"/>
            <a:chOff x="7020000" y="4362120"/>
            <a:chExt cx="152280" cy="152640"/>
          </a:xfrm>
        </p:grpSpPr>
        <p:sp>
          <p:nvSpPr>
            <p:cNvPr id="429" name=""/>
            <p:cNvSpPr/>
            <p:nvPr/>
          </p:nvSpPr>
          <p:spPr>
            <a:xfrm>
              <a:off x="7020000" y="4362480"/>
              <a:ext cx="1522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0000" y="4432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95960" y="43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3120" y="5105520"/>
            <a:ext cx="814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ly generated electrons are indistinguishable from photo-generated electrons . They constitu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 source known as ‘Dark Current’ and it is important that CCDs are kept cold to reduce their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corresponds to the energy of light with a wavelength of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Beyond this wavelength silicon beco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 and CCDs constructed from silicon become insens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143000">
            <a:off x="5198040" y="30841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7641200">
            <a:off x="7151040" y="3061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67320" y="4745160"/>
            <a:ext cx="1767240" cy="276480"/>
            <a:chOff x="5467320" y="4745160"/>
            <a:chExt cx="1767240" cy="276480"/>
          </a:xfrm>
        </p:grpSpPr>
        <p:grpSp>
          <p:nvGrpSpPr>
            <p:cNvPr id="438" name=""/>
            <p:cNvGrpSpPr/>
            <p:nvPr/>
          </p:nvGrpSpPr>
          <p:grpSpPr>
            <a:xfrm>
              <a:off x="5467320" y="4800240"/>
              <a:ext cx="152280" cy="152640"/>
              <a:chOff x="5467320" y="4800240"/>
              <a:chExt cx="152280" cy="152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467320" y="480060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67320" y="487044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543280" y="48002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381720" y="487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95480" y="474516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le                 Elect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4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4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4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4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4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4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499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505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1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51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52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57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592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98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04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61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61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64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66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67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68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9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70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70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71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73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74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76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77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1648800" y="145908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ually all the buckets have been measured, the CCD has been rea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47280" y="773280"/>
            <a:ext cx="785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mage area of the CCD is positioned at the focal plane of the telescope.  An image then builds up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pattern of electric charge. At the end of the exposure this pattern is then transferred, pixel at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, by way of the serial register to the on-chip amplifier. Electrical connections are made to the out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ld via a series of bond pads and thin gold wires positioned around the chip periph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219320" y="2579760"/>
            <a:ext cx="3238560" cy="2806560"/>
            <a:chOff x="1219320" y="2579760"/>
            <a:chExt cx="3238560" cy="2806560"/>
          </a:xfrm>
        </p:grpSpPr>
        <p:sp>
          <p:nvSpPr>
            <p:cNvPr id="3784" name=""/>
            <p:cNvSpPr/>
            <p:nvPr/>
          </p:nvSpPr>
          <p:spPr>
            <a:xfrm>
              <a:off x="1219320" y="2579760"/>
              <a:ext cx="3238560" cy="2806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1550880" y="2811600"/>
              <a:ext cx="2595600" cy="2354040"/>
              <a:chOff x="1550880" y="2811600"/>
              <a:chExt cx="2595600" cy="2354040"/>
            </a:xfrm>
          </p:grpSpPr>
          <p:sp>
            <p:nvSpPr>
              <p:cNvPr id="3786" name=""/>
              <p:cNvSpPr/>
              <p:nvPr/>
            </p:nvSpPr>
            <p:spPr>
              <a:xfrm>
                <a:off x="1550880" y="2811600"/>
                <a:ext cx="2595600" cy="2354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611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11000" y="322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611000" y="35766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8525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941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57688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81844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060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221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37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9553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6110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6110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611000" y="445932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611000" y="475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6110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85256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1542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3958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8789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12048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4826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7843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9654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965400" y="48124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965400" y="451800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9654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9654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965400" y="345852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5400" y="31644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1309680" y="2691000"/>
              <a:ext cx="60480" cy="2595600"/>
              <a:chOff x="1309680" y="2691000"/>
              <a:chExt cx="60480" cy="2595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1309680" y="5226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309680" y="50450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309680" y="48639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309680" y="46828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309680" y="45018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309680" y="43207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309680" y="41396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309680" y="39585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309680" y="3777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309680" y="3596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309680" y="34153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309680" y="32342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09680" y="30531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309680" y="2872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309680" y="26910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3" name=""/>
            <p:cNvSpPr/>
            <p:nvPr/>
          </p:nvSpPr>
          <p:spPr>
            <a:xfrm>
              <a:off x="4297320" y="52354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297320" y="505476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297320" y="48736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97320" y="469260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97320" y="451188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97320" y="43308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7320" y="41497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97320" y="39672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7320" y="37861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97320" y="36054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7320" y="34243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7320" y="324324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7320" y="306252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7320" y="288144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97320" y="270036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8" name=""/>
            <p:cNvGrpSpPr/>
            <p:nvPr/>
          </p:nvGrpSpPr>
          <p:grpSpPr>
            <a:xfrm>
              <a:off x="1541520" y="2690640"/>
              <a:ext cx="2593800" cy="60120"/>
              <a:chOff x="1541520" y="2690640"/>
              <a:chExt cx="2593800" cy="60120"/>
            </a:xfrm>
          </p:grpSpPr>
          <p:sp>
            <p:nvSpPr>
              <p:cNvPr id="3849" name=""/>
              <p:cNvSpPr/>
              <p:nvPr/>
            </p:nvSpPr>
            <p:spPr>
              <a:xfrm rot="16200000">
                <a:off x="4075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rot="16200000">
                <a:off x="3894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16200000">
                <a:off x="37130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rot="16200000">
                <a:off x="35319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rot="16200000">
                <a:off x="3351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rot="16200000">
                <a:off x="31701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rot="16200000">
                <a:off x="29890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rot="16200000">
                <a:off x="28083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rot="16200000">
                <a:off x="26272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rot="16200000">
                <a:off x="2446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16200000">
                <a:off x="2265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rot="16200000">
                <a:off x="20844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rot="16200000">
                <a:off x="19033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rot="16200000">
                <a:off x="1722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rot="16200000">
                <a:off x="15415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1550880" y="5244840"/>
              <a:ext cx="2595600" cy="60120"/>
              <a:chOff x="1550880" y="5244840"/>
              <a:chExt cx="2595600" cy="60120"/>
            </a:xfrm>
          </p:grpSpPr>
          <p:sp>
            <p:nvSpPr>
              <p:cNvPr id="3865" name=""/>
              <p:cNvSpPr/>
              <p:nvPr/>
            </p:nvSpPr>
            <p:spPr>
              <a:xfrm rot="16200000">
                <a:off x="4086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rot="16200000">
                <a:off x="39049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16200000">
                <a:off x="37238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rot="16200000">
                <a:off x="35427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rot="16200000">
                <a:off x="33616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16200000">
                <a:off x="31806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16200000">
                <a:off x="29995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16200000">
                <a:off x="28184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2637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24562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22752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20941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19130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17319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15508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 flipH="1" flipV="1">
              <a:off x="1360440" y="3998520"/>
              <a:ext cx="301680" cy="181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371240" y="448488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1371240" y="47894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371600" y="50180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52480" y="5094000"/>
              <a:ext cx="15264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21337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 flipV="1">
              <a:off x="2425680" y="4998600"/>
              <a:ext cx="7632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84472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0481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 flipV="1">
              <a:off x="350496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 flipV="1">
              <a:off x="388620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 flipV="1">
              <a:off x="403848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 flipV="1">
              <a:off x="4038120" y="4865400"/>
              <a:ext cx="3049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038480" y="456084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038480" y="41799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403848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4038480" y="3417840"/>
              <a:ext cx="3049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038480" y="31892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4038480" y="28843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339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 flipV="1">
              <a:off x="3352680" y="2732040"/>
              <a:ext cx="15264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124080" y="2731680"/>
              <a:ext cx="763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2819160" y="2731680"/>
              <a:ext cx="7596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2666880" y="2732040"/>
              <a:ext cx="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152800" y="2732040"/>
              <a:ext cx="15228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19051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 flipV="1">
              <a:off x="1600200" y="2732040"/>
              <a:ext cx="763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1371240" y="32655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1294920" y="3646440"/>
              <a:ext cx="381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 flipV="1">
              <a:off x="137124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1905120" y="3112920"/>
            <a:ext cx="190476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901880" y="4799160"/>
            <a:ext cx="19051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09880" y="4803840"/>
            <a:ext cx="15264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723200" y="2122560"/>
            <a:ext cx="1639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p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 bond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d p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819520" y="227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4343400" y="2732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191120" y="311292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4038120" y="349380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4114440" y="4751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1828800" y="219852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495160" y="19810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,ceramic or plastic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051560" y="19051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2743200" y="4865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344320" y="6019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 flipV="1">
            <a:off x="3885840" y="486576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629240" y="5486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56280" y="773280"/>
            <a:ext cx="763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are are manufactured on silicon wafers using the same photo-lithographic techniques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manufacture computer chips. Scientific  CCDs are very big ,only a few can be fitted onto a wa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one reason that they are so cos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hoto below shows a silicon wafer with three large CCDs and assorted smaller devices. A CC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en produced by Philips that fills an entire 6 inch wafer! It is the worlds largest integrated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wafer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940280" cy="3873600"/>
          </a:xfrm>
          <a:prstGeom prst="rect">
            <a:avLst/>
          </a:prstGeom>
          <a:ln w="0">
            <a:noFill/>
          </a:ln>
        </p:spPr>
      </p:pic>
      <p:sp>
        <p:nvSpPr>
          <p:cNvPr id="3929" name=""/>
          <p:cNvSpPr/>
          <p:nvPr/>
        </p:nvSpPr>
        <p:spPr>
          <a:xfrm>
            <a:off x="6102360" y="635148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on Groom LB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2933640" y="1600200"/>
            <a:ext cx="327672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743200" y="344808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743200" y="3000240"/>
            <a:ext cx="3809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2743200" y="257184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743200" y="213372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771640" y="1704960"/>
            <a:ext cx="3810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rot="16200000">
            <a:off x="3343320" y="2609280"/>
            <a:ext cx="1228680" cy="11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971800" y="4952880"/>
            <a:ext cx="32767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971800" y="4952880"/>
            <a:ext cx="3276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2424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54356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5867280" y="4952880"/>
            <a:ext cx="7488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971800" y="4952880"/>
            <a:ext cx="327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971800" y="490536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H="1" flipV="1">
            <a:off x="20574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2640" y="23623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342900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4190760" y="1371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707640" y="113508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stops to define the columns of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53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55308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553080" y="2285640"/>
            <a:ext cx="533520" cy="2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066440" y="1763640"/>
            <a:ext cx="175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fine the pix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ly.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transfer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during rea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746280" y="1690560"/>
            <a:ext cx="1249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750960" y="5013360"/>
            <a:ext cx="154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55200" y="773280"/>
            <a:ext cx="76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agram shows a small section (a few pixels) of the image area of a CCD. This pattern is rea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6248520" y="4724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62485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48520" y="5048280"/>
            <a:ext cx="609480" cy="5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48520" y="5429160"/>
            <a:ext cx="60948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37840" y="4506840"/>
            <a:ext cx="134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ulating 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741600" y="5715000"/>
            <a:ext cx="73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third electrode is connected together. Bus wires running down the edge of the chip mak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. The channel stops are formed from high concentrations of Boron in  the sili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3067200" y="4853160"/>
            <a:ext cx="3438000" cy="156960"/>
            <a:chOff x="3067200" y="4853160"/>
            <a:chExt cx="3438000" cy="156960"/>
          </a:xfrm>
        </p:grpSpPr>
        <p:grpSp>
          <p:nvGrpSpPr>
            <p:cNvPr id="3969" name=""/>
            <p:cNvGrpSpPr/>
            <p:nvPr/>
          </p:nvGrpSpPr>
          <p:grpSpPr>
            <a:xfrm>
              <a:off x="3067200" y="4853160"/>
              <a:ext cx="218880" cy="152280"/>
              <a:chOff x="3067200" y="4853160"/>
              <a:chExt cx="218880" cy="15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30672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384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14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86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3357360" y="4853160"/>
              <a:ext cx="218880" cy="152280"/>
              <a:chOff x="3357360" y="4853160"/>
              <a:chExt cx="218880" cy="152280"/>
            </a:xfrm>
          </p:grpSpPr>
          <p:sp>
            <p:nvSpPr>
              <p:cNvPr id="3975" name=""/>
              <p:cNvSpPr/>
              <p:nvPr/>
            </p:nvSpPr>
            <p:spPr>
              <a:xfrm>
                <a:off x="3357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4286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5046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5762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652560" y="4853160"/>
              <a:ext cx="218880" cy="152280"/>
              <a:chOff x="3652560" y="4853160"/>
              <a:chExt cx="218880" cy="1522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6525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238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998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871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43080" y="4853160"/>
              <a:ext cx="218880" cy="152280"/>
              <a:chOff x="3943080" y="4853160"/>
              <a:chExt cx="21888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43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014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09032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1619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4238640" y="4857840"/>
              <a:ext cx="218520" cy="152280"/>
              <a:chOff x="4238640" y="4857840"/>
              <a:chExt cx="218520" cy="152280"/>
            </a:xfrm>
          </p:grpSpPr>
          <p:sp>
            <p:nvSpPr>
              <p:cNvPr id="3990" name=""/>
              <p:cNvSpPr/>
              <p:nvPr/>
            </p:nvSpPr>
            <p:spPr>
              <a:xfrm>
                <a:off x="4238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3099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3855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457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4529160" y="4857840"/>
              <a:ext cx="218520" cy="152280"/>
              <a:chOff x="4529160" y="4857840"/>
              <a:chExt cx="218520" cy="152280"/>
            </a:xfrm>
          </p:grpSpPr>
          <p:sp>
            <p:nvSpPr>
              <p:cNvPr id="3995" name=""/>
              <p:cNvSpPr/>
              <p:nvPr/>
            </p:nvSpPr>
            <p:spPr>
              <a:xfrm>
                <a:off x="4529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6004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676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747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824360" y="4857840"/>
              <a:ext cx="218520" cy="152280"/>
              <a:chOff x="4824360" y="4857840"/>
              <a:chExt cx="218520" cy="152280"/>
            </a:xfrm>
          </p:grpSpPr>
          <p:sp>
            <p:nvSpPr>
              <p:cNvPr id="4000" name=""/>
              <p:cNvSpPr/>
              <p:nvPr/>
            </p:nvSpPr>
            <p:spPr>
              <a:xfrm>
                <a:off x="4824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95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712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042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5114880" y="4857840"/>
              <a:ext cx="218520" cy="152280"/>
              <a:chOff x="5114880" y="4857840"/>
              <a:chExt cx="218520" cy="152280"/>
            </a:xfrm>
          </p:grpSpPr>
          <p:sp>
            <p:nvSpPr>
              <p:cNvPr id="4005" name=""/>
              <p:cNvSpPr/>
              <p:nvPr/>
            </p:nvSpPr>
            <p:spPr>
              <a:xfrm>
                <a:off x="5114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86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617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53334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5410080" y="4857840"/>
              <a:ext cx="218880" cy="152280"/>
              <a:chOff x="5410080" y="4857840"/>
              <a:chExt cx="218880" cy="152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10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81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557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6289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5700600" y="4857840"/>
              <a:ext cx="218880" cy="152280"/>
              <a:chOff x="5700600" y="4857840"/>
              <a:chExt cx="218880" cy="152280"/>
            </a:xfrm>
          </p:grpSpPr>
          <p:sp>
            <p:nvSpPr>
              <p:cNvPr id="4015" name=""/>
              <p:cNvSpPr/>
              <p:nvPr/>
            </p:nvSpPr>
            <p:spPr>
              <a:xfrm>
                <a:off x="5700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771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8478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9194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995800" y="4857840"/>
              <a:ext cx="218880" cy="152280"/>
              <a:chOff x="5995800" y="4857840"/>
              <a:chExt cx="218880" cy="15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9958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67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143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214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286320" y="4857840"/>
              <a:ext cx="218880" cy="152280"/>
              <a:chOff x="6286320" y="4857840"/>
              <a:chExt cx="218880" cy="152280"/>
            </a:xfrm>
          </p:grpSpPr>
          <p:sp>
            <p:nvSpPr>
              <p:cNvPr id="4025" name=""/>
              <p:cNvSpPr/>
              <p:nvPr/>
            </p:nvSpPr>
            <p:spPr>
              <a:xfrm>
                <a:off x="6286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357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335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052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9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743200" y="4952880"/>
            <a:ext cx="41911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3200" y="4952880"/>
            <a:ext cx="41911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743200" y="4952880"/>
            <a:ext cx="3809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743200" y="1600200"/>
            <a:ext cx="3467160" cy="304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114720" y="161928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5053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7339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91464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1148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3434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7242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9528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4368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3434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5720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0199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2485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1" name=""/>
          <p:cNvGrpSpPr/>
          <p:nvPr/>
        </p:nvGrpSpPr>
        <p:grpSpPr>
          <a:xfrm>
            <a:off x="2733840" y="1704960"/>
            <a:ext cx="3819240" cy="1190160"/>
            <a:chOff x="2733840" y="1704960"/>
            <a:chExt cx="3819240" cy="1190160"/>
          </a:xfrm>
        </p:grpSpPr>
        <p:sp>
          <p:nvSpPr>
            <p:cNvPr id="4052" name=""/>
            <p:cNvSpPr/>
            <p:nvPr/>
          </p:nvSpPr>
          <p:spPr>
            <a:xfrm>
              <a:off x="2743200" y="27183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743200" y="251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743200" y="2306880"/>
              <a:ext cx="3809880" cy="177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743200" y="210780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743200" y="190404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733840" y="170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2743200" y="393696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3200" y="373392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743200" y="35258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743200" y="3327480"/>
            <a:ext cx="3809880" cy="17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743200" y="31226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33840" y="29242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743200" y="41338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30600" y="1447920"/>
            <a:ext cx="42037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2200" y="1676520"/>
            <a:ext cx="76212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730600" y="1676520"/>
            <a:ext cx="30456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3043080" y="4309920"/>
            <a:ext cx="3453120" cy="190440"/>
            <a:chOff x="3043080" y="4309920"/>
            <a:chExt cx="3453120" cy="190440"/>
          </a:xfrm>
        </p:grpSpPr>
        <p:sp>
          <p:nvSpPr>
            <p:cNvPr id="4069" name=""/>
            <p:cNvSpPr/>
            <p:nvPr/>
          </p:nvSpPr>
          <p:spPr>
            <a:xfrm>
              <a:off x="3043080" y="4309920"/>
              <a:ext cx="31291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0" name=""/>
            <p:cNvGrpSpPr/>
            <p:nvPr/>
          </p:nvGrpSpPr>
          <p:grpSpPr>
            <a:xfrm>
              <a:off x="3057480" y="4343400"/>
              <a:ext cx="3438720" cy="156960"/>
              <a:chOff x="3057480" y="4343400"/>
              <a:chExt cx="3438720" cy="156960"/>
            </a:xfrm>
          </p:grpSpPr>
          <p:grpSp>
            <p:nvGrpSpPr>
              <p:cNvPr id="4071" name=""/>
              <p:cNvGrpSpPr/>
              <p:nvPr/>
            </p:nvGrpSpPr>
            <p:grpSpPr>
              <a:xfrm>
                <a:off x="3057480" y="4343400"/>
                <a:ext cx="219240" cy="152280"/>
                <a:chOff x="3057480" y="4343400"/>
                <a:chExt cx="219240" cy="15228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30574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31291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2050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276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3348000" y="4343400"/>
                <a:ext cx="219240" cy="152280"/>
                <a:chOff x="3348000" y="4343400"/>
                <a:chExt cx="219240" cy="1522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33480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34196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34956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5672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3643200" y="4343400"/>
                <a:ext cx="219240" cy="152280"/>
                <a:chOff x="3643200" y="4343400"/>
                <a:chExt cx="219240" cy="15228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36432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7148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37908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38624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"/>
              <p:cNvGrpSpPr/>
              <p:nvPr/>
            </p:nvGrpSpPr>
            <p:grpSpPr>
              <a:xfrm>
                <a:off x="3933720" y="4343400"/>
                <a:ext cx="219240" cy="152280"/>
                <a:chOff x="3933720" y="4343400"/>
                <a:chExt cx="219240" cy="15228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933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40053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40813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41529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4229280" y="4348080"/>
                <a:ext cx="218880" cy="152280"/>
                <a:chOff x="4229280" y="4348080"/>
                <a:chExt cx="218880" cy="1522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229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300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376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44481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4519800" y="4348080"/>
                <a:ext cx="218880" cy="152280"/>
                <a:chOff x="4519800" y="4348080"/>
                <a:chExt cx="218880" cy="15228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4519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591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667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4738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1" name=""/>
              <p:cNvGrpSpPr/>
              <p:nvPr/>
            </p:nvGrpSpPr>
            <p:grpSpPr>
              <a:xfrm>
                <a:off x="4815000" y="4348080"/>
                <a:ext cx="218880" cy="152280"/>
                <a:chOff x="4815000" y="4348080"/>
                <a:chExt cx="218880" cy="152280"/>
              </a:xfrm>
            </p:grpSpPr>
            <p:sp>
              <p:nvSpPr>
                <p:cNvPr id="4102" name=""/>
                <p:cNvSpPr/>
                <p:nvPr/>
              </p:nvSpPr>
              <p:spPr>
                <a:xfrm>
                  <a:off x="48150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4886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962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5033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5105520" y="4348080"/>
                <a:ext cx="218880" cy="152280"/>
                <a:chOff x="5105520" y="4348080"/>
                <a:chExt cx="218880" cy="1522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5105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176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52527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53244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5400720" y="4348080"/>
                <a:ext cx="219240" cy="152280"/>
                <a:chOff x="5400720" y="4348080"/>
                <a:chExt cx="219240" cy="15228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54007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723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5483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619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6" name=""/>
              <p:cNvGrpSpPr/>
              <p:nvPr/>
            </p:nvGrpSpPr>
            <p:grpSpPr>
              <a:xfrm>
                <a:off x="5691240" y="4348080"/>
                <a:ext cx="219240" cy="152280"/>
                <a:chOff x="5691240" y="4348080"/>
                <a:chExt cx="219240" cy="152280"/>
              </a:xfrm>
            </p:grpSpPr>
            <p:sp>
              <p:nvSpPr>
                <p:cNvPr id="4117" name=""/>
                <p:cNvSpPr/>
                <p:nvPr/>
              </p:nvSpPr>
              <p:spPr>
                <a:xfrm>
                  <a:off x="5691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762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8388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9104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5986440" y="4348080"/>
                <a:ext cx="219240" cy="152280"/>
                <a:chOff x="5986440" y="4348080"/>
                <a:chExt cx="219240" cy="1522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59864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058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134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205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6276960" y="4348080"/>
                <a:ext cx="219240" cy="152280"/>
                <a:chOff x="6276960" y="4348080"/>
                <a:chExt cx="219240" cy="1522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6276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3486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24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962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31" name=""/>
          <p:cNvSpPr/>
          <p:nvPr/>
        </p:nvSpPr>
        <p:spPr>
          <a:xfrm>
            <a:off x="6553080" y="42670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600960" y="493884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66880" y="485784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781680" y="3962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44920" y="359244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end of the 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49520" y="5013360"/>
            <a:ext cx="18237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657600" y="28195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20932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065240" y="3886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227680" y="586728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again every third electrode is in the serial register connected togeth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50160" y="773280"/>
            <a:ext cx="79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the image area (the area containing the horizontal electrodes) is the ‘Serial register’ . This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group of small surface electrodes. There are three electrodes for every column of the 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963080" y="5257800"/>
            <a:ext cx="60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rial register is bent double to move the output amplifier away from the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chip. This useful if the CCD is to be used as part of a mosaic.The ar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e how charge is transferred through the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4" name="eevserialreg" descr=""/>
          <p:cNvPicPr/>
          <p:nvPr/>
        </p:nvPicPr>
        <p:blipFill>
          <a:blip r:embed="rId1"/>
          <a:stretch/>
        </p:blipFill>
        <p:spPr>
          <a:xfrm>
            <a:off x="2400480" y="1405080"/>
            <a:ext cx="5435280" cy="3570120"/>
          </a:xfrm>
          <a:prstGeom prst="rect">
            <a:avLst/>
          </a:prstGeom>
          <a:ln w="0">
            <a:noFill/>
          </a:ln>
        </p:spPr>
      </p:pic>
      <p:sp>
        <p:nvSpPr>
          <p:cNvPr id="4145" name=""/>
          <p:cNvSpPr/>
          <p:nvPr/>
        </p:nvSpPr>
        <p:spPr>
          <a:xfrm>
            <a:off x="7613640" y="10288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rot="16200000">
            <a:off x="7148160" y="39391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6966000" y="1104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6966000" y="1176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6950520" y="8380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41920" y="14810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474640" y="28972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ial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3917880" y="3090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84720" y="407196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889680" y="323388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6585480" y="309096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585480" y="37666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815280" y="4495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Out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394000" y="3538440"/>
            <a:ext cx="76212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00400" y="45720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27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689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45140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13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975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6127920" y="4071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89680" y="3309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137200" y="3094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rot="16200000">
            <a:off x="6668640" y="34171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89360" y="914400"/>
            <a:ext cx="3493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a corner of an EEV C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outputamp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1996920" cy="3100680"/>
          </a:xfrm>
          <a:prstGeom prst="rect">
            <a:avLst/>
          </a:prstGeom>
          <a:ln w="0">
            <a:noFill/>
          </a:ln>
        </p:spPr>
      </p:pic>
      <p:sp>
        <p:nvSpPr>
          <p:cNvPr id="4172" name=""/>
          <p:cNvSpPr/>
          <p:nvPr/>
        </p:nvSpPr>
        <p:spPr>
          <a:xfrm>
            <a:off x="7272360" y="420516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7191360" y="42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>
            <a:off x="6734160" y="45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5" name=""/>
          <p:cNvGrpSpPr/>
          <p:nvPr/>
        </p:nvGrpSpPr>
        <p:grpSpPr>
          <a:xfrm>
            <a:off x="7343280" y="4662360"/>
            <a:ext cx="152280" cy="685800"/>
            <a:chOff x="7343280" y="4662360"/>
            <a:chExt cx="152280" cy="685800"/>
          </a:xfrm>
        </p:grpSpPr>
        <p:sp>
          <p:nvSpPr>
            <p:cNvPr id="4176" name=""/>
            <p:cNvSpPr/>
            <p:nvPr/>
          </p:nvSpPr>
          <p:spPr>
            <a:xfrm>
              <a:off x="7486560" y="46623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7343280" y="4671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6267600" y="2843280"/>
            <a:ext cx="771120" cy="1666440"/>
            <a:chOff x="6267600" y="2843280"/>
            <a:chExt cx="771120" cy="1666440"/>
          </a:xfrm>
        </p:grpSpPr>
        <p:sp>
          <p:nvSpPr>
            <p:cNvPr id="4179" name=""/>
            <p:cNvSpPr/>
            <p:nvPr/>
          </p:nvSpPr>
          <p:spPr>
            <a:xfrm>
              <a:off x="6805800" y="3367080"/>
              <a:ext cx="7632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0" name=""/>
            <p:cNvGrpSpPr/>
            <p:nvPr/>
          </p:nvGrpSpPr>
          <p:grpSpPr>
            <a:xfrm>
              <a:off x="6886440" y="2843280"/>
              <a:ext cx="152280" cy="685440"/>
              <a:chOff x="6886440" y="2843280"/>
              <a:chExt cx="152280" cy="68544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7029720" y="2843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6886440" y="3519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3" name=""/>
            <p:cNvSpPr/>
            <p:nvPr/>
          </p:nvSpPr>
          <p:spPr>
            <a:xfrm>
              <a:off x="6724800" y="344304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6267600" y="36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6876720" y="3824280"/>
              <a:ext cx="152280" cy="685440"/>
              <a:chOff x="6876720" y="3824280"/>
              <a:chExt cx="152280" cy="685440"/>
            </a:xfrm>
          </p:grpSpPr>
          <p:sp>
            <p:nvSpPr>
              <p:cNvPr id="4186" name=""/>
              <p:cNvSpPr/>
              <p:nvPr/>
            </p:nvSpPr>
            <p:spPr>
              <a:xfrm>
                <a:off x="7020000" y="3824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6876720" y="3833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8" name=""/>
          <p:cNvSpPr/>
          <p:nvPr/>
        </p:nvSpPr>
        <p:spPr>
          <a:xfrm>
            <a:off x="6981840" y="447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7353000" y="2833560"/>
            <a:ext cx="142920" cy="1532880"/>
            <a:chOff x="7353000" y="2833560"/>
            <a:chExt cx="142920" cy="1532880"/>
          </a:xfrm>
        </p:grpSpPr>
        <p:sp>
          <p:nvSpPr>
            <p:cNvPr id="4190" name=""/>
            <p:cNvSpPr/>
            <p:nvPr/>
          </p:nvSpPr>
          <p:spPr>
            <a:xfrm flipV="1">
              <a:off x="7487280" y="2833560"/>
              <a:ext cx="0" cy="15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7353000" y="4345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7410600" y="269064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96276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7477200" y="5272200"/>
            <a:ext cx="841320" cy="152280"/>
            <a:chOff x="7477200" y="5272200"/>
            <a:chExt cx="841320" cy="152280"/>
          </a:xfrm>
        </p:grpSpPr>
        <p:sp>
          <p:nvSpPr>
            <p:cNvPr id="4195" name=""/>
            <p:cNvSpPr/>
            <p:nvPr/>
          </p:nvSpPr>
          <p:spPr>
            <a:xfrm>
              <a:off x="7477200" y="5346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rot="5400000">
              <a:off x="8165880" y="527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6504120" y="4832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504120" y="4746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6732720" y="450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6734160" y="48340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6381720" y="56530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808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53080" y="4738680"/>
            <a:ext cx="34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17032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667480" y="47386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6200640" y="2681280"/>
            <a:ext cx="152280" cy="990720"/>
            <a:chOff x="6200640" y="2681280"/>
            <a:chExt cx="152280" cy="990720"/>
          </a:xfrm>
        </p:grpSpPr>
        <p:sp>
          <p:nvSpPr>
            <p:cNvPr id="4207" name=""/>
            <p:cNvSpPr/>
            <p:nvPr/>
          </p:nvSpPr>
          <p:spPr>
            <a:xfrm>
              <a:off x="6200640" y="26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276600" y="2833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>
            <a:off x="589608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972040" y="283356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269840" y="23752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8048520" y="4966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822000" y="237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6171840" y="2375280"/>
            <a:ext cx="379440" cy="307080"/>
            <a:chOff x="6171840" y="2375280"/>
            <a:chExt cx="379440" cy="307080"/>
          </a:xfrm>
        </p:grpSpPr>
        <p:grpSp>
          <p:nvGrpSpPr>
            <p:cNvPr id="4215" name=""/>
            <p:cNvGrpSpPr/>
            <p:nvPr/>
          </p:nvGrpSpPr>
          <p:grpSpPr>
            <a:xfrm>
              <a:off x="6171840" y="2411280"/>
              <a:ext cx="152640" cy="228600"/>
              <a:chOff x="6171840" y="2411280"/>
              <a:chExt cx="152640" cy="228600"/>
            </a:xfrm>
          </p:grpSpPr>
          <p:sp>
            <p:nvSpPr>
              <p:cNvPr id="4216" name=""/>
              <p:cNvSpPr/>
              <p:nvPr/>
            </p:nvSpPr>
            <p:spPr>
              <a:xfrm>
                <a:off x="6172200" y="2449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171840" y="241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6251760" y="2375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5724360" y="2375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6537600" y="4165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420960" y="56520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441560" y="4318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820920" y="349884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18760" y="4165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43000" y="2147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14300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36224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90036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2514600" y="321444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2486160" y="2147400"/>
            <a:ext cx="5331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2743200" y="26812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2209680" y="19951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2971800" y="3824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443376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1905120" y="4738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362320" y="443376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05840" y="153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Drain (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163320" y="24051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Source (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971440" y="191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of Output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430080" y="2986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1" name=""/>
          <p:cNvGrpSpPr/>
          <p:nvPr/>
        </p:nvGrpSpPr>
        <p:grpSpPr>
          <a:xfrm>
            <a:off x="3580920" y="4509000"/>
            <a:ext cx="379440" cy="307080"/>
            <a:chOff x="3580920" y="4509000"/>
            <a:chExt cx="379440" cy="307080"/>
          </a:xfrm>
        </p:grpSpPr>
        <p:grpSp>
          <p:nvGrpSpPr>
            <p:cNvPr id="4242" name=""/>
            <p:cNvGrpSpPr/>
            <p:nvPr/>
          </p:nvGrpSpPr>
          <p:grpSpPr>
            <a:xfrm>
              <a:off x="3580920" y="4545000"/>
              <a:ext cx="152640" cy="228600"/>
              <a:chOff x="3580920" y="4545000"/>
              <a:chExt cx="152640" cy="228600"/>
            </a:xfrm>
          </p:grpSpPr>
          <p:sp>
            <p:nvSpPr>
              <p:cNvPr id="4243" name=""/>
              <p:cNvSpPr/>
              <p:nvPr/>
            </p:nvSpPr>
            <p:spPr>
              <a:xfrm>
                <a:off x="3581280" y="4583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3580920" y="454500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660840" y="4509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6" name=""/>
          <p:cNvSpPr/>
          <p:nvPr/>
        </p:nvSpPr>
        <p:spPr>
          <a:xfrm>
            <a:off x="3429360" y="35956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 Drain (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352320" y="51195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Well (S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511000" y="571500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few electrodes in Seria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4480" y="4491720"/>
            <a:ext cx="136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ial Register Electro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503360" y="914400"/>
            <a:ext cx="6351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the on-chip amplifier of a Tektronix CCD and its circuit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120" y="1611360"/>
            <a:ext cx="7761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on analogy for the operation of a CCD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number of 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re distributed across a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cal Plane of a tele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 square array. The buckets are placed on top of a series of parallel conveyor belts and collect  rain  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hoton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cross the field. The conveyor belts are initially stationary, while the rain slowly fill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uring the course of the expos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Once the rain stop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camera shutter clo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s start turning and transfer the buckets of rain , one by one , to a measuring cyl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lectronic 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t the corner of the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t the corner of the C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tion in the following slides demonstrates how the conveyor belts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666880"/>
            <a:ext cx="784872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5640" y="990720"/>
            <a:ext cx="7898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-type layer contains an excess of electrons that diffuse into the p-layer. The p-layer contain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ss of holes that diffuse into the n-layer. This structure is identical to that of a diode jun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usion creates a charge imbalance and induces an internal electric field. The electric potent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ches a maximum just inside the n-layer, and it is here that any photo-generated electrons will colle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science CCDs have this junction structure, known as a ‘Buried Channel’. It has the advanta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ing the photo-electrons confined away from the surface of the CCD where they could become trapp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also reduces the amount of thermally generated noise (dark curren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3" name=""/>
          <p:cNvGrpSpPr/>
          <p:nvPr/>
        </p:nvGrpSpPr>
        <p:grpSpPr>
          <a:xfrm>
            <a:off x="3048120" y="4495680"/>
            <a:ext cx="2971800" cy="1371600"/>
            <a:chOff x="3048120" y="4495680"/>
            <a:chExt cx="2971800" cy="1371600"/>
          </a:xfrm>
        </p:grpSpPr>
        <p:sp>
          <p:nvSpPr>
            <p:cNvPr id="4254" name=""/>
            <p:cNvSpPr/>
            <p:nvPr/>
          </p:nvSpPr>
          <p:spPr>
            <a:xfrm rot="16200000">
              <a:off x="3751560" y="4422600"/>
              <a:ext cx="1371600" cy="1517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4267440" y="4419360"/>
              <a:ext cx="13716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52920" y="4495680"/>
              <a:ext cx="5040" cy="1371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3276360" y="4998960"/>
              <a:ext cx="314640" cy="385560"/>
              <a:chOff x="3276360" y="4998960"/>
              <a:chExt cx="314640" cy="385560"/>
            </a:xfrm>
          </p:grpSpPr>
          <p:sp>
            <p:nvSpPr>
              <p:cNvPr id="4258" name=""/>
              <p:cNvSpPr/>
              <p:nvPr/>
            </p:nvSpPr>
            <p:spPr>
              <a:xfrm flipV="1">
                <a:off x="3591000" y="499896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276360" y="519156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3241800" y="5416200"/>
              <a:ext cx="349200" cy="385920"/>
              <a:chOff x="3241800" y="5416200"/>
              <a:chExt cx="349200" cy="385920"/>
            </a:xfrm>
          </p:grpSpPr>
          <p:sp>
            <p:nvSpPr>
              <p:cNvPr id="4261" name=""/>
              <p:cNvSpPr/>
              <p:nvPr/>
            </p:nvSpPr>
            <p:spPr>
              <a:xfrm flipV="1">
                <a:off x="3591000" y="5416200"/>
                <a:ext cx="0" cy="3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3241800" y="5609160"/>
                <a:ext cx="3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3286080" y="4562280"/>
              <a:ext cx="314640" cy="385560"/>
              <a:chOff x="3286080" y="4562280"/>
              <a:chExt cx="314640" cy="385560"/>
            </a:xfrm>
          </p:grpSpPr>
          <p:sp>
            <p:nvSpPr>
              <p:cNvPr id="4264" name=""/>
              <p:cNvSpPr/>
              <p:nvPr/>
            </p:nvSpPr>
            <p:spPr>
              <a:xfrm flipV="1">
                <a:off x="3600720" y="456228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3286080" y="475488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3048120" y="519084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4041360" y="5364000"/>
              <a:ext cx="27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83400" y="492588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 along this line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raph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60036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62800" y="5943600"/>
            <a:ext cx="3589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ection through the thickness of the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949680" y="1001880"/>
            <a:ext cx="772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ring integration of the image, one of the electrodes in each pixel is held at a positive potential.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increases the potential in the silicon below that electrode and it is here that the photoelectron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d. The neighboring electrodes, with their lower potentials, act as potential barriers that d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tical  boundaries of the pixel. The horizontal boundaries are defined by the channel s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rot="16200000">
            <a:off x="3749760" y="4421160"/>
            <a:ext cx="1371600" cy="151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rot="16200000">
            <a:off x="4265640" y="4417920"/>
            <a:ext cx="1371600" cy="1524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651120" y="4494240"/>
            <a:ext cx="5040" cy="1371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3274560" y="4995720"/>
            <a:ext cx="314640" cy="385920"/>
            <a:chOff x="3274560" y="4995720"/>
            <a:chExt cx="314640" cy="385920"/>
          </a:xfrm>
        </p:grpSpPr>
        <p:sp>
          <p:nvSpPr>
            <p:cNvPr id="4284" name=""/>
            <p:cNvSpPr/>
            <p:nvPr/>
          </p:nvSpPr>
          <p:spPr>
            <a:xfrm flipV="1">
              <a:off x="3589200" y="4995720"/>
              <a:ext cx="0" cy="385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3274560" y="518868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3240000" y="5413320"/>
            <a:ext cx="349200" cy="385920"/>
            <a:chOff x="3240000" y="5413320"/>
            <a:chExt cx="349200" cy="385920"/>
          </a:xfrm>
        </p:grpSpPr>
        <p:sp>
          <p:nvSpPr>
            <p:cNvPr id="4287" name=""/>
            <p:cNvSpPr/>
            <p:nvPr/>
          </p:nvSpPr>
          <p:spPr>
            <a:xfrm flipV="1">
              <a:off x="3589200" y="5413320"/>
              <a:ext cx="0" cy="38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3240000" y="5606280"/>
              <a:ext cx="3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3284280" y="4559040"/>
            <a:ext cx="314640" cy="385560"/>
            <a:chOff x="3284280" y="4559040"/>
            <a:chExt cx="314640" cy="385560"/>
          </a:xfrm>
        </p:grpSpPr>
        <p:sp>
          <p:nvSpPr>
            <p:cNvPr id="4290" name=""/>
            <p:cNvSpPr/>
            <p:nvPr/>
          </p:nvSpPr>
          <p:spPr>
            <a:xfrm flipV="1">
              <a:off x="3598920" y="4559040"/>
              <a:ext cx="0" cy="38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3284280" y="475164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3046320" y="5189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 rot="16200000">
            <a:off x="4039560" y="5362200"/>
            <a:ext cx="2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cap="rnd" w="1260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600360" y="2666880"/>
            <a:ext cx="198144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0" y="528"/>
                </a:moveTo>
                <a:cubicBezTo>
                  <a:pt x="28" y="376"/>
                  <a:pt x="56" y="224"/>
                  <a:pt x="96" y="144"/>
                </a:cubicBezTo>
                <a:cubicBezTo>
                  <a:pt x="136" y="64"/>
                  <a:pt x="184" y="56"/>
                  <a:pt x="240" y="48"/>
                </a:cubicBezTo>
                <a:cubicBezTo>
                  <a:pt x="296" y="40"/>
                  <a:pt x="352" y="0"/>
                  <a:pt x="432" y="96"/>
                </a:cubicBezTo>
                <a:cubicBezTo>
                  <a:pt x="512" y="192"/>
                  <a:pt x="584" y="488"/>
                  <a:pt x="720" y="624"/>
                </a:cubicBezTo>
                <a:cubicBezTo>
                  <a:pt x="856" y="760"/>
                  <a:pt x="1160" y="864"/>
                  <a:pt x="1248" y="91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3971880" y="4924440"/>
            <a:ext cx="228600" cy="53352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162320" y="4572000"/>
            <a:ext cx="216216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36003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216840" y="4295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 of maxim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"/>
          <p:cNvSpPr/>
          <p:nvPr/>
        </p:nvSpPr>
        <p:spPr>
          <a:xfrm>
            <a:off x="1600200" y="2575080"/>
            <a:ext cx="5638680" cy="76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4673520" y="2016000"/>
            <a:ext cx="685800" cy="457200"/>
            <a:chOff x="4673520" y="2016000"/>
            <a:chExt cx="685800" cy="457200"/>
          </a:xfrm>
        </p:grpSpPr>
        <p:sp>
          <p:nvSpPr>
            <p:cNvPr id="4307" name=""/>
            <p:cNvSpPr/>
            <p:nvPr/>
          </p:nvSpPr>
          <p:spPr>
            <a:xfrm>
              <a:off x="467352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501660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5410080" y="1965240"/>
            <a:ext cx="685800" cy="507600"/>
            <a:chOff x="5410080" y="1965240"/>
            <a:chExt cx="685800" cy="507600"/>
          </a:xfrm>
        </p:grpSpPr>
        <p:sp>
          <p:nvSpPr>
            <p:cNvPr id="4310" name=""/>
            <p:cNvSpPr/>
            <p:nvPr/>
          </p:nvSpPr>
          <p:spPr>
            <a:xfrm>
              <a:off x="54100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57531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159600" y="1965240"/>
            <a:ext cx="685800" cy="507600"/>
            <a:chOff x="6159600" y="1965240"/>
            <a:chExt cx="685800" cy="507600"/>
          </a:xfrm>
        </p:grpSpPr>
        <p:sp>
          <p:nvSpPr>
            <p:cNvPr id="4313" name=""/>
            <p:cNvSpPr/>
            <p:nvPr/>
          </p:nvSpPr>
          <p:spPr>
            <a:xfrm>
              <a:off x="615960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50268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1600200" y="3336840"/>
            <a:ext cx="563868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600200" y="2536920"/>
            <a:ext cx="56386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3504960" y="2895480"/>
            <a:ext cx="74880" cy="1371600"/>
            <a:chOff x="3504960" y="2895480"/>
            <a:chExt cx="74880" cy="1371600"/>
          </a:xfrm>
        </p:grpSpPr>
        <p:sp>
          <p:nvSpPr>
            <p:cNvPr id="4318" name=""/>
            <p:cNvSpPr/>
            <p:nvPr/>
          </p:nvSpPr>
          <p:spPr>
            <a:xfrm rot="16200000">
              <a:off x="2857320" y="354456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3504960" y="3179520"/>
              <a:ext cx="46440" cy="1087560"/>
              <a:chOff x="3504960" y="3179520"/>
              <a:chExt cx="46440" cy="1087560"/>
            </a:xfrm>
          </p:grpSpPr>
          <p:sp>
            <p:nvSpPr>
              <p:cNvPr id="4320" name=""/>
              <p:cNvSpPr/>
              <p:nvPr/>
            </p:nvSpPr>
            <p:spPr>
              <a:xfrm flipH="1" flipV="1">
                <a:off x="35146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 flipV="1">
                <a:off x="3504960" y="4246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505320" y="4232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35053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3515040" y="42130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3527640" y="4201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3540240" y="4192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549960" y="417816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53988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 flipV="1">
                <a:off x="3527280" y="4157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3514680" y="4147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 flipV="1">
                <a:off x="3504960" y="4138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505320" y="4124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35053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3515040" y="4103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3527640" y="4093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3540240" y="40827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3549960" y="40701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353988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3527280" y="4049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 flipV="1">
                <a:off x="3514680" y="4038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3504960" y="4028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3505320" y="40161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3505320" y="4005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3515040" y="3995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3527640" y="3984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3540240" y="3974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3549960" y="39603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 flipV="1">
                <a:off x="3539880" y="39510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flipV="1">
                <a:off x="3527280" y="3939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H="1" flipV="1">
                <a:off x="3514680" y="3930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 flipV="1">
                <a:off x="3504960" y="3920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3505320" y="39067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35053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3515040" y="3885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3527640" y="3876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3540240" y="3865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3549960" y="38527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flipV="1">
                <a:off x="353988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H="1" flipV="1">
                <a:off x="3527280" y="3831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H="1" flipV="1">
                <a:off x="3514680" y="3822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H="1" flipV="1">
                <a:off x="3504960" y="3811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3505320" y="37987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35053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3515040" y="3777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3527640" y="37666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3540240" y="37573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3549960" y="37429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 flipV="1">
                <a:off x="353988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H="1" flipV="1">
                <a:off x="3527280" y="3722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H="1" flipV="1">
                <a:off x="3514680" y="3713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 flipV="1">
                <a:off x="3504960" y="37033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3505320" y="36889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3505320" y="3679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3515040" y="3668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3527640" y="3659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3540240" y="3647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3549960" y="36349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 flipV="1">
                <a:off x="3539880" y="36241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 flipV="1">
                <a:off x="3527280" y="3614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H="1" flipV="1">
                <a:off x="3514680" y="3605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H="1" flipV="1">
                <a:off x="3504960" y="3593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505320" y="35812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5053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515040" y="3560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527640" y="3549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40240" y="3539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549960" y="35254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 flipV="1">
                <a:off x="353988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H="1" flipV="1">
                <a:off x="3527280" y="3506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H="1" flipV="1">
                <a:off x="3514680" y="3495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 flipV="1">
                <a:off x="3504960" y="3485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3505320" y="34714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35053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3515040" y="34509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3527640" y="3441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3540240" y="34304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3549960" y="34174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H="1" flipV="1">
                <a:off x="3539880" y="3406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 flipV="1">
                <a:off x="3527280" y="33969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H="1" flipV="1">
                <a:off x="3514680" y="3387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 flipV="1">
                <a:off x="3504960" y="33764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3505320" y="336348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505320" y="3352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3515040" y="3342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3527640" y="333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3540240" y="3322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3549960" y="33080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 flipV="1">
                <a:off x="353988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3527280" y="3288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3514680" y="3277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H="1" flipV="1">
                <a:off x="3504960" y="3268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3505320" y="32540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35053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3515040" y="32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3527640" y="322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3540240" y="3212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3549960" y="32000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H="1" flipV="1">
                <a:off x="353988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 flipV="1">
                <a:off x="3527280" y="31795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 flipV="1">
              <a:off x="3527640" y="306216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4368600" y="3564000"/>
            <a:ext cx="74880" cy="1371600"/>
            <a:chOff x="4368600" y="3564000"/>
            <a:chExt cx="74880" cy="1371600"/>
          </a:xfrm>
        </p:grpSpPr>
        <p:sp>
          <p:nvSpPr>
            <p:cNvPr id="4422" name=""/>
            <p:cNvSpPr/>
            <p:nvPr/>
          </p:nvSpPr>
          <p:spPr>
            <a:xfrm rot="16200000">
              <a:off x="3720960" y="421308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4368600" y="3848040"/>
              <a:ext cx="46440" cy="1087560"/>
              <a:chOff x="4368600" y="3848040"/>
              <a:chExt cx="46440" cy="1087560"/>
            </a:xfrm>
          </p:grpSpPr>
          <p:sp>
            <p:nvSpPr>
              <p:cNvPr id="4424" name=""/>
              <p:cNvSpPr/>
              <p:nvPr/>
            </p:nvSpPr>
            <p:spPr>
              <a:xfrm flipH="1" flipV="1">
                <a:off x="4378320" y="4924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H="1" flipV="1">
                <a:off x="4368600" y="4914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368960" y="4900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368960" y="4890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680" y="4881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391280" y="4870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403880" y="4860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413600" y="484668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H="1" flipV="1">
                <a:off x="4403520" y="4836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 flipV="1">
                <a:off x="4390920" y="4825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flipV="1">
                <a:off x="4378320" y="4816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H="1" flipV="1">
                <a:off x="4368600" y="4806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4368960" y="4792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4368960" y="4782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4378680" y="477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4391280" y="4762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4403880" y="475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4413600" y="4738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 flipV="1">
                <a:off x="4403520" y="4727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 flipV="1">
                <a:off x="4390920" y="4717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flipV="1">
                <a:off x="4378320" y="4707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flipV="1">
                <a:off x="4368600" y="4697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4368960" y="4684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4368960" y="4673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4378680" y="466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4391280" y="4653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4403880" y="4643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413600" y="4628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 flipV="1">
                <a:off x="4403520" y="4619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flipV="1">
                <a:off x="4390920" y="4608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4378320" y="4599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4368600" y="4589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4368960" y="457524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4368960" y="45655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378680" y="4554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391280" y="4545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403880" y="453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13600" y="45212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 flipV="1">
                <a:off x="4403520" y="4510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 flipV="1">
                <a:off x="4390920" y="4500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 flipV="1">
                <a:off x="4378320" y="4491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 flipV="1">
                <a:off x="4368600" y="4479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4368960" y="4467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4368960" y="4456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4378680" y="4446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4391280" y="4435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4403880" y="4425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4413600" y="4411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 flipV="1">
                <a:off x="4403520" y="4402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 flipV="1">
                <a:off x="4390920" y="4390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 flipV="1">
                <a:off x="4378320" y="4381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 flipV="1">
                <a:off x="4368600" y="43718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368960" y="4357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4368960" y="4348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4378680" y="4336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4391280" y="4327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4403880" y="4316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4413600" y="4303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H="1" flipV="1">
                <a:off x="4403520" y="4292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 flipV="1">
                <a:off x="4390920" y="4282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H="1" flipV="1">
                <a:off x="4378320" y="4273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 flipV="1">
                <a:off x="4368600" y="4262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4368960" y="42498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4368960" y="4238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4378680" y="4228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4391280" y="4217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4403880" y="4208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4413600" y="4194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 flipV="1">
                <a:off x="4403520" y="4184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 flipV="1">
                <a:off x="4390920" y="4174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 flipV="1">
                <a:off x="4378320" y="4163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4368600" y="4154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68960" y="4140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368960" y="4130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378680" y="4119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391280" y="4109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403880" y="40989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413600" y="408600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H="1" flipV="1">
                <a:off x="4403520" y="4074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H="1" flipV="1">
                <a:off x="4390920" y="4065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 flipV="1">
                <a:off x="4378320" y="40561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H="1" flipV="1">
                <a:off x="4368600" y="4044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368960" y="403200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4368960" y="40212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4378680" y="4011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4391280" y="4000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4403880" y="3990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4413600" y="39765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 flipV="1">
                <a:off x="4403520" y="3967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 flipV="1">
                <a:off x="4390920" y="395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H="1" flipV="1">
                <a:off x="4378320" y="3946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H="1" flipV="1">
                <a:off x="4368600" y="3936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368960" y="39225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4368960" y="3913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4378680" y="3902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4391280" y="38923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4403880" y="38811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4413600" y="38685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4403520" y="3857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H="1" flipV="1">
                <a:off x="4390920" y="384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 flipV="1">
              <a:off x="4391280" y="37306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752800" y="3700440"/>
            <a:ext cx="74880" cy="1371600"/>
            <a:chOff x="5752800" y="3700440"/>
            <a:chExt cx="74880" cy="1371600"/>
          </a:xfrm>
        </p:grpSpPr>
        <p:sp>
          <p:nvSpPr>
            <p:cNvPr id="4526" name=""/>
            <p:cNvSpPr/>
            <p:nvPr/>
          </p:nvSpPr>
          <p:spPr>
            <a:xfrm rot="16200000">
              <a:off x="5105160" y="434952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5752800" y="3984480"/>
              <a:ext cx="46440" cy="1087560"/>
              <a:chOff x="5752800" y="3984480"/>
              <a:chExt cx="46440" cy="1087560"/>
            </a:xfrm>
          </p:grpSpPr>
          <p:sp>
            <p:nvSpPr>
              <p:cNvPr id="4528" name=""/>
              <p:cNvSpPr/>
              <p:nvPr/>
            </p:nvSpPr>
            <p:spPr>
              <a:xfrm flipH="1" flipV="1">
                <a:off x="5762520" y="5060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H="1" flipV="1">
                <a:off x="5752800" y="5051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753160" y="5037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5753160" y="5027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5762880" y="501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5775480" y="5006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5788080" y="4997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797800" y="498312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 flipV="1">
                <a:off x="5787720" y="4973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H="1" flipV="1">
                <a:off x="5775120" y="4962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 flipV="1">
                <a:off x="5762520" y="4952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H="1" flipV="1">
                <a:off x="5752800" y="4943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5753160" y="4929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5753160" y="4919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5762880" y="4908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5775480" y="4898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5788080" y="48877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5797800" y="48751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H="1" flipV="1">
                <a:off x="5787720" y="4863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flipV="1">
                <a:off x="5775120" y="4854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H="1" flipV="1">
                <a:off x="5762520" y="4843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H="1" flipV="1">
                <a:off x="5752800" y="4833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5753160" y="48211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5753160" y="4809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5762880" y="4800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5775480" y="4789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5788080" y="4779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797800" y="47653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H="1" flipV="1">
                <a:off x="5787720" y="4755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H="1" flipV="1">
                <a:off x="5775120" y="4744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 flipV="1">
                <a:off x="5762520" y="4735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H="1" flipV="1">
                <a:off x="5752800" y="4725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5753160" y="4711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5753160" y="4701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5762880" y="4690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5775480" y="4681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5788080" y="4670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5797800" y="4657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H="1" flipV="1">
                <a:off x="5787720" y="4646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H="1" flipV="1">
                <a:off x="5775120" y="4636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 flipV="1">
                <a:off x="5762520" y="4627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H="1" flipV="1">
                <a:off x="5752800" y="4616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5753160" y="4603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5753160" y="4592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5762880" y="4582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5775480" y="4571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5788080" y="45622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5797800" y="4547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H="1" flipV="1">
                <a:off x="5787720" y="4538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H="1" flipV="1">
                <a:off x="5775120" y="4527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H="1" flipV="1">
                <a:off x="5762520" y="4518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H="1" flipV="1">
                <a:off x="5752800" y="4508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5753160" y="44938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5753160" y="4484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5762880" y="4473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5775480" y="4464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5788080" y="4452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5797800" y="44398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flipV="1">
                <a:off x="5787720" y="44290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flipV="1">
                <a:off x="5775120" y="4419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flipV="1">
                <a:off x="5762520" y="4410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flipV="1">
                <a:off x="5752800" y="4398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5753160" y="4386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5753160" y="4375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5762880" y="4365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5775480" y="4354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5788080" y="4344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5797800" y="4330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H="1" flipV="1">
                <a:off x="5787720" y="4321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H="1" flipV="1">
                <a:off x="5775120" y="4311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H="1" flipV="1">
                <a:off x="5762520" y="4300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flipV="1">
                <a:off x="5752800" y="4290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5753160" y="4276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5753160" y="4267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57628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5775480" y="4246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788080" y="42354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5797800" y="4222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 flipV="1">
                <a:off x="5787720" y="421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H="1" flipV="1">
                <a:off x="5775120" y="4201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H="1" flipV="1">
                <a:off x="5762520" y="4192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H="1" flipV="1">
                <a:off x="5752800" y="4181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5753160" y="416844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5753160" y="4157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5762880" y="4147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5775480" y="4136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5788080" y="4127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5797800" y="4113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 flipV="1">
                <a:off x="5787720" y="4103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5775120" y="4093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H="1" flipV="1">
                <a:off x="5762520" y="4082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H="1" flipV="1">
                <a:off x="5752800" y="4073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5753160" y="4059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753160" y="4049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762880" y="4038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75480" y="4028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788080" y="40176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5797800" y="40050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 flipV="1">
                <a:off x="5787720" y="399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5775120" y="3984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8" name=""/>
            <p:cNvSpPr/>
            <p:nvPr/>
          </p:nvSpPr>
          <p:spPr>
            <a:xfrm flipV="1">
              <a:off x="5775480" y="3867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56080" y="3643200"/>
            <a:ext cx="74880" cy="836640"/>
            <a:chOff x="2656080" y="3643200"/>
            <a:chExt cx="74880" cy="836640"/>
          </a:xfrm>
        </p:grpSpPr>
        <p:sp>
          <p:nvSpPr>
            <p:cNvPr id="4630" name=""/>
            <p:cNvSpPr/>
            <p:nvPr/>
          </p:nvSpPr>
          <p:spPr>
            <a:xfrm flipH="1" rot="5400000">
              <a:off x="2273760" y="4024800"/>
              <a:ext cx="8366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2684520" y="3816720"/>
              <a:ext cx="46440" cy="663120"/>
              <a:chOff x="2684520" y="3816720"/>
              <a:chExt cx="46440" cy="663120"/>
            </a:xfrm>
          </p:grpSpPr>
          <p:sp>
            <p:nvSpPr>
              <p:cNvPr id="4632" name=""/>
              <p:cNvSpPr/>
              <p:nvPr/>
            </p:nvSpPr>
            <p:spPr>
              <a:xfrm flipV="1">
                <a:off x="2708640" y="44733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2721240" y="446760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H="1" flipV="1">
                <a:off x="2728800" y="445896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2720880" y="44528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2708280" y="444744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2695680" y="4440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H="1" flipV="1">
                <a:off x="2685960" y="443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 flipV="1">
                <a:off x="2684520" y="4426200"/>
                <a:ext cx="144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2686320" y="44200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696040" y="44132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708640" y="44074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2721240" y="440172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H="1" flipV="1">
                <a:off x="2728800" y="439308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2720880" y="43869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 flipV="1">
                <a:off x="2708280" y="438048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2695680" y="4374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 flipV="1">
                <a:off x="2685960" y="436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H="1" flipV="1">
                <a:off x="2684520" y="4359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2686320" y="4353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2696040" y="43473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708640" y="43405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721240" y="43347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H="1" flipV="1">
                <a:off x="2728800" y="432720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2720880" y="43203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 flipV="1">
                <a:off x="2708280" y="43142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2695680" y="4307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 flipV="1">
                <a:off x="2685960" y="43016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 flipV="1">
                <a:off x="2684520" y="429300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2686320" y="42876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2696040" y="4280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2708640" y="42750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2721240" y="42688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H="1" flipV="1">
                <a:off x="2728800" y="426024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2720880" y="425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 flipV="1">
                <a:off x="2708280" y="42476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2695680" y="42418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H="1" flipV="1">
                <a:off x="2685960" y="423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H="1" flipV="1">
                <a:off x="2684520" y="422748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686320" y="42206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2696040" y="42145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2708640" y="42091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2721240" y="42022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flipV="1">
                <a:off x="2728800" y="419436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2720880" y="418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flipV="1">
                <a:off x="2708280" y="41817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2695680" y="4174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 flipV="1">
                <a:off x="2685960" y="416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H="1" flipV="1">
                <a:off x="2684520" y="416016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2686320" y="41547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2696040" y="4147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2708640" y="41421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2721240" y="41360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 flipV="1">
                <a:off x="2728800" y="412740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 flipV="1">
                <a:off x="2720880" y="41220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 flipV="1">
                <a:off x="2708280" y="41151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 flipV="1">
                <a:off x="2695680" y="41094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H="1" flipV="1">
                <a:off x="2685960" y="41025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H="1" flipV="1">
                <a:off x="2684520" y="40946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2686320" y="40878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696040" y="40820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2708640" y="40762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2721240" y="40694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2728800" y="406152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 flipV="1">
                <a:off x="2720880" y="405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2708280" y="40489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 flipV="1">
                <a:off x="2695680" y="40424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2685960" y="40366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 flipV="1">
                <a:off x="2684520" y="402768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2686320" y="40222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696040" y="40161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2708640" y="4009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2721240" y="40035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H="1" flipV="1">
                <a:off x="2728800" y="399456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H="1" flipV="1">
                <a:off x="2720880" y="398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2708280" y="3982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2695680" y="397620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 flipV="1">
                <a:off x="2685960" y="396972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H="1" flipV="1">
                <a:off x="2684520" y="396180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2686320" y="3954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2696040" y="39495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708640" y="39438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721240" y="3936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2728800" y="392904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2720880" y="39222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H="1" flipV="1">
                <a:off x="2708280" y="39164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H="1" flipV="1">
                <a:off x="2695680" y="3909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2685960" y="39038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2684520" y="389484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2686320" y="38894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2696040" y="38833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2708640" y="3876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2721240" y="38710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H="1" flipV="1">
                <a:off x="2728800" y="386208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2720880" y="385632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2708280" y="3849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H="1" flipV="1">
                <a:off x="2695680" y="38437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H="1" flipV="1">
                <a:off x="2685960" y="3836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H="1" flipV="1">
                <a:off x="2684520" y="3828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2686320" y="3822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2696040" y="3816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V="1">
              <a:off x="2708280" y="37450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09720" y="2871720"/>
            <a:ext cx="74880" cy="1371600"/>
            <a:chOff x="5409720" y="2871720"/>
            <a:chExt cx="74880" cy="1371600"/>
          </a:xfrm>
        </p:grpSpPr>
        <p:sp>
          <p:nvSpPr>
            <p:cNvPr id="4734" name=""/>
            <p:cNvSpPr/>
            <p:nvPr/>
          </p:nvSpPr>
          <p:spPr>
            <a:xfrm rot="16200000">
              <a:off x="4762080" y="352080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5409720" y="3155760"/>
              <a:ext cx="46440" cy="1087560"/>
              <a:chOff x="5409720" y="3155760"/>
              <a:chExt cx="46440" cy="1087560"/>
            </a:xfrm>
          </p:grpSpPr>
          <p:sp>
            <p:nvSpPr>
              <p:cNvPr id="4736" name=""/>
              <p:cNvSpPr/>
              <p:nvPr/>
            </p:nvSpPr>
            <p:spPr>
              <a:xfrm flipH="1" flipV="1">
                <a:off x="5419440" y="4232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 flipV="1">
                <a:off x="54097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5410080" y="4208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5410080" y="4198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419800" y="41893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5432400" y="4178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544500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5454720" y="415440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H="1" flipV="1">
                <a:off x="5444640" y="4144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 flipV="1">
                <a:off x="5432040" y="41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H="1" flipV="1">
                <a:off x="5419440" y="4124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H="1" flipV="1">
                <a:off x="54097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5410080" y="4100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5410080" y="4090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5419800" y="4079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5432400" y="4070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544500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5454720" y="40464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 flipV="1">
                <a:off x="5444640" y="4035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H="1" flipV="1">
                <a:off x="5432040" y="4025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5419440" y="4014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 flipV="1">
                <a:off x="5409720" y="4005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5410080" y="39924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5410080" y="3981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5419800" y="3971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5432400" y="3960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5445000" y="3951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5454720" y="39366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H="1" flipV="1">
                <a:off x="5444640" y="39272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H="1" flipV="1">
                <a:off x="5432040" y="3916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 flipV="1">
                <a:off x="5419440" y="3906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 flipV="1">
                <a:off x="54097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5410080" y="38829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5410080" y="38732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5419800" y="3862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5432400" y="3852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544500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5454720" y="38289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 flipV="1">
                <a:off x="5444640" y="3817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H="1" flipV="1">
                <a:off x="5432040" y="3808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 flipV="1">
                <a:off x="5419440" y="3798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H="1" flipV="1">
                <a:off x="54097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5410080" y="37749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5410080" y="3763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5419800" y="3754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5432400" y="3742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544500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5454720" y="37191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444640" y="3709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H="1" flipV="1">
                <a:off x="5432040" y="3698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 flipV="1">
                <a:off x="5419440" y="3689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H="1" flipV="1">
                <a:off x="5409720" y="36795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5410080" y="36651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5410080" y="3655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5419800" y="3644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flipV="1">
                <a:off x="5432400" y="3635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V="1">
                <a:off x="5445000" y="3624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flipV="1">
                <a:off x="5454720" y="361116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 flipV="1">
                <a:off x="5444640" y="36003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H="1" flipV="1">
                <a:off x="5432040" y="3590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 flipV="1">
                <a:off x="5419440" y="3581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H="1" flipV="1">
                <a:off x="54097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5410080" y="35575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5410080" y="35463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5419800" y="3536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5432400" y="3525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flipV="1">
                <a:off x="544500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flipV="1">
                <a:off x="5454720" y="35017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flipH="1" flipV="1">
                <a:off x="5444640" y="3492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flipH="1" flipV="1">
                <a:off x="5432040" y="3482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 flipV="1">
                <a:off x="5419440" y="3471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flipH="1" flipV="1">
                <a:off x="54097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flipV="1">
                <a:off x="5410080" y="34477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flipV="1">
                <a:off x="5410080" y="3438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flipV="1">
                <a:off x="5419800" y="3427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flipV="1">
                <a:off x="5432400" y="341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V="1">
                <a:off x="5445000" y="3406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V="1">
                <a:off x="5454720" y="33937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5444640" y="3382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flipH="1" flipV="1">
                <a:off x="5432040" y="33732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H="1" flipV="1">
                <a:off x="5419440" y="33638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 flipV="1">
                <a:off x="5409720" y="33526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5410080" y="333972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5410080" y="33289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5419800" y="3319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V="1">
                <a:off x="5432400" y="3308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V="1">
                <a:off x="544500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V="1">
                <a:off x="5454720" y="32842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flipV="1">
                <a:off x="5444640" y="3274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flipV="1">
                <a:off x="5432040" y="3265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flipV="1">
                <a:off x="5419440" y="3254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flipV="1">
                <a:off x="54097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5410080" y="32302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5410080" y="3220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V="1">
                <a:off x="5419800" y="3209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V="1">
                <a:off x="5432400" y="32000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544500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5454720" y="31762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444640" y="3165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5432040" y="31557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6" name=""/>
            <p:cNvSpPr/>
            <p:nvPr/>
          </p:nvSpPr>
          <p:spPr>
            <a:xfrm flipV="1">
              <a:off x="5432400" y="30384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7" name=""/>
          <p:cNvSpPr/>
          <p:nvPr/>
        </p:nvSpPr>
        <p:spPr>
          <a:xfrm flipH="1">
            <a:off x="2867040" y="3038400"/>
            <a:ext cx="128808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012640" y="3006720"/>
            <a:ext cx="7837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531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5315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 rot="16200000">
            <a:off x="2391120" y="3625560"/>
            <a:ext cx="10591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79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79936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rot="16200000">
            <a:off x="4822920" y="2800800"/>
            <a:ext cx="8182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16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1655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 flipH="1" flipV="1">
            <a:off x="4985640" y="2684880"/>
            <a:ext cx="1569600" cy="11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30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308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3914640" y="1846440"/>
            <a:ext cx="0" cy="270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124680" y="1828800"/>
            <a:ext cx="0" cy="2727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 rot="16200000">
            <a:off x="5770440" y="44816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 flipH="1" rot="16200000">
            <a:off x="1902240" y="5587920"/>
            <a:ext cx="155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272680" y="55879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7" name=""/>
          <p:cNvGrpSpPr/>
          <p:nvPr/>
        </p:nvGrpSpPr>
        <p:grpSpPr>
          <a:xfrm>
            <a:off x="4222800" y="5761080"/>
            <a:ext cx="1343160" cy="307080"/>
            <a:chOff x="4222800" y="5761080"/>
            <a:chExt cx="1343160" cy="307080"/>
          </a:xfrm>
        </p:grpSpPr>
        <p:sp>
          <p:nvSpPr>
            <p:cNvPr id="4848" name=""/>
            <p:cNvSpPr/>
            <p:nvPr/>
          </p:nvSpPr>
          <p:spPr>
            <a:xfrm>
              <a:off x="4222800" y="5862600"/>
              <a:ext cx="228600" cy="128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02080" y="57610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4191120" y="5486400"/>
            <a:ext cx="1359000" cy="307080"/>
            <a:chOff x="4191120" y="5486400"/>
            <a:chExt cx="1359000" cy="307080"/>
          </a:xfrm>
        </p:grpSpPr>
        <p:sp>
          <p:nvSpPr>
            <p:cNvPr id="4851" name=""/>
            <p:cNvSpPr/>
            <p:nvPr/>
          </p:nvSpPr>
          <p:spPr>
            <a:xfrm>
              <a:off x="4191120" y="5587920"/>
              <a:ext cx="228600" cy="12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386240" y="54864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5710680" y="5791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2 Insulating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686560" y="5862600"/>
            <a:ext cx="0" cy="152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864040" y="5410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5681520" y="5486400"/>
            <a:ext cx="109440" cy="228600"/>
            <a:chOff x="5681520" y="5486400"/>
            <a:chExt cx="109440" cy="228600"/>
          </a:xfrm>
        </p:grpSpPr>
        <p:sp>
          <p:nvSpPr>
            <p:cNvPr id="4857" name=""/>
            <p:cNvSpPr/>
            <p:nvPr/>
          </p:nvSpPr>
          <p:spPr>
            <a:xfrm>
              <a:off x="5686200" y="55990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1520" y="5486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16200000">
            <a:off x="3483000" y="442440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rot="16200000">
            <a:off x="2236320" y="450612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65200" y="152280"/>
            <a:ext cx="3713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Collection in a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2" name=""/>
          <p:cNvGrpSpPr/>
          <p:nvPr/>
        </p:nvGrpSpPr>
        <p:grpSpPr>
          <a:xfrm>
            <a:off x="2457360" y="2016000"/>
            <a:ext cx="685800" cy="457200"/>
            <a:chOff x="2457360" y="2016000"/>
            <a:chExt cx="685800" cy="457200"/>
          </a:xfrm>
        </p:grpSpPr>
        <p:sp>
          <p:nvSpPr>
            <p:cNvPr id="4863" name=""/>
            <p:cNvSpPr/>
            <p:nvPr/>
          </p:nvSpPr>
          <p:spPr>
            <a:xfrm>
              <a:off x="245736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280044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3193920" y="1965240"/>
            <a:ext cx="685800" cy="507600"/>
            <a:chOff x="3193920" y="1965240"/>
            <a:chExt cx="685800" cy="507600"/>
          </a:xfrm>
        </p:grpSpPr>
        <p:sp>
          <p:nvSpPr>
            <p:cNvPr id="4866" name=""/>
            <p:cNvSpPr/>
            <p:nvPr/>
          </p:nvSpPr>
          <p:spPr>
            <a:xfrm>
              <a:off x="31939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5370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3943440" y="1965240"/>
            <a:ext cx="685800" cy="507600"/>
            <a:chOff x="3943440" y="1965240"/>
            <a:chExt cx="685800" cy="507600"/>
          </a:xfrm>
        </p:grpSpPr>
        <p:sp>
          <p:nvSpPr>
            <p:cNvPr id="4869" name=""/>
            <p:cNvSpPr/>
            <p:nvPr/>
          </p:nvSpPr>
          <p:spPr>
            <a:xfrm>
              <a:off x="394344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428652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1" name=""/>
          <p:cNvGrpSpPr/>
          <p:nvPr/>
        </p:nvGrpSpPr>
        <p:grpSpPr>
          <a:xfrm>
            <a:off x="6934320" y="1965240"/>
            <a:ext cx="685800" cy="507600"/>
            <a:chOff x="6934320" y="1965240"/>
            <a:chExt cx="685800" cy="507600"/>
          </a:xfrm>
        </p:grpSpPr>
        <p:sp>
          <p:nvSpPr>
            <p:cNvPr id="4872" name=""/>
            <p:cNvSpPr/>
            <p:nvPr/>
          </p:nvSpPr>
          <p:spPr>
            <a:xfrm>
              <a:off x="69343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2774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714680" y="1965240"/>
            <a:ext cx="685800" cy="507600"/>
            <a:chOff x="1714680" y="1965240"/>
            <a:chExt cx="685800" cy="507600"/>
          </a:xfrm>
        </p:grpSpPr>
        <p:sp>
          <p:nvSpPr>
            <p:cNvPr id="4875" name=""/>
            <p:cNvSpPr/>
            <p:nvPr/>
          </p:nvSpPr>
          <p:spPr>
            <a:xfrm>
              <a:off x="17146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20577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7" name=""/>
          <p:cNvSpPr/>
          <p:nvPr/>
        </p:nvSpPr>
        <p:spPr>
          <a:xfrm>
            <a:off x="1109520" y="1001880"/>
            <a:ext cx="691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s entering the CCD create electron-hole pairs. The electrons are then attracted tow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st positive potential in the device where they create ‘charge packets’. Each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sponds to 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819520" y="3276720"/>
            <a:ext cx="7596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4943520" y="3247920"/>
            <a:ext cx="7632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43200" y="3276720"/>
            <a:ext cx="22860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829040" y="3238560"/>
            <a:ext cx="2286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819680" y="3200400"/>
            <a:ext cx="27936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104840" y="1001880"/>
            <a:ext cx="709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ollowing few slides, the implementation of the ‘conveyor belts’ as actua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 is explain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moved along these conveyor belts by modulating the voltages on the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ed on the surface of the CCD.  In the following illustrations, electrodes colour coded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held at a positive potential, those coloured black are held at a negative potent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336840" y="4148280"/>
            <a:ext cx="291168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4784760" y="3797280"/>
            <a:ext cx="430200" cy="287280"/>
            <a:chOff x="4784760" y="3797280"/>
            <a:chExt cx="430200" cy="287280"/>
          </a:xfrm>
        </p:grpSpPr>
        <p:sp>
          <p:nvSpPr>
            <p:cNvPr id="4887" name=""/>
            <p:cNvSpPr/>
            <p:nvPr/>
          </p:nvSpPr>
          <p:spPr>
            <a:xfrm>
              <a:off x="47847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0000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246640" y="3431880"/>
            <a:ext cx="428760" cy="652320"/>
            <a:chOff x="5246640" y="3431880"/>
            <a:chExt cx="428760" cy="652320"/>
          </a:xfrm>
        </p:grpSpPr>
        <p:sp>
          <p:nvSpPr>
            <p:cNvPr id="4890" name=""/>
            <p:cNvSpPr/>
            <p:nvPr/>
          </p:nvSpPr>
          <p:spPr>
            <a:xfrm>
              <a:off x="5246640" y="408420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6120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5715000" y="3049200"/>
            <a:ext cx="430200" cy="1034640"/>
            <a:chOff x="5715000" y="3049200"/>
            <a:chExt cx="430200" cy="1034640"/>
          </a:xfrm>
        </p:grpSpPr>
        <p:sp>
          <p:nvSpPr>
            <p:cNvPr id="4893" name=""/>
            <p:cNvSpPr/>
            <p:nvPr/>
          </p:nvSpPr>
          <p:spPr>
            <a:xfrm>
              <a:off x="57150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9302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5" name=""/>
          <p:cNvSpPr/>
          <p:nvPr/>
        </p:nvSpPr>
        <p:spPr>
          <a:xfrm>
            <a:off x="3225960" y="402732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6" name=""/>
          <p:cNvGrpSpPr/>
          <p:nvPr/>
        </p:nvGrpSpPr>
        <p:grpSpPr>
          <a:xfrm>
            <a:off x="3400560" y="3797280"/>
            <a:ext cx="430200" cy="287280"/>
            <a:chOff x="3400560" y="3797280"/>
            <a:chExt cx="430200" cy="287280"/>
          </a:xfrm>
        </p:grpSpPr>
        <p:sp>
          <p:nvSpPr>
            <p:cNvPr id="4897" name=""/>
            <p:cNvSpPr/>
            <p:nvPr/>
          </p:nvSpPr>
          <p:spPr>
            <a:xfrm>
              <a:off x="34005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36158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3862440" y="3431880"/>
            <a:ext cx="428400" cy="652320"/>
            <a:chOff x="3862440" y="3431880"/>
            <a:chExt cx="428400" cy="652320"/>
          </a:xfrm>
        </p:grpSpPr>
        <p:sp>
          <p:nvSpPr>
            <p:cNvPr id="4900" name=""/>
            <p:cNvSpPr/>
            <p:nvPr/>
          </p:nvSpPr>
          <p:spPr>
            <a:xfrm>
              <a:off x="3862440" y="4084200"/>
              <a:ext cx="42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07664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330800" y="3049200"/>
            <a:ext cx="430200" cy="1034640"/>
            <a:chOff x="4330800" y="3049200"/>
            <a:chExt cx="430200" cy="1034640"/>
          </a:xfrm>
        </p:grpSpPr>
        <p:sp>
          <p:nvSpPr>
            <p:cNvPr id="4903" name=""/>
            <p:cNvSpPr/>
            <p:nvPr/>
          </p:nvSpPr>
          <p:spPr>
            <a:xfrm>
              <a:off x="43308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5460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5" name=""/>
          <p:cNvSpPr/>
          <p:nvPr/>
        </p:nvSpPr>
        <p:spPr>
          <a:xfrm>
            <a:off x="3336840" y="4624560"/>
            <a:ext cx="29116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495600" y="45291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336840" y="4124160"/>
            <a:ext cx="29116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3225960" y="304956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225960" y="3432240"/>
            <a:ext cx="22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225600" y="3797280"/>
            <a:ext cx="177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4498920" y="30020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4029120" y="33764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67240" y="374976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4784760" y="4433760"/>
            <a:ext cx="422280" cy="190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5" name=""/>
          <p:cNvGrpSpPr/>
          <p:nvPr/>
        </p:nvGrpSpPr>
        <p:grpSpPr>
          <a:xfrm>
            <a:off x="2761920" y="2819520"/>
            <a:ext cx="394920" cy="459720"/>
            <a:chOff x="2761920" y="2819520"/>
            <a:chExt cx="394920" cy="459720"/>
          </a:xfrm>
        </p:grpSpPr>
        <p:grpSp>
          <p:nvGrpSpPr>
            <p:cNvPr id="4916" name=""/>
            <p:cNvGrpSpPr/>
            <p:nvPr/>
          </p:nvGrpSpPr>
          <p:grpSpPr>
            <a:xfrm>
              <a:off x="2761920" y="2949840"/>
              <a:ext cx="114480" cy="228600"/>
              <a:chOff x="2761920" y="2949840"/>
              <a:chExt cx="114480" cy="228600"/>
            </a:xfrm>
          </p:grpSpPr>
          <p:sp>
            <p:nvSpPr>
              <p:cNvPr id="4917" name=""/>
              <p:cNvSpPr/>
              <p:nvPr/>
            </p:nvSpPr>
            <p:spPr>
              <a:xfrm>
                <a:off x="2762280" y="300672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2761920" y="294984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28238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2742840" y="3197160"/>
            <a:ext cx="394920" cy="459720"/>
            <a:chOff x="2742840" y="3197160"/>
            <a:chExt cx="394920" cy="459720"/>
          </a:xfrm>
        </p:grpSpPr>
        <p:grpSp>
          <p:nvGrpSpPr>
            <p:cNvPr id="4921" name=""/>
            <p:cNvGrpSpPr/>
            <p:nvPr/>
          </p:nvGrpSpPr>
          <p:grpSpPr>
            <a:xfrm>
              <a:off x="2742840" y="3327480"/>
              <a:ext cx="114480" cy="228600"/>
              <a:chOff x="2742840" y="3327480"/>
              <a:chExt cx="114480" cy="228600"/>
            </a:xfrm>
          </p:grpSpPr>
          <p:sp>
            <p:nvSpPr>
              <p:cNvPr id="4922" name=""/>
              <p:cNvSpPr/>
              <p:nvPr/>
            </p:nvSpPr>
            <p:spPr>
              <a:xfrm>
                <a:off x="2743200" y="33843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742840" y="33274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4" name=""/>
            <p:cNvSpPr/>
            <p:nvPr/>
          </p:nvSpPr>
          <p:spPr>
            <a:xfrm>
              <a:off x="2804760" y="3197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2743200" y="3540240"/>
            <a:ext cx="411120" cy="459720"/>
            <a:chOff x="2743200" y="3540240"/>
            <a:chExt cx="411120" cy="459720"/>
          </a:xfrm>
        </p:grpSpPr>
        <p:grpSp>
          <p:nvGrpSpPr>
            <p:cNvPr id="4926" name=""/>
            <p:cNvGrpSpPr/>
            <p:nvPr/>
          </p:nvGrpSpPr>
          <p:grpSpPr>
            <a:xfrm>
              <a:off x="2743200" y="3670200"/>
              <a:ext cx="114480" cy="228600"/>
              <a:chOff x="2743200" y="3670200"/>
              <a:chExt cx="114480" cy="228600"/>
            </a:xfrm>
          </p:grpSpPr>
          <p:sp>
            <p:nvSpPr>
              <p:cNvPr id="4927" name=""/>
              <p:cNvSpPr/>
              <p:nvPr/>
            </p:nvSpPr>
            <p:spPr>
              <a:xfrm>
                <a:off x="2743200" y="372708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743200" y="367020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>
              <a:off x="2821320" y="354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"/>
          <p:cNvSpPr/>
          <p:nvPr/>
        </p:nvSpPr>
        <p:spPr>
          <a:xfrm>
            <a:off x="52196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493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493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493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494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494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494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819440" y="4989600"/>
            <a:ext cx="24732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10824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496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496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496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496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497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497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497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498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499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 flipV="1">
            <a:off x="5486400" y="3809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5949000" y="42670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slice shown in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5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006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007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011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012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016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017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>
            <a:off x="563868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3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024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027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030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034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037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040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8194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1082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053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054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058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059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2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063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064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068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4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075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082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095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8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100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101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05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06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8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9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60674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11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11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11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12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12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12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224784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58128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14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14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15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15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15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16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17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18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18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18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19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9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9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"/>
          <p:cNvSpPr/>
          <p:nvPr/>
        </p:nvSpPr>
        <p:spPr>
          <a:xfrm>
            <a:off x="64771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02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4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05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08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0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212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215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218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2766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5654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231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232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236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237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9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241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4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246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253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260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6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273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274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6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7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278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279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1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2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283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284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6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7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"/>
          <p:cNvSpPr/>
          <p:nvPr/>
        </p:nvSpPr>
        <p:spPr>
          <a:xfrm>
            <a:off x="69343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91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94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97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01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04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07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272412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07340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320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321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3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4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325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326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8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330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331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3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335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342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349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362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363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367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368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0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372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373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5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6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"/>
          <p:cNvSpPr/>
          <p:nvPr/>
        </p:nvSpPr>
        <p:spPr>
          <a:xfrm>
            <a:off x="73627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9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380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2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383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386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90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93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96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4320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09896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409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410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414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415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7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8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419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420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424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431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438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4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451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452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456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457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461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462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4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5" name=""/>
          <p:cNvSpPr/>
          <p:nvPr/>
        </p:nvSpPr>
        <p:spPr>
          <a:xfrm>
            <a:off x="1285920" y="4876920"/>
            <a:ext cx="771480" cy="311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5057640" y="50007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628560" y="50101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585360" y="1459080"/>
            <a:ext cx="33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 from subsequent pixel 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left as first pixel exits to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496960" y="2336400"/>
            <a:ext cx="3620880" cy="1800720"/>
            <a:chOff x="2496960" y="2336400"/>
            <a:chExt cx="3620880" cy="1800720"/>
          </a:xfrm>
        </p:grpSpPr>
        <p:sp>
          <p:nvSpPr>
            <p:cNvPr id="448" name=""/>
            <p:cNvSpPr/>
            <p:nvPr/>
          </p:nvSpPr>
          <p:spPr>
            <a:xfrm flipV="1">
              <a:off x="3900960" y="235260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6800" y="36262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435480" y="3592800"/>
              <a:ext cx="325440" cy="544320"/>
              <a:chOff x="3435480" y="3592800"/>
              <a:chExt cx="325440" cy="544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435480" y="36255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52120" y="359280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541320" y="40773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8800" y="35740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507120" y="234720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234432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869360" y="234360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5360" y="234000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859640" y="27230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2720" y="264312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947400" y="271908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39120" y="237492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4960" y="36244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73640" y="3591000"/>
              <a:ext cx="325080" cy="544320"/>
              <a:chOff x="4373640" y="3591000"/>
              <a:chExt cx="325080" cy="544320"/>
            </a:xfrm>
          </p:grpSpPr>
          <p:sp>
            <p:nvSpPr>
              <p:cNvPr id="465" name=""/>
              <p:cNvSpPr/>
              <p:nvPr/>
            </p:nvSpPr>
            <p:spPr>
              <a:xfrm>
                <a:off x="4373640" y="36237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90280" y="359100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4479480" y="40755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90920" y="35722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437720" y="235980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942080" y="271008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6160" y="23421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689440" y="27208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3320" y="265428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85200" y="272664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962080" y="235116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88280" y="362376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96960" y="3588480"/>
              <a:ext cx="325440" cy="544320"/>
              <a:chOff x="2496960" y="3588480"/>
              <a:chExt cx="325440" cy="544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96960" y="362088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3600" y="358848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2602800" y="407484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356652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6160" y="234900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059640" y="270432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65640" y="23418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4029840" y="233640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75840" y="233784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19040" y="27198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90960" y="263556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008160" y="272232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96720" y="269532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22200" y="233964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82600" y="233712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138400" y="4244760"/>
            <a:ext cx="2872800" cy="781200"/>
            <a:chOff x="2138400" y="4244760"/>
            <a:chExt cx="2872800" cy="781200"/>
          </a:xfrm>
        </p:grpSpPr>
        <p:sp>
          <p:nvSpPr>
            <p:cNvPr id="494" name=""/>
            <p:cNvSpPr/>
            <p:nvPr/>
          </p:nvSpPr>
          <p:spPr>
            <a:xfrm>
              <a:off x="2138400" y="4466160"/>
              <a:ext cx="34488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222280" y="4263120"/>
              <a:ext cx="28980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17120" y="424476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599000" y="4283280"/>
              <a:ext cx="412200" cy="635040"/>
              <a:chOff x="4599000" y="4283280"/>
              <a:chExt cx="412200" cy="635040"/>
            </a:xfrm>
          </p:grpSpPr>
          <p:sp>
            <p:nvSpPr>
              <p:cNvPr id="498" name=""/>
              <p:cNvSpPr/>
              <p:nvPr/>
            </p:nvSpPr>
            <p:spPr>
              <a:xfrm>
                <a:off x="4666680" y="434700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283280"/>
                <a:ext cx="241560" cy="63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4392360" y="4563360"/>
              <a:ext cx="34452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622600" y="424584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82960" y="471960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42200" y="476712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02200" y="492588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6840" y="471024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12360" y="469836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900000">
              <a:off x="2307240" y="440892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441144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314800" y="446076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40120" y="3119400"/>
            <a:ext cx="296280" cy="282240"/>
            <a:chOff x="2940120" y="3119400"/>
            <a:chExt cx="296280" cy="282240"/>
          </a:xfrm>
        </p:grpSpPr>
        <p:sp>
          <p:nvSpPr>
            <p:cNvPr id="511" name=""/>
            <p:cNvSpPr/>
            <p:nvPr/>
          </p:nvSpPr>
          <p:spPr>
            <a:xfrm>
              <a:off x="2950920" y="32889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40120" y="318060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42640" y="311940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43720" y="31798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26680" y="31766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62040" y="2421000"/>
            <a:ext cx="29556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45160" y="3121200"/>
            <a:ext cx="296280" cy="282240"/>
            <a:chOff x="4745160" y="3121200"/>
            <a:chExt cx="296280" cy="282240"/>
          </a:xfrm>
        </p:grpSpPr>
        <p:sp>
          <p:nvSpPr>
            <p:cNvPr id="518" name=""/>
            <p:cNvSpPr/>
            <p:nvPr/>
          </p:nvSpPr>
          <p:spPr>
            <a:xfrm>
              <a:off x="475632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45160" y="31820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47680" y="312120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876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03172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51280" y="3121200"/>
            <a:ext cx="296280" cy="282240"/>
            <a:chOff x="3851280" y="3121200"/>
            <a:chExt cx="296280" cy="282240"/>
          </a:xfrm>
        </p:grpSpPr>
        <p:sp>
          <p:nvSpPr>
            <p:cNvPr id="524" name=""/>
            <p:cNvSpPr/>
            <p:nvPr/>
          </p:nvSpPr>
          <p:spPr>
            <a:xfrm>
              <a:off x="386208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1280" y="3182040"/>
              <a:ext cx="2944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53440" y="312120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488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3784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91120" y="2766960"/>
            <a:ext cx="280800" cy="274680"/>
            <a:chOff x="5091120" y="2766960"/>
            <a:chExt cx="280800" cy="274680"/>
          </a:xfrm>
        </p:grpSpPr>
        <p:sp>
          <p:nvSpPr>
            <p:cNvPr id="530" name=""/>
            <p:cNvSpPr/>
            <p:nvPr/>
          </p:nvSpPr>
          <p:spPr>
            <a:xfrm>
              <a:off x="5101560" y="293184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91120" y="282600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3280" y="276696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94720" y="282564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36220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08400" y="2766960"/>
            <a:ext cx="278640" cy="274680"/>
            <a:chOff x="4208400" y="2766960"/>
            <a:chExt cx="278640" cy="274680"/>
          </a:xfrm>
        </p:grpSpPr>
        <p:sp>
          <p:nvSpPr>
            <p:cNvPr id="536" name=""/>
            <p:cNvSpPr/>
            <p:nvPr/>
          </p:nvSpPr>
          <p:spPr>
            <a:xfrm>
              <a:off x="421884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840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1092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1200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47732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05160" y="2766960"/>
            <a:ext cx="278640" cy="274680"/>
            <a:chOff x="3305160" y="2766960"/>
            <a:chExt cx="278640" cy="274680"/>
          </a:xfrm>
        </p:grpSpPr>
        <p:sp>
          <p:nvSpPr>
            <p:cNvPr id="542" name=""/>
            <p:cNvSpPr/>
            <p:nvPr/>
          </p:nvSpPr>
          <p:spPr>
            <a:xfrm>
              <a:off x="331560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516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768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876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57408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41760" y="2479680"/>
            <a:ext cx="257040" cy="252360"/>
            <a:chOff x="3641760" y="2479680"/>
            <a:chExt cx="257040" cy="252360"/>
          </a:xfrm>
        </p:grpSpPr>
        <p:sp>
          <p:nvSpPr>
            <p:cNvPr id="548" name=""/>
            <p:cNvSpPr/>
            <p:nvPr/>
          </p:nvSpPr>
          <p:spPr>
            <a:xfrm>
              <a:off x="3651480" y="263124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4176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4280" y="247968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536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9440" y="25308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24480" y="2479680"/>
            <a:ext cx="257760" cy="252360"/>
            <a:chOff x="4524480" y="2479680"/>
            <a:chExt cx="257760" cy="252360"/>
          </a:xfrm>
        </p:grpSpPr>
        <p:sp>
          <p:nvSpPr>
            <p:cNvPr id="554" name=""/>
            <p:cNvSpPr/>
            <p:nvPr/>
          </p:nvSpPr>
          <p:spPr>
            <a:xfrm>
              <a:off x="4534200" y="263124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4480" y="253404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7000" y="247968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28080" y="25340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7324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372280" y="2479680"/>
            <a:ext cx="256320" cy="252360"/>
            <a:chOff x="5372280" y="2479680"/>
            <a:chExt cx="256320" cy="252360"/>
          </a:xfrm>
        </p:grpSpPr>
        <p:sp>
          <p:nvSpPr>
            <p:cNvPr id="560" name=""/>
            <p:cNvSpPr/>
            <p:nvPr/>
          </p:nvSpPr>
          <p:spPr>
            <a:xfrm>
              <a:off x="5382000" y="263124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4440" y="247968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7588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1960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530440" y="4137120"/>
            <a:ext cx="326880" cy="304560"/>
            <a:chOff x="2530440" y="4137120"/>
            <a:chExt cx="326880" cy="304560"/>
          </a:xfrm>
        </p:grpSpPr>
        <p:sp>
          <p:nvSpPr>
            <p:cNvPr id="566" name=""/>
            <p:cNvSpPr/>
            <p:nvPr/>
          </p:nvSpPr>
          <p:spPr>
            <a:xfrm>
              <a:off x="2541960" y="432000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30440" y="420300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32600" y="413712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3404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846880" y="419868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416400" y="4151160"/>
            <a:ext cx="326520" cy="304560"/>
            <a:chOff x="3416400" y="4151160"/>
            <a:chExt cx="326520" cy="304560"/>
          </a:xfrm>
        </p:grpSpPr>
        <p:sp>
          <p:nvSpPr>
            <p:cNvPr id="572" name=""/>
            <p:cNvSpPr/>
            <p:nvPr/>
          </p:nvSpPr>
          <p:spPr>
            <a:xfrm>
              <a:off x="3427920" y="43340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6400" y="421704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8920" y="415116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0000" y="42163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32480" y="42127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52760" y="4175280"/>
            <a:ext cx="326880" cy="306000"/>
            <a:chOff x="4352760" y="4175280"/>
            <a:chExt cx="326880" cy="306000"/>
          </a:xfrm>
        </p:grpSpPr>
        <p:sp>
          <p:nvSpPr>
            <p:cNvPr id="578" name=""/>
            <p:cNvSpPr/>
            <p:nvPr/>
          </p:nvSpPr>
          <p:spPr>
            <a:xfrm>
              <a:off x="4364280" y="4358880"/>
              <a:ext cx="3049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52760" y="424152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5280" y="4175280"/>
              <a:ext cx="31968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360" y="424080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669200" y="4236840"/>
              <a:ext cx="10440" cy="18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863960" y="5210280"/>
            <a:ext cx="497880" cy="492120"/>
            <a:chOff x="4863960" y="5210280"/>
            <a:chExt cx="497880" cy="492120"/>
          </a:xfrm>
        </p:grpSpPr>
        <p:sp>
          <p:nvSpPr>
            <p:cNvPr id="584" name=""/>
            <p:cNvSpPr/>
            <p:nvPr/>
          </p:nvSpPr>
          <p:spPr>
            <a:xfrm>
              <a:off x="4880520" y="550368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3960" y="531756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66480" y="521028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8280" y="531504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48520" y="530856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105520" y="5446800"/>
            <a:ext cx="60120" cy="247680"/>
            <a:chOff x="5105520" y="5446800"/>
            <a:chExt cx="60120" cy="247680"/>
          </a:xfrm>
        </p:grpSpPr>
        <p:sp>
          <p:nvSpPr>
            <p:cNvPr id="590" name=""/>
            <p:cNvSpPr/>
            <p:nvPr/>
          </p:nvSpPr>
          <p:spPr>
            <a:xfrm>
              <a:off x="5105520" y="544680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8040" y="54687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8040" y="5499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8040" y="55267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8040" y="55551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8040" y="55861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8040" y="5614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8040" y="56426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8040" y="5668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03516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22800" y="431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5526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98720" y="7113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7920" y="66204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4164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43480" y="60156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404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7400" y="1447920"/>
            <a:ext cx="1414080" cy="2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N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116160" y="2525760"/>
            <a:ext cx="177840" cy="210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239920"/>
            <a:ext cx="16718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769000" y="1861920"/>
            <a:ext cx="25200" cy="41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09720" y="1219320"/>
            <a:ext cx="137592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 COLUM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3960" y="2057040"/>
            <a:ext cx="2761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01880" y="5018040"/>
            <a:ext cx="239760" cy="301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10760" y="5365800"/>
            <a:ext cx="171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5520" y="4927680"/>
            <a:ext cx="1116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69000" y="142092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3872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7196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"/>
          <p:cNvSpPr/>
          <p:nvPr/>
        </p:nvSpPr>
        <p:spPr>
          <a:xfrm>
            <a:off x="77533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47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47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47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48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48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48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200400" y="49719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711440" y="4886280"/>
            <a:ext cx="42228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50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50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50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50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51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51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51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52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53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54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54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54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55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55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55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4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565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7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8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569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1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3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574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578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2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583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5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6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587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9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595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596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8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00560" y="1295280"/>
            <a:ext cx="15264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6791400" y="4029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5200560" y="330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7848720" y="3342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3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624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625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7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8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316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200560" y="3305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353200" y="33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V="1">
            <a:off x="6791400" y="35337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353200" y="3533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7848720" y="3343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84872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108800" y="849240"/>
            <a:ext cx="694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n-chip amplifier measures each charge packet as it pops out the end of the serial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5159520" y="4735440"/>
            <a:ext cx="34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ement process begins with a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‘reset node’. This removes the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from the previous pixel. The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 is in fact a tiny capacitance (&lt; 0.1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203480" y="1459080"/>
            <a:ext cx="186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 and OD are held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3" name=""/>
          <p:cNvGrpSpPr/>
          <p:nvPr/>
        </p:nvGrpSpPr>
        <p:grpSpPr>
          <a:xfrm>
            <a:off x="2019240" y="4314960"/>
            <a:ext cx="609480" cy="380880"/>
            <a:chOff x="2019240" y="4314960"/>
            <a:chExt cx="609480" cy="380880"/>
          </a:xfrm>
        </p:grpSpPr>
        <p:sp>
          <p:nvSpPr>
            <p:cNvPr id="5664" name=""/>
            <p:cNvSpPr/>
            <p:nvPr/>
          </p:nvSpPr>
          <p:spPr>
            <a:xfrm>
              <a:off x="2171520" y="439092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19240" y="431496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340960" y="441972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graphs above show the signal wavefo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674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6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7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678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0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2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683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6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687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9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692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696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704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705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8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95280"/>
            <a:ext cx="1295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733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734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6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37160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1122120" y="776160"/>
            <a:ext cx="677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Summing Wel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at the ‘Reference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5157000" y="4735440"/>
            <a:ext cx="359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w a wait of up to a few te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econds while external circuitry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‘reference’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1" name=""/>
          <p:cNvGrpSpPr/>
          <p:nvPr/>
        </p:nvGrpSpPr>
        <p:grpSpPr>
          <a:xfrm>
            <a:off x="2019240" y="4319640"/>
            <a:ext cx="609480" cy="380880"/>
            <a:chOff x="2019240" y="4319640"/>
            <a:chExt cx="609480" cy="380880"/>
          </a:xfrm>
        </p:grpSpPr>
        <p:sp>
          <p:nvSpPr>
            <p:cNvPr id="5772" name=""/>
            <p:cNvSpPr/>
            <p:nvPr/>
          </p:nvSpPr>
          <p:spPr>
            <a:xfrm>
              <a:off x="2171520" y="439560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01924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4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0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781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4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785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790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2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3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794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8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799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804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6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812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5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6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6791400" y="1295280"/>
            <a:ext cx="152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841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842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4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447920" y="4724280"/>
            <a:ext cx="30456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800280" y="4549680"/>
            <a:ext cx="1752480" cy="698760"/>
            <a:chOff x="800280" y="4549680"/>
            <a:chExt cx="1752480" cy="698760"/>
          </a:xfrm>
        </p:grpSpPr>
        <p:sp>
          <p:nvSpPr>
            <p:cNvPr id="5878" name=""/>
            <p:cNvSpPr/>
            <p:nvPr/>
          </p:nvSpPr>
          <p:spPr>
            <a:xfrm>
              <a:off x="800280" y="4549680"/>
              <a:ext cx="17524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00280" y="4854600"/>
              <a:ext cx="175248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771920" y="4730760"/>
              <a:ext cx="304560" cy="12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686240" y="479736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2" name=""/>
          <p:cNvSpPr/>
          <p:nvPr/>
        </p:nvSpPr>
        <p:spPr>
          <a:xfrm>
            <a:off x="800280" y="4552920"/>
            <a:ext cx="17524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0280" y="4857840"/>
            <a:ext cx="1752480" cy="39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158080" y="4735440"/>
            <a:ext cx="32288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action is known as the ‘charge dum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oltage step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s m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 for each electron conta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harge 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1117440" y="776160"/>
            <a:ext cx="69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output nod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ow steps down to the ‘Signal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6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887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V="1">
            <a:off x="1371600" y="4571640"/>
            <a:ext cx="7617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6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897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9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0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901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906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9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910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915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7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920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2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928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929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934320" y="1295280"/>
            <a:ext cx="7617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957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958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1123200" y="776160"/>
            <a:ext cx="595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sampled by external circuitry for up to a few tens of micro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55200" y="473544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ple level - reference level will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tional to the size of the input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995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7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6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6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6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6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6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940120" y="3095640"/>
            <a:ext cx="296280" cy="282240"/>
            <a:chOff x="2940120" y="3095640"/>
            <a:chExt cx="296280" cy="282240"/>
          </a:xfrm>
        </p:grpSpPr>
        <p:sp>
          <p:nvSpPr>
            <p:cNvPr id="684" name=""/>
            <p:cNvSpPr/>
            <p:nvPr/>
          </p:nvSpPr>
          <p:spPr>
            <a:xfrm>
              <a:off x="2950920" y="326520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40120" y="31568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2640" y="309564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43720" y="315612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26680" y="315288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745160" y="3097080"/>
            <a:ext cx="296280" cy="282240"/>
            <a:chOff x="4745160" y="3097080"/>
            <a:chExt cx="296280" cy="282240"/>
          </a:xfrm>
        </p:grpSpPr>
        <p:sp>
          <p:nvSpPr>
            <p:cNvPr id="691" name=""/>
            <p:cNvSpPr/>
            <p:nvPr/>
          </p:nvSpPr>
          <p:spPr>
            <a:xfrm>
              <a:off x="475632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45160" y="3157920"/>
              <a:ext cx="294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7680" y="309708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76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3172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51280" y="3097080"/>
            <a:ext cx="296280" cy="282240"/>
            <a:chOff x="3851280" y="3097080"/>
            <a:chExt cx="296280" cy="282240"/>
          </a:xfrm>
        </p:grpSpPr>
        <p:sp>
          <p:nvSpPr>
            <p:cNvPr id="697" name=""/>
            <p:cNvSpPr/>
            <p:nvPr/>
          </p:nvSpPr>
          <p:spPr>
            <a:xfrm>
              <a:off x="386208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51280" y="3157920"/>
              <a:ext cx="29448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53440" y="309708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5488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3784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091120" y="2743200"/>
            <a:ext cx="280800" cy="274680"/>
            <a:chOff x="5091120" y="2743200"/>
            <a:chExt cx="280800" cy="274680"/>
          </a:xfrm>
        </p:grpSpPr>
        <p:sp>
          <p:nvSpPr>
            <p:cNvPr id="703" name=""/>
            <p:cNvSpPr/>
            <p:nvPr/>
          </p:nvSpPr>
          <p:spPr>
            <a:xfrm>
              <a:off x="5101560" y="290808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1120" y="280224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3280" y="274320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4720" y="280188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36220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08400" y="2743200"/>
            <a:ext cx="278640" cy="274680"/>
            <a:chOff x="4208400" y="2743200"/>
            <a:chExt cx="278640" cy="274680"/>
          </a:xfrm>
        </p:grpSpPr>
        <p:sp>
          <p:nvSpPr>
            <p:cNvPr id="709" name=""/>
            <p:cNvSpPr/>
            <p:nvPr/>
          </p:nvSpPr>
          <p:spPr>
            <a:xfrm>
              <a:off x="421884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840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1092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200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7732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305160" y="2743200"/>
            <a:ext cx="278640" cy="274680"/>
            <a:chOff x="3305160" y="2743200"/>
            <a:chExt cx="278640" cy="274680"/>
          </a:xfrm>
        </p:grpSpPr>
        <p:sp>
          <p:nvSpPr>
            <p:cNvPr id="715" name=""/>
            <p:cNvSpPr/>
            <p:nvPr/>
          </p:nvSpPr>
          <p:spPr>
            <a:xfrm>
              <a:off x="331560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516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768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876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57408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41760" y="2455920"/>
            <a:ext cx="257040" cy="252360"/>
            <a:chOff x="3641760" y="2455920"/>
            <a:chExt cx="257040" cy="252360"/>
          </a:xfrm>
        </p:grpSpPr>
        <p:sp>
          <p:nvSpPr>
            <p:cNvPr id="721" name=""/>
            <p:cNvSpPr/>
            <p:nvPr/>
          </p:nvSpPr>
          <p:spPr>
            <a:xfrm>
              <a:off x="3651480" y="26074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44280" y="24559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4536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89440" y="25070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24480" y="2455920"/>
            <a:ext cx="257760" cy="252360"/>
            <a:chOff x="4524480" y="2455920"/>
            <a:chExt cx="257760" cy="252360"/>
          </a:xfrm>
        </p:grpSpPr>
        <p:sp>
          <p:nvSpPr>
            <p:cNvPr id="727" name=""/>
            <p:cNvSpPr/>
            <p:nvPr/>
          </p:nvSpPr>
          <p:spPr>
            <a:xfrm>
              <a:off x="4534200" y="260748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4480" y="251028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7000" y="245592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28080" y="251028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7324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372280" y="2455920"/>
            <a:ext cx="256320" cy="252360"/>
            <a:chOff x="5372280" y="2455920"/>
            <a:chExt cx="256320" cy="252360"/>
          </a:xfrm>
        </p:grpSpPr>
        <p:sp>
          <p:nvSpPr>
            <p:cNvPr id="733" name=""/>
            <p:cNvSpPr/>
            <p:nvPr/>
          </p:nvSpPr>
          <p:spPr>
            <a:xfrm>
              <a:off x="5382000" y="26074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228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4440" y="24559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61960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739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745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751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75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76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649160" y="1459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sure finished, buckets now contain samples of r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77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77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79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82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82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83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841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847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853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352680" y="2719440"/>
            <a:ext cx="257400" cy="252360"/>
            <a:chOff x="3352680" y="2719440"/>
            <a:chExt cx="257400" cy="252360"/>
          </a:xfrm>
        </p:grpSpPr>
        <p:sp>
          <p:nvSpPr>
            <p:cNvPr id="859" name=""/>
            <p:cNvSpPr/>
            <p:nvPr/>
          </p:nvSpPr>
          <p:spPr>
            <a:xfrm>
              <a:off x="3362400" y="287100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5200" y="271944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562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60072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2719440"/>
            <a:ext cx="258840" cy="252360"/>
            <a:chOff x="4267080" y="2719440"/>
            <a:chExt cx="258840" cy="252360"/>
          </a:xfrm>
        </p:grpSpPr>
        <p:sp>
          <p:nvSpPr>
            <p:cNvPr id="865" name=""/>
            <p:cNvSpPr/>
            <p:nvPr/>
          </p:nvSpPr>
          <p:spPr>
            <a:xfrm>
              <a:off x="4276800" y="287100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277380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9600" y="271944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70680" y="277380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51656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181480" y="2719440"/>
            <a:ext cx="256680" cy="252360"/>
            <a:chOff x="5181480" y="2719440"/>
            <a:chExt cx="256680" cy="252360"/>
          </a:xfrm>
        </p:grpSpPr>
        <p:sp>
          <p:nvSpPr>
            <p:cNvPr id="871" name=""/>
            <p:cNvSpPr/>
            <p:nvPr/>
          </p:nvSpPr>
          <p:spPr>
            <a:xfrm>
              <a:off x="5191200" y="2871000"/>
              <a:ext cx="23832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3640" y="2719440"/>
              <a:ext cx="25020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50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29160" y="277056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877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883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889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89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90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911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914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080" y="1459080"/>
            <a:ext cx="66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 starts turning and transfers buckets. Rain collected on the vertical 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ipped into buckets on the horizontal conve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9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9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9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9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9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98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99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99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003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009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015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1021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1027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03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03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1049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350720" y="1523880"/>
            <a:ext cx="64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conveyor stops. Horizontal conveyor starts up and tips each bucket in turn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ing cylind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056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102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120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126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132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138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144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150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115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116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116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17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18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50960" y="145908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each bucket has been measured, the measuring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emptied , ready for the next bucket 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1:04:13Z</dcterms:created>
  <dc:creator>Preferred Customer</dc:creator>
  <dc:description/>
  <dc:language>en-US</dc:language>
  <cp:lastModifiedBy>smtport</cp:lastModifiedBy>
  <dcterms:modified xsi:type="dcterms:W3CDTF">2001-01-22T14:32:04Z</dcterms:modified>
  <cp:revision>18</cp:revision>
  <dc:subject/>
  <dc:title>No Slide Title</dc:title>
</cp:coreProperties>
</file>