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CCD-D63F-4F58-BAD9-16D2AB9E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657-FEC1-4BB2-A7BD-ED9C77ED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31C-1256-45F1-AE61-EAD8E895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465C-4515-45E3-959D-DF8BA820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AED5-A553-4E92-BACF-E19715A0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329-902C-4B06-A916-03940E44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DC5-BA64-4C38-998A-F840DEA6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916-FE7D-47E8-9414-50EDE254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CBD-195A-48B5-A7FC-B33DB542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43E-F571-4502-804A-C009A395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E1C-F462-4C89-9FDC-38839E1A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3013-4AB2-416F-B64B-97D423C6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EED6-78B4-44A9-BB64-0F7DA7B5C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3760" y="457200"/>
            <a:ext cx="436860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1 : Introduction to CC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7560" y="1828800"/>
            <a:ext cx="40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is activity the basic principle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CD  Imaging is explai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orner_of_eev" descr=""/>
          <p:cNvPicPr/>
          <p:nvPr/>
        </p:nvPicPr>
        <p:blipFill>
          <a:blip r:embed="rId1"/>
          <a:stretch/>
        </p:blipFill>
        <p:spPr>
          <a:xfrm>
            <a:off x="2908440" y="4038480"/>
            <a:ext cx="267624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m57" descr=""/>
          <p:cNvPicPr/>
          <p:nvPr/>
        </p:nvPicPr>
        <p:blipFill>
          <a:blip r:embed="rId2"/>
          <a:stretch/>
        </p:blipFill>
        <p:spPr>
          <a:xfrm>
            <a:off x="4051440" y="2743200"/>
            <a:ext cx="2120760" cy="2209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45480" y="1306440"/>
            <a:ext cx="25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on Tulloch    smt@ing.iac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192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195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8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209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1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222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238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1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242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256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1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262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268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274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280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286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3178080" y="4113360"/>
            <a:ext cx="326880" cy="304560"/>
            <a:chOff x="3178080" y="4113360"/>
            <a:chExt cx="326880" cy="304560"/>
          </a:xfrm>
        </p:grpSpPr>
        <p:sp>
          <p:nvSpPr>
            <p:cNvPr id="1292" name=""/>
            <p:cNvSpPr/>
            <p:nvPr/>
          </p:nvSpPr>
          <p:spPr>
            <a:xfrm>
              <a:off x="318960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17808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18024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8168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349452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4016520" y="4127400"/>
            <a:ext cx="326520" cy="304560"/>
            <a:chOff x="4016520" y="4127400"/>
            <a:chExt cx="326520" cy="304560"/>
          </a:xfrm>
        </p:grpSpPr>
        <p:sp>
          <p:nvSpPr>
            <p:cNvPr id="1298" name=""/>
            <p:cNvSpPr/>
            <p:nvPr/>
          </p:nvSpPr>
          <p:spPr>
            <a:xfrm>
              <a:off x="40280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0165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190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0201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43326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30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31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9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320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323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5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337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9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9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350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366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370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2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2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384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390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396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402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408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414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3483000" y="4113360"/>
            <a:ext cx="326520" cy="304560"/>
            <a:chOff x="3483000" y="4113360"/>
            <a:chExt cx="326520" cy="304560"/>
          </a:xfrm>
        </p:grpSpPr>
        <p:sp>
          <p:nvSpPr>
            <p:cNvPr id="1420" name=""/>
            <p:cNvSpPr/>
            <p:nvPr/>
          </p:nvSpPr>
          <p:spPr>
            <a:xfrm>
              <a:off x="34945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4830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4851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4866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37990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4245120" y="4127400"/>
            <a:ext cx="326520" cy="304560"/>
            <a:chOff x="4245120" y="4127400"/>
            <a:chExt cx="326520" cy="304560"/>
          </a:xfrm>
        </p:grpSpPr>
        <p:sp>
          <p:nvSpPr>
            <p:cNvPr id="1426" name=""/>
            <p:cNvSpPr/>
            <p:nvPr/>
          </p:nvSpPr>
          <p:spPr>
            <a:xfrm>
              <a:off x="42566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2451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476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487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45612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432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438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7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448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451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4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465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478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0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494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7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498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0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512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518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524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530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5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536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542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3787920" y="4143240"/>
            <a:ext cx="326520" cy="304560"/>
            <a:chOff x="3787920" y="4143240"/>
            <a:chExt cx="326520" cy="304560"/>
          </a:xfrm>
        </p:grpSpPr>
        <p:sp>
          <p:nvSpPr>
            <p:cNvPr id="1548" name=""/>
            <p:cNvSpPr/>
            <p:nvPr/>
          </p:nvSpPr>
          <p:spPr>
            <a:xfrm>
              <a:off x="3799440" y="432612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787920" y="420912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790080" y="414324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9152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410400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3" name=""/>
          <p:cNvGrpSpPr/>
          <p:nvPr/>
        </p:nvGrpSpPr>
        <p:grpSpPr>
          <a:xfrm>
            <a:off x="4670280" y="4270680"/>
            <a:ext cx="415440" cy="420840"/>
            <a:chOff x="4670280" y="4270680"/>
            <a:chExt cx="415440" cy="420840"/>
          </a:xfrm>
        </p:grpSpPr>
        <p:sp>
          <p:nvSpPr>
            <p:cNvPr id="1554" name=""/>
            <p:cNvSpPr/>
            <p:nvPr/>
          </p:nvSpPr>
          <p:spPr>
            <a:xfrm rot="3700200">
              <a:off x="4643640" y="4467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rot="3700200">
              <a:off x="4710240" y="43948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3700200">
              <a:off x="4796280" y="437904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4722480" y="4302360"/>
              <a:ext cx="154800" cy="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4865760" y="4585320"/>
              <a:ext cx="16812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9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560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566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4916520" y="4540320"/>
            <a:ext cx="244080" cy="129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577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9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580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2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3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594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6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607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623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6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627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9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641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647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653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659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665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671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6" name=""/>
          <p:cNvGrpSpPr/>
          <p:nvPr/>
        </p:nvGrpSpPr>
        <p:grpSpPr>
          <a:xfrm>
            <a:off x="4092480" y="4143240"/>
            <a:ext cx="326880" cy="304560"/>
            <a:chOff x="4092480" y="4143240"/>
            <a:chExt cx="326880" cy="304560"/>
          </a:xfrm>
        </p:grpSpPr>
        <p:sp>
          <p:nvSpPr>
            <p:cNvPr id="1677" name=""/>
            <p:cNvSpPr/>
            <p:nvPr/>
          </p:nvSpPr>
          <p:spPr>
            <a:xfrm>
              <a:off x="4104000" y="43261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092480" y="42091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094640" y="41432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09608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440892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683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689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8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699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1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702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5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716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8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8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729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1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745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749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1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1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763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769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775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781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787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793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4677120" y="4276440"/>
            <a:ext cx="401760" cy="408600"/>
            <a:chOff x="4677120" y="4276440"/>
            <a:chExt cx="401760" cy="408600"/>
          </a:xfrm>
        </p:grpSpPr>
        <p:sp>
          <p:nvSpPr>
            <p:cNvPr id="1799" name=""/>
            <p:cNvSpPr/>
            <p:nvPr/>
          </p:nvSpPr>
          <p:spPr>
            <a:xfrm rot="4018800">
              <a:off x="4640040" y="44596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rot="4018800">
              <a:off x="4710240" y="439488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rot="4018800">
              <a:off x="4799880" y="438660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4731480" y="4303440"/>
              <a:ext cx="1627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4849200" y="4599360"/>
              <a:ext cx="17460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805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811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0" name=""/>
          <p:cNvSpPr/>
          <p:nvPr/>
        </p:nvSpPr>
        <p:spPr>
          <a:xfrm>
            <a:off x="4824360" y="4606920"/>
            <a:ext cx="428400" cy="115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1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822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4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825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7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8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839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1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1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852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4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868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1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872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886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892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898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904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910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916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1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922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7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928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938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0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941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3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4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955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7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7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968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0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3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984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7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988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0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0" name=""/>
          <p:cNvGrpSpPr/>
          <p:nvPr/>
        </p:nvGrpSpPr>
        <p:grpSpPr>
          <a:xfrm>
            <a:off x="2530440" y="3562200"/>
            <a:ext cx="289080" cy="399960"/>
            <a:chOff x="2530440" y="3562200"/>
            <a:chExt cx="289080" cy="399960"/>
          </a:xfrm>
        </p:grpSpPr>
        <p:sp>
          <p:nvSpPr>
            <p:cNvPr id="2001" name=""/>
            <p:cNvSpPr/>
            <p:nvPr/>
          </p:nvSpPr>
          <p:spPr>
            <a:xfrm>
              <a:off x="2538360" y="3562200"/>
              <a:ext cx="2761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530440" y="3624120"/>
              <a:ext cx="28908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4" name=""/>
          <p:cNvGrpSpPr/>
          <p:nvPr/>
        </p:nvGrpSpPr>
        <p:grpSpPr>
          <a:xfrm>
            <a:off x="4876920" y="3002040"/>
            <a:ext cx="280440" cy="274680"/>
            <a:chOff x="4876920" y="3002040"/>
            <a:chExt cx="280440" cy="274680"/>
          </a:xfrm>
        </p:grpSpPr>
        <p:sp>
          <p:nvSpPr>
            <p:cNvPr id="2005" name=""/>
            <p:cNvSpPr/>
            <p:nvPr/>
          </p:nvSpPr>
          <p:spPr>
            <a:xfrm>
              <a:off x="4887360" y="31669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876920" y="30610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879080" y="30020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880520" y="30607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51476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0" name=""/>
          <p:cNvGrpSpPr/>
          <p:nvPr/>
        </p:nvGrpSpPr>
        <p:grpSpPr>
          <a:xfrm>
            <a:off x="3962520" y="3002040"/>
            <a:ext cx="278640" cy="274680"/>
            <a:chOff x="3962520" y="3002040"/>
            <a:chExt cx="278640" cy="274680"/>
          </a:xfrm>
        </p:grpSpPr>
        <p:sp>
          <p:nvSpPr>
            <p:cNvPr id="2011" name=""/>
            <p:cNvSpPr/>
            <p:nvPr/>
          </p:nvSpPr>
          <p:spPr>
            <a:xfrm>
              <a:off x="3972960" y="31669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962520" y="30610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965040" y="30020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966120" y="30607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>
              <a:off x="42314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3048120" y="3002040"/>
            <a:ext cx="278640" cy="274680"/>
            <a:chOff x="3048120" y="3002040"/>
            <a:chExt cx="278640" cy="274680"/>
          </a:xfrm>
        </p:grpSpPr>
        <p:sp>
          <p:nvSpPr>
            <p:cNvPr id="2017" name=""/>
            <p:cNvSpPr/>
            <p:nvPr/>
          </p:nvSpPr>
          <p:spPr>
            <a:xfrm>
              <a:off x="3058560" y="31669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048120" y="30610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050640" y="30020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051720" y="30607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33170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2023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2029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4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2035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0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041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047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6" name=""/>
          <p:cNvGrpSpPr/>
          <p:nvPr/>
        </p:nvGrpSpPr>
        <p:grpSpPr>
          <a:xfrm>
            <a:off x="3505320" y="3562200"/>
            <a:ext cx="288720" cy="399960"/>
            <a:chOff x="3505320" y="3562200"/>
            <a:chExt cx="288720" cy="399960"/>
          </a:xfrm>
        </p:grpSpPr>
        <p:sp>
          <p:nvSpPr>
            <p:cNvPr id="2057" name=""/>
            <p:cNvSpPr/>
            <p:nvPr/>
          </p:nvSpPr>
          <p:spPr>
            <a:xfrm>
              <a:off x="3512880" y="356220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505320" y="362412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9" name=""/>
          <p:cNvGrpSpPr/>
          <p:nvPr/>
        </p:nvGrpSpPr>
        <p:grpSpPr>
          <a:xfrm>
            <a:off x="4416480" y="3581280"/>
            <a:ext cx="288720" cy="399960"/>
            <a:chOff x="4416480" y="3581280"/>
            <a:chExt cx="288720" cy="399960"/>
          </a:xfrm>
        </p:grpSpPr>
        <p:sp>
          <p:nvSpPr>
            <p:cNvPr id="2060" name=""/>
            <p:cNvSpPr/>
            <p:nvPr/>
          </p:nvSpPr>
          <p:spPr>
            <a:xfrm>
              <a:off x="4424040" y="358128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416480" y="364320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2" name=""/>
          <p:cNvSpPr/>
          <p:nvPr/>
        </p:nvSpPr>
        <p:spPr>
          <a:xfrm flipH="1">
            <a:off x="2649600" y="379584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3564000" y="3733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flipH="1">
            <a:off x="4506840" y="3814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1644840" y="1459080"/>
            <a:ext cx="597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new set of empty buckets is set up on the horizontal conveyor and the proc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repe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6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067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9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070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2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3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084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6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6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097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9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2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113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6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117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9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0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131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6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137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2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143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2562120" y="4076640"/>
            <a:ext cx="326880" cy="304560"/>
            <a:chOff x="2562120" y="4076640"/>
            <a:chExt cx="326880" cy="304560"/>
          </a:xfrm>
        </p:grpSpPr>
        <p:sp>
          <p:nvSpPr>
            <p:cNvPr id="2149" name=""/>
            <p:cNvSpPr/>
            <p:nvPr/>
          </p:nvSpPr>
          <p:spPr>
            <a:xfrm>
              <a:off x="2573640" y="42595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562120" y="41425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564280" y="40766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565720" y="41418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2878560" y="41382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4" name=""/>
          <p:cNvGrpSpPr/>
          <p:nvPr/>
        </p:nvGrpSpPr>
        <p:grpSpPr>
          <a:xfrm>
            <a:off x="4330800" y="4137120"/>
            <a:ext cx="326520" cy="304560"/>
            <a:chOff x="4330800" y="4137120"/>
            <a:chExt cx="326520" cy="304560"/>
          </a:xfrm>
        </p:grpSpPr>
        <p:sp>
          <p:nvSpPr>
            <p:cNvPr id="2155" name=""/>
            <p:cNvSpPr/>
            <p:nvPr/>
          </p:nvSpPr>
          <p:spPr>
            <a:xfrm>
              <a:off x="4342320" y="432000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330800" y="420300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333320" y="4137120"/>
              <a:ext cx="31932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334400" y="420228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646880" y="4198680"/>
              <a:ext cx="10440" cy="18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0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161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6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167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6" name=""/>
          <p:cNvGrpSpPr/>
          <p:nvPr/>
        </p:nvGrpSpPr>
        <p:grpSpPr>
          <a:xfrm>
            <a:off x="3463920" y="4133880"/>
            <a:ext cx="326520" cy="304560"/>
            <a:chOff x="3463920" y="4133880"/>
            <a:chExt cx="326520" cy="304560"/>
          </a:xfrm>
        </p:grpSpPr>
        <p:sp>
          <p:nvSpPr>
            <p:cNvPr id="2177" name=""/>
            <p:cNvSpPr/>
            <p:nvPr/>
          </p:nvSpPr>
          <p:spPr>
            <a:xfrm>
              <a:off x="3475440" y="431676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463920" y="419976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66080" y="413388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467520" y="419904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>
              <a:off x="3780000" y="419544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183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5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186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8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9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200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2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213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5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8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229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2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233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5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5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247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2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253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259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3025800" y="4113360"/>
            <a:ext cx="326520" cy="304560"/>
            <a:chOff x="3025800" y="4113360"/>
            <a:chExt cx="326520" cy="304560"/>
          </a:xfrm>
        </p:grpSpPr>
        <p:sp>
          <p:nvSpPr>
            <p:cNvPr id="2265" name=""/>
            <p:cNvSpPr/>
            <p:nvPr/>
          </p:nvSpPr>
          <p:spPr>
            <a:xfrm>
              <a:off x="30373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0258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0279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0294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H="1">
              <a:off x="3341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0" name=""/>
          <p:cNvGrpSpPr/>
          <p:nvPr/>
        </p:nvGrpSpPr>
        <p:grpSpPr>
          <a:xfrm>
            <a:off x="3863880" y="4127400"/>
            <a:ext cx="326880" cy="304560"/>
            <a:chOff x="3863880" y="4127400"/>
            <a:chExt cx="326880" cy="304560"/>
          </a:xfrm>
        </p:grpSpPr>
        <p:sp>
          <p:nvSpPr>
            <p:cNvPr id="2271" name=""/>
            <p:cNvSpPr/>
            <p:nvPr/>
          </p:nvSpPr>
          <p:spPr>
            <a:xfrm>
              <a:off x="3875400" y="43102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3863880" y="41932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3866400" y="412740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86748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H="1">
              <a:off x="418032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6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2277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2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283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8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289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8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9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300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2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303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5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6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317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9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9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330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2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346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9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350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2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2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3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364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370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5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376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3178080" y="4113360"/>
            <a:ext cx="326880" cy="304560"/>
            <a:chOff x="3178080" y="4113360"/>
            <a:chExt cx="326880" cy="304560"/>
          </a:xfrm>
        </p:grpSpPr>
        <p:sp>
          <p:nvSpPr>
            <p:cNvPr id="2382" name=""/>
            <p:cNvSpPr/>
            <p:nvPr/>
          </p:nvSpPr>
          <p:spPr>
            <a:xfrm>
              <a:off x="318960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17808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18024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318168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349452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4016520" y="4127400"/>
            <a:ext cx="326520" cy="304560"/>
            <a:chOff x="4016520" y="4127400"/>
            <a:chExt cx="326520" cy="304560"/>
          </a:xfrm>
        </p:grpSpPr>
        <p:sp>
          <p:nvSpPr>
            <p:cNvPr id="2388" name=""/>
            <p:cNvSpPr/>
            <p:nvPr/>
          </p:nvSpPr>
          <p:spPr>
            <a:xfrm>
              <a:off x="40280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0165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0190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0201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43326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39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40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34040" y="152280"/>
            <a:ext cx="22471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CC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25800" y="3809520"/>
            <a:ext cx="2307960" cy="1953000"/>
            <a:chOff x="3025800" y="3809520"/>
            <a:chExt cx="2307960" cy="1953000"/>
          </a:xfrm>
        </p:grpSpPr>
        <p:grpSp>
          <p:nvGrpSpPr>
            <p:cNvPr id="48" name=""/>
            <p:cNvGrpSpPr/>
            <p:nvPr/>
          </p:nvGrpSpPr>
          <p:grpSpPr>
            <a:xfrm>
              <a:off x="3233520" y="3809520"/>
              <a:ext cx="2100240" cy="1044720"/>
              <a:chOff x="3233520" y="3809520"/>
              <a:chExt cx="2100240" cy="1044720"/>
            </a:xfrm>
          </p:grpSpPr>
          <p:sp>
            <p:nvSpPr>
              <p:cNvPr id="49" name=""/>
              <p:cNvSpPr/>
              <p:nvPr/>
            </p:nvSpPr>
            <p:spPr>
              <a:xfrm flipV="1">
                <a:off x="4047840" y="3818520"/>
                <a:ext cx="730800" cy="74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005000" y="4557960"/>
                <a:ext cx="135360" cy="2599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3777840" y="4538520"/>
                <a:ext cx="188640" cy="315720"/>
                <a:chOff x="3777840" y="4538520"/>
                <a:chExt cx="188640" cy="3157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3777840" y="4557240"/>
                  <a:ext cx="13536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845520" y="4538520"/>
                  <a:ext cx="120960" cy="31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" name=""/>
              <p:cNvSpPr/>
              <p:nvPr/>
            </p:nvSpPr>
            <p:spPr>
              <a:xfrm flipH="1">
                <a:off x="3839040" y="4819680"/>
                <a:ext cx="23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785400" y="4527720"/>
                <a:ext cx="96840" cy="3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3819240" y="3815640"/>
                <a:ext cx="755640" cy="75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740840" y="3814200"/>
                <a:ext cx="122760" cy="218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609440" y="3813840"/>
                <a:ext cx="18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4578120" y="3812040"/>
                <a:ext cx="3096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4603680" y="4033800"/>
                <a:ext cx="19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593960" y="3987720"/>
                <a:ext cx="3096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4074480" y="4031640"/>
                <a:ext cx="531720" cy="52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4591800" y="3831480"/>
                <a:ext cx="642600" cy="73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48960" y="4556880"/>
                <a:ext cx="135360" cy="2599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322160" y="4537440"/>
                <a:ext cx="188640" cy="315720"/>
                <a:chOff x="4322160" y="4537440"/>
                <a:chExt cx="188640" cy="315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322160" y="4556160"/>
                  <a:ext cx="13536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389840" y="4537440"/>
                  <a:ext cx="120960" cy="31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 flipH="1">
                <a:off x="4383360" y="4818600"/>
                <a:ext cx="23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31880" y="4526640"/>
                <a:ext cx="96840" cy="3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4359240" y="3823200"/>
                <a:ext cx="719280" cy="74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4651560" y="4026240"/>
                <a:ext cx="640440" cy="77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211000" y="3813120"/>
                <a:ext cx="122760" cy="218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5085360" y="4032720"/>
                <a:ext cx="19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81760" y="3994200"/>
                <a:ext cx="29160" cy="3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4618440" y="4035960"/>
                <a:ext cx="476280" cy="51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3503160" y="3817800"/>
                <a:ext cx="792720" cy="74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60320" y="4556520"/>
                <a:ext cx="135360" cy="2599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3233520" y="4536000"/>
                <a:ext cx="188640" cy="315720"/>
                <a:chOff x="3233520" y="4536000"/>
                <a:chExt cx="188640" cy="31572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233520" y="4554720"/>
                  <a:ext cx="13536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301200" y="4536000"/>
                  <a:ext cx="120960" cy="31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" name=""/>
              <p:cNvSpPr/>
              <p:nvPr/>
            </p:nvSpPr>
            <p:spPr>
              <a:xfrm flipH="1">
                <a:off x="3294720" y="4818240"/>
                <a:ext cx="23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240720" y="4523040"/>
                <a:ext cx="96840" cy="3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3279600" y="3816720"/>
                <a:ext cx="806760" cy="74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3559680" y="4023000"/>
                <a:ext cx="781920" cy="78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259160" y="3812760"/>
                <a:ext cx="122760" cy="218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flipV="1">
                <a:off x="4122720" y="3809520"/>
                <a:ext cx="192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4091400" y="3810240"/>
                <a:ext cx="3096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4116600" y="4032000"/>
                <a:ext cx="20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100040" y="3983040"/>
                <a:ext cx="34200" cy="4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3529800" y="4033440"/>
                <a:ext cx="581400" cy="51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4103280" y="4017600"/>
                <a:ext cx="729000" cy="79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5104440" y="3811680"/>
                <a:ext cx="17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5081400" y="3809880"/>
                <a:ext cx="23040" cy="1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3025800" y="4916520"/>
              <a:ext cx="1666440" cy="452880"/>
              <a:chOff x="3025800" y="4916520"/>
              <a:chExt cx="1666440" cy="452880"/>
            </a:xfrm>
          </p:grpSpPr>
          <p:sp>
            <p:nvSpPr>
              <p:cNvPr id="95" name=""/>
              <p:cNvSpPr/>
              <p:nvPr/>
            </p:nvSpPr>
            <p:spPr>
              <a:xfrm>
                <a:off x="3025800" y="5045040"/>
                <a:ext cx="199800" cy="2635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3074400" y="4926960"/>
                <a:ext cx="168120" cy="13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3245400" y="4916520"/>
                <a:ext cx="61920" cy="1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4453200" y="4938840"/>
                <a:ext cx="239040" cy="368640"/>
                <a:chOff x="4453200" y="4938840"/>
                <a:chExt cx="239040" cy="368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492440" y="4975560"/>
                  <a:ext cx="199800" cy="2635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453200" y="4938840"/>
                  <a:ext cx="140040" cy="368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4332960" y="5101560"/>
                <a:ext cx="199800" cy="2635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3306600" y="4917600"/>
                <a:ext cx="1296720" cy="5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59760" y="5192280"/>
                <a:ext cx="80280" cy="12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4478040" y="5219280"/>
                <a:ext cx="171000" cy="13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flipV="1">
                <a:off x="3120840" y="5311440"/>
                <a:ext cx="1310400" cy="5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303000" y="5186520"/>
                <a:ext cx="1026360" cy="4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3184560" y="5180040"/>
                <a:ext cx="12024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8900000">
                <a:off x="3123360" y="5011560"/>
                <a:ext cx="224280" cy="19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87880" y="5013360"/>
                <a:ext cx="69120" cy="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>
                <a:off x="3128400" y="5042160"/>
                <a:ext cx="1296720" cy="5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490560" y="4263840"/>
              <a:ext cx="171000" cy="163440"/>
              <a:chOff x="3490560" y="4263840"/>
              <a:chExt cx="171000" cy="163440"/>
            </a:xfrm>
          </p:grpSpPr>
          <p:sp>
            <p:nvSpPr>
              <p:cNvPr id="112" name=""/>
              <p:cNvSpPr/>
              <p:nvPr/>
            </p:nvSpPr>
            <p:spPr>
              <a:xfrm>
                <a:off x="3496680" y="4362120"/>
                <a:ext cx="15984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90560" y="4299120"/>
                <a:ext cx="17028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492000" y="4263840"/>
                <a:ext cx="167400" cy="65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492360" y="4298760"/>
                <a:ext cx="324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3656160" y="4296960"/>
                <a:ext cx="5400" cy="9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213360" y="3858480"/>
              <a:ext cx="171360" cy="6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4537800" y="4264920"/>
              <a:ext cx="171000" cy="163440"/>
              <a:chOff x="4537800" y="4264920"/>
              <a:chExt cx="171000" cy="163440"/>
            </a:xfrm>
          </p:grpSpPr>
          <p:sp>
            <p:nvSpPr>
              <p:cNvPr id="119" name=""/>
              <p:cNvSpPr/>
              <p:nvPr/>
            </p:nvSpPr>
            <p:spPr>
              <a:xfrm>
                <a:off x="4544280" y="4363200"/>
                <a:ext cx="15948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7800" y="4300200"/>
                <a:ext cx="17028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39240" y="4264920"/>
                <a:ext cx="167400" cy="65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39960" y="4299840"/>
                <a:ext cx="288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703400" y="4298040"/>
                <a:ext cx="5400" cy="9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019040" y="4264920"/>
              <a:ext cx="172080" cy="163440"/>
              <a:chOff x="4019040" y="4264920"/>
              <a:chExt cx="172080" cy="163440"/>
            </a:xfrm>
          </p:grpSpPr>
          <p:sp>
            <p:nvSpPr>
              <p:cNvPr id="125" name=""/>
              <p:cNvSpPr/>
              <p:nvPr/>
            </p:nvSpPr>
            <p:spPr>
              <a:xfrm>
                <a:off x="4025160" y="4363200"/>
                <a:ext cx="15984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019040" y="4300200"/>
                <a:ext cx="17064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020120" y="4264920"/>
                <a:ext cx="167760" cy="65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20840" y="4299840"/>
                <a:ext cx="324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4185360" y="4298040"/>
                <a:ext cx="5760" cy="9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738320" y="4059360"/>
              <a:ext cx="163080" cy="159120"/>
              <a:chOff x="4738320" y="4059360"/>
              <a:chExt cx="163080" cy="159120"/>
            </a:xfrm>
          </p:grpSpPr>
          <p:sp>
            <p:nvSpPr>
              <p:cNvPr id="131" name=""/>
              <p:cNvSpPr/>
              <p:nvPr/>
            </p:nvSpPr>
            <p:spPr>
              <a:xfrm>
                <a:off x="4744440" y="4154760"/>
                <a:ext cx="151200" cy="63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38320" y="4093560"/>
                <a:ext cx="16164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39400" y="4059360"/>
                <a:ext cx="158760" cy="63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40120" y="4093200"/>
                <a:ext cx="288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4895640" y="4091400"/>
                <a:ext cx="576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226400" y="4059360"/>
              <a:ext cx="162000" cy="159120"/>
              <a:chOff x="4226400" y="4059360"/>
              <a:chExt cx="162000" cy="159120"/>
            </a:xfrm>
          </p:grpSpPr>
          <p:sp>
            <p:nvSpPr>
              <p:cNvPr id="137" name=""/>
              <p:cNvSpPr/>
              <p:nvPr/>
            </p:nvSpPr>
            <p:spPr>
              <a:xfrm>
                <a:off x="4232520" y="4154760"/>
                <a:ext cx="150120" cy="63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226400" y="4093560"/>
                <a:ext cx="16056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27840" y="4059360"/>
                <a:ext cx="157680" cy="63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28560" y="4093200"/>
                <a:ext cx="252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4382640" y="4091400"/>
                <a:ext cx="576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702240" y="4059360"/>
              <a:ext cx="162000" cy="159120"/>
              <a:chOff x="3702240" y="4059360"/>
              <a:chExt cx="162000" cy="159120"/>
            </a:xfrm>
          </p:grpSpPr>
          <p:sp>
            <p:nvSpPr>
              <p:cNvPr id="143" name=""/>
              <p:cNvSpPr/>
              <p:nvPr/>
            </p:nvSpPr>
            <p:spPr>
              <a:xfrm>
                <a:off x="3708360" y="4154760"/>
                <a:ext cx="150120" cy="63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702240" y="4093560"/>
                <a:ext cx="16056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703680" y="4059360"/>
                <a:ext cx="157680" cy="63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704400" y="4093200"/>
                <a:ext cx="252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3858480" y="4091400"/>
                <a:ext cx="576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897720" y="3892680"/>
              <a:ext cx="148680" cy="146160"/>
              <a:chOff x="3897720" y="3892680"/>
              <a:chExt cx="148680" cy="146160"/>
            </a:xfrm>
          </p:grpSpPr>
          <p:sp>
            <p:nvSpPr>
              <p:cNvPr id="149" name=""/>
              <p:cNvSpPr/>
              <p:nvPr/>
            </p:nvSpPr>
            <p:spPr>
              <a:xfrm>
                <a:off x="3903120" y="3980520"/>
                <a:ext cx="137880" cy="58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97720" y="3924000"/>
                <a:ext cx="147600" cy="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99160" y="3892680"/>
                <a:ext cx="144720" cy="58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99520" y="3924000"/>
                <a:ext cx="2520" cy="8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4041000" y="3922200"/>
                <a:ext cx="540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409640" y="3892680"/>
              <a:ext cx="149400" cy="146160"/>
              <a:chOff x="4409640" y="3892680"/>
              <a:chExt cx="149400" cy="146160"/>
            </a:xfrm>
          </p:grpSpPr>
          <p:sp>
            <p:nvSpPr>
              <p:cNvPr id="155" name=""/>
              <p:cNvSpPr/>
              <p:nvPr/>
            </p:nvSpPr>
            <p:spPr>
              <a:xfrm>
                <a:off x="4415400" y="3980520"/>
                <a:ext cx="138600" cy="58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09640" y="3924000"/>
                <a:ext cx="148320" cy="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11080" y="3892680"/>
                <a:ext cx="145440" cy="58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11800" y="3924000"/>
                <a:ext cx="2160" cy="8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4553640" y="3922200"/>
                <a:ext cx="540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901400" y="3892680"/>
              <a:ext cx="148680" cy="146160"/>
              <a:chOff x="4901400" y="3892680"/>
              <a:chExt cx="148680" cy="146160"/>
            </a:xfrm>
          </p:grpSpPr>
          <p:sp>
            <p:nvSpPr>
              <p:cNvPr id="161" name=""/>
              <p:cNvSpPr/>
              <p:nvPr/>
            </p:nvSpPr>
            <p:spPr>
              <a:xfrm>
                <a:off x="4906800" y="3980520"/>
                <a:ext cx="137880" cy="58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901400" y="3924000"/>
                <a:ext cx="147600" cy="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02480" y="3892680"/>
                <a:ext cx="144720" cy="58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03200" y="3924000"/>
                <a:ext cx="2520" cy="8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5044680" y="3922200"/>
                <a:ext cx="540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252960" y="4854240"/>
              <a:ext cx="189360" cy="176400"/>
              <a:chOff x="3252960" y="4854240"/>
              <a:chExt cx="189360" cy="176400"/>
            </a:xfrm>
          </p:grpSpPr>
          <p:sp>
            <p:nvSpPr>
              <p:cNvPr id="167" name=""/>
              <p:cNvSpPr/>
              <p:nvPr/>
            </p:nvSpPr>
            <p:spPr>
              <a:xfrm>
                <a:off x="3259440" y="4960080"/>
                <a:ext cx="176760" cy="7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252960" y="4892400"/>
                <a:ext cx="188280" cy="10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54040" y="4854240"/>
                <a:ext cx="185400" cy="7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254760" y="4892040"/>
                <a:ext cx="3600" cy="10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3436200" y="4889880"/>
                <a:ext cx="6120" cy="10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767040" y="4862520"/>
              <a:ext cx="189000" cy="176760"/>
              <a:chOff x="3767040" y="4862520"/>
              <a:chExt cx="189000" cy="176760"/>
            </a:xfrm>
          </p:grpSpPr>
          <p:sp>
            <p:nvSpPr>
              <p:cNvPr id="173" name=""/>
              <p:cNvSpPr/>
              <p:nvPr/>
            </p:nvSpPr>
            <p:spPr>
              <a:xfrm>
                <a:off x="3773880" y="4968720"/>
                <a:ext cx="176400" cy="7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67040" y="4900680"/>
                <a:ext cx="187920" cy="10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68480" y="4862520"/>
                <a:ext cx="185040" cy="7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769200" y="4900320"/>
                <a:ext cx="3600" cy="10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3949920" y="4898160"/>
                <a:ext cx="6120" cy="10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309920" y="4876560"/>
              <a:ext cx="189360" cy="177480"/>
              <a:chOff x="4309920" y="4876560"/>
              <a:chExt cx="189360" cy="177480"/>
            </a:xfrm>
          </p:grpSpPr>
          <p:sp>
            <p:nvSpPr>
              <p:cNvPr id="179" name=""/>
              <p:cNvSpPr/>
              <p:nvPr/>
            </p:nvSpPr>
            <p:spPr>
              <a:xfrm>
                <a:off x="4316760" y="4983120"/>
                <a:ext cx="176760" cy="70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09920" y="4914720"/>
                <a:ext cx="188280" cy="104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311360" y="4876560"/>
                <a:ext cx="185400" cy="70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312080" y="4914360"/>
                <a:ext cx="360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4493160" y="4912200"/>
                <a:ext cx="612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606560" y="5477040"/>
              <a:ext cx="289080" cy="285480"/>
              <a:chOff x="4606560" y="5477040"/>
              <a:chExt cx="289080" cy="285480"/>
            </a:xfrm>
          </p:grpSpPr>
          <p:sp>
            <p:nvSpPr>
              <p:cNvPr id="185" name=""/>
              <p:cNvSpPr/>
              <p:nvPr/>
            </p:nvSpPr>
            <p:spPr>
              <a:xfrm>
                <a:off x="4616280" y="5647320"/>
                <a:ext cx="271440" cy="115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06560" y="5539320"/>
                <a:ext cx="28764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608000" y="5477040"/>
                <a:ext cx="284760" cy="11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609080" y="5537520"/>
                <a:ext cx="7560" cy="16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4887720" y="5533920"/>
                <a:ext cx="7920" cy="17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746600" y="5614200"/>
              <a:ext cx="34560" cy="143640"/>
              <a:chOff x="4746600" y="5614200"/>
              <a:chExt cx="34560" cy="143640"/>
            </a:xfrm>
          </p:grpSpPr>
          <p:sp>
            <p:nvSpPr>
              <p:cNvPr id="191" name=""/>
              <p:cNvSpPr/>
              <p:nvPr/>
            </p:nvSpPr>
            <p:spPr>
              <a:xfrm>
                <a:off x="4746600" y="5614200"/>
                <a:ext cx="0" cy="1436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748040" y="562680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748040" y="564444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748040" y="566064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48040" y="567684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748040" y="569484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748040" y="571140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48040" y="572796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748040" y="574308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655200" y="1535040"/>
            <a:ext cx="7491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Coupled Devices (CCDs) were invented in the 1970s and originally found application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ory devices. Their light sensitive properties were quickly exploited for imaging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they produced a major revolution in Astronomy. They improved the light gathering power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lescopes by almost two orders of magnitude. Nowadays an amateur astronomer with a  CCD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a 15 cm telescope can collect as much light as an astronomer of the 1960s equipped with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graphic plate and a 1m telescop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Ds work by converting light into a pattern of electronic charge in a silicon chip. This pattern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is converted into a video waveform, digitised and stored as an image file on a compu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86200" y="3733920"/>
            <a:ext cx="2438280" cy="2133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9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410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2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413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5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6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427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9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440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456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9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460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2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2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3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474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9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480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5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486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1" name=""/>
          <p:cNvGrpSpPr/>
          <p:nvPr/>
        </p:nvGrpSpPr>
        <p:grpSpPr>
          <a:xfrm>
            <a:off x="3483000" y="4113360"/>
            <a:ext cx="326520" cy="304560"/>
            <a:chOff x="3483000" y="4113360"/>
            <a:chExt cx="326520" cy="304560"/>
          </a:xfrm>
        </p:grpSpPr>
        <p:sp>
          <p:nvSpPr>
            <p:cNvPr id="2492" name=""/>
            <p:cNvSpPr/>
            <p:nvPr/>
          </p:nvSpPr>
          <p:spPr>
            <a:xfrm>
              <a:off x="34945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4830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4851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4866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flipH="1">
              <a:off x="37990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7" name=""/>
          <p:cNvGrpSpPr/>
          <p:nvPr/>
        </p:nvGrpSpPr>
        <p:grpSpPr>
          <a:xfrm>
            <a:off x="4245120" y="4127400"/>
            <a:ext cx="326520" cy="304560"/>
            <a:chOff x="4245120" y="4127400"/>
            <a:chExt cx="326520" cy="304560"/>
          </a:xfrm>
        </p:grpSpPr>
        <p:sp>
          <p:nvSpPr>
            <p:cNvPr id="2498" name=""/>
            <p:cNvSpPr/>
            <p:nvPr/>
          </p:nvSpPr>
          <p:spPr>
            <a:xfrm>
              <a:off x="42566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42451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42476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42487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H="1">
              <a:off x="45612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50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51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9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520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2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523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5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6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537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9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9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550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2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5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566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9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570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2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2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3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584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9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590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5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596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1" name=""/>
          <p:cNvGrpSpPr/>
          <p:nvPr/>
        </p:nvGrpSpPr>
        <p:grpSpPr>
          <a:xfrm>
            <a:off x="3787920" y="4143240"/>
            <a:ext cx="326520" cy="304560"/>
            <a:chOff x="3787920" y="4143240"/>
            <a:chExt cx="326520" cy="304560"/>
          </a:xfrm>
        </p:grpSpPr>
        <p:sp>
          <p:nvSpPr>
            <p:cNvPr id="2602" name=""/>
            <p:cNvSpPr/>
            <p:nvPr/>
          </p:nvSpPr>
          <p:spPr>
            <a:xfrm>
              <a:off x="3799440" y="432612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787920" y="420912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790080" y="414324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79152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H="1">
              <a:off x="410400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7" name=""/>
          <p:cNvGrpSpPr/>
          <p:nvPr/>
        </p:nvGrpSpPr>
        <p:grpSpPr>
          <a:xfrm>
            <a:off x="4670280" y="4270680"/>
            <a:ext cx="415440" cy="420840"/>
            <a:chOff x="4670280" y="4270680"/>
            <a:chExt cx="415440" cy="420840"/>
          </a:xfrm>
        </p:grpSpPr>
        <p:sp>
          <p:nvSpPr>
            <p:cNvPr id="2608" name=""/>
            <p:cNvSpPr/>
            <p:nvPr/>
          </p:nvSpPr>
          <p:spPr>
            <a:xfrm rot="3700200">
              <a:off x="4643640" y="4467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rot="3700200">
              <a:off x="4710240" y="43948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rot="3700200">
              <a:off x="4796280" y="437904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H="1">
              <a:off x="4722480" y="4302360"/>
              <a:ext cx="154800" cy="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H="1">
              <a:off x="4865760" y="4585320"/>
              <a:ext cx="16812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61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62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9" name=""/>
          <p:cNvSpPr/>
          <p:nvPr/>
        </p:nvSpPr>
        <p:spPr>
          <a:xfrm>
            <a:off x="4916520" y="4540320"/>
            <a:ext cx="244080" cy="129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63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63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64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66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67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68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4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695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0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701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6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707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2" name=""/>
          <p:cNvGrpSpPr/>
          <p:nvPr/>
        </p:nvGrpSpPr>
        <p:grpSpPr>
          <a:xfrm>
            <a:off x="4092480" y="4143240"/>
            <a:ext cx="326880" cy="304560"/>
            <a:chOff x="4092480" y="4143240"/>
            <a:chExt cx="326880" cy="304560"/>
          </a:xfrm>
        </p:grpSpPr>
        <p:sp>
          <p:nvSpPr>
            <p:cNvPr id="2713" name=""/>
            <p:cNvSpPr/>
            <p:nvPr/>
          </p:nvSpPr>
          <p:spPr>
            <a:xfrm>
              <a:off x="4104000" y="43261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092480" y="42091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094640" y="41432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09608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H="1">
              <a:off x="440892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8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719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4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725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4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735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7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738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0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1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752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4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4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765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7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0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781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4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785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7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7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8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799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4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805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0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811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4092480" y="4143240"/>
            <a:ext cx="326880" cy="304560"/>
            <a:chOff x="4092480" y="4143240"/>
            <a:chExt cx="326880" cy="304560"/>
          </a:xfrm>
        </p:grpSpPr>
        <p:sp>
          <p:nvSpPr>
            <p:cNvPr id="2817" name=""/>
            <p:cNvSpPr/>
            <p:nvPr/>
          </p:nvSpPr>
          <p:spPr>
            <a:xfrm>
              <a:off x="4104000" y="43261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092480" y="42091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094640" y="41432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09608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440892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2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823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8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829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839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1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842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4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5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856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8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8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869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1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885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8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889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1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1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2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903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909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4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915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0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2921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6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927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933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2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3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944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6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947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9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0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961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3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3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974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6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9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990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3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994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6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2530440" y="3562200"/>
            <a:ext cx="289080" cy="399960"/>
            <a:chOff x="2530440" y="3562200"/>
            <a:chExt cx="289080" cy="399960"/>
          </a:xfrm>
        </p:grpSpPr>
        <p:sp>
          <p:nvSpPr>
            <p:cNvPr id="3007" name=""/>
            <p:cNvSpPr/>
            <p:nvPr/>
          </p:nvSpPr>
          <p:spPr>
            <a:xfrm>
              <a:off x="2538360" y="3562200"/>
              <a:ext cx="2761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2530440" y="3624120"/>
              <a:ext cx="28908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0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3011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6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3017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2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3023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8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029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4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035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4" name=""/>
          <p:cNvGrpSpPr/>
          <p:nvPr/>
        </p:nvGrpSpPr>
        <p:grpSpPr>
          <a:xfrm>
            <a:off x="3505320" y="3562200"/>
            <a:ext cx="288720" cy="399960"/>
            <a:chOff x="3505320" y="3562200"/>
            <a:chExt cx="288720" cy="399960"/>
          </a:xfrm>
        </p:grpSpPr>
        <p:sp>
          <p:nvSpPr>
            <p:cNvPr id="3045" name=""/>
            <p:cNvSpPr/>
            <p:nvPr/>
          </p:nvSpPr>
          <p:spPr>
            <a:xfrm>
              <a:off x="3512880" y="356220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3505320" y="362412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7" name=""/>
          <p:cNvGrpSpPr/>
          <p:nvPr/>
        </p:nvGrpSpPr>
        <p:grpSpPr>
          <a:xfrm>
            <a:off x="4416480" y="3581280"/>
            <a:ext cx="288720" cy="399960"/>
            <a:chOff x="4416480" y="3581280"/>
            <a:chExt cx="288720" cy="399960"/>
          </a:xfrm>
        </p:grpSpPr>
        <p:sp>
          <p:nvSpPr>
            <p:cNvPr id="3048" name=""/>
            <p:cNvSpPr/>
            <p:nvPr/>
          </p:nvSpPr>
          <p:spPr>
            <a:xfrm>
              <a:off x="4424040" y="358128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416480" y="364320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0" name=""/>
          <p:cNvSpPr/>
          <p:nvPr/>
        </p:nvSpPr>
        <p:spPr>
          <a:xfrm flipH="1">
            <a:off x="2649600" y="379584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 flipH="1">
            <a:off x="3564000" y="3733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 flipH="1">
            <a:off x="4506840" y="3814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3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054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6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057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9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0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071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3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3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084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6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9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100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3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104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6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6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7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3118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3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3124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9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3130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5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136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1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142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1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152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4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155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7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8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169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1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1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182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4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7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198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1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202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4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4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5" name=""/>
          <p:cNvGrpSpPr/>
          <p:nvPr/>
        </p:nvGrpSpPr>
        <p:grpSpPr>
          <a:xfrm>
            <a:off x="3025800" y="4113360"/>
            <a:ext cx="326520" cy="304560"/>
            <a:chOff x="3025800" y="4113360"/>
            <a:chExt cx="326520" cy="304560"/>
          </a:xfrm>
        </p:grpSpPr>
        <p:sp>
          <p:nvSpPr>
            <p:cNvPr id="3216" name=""/>
            <p:cNvSpPr/>
            <p:nvPr/>
          </p:nvSpPr>
          <p:spPr>
            <a:xfrm>
              <a:off x="30373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0258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0279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30294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 flipH="1">
              <a:off x="3341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1" name=""/>
          <p:cNvGrpSpPr/>
          <p:nvPr/>
        </p:nvGrpSpPr>
        <p:grpSpPr>
          <a:xfrm>
            <a:off x="3863880" y="4127400"/>
            <a:ext cx="326880" cy="304560"/>
            <a:chOff x="3863880" y="4127400"/>
            <a:chExt cx="326880" cy="304560"/>
          </a:xfrm>
        </p:grpSpPr>
        <p:sp>
          <p:nvSpPr>
            <p:cNvPr id="3222" name=""/>
            <p:cNvSpPr/>
            <p:nvPr/>
          </p:nvSpPr>
          <p:spPr>
            <a:xfrm>
              <a:off x="3875400" y="43102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3863880" y="41932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3866400" y="412740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86748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 flipH="1">
              <a:off x="418032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7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3228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23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24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9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25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25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26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28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29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30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4" name=""/>
          <p:cNvGrpSpPr/>
          <p:nvPr/>
        </p:nvGrpSpPr>
        <p:grpSpPr>
          <a:xfrm>
            <a:off x="3178080" y="4113360"/>
            <a:ext cx="326880" cy="304560"/>
            <a:chOff x="3178080" y="4113360"/>
            <a:chExt cx="326880" cy="304560"/>
          </a:xfrm>
        </p:grpSpPr>
        <p:sp>
          <p:nvSpPr>
            <p:cNvPr id="3315" name=""/>
            <p:cNvSpPr/>
            <p:nvPr/>
          </p:nvSpPr>
          <p:spPr>
            <a:xfrm>
              <a:off x="318960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317808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318024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318168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 flipH="1">
              <a:off x="349452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0" name=""/>
          <p:cNvGrpSpPr/>
          <p:nvPr/>
        </p:nvGrpSpPr>
        <p:grpSpPr>
          <a:xfrm>
            <a:off x="4016520" y="4127400"/>
            <a:ext cx="326520" cy="304560"/>
            <a:chOff x="4016520" y="4127400"/>
            <a:chExt cx="326520" cy="304560"/>
          </a:xfrm>
        </p:grpSpPr>
        <p:sp>
          <p:nvSpPr>
            <p:cNvPr id="3321" name=""/>
            <p:cNvSpPr/>
            <p:nvPr/>
          </p:nvSpPr>
          <p:spPr>
            <a:xfrm>
              <a:off x="40280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0165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40190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40201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H="1">
              <a:off x="43326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6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327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2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333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2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343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5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346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8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9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360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2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2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373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5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8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389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2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393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5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5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6" name=""/>
          <p:cNvGrpSpPr/>
          <p:nvPr/>
        </p:nvGrpSpPr>
        <p:grpSpPr>
          <a:xfrm>
            <a:off x="3483000" y="4113360"/>
            <a:ext cx="326520" cy="304560"/>
            <a:chOff x="3483000" y="4113360"/>
            <a:chExt cx="326520" cy="304560"/>
          </a:xfrm>
        </p:grpSpPr>
        <p:sp>
          <p:nvSpPr>
            <p:cNvPr id="3407" name=""/>
            <p:cNvSpPr/>
            <p:nvPr/>
          </p:nvSpPr>
          <p:spPr>
            <a:xfrm>
              <a:off x="34945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34830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4851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34866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H="1">
              <a:off x="37990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2" name=""/>
          <p:cNvGrpSpPr/>
          <p:nvPr/>
        </p:nvGrpSpPr>
        <p:grpSpPr>
          <a:xfrm>
            <a:off x="4245120" y="4127400"/>
            <a:ext cx="326520" cy="304560"/>
            <a:chOff x="4245120" y="4127400"/>
            <a:chExt cx="326520" cy="304560"/>
          </a:xfrm>
        </p:grpSpPr>
        <p:sp>
          <p:nvSpPr>
            <p:cNvPr id="3413" name=""/>
            <p:cNvSpPr/>
            <p:nvPr/>
          </p:nvSpPr>
          <p:spPr>
            <a:xfrm>
              <a:off x="42566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2451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42476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42487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 flipH="1">
              <a:off x="45612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8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419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4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425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48840" y="152280"/>
            <a:ext cx="26924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electric Eff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9160" y="990720"/>
            <a:ext cx="81133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ffect is fundamental to the operation of a CCD. Atoms in a  silicon crystal have electrons arranged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 energy bands. The lower energy band is called the Valence Band, the upper band is the Con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nd. Most of the electrons occupy the Valence band but can be excited into the conduction band by he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 by the absorption of a photon. The energy required for this transition is 1.26 electron volts. Once in th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duction band the electron is free to move about in the lattice of the silicon crystal. It leaves behind a ‘hole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valence band which acts like a positively charged carrier. In the absence of an external electric fiel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hole and electron will quickly re-combine and be lost. In a CCD an electric field is introduced to swee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se charge carriers apart and prevent recombin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4267080"/>
            <a:ext cx="175248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3505320"/>
            <a:ext cx="175248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990720" y="33523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71280" y="3773160"/>
            <a:ext cx="14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creasing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52240" y="426708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ence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31360" y="34671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37339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08960" y="382104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26eV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4305240"/>
            <a:ext cx="175248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3543480"/>
            <a:ext cx="175248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143840" y="3187800"/>
            <a:ext cx="515160" cy="1398960"/>
            <a:chOff x="7143840" y="3187800"/>
            <a:chExt cx="515160" cy="1398960"/>
          </a:xfrm>
        </p:grpSpPr>
        <p:sp>
          <p:nvSpPr>
            <p:cNvPr id="215" name=""/>
            <p:cNvSpPr/>
            <p:nvPr/>
          </p:nvSpPr>
          <p:spPr>
            <a:xfrm flipV="1" rot="6473400">
              <a:off x="6678360" y="3849840"/>
              <a:ext cx="144576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7255800" y="3193920"/>
              <a:ext cx="351720" cy="1091160"/>
              <a:chOff x="7255800" y="3193920"/>
              <a:chExt cx="351720" cy="1091160"/>
            </a:xfrm>
          </p:grpSpPr>
          <p:sp>
            <p:nvSpPr>
              <p:cNvPr id="217" name=""/>
              <p:cNvSpPr/>
              <p:nvPr/>
            </p:nvSpPr>
            <p:spPr>
              <a:xfrm flipH="1">
                <a:off x="7592040" y="319392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7579800" y="320112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76920" y="3208320"/>
                <a:ext cx="288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75480" y="322236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581600" y="323496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0600" y="324828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99600" y="326340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7602480" y="3276360"/>
                <a:ext cx="32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7588440" y="329004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7572600" y="329652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7557120" y="330408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7544880" y="330948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7542000" y="3316320"/>
                <a:ext cx="28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40560" y="333036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546320" y="334332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555320" y="335844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64320" y="337176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7567560" y="338580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7552800" y="33984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7537320" y="340668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7521840" y="3412080"/>
                <a:ext cx="1512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7509240" y="341928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7507440" y="342612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505280" y="343872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11040" y="345312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520400" y="346644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529040" y="348156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7531920" y="349452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7517880" y="350892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7502040" y="351504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7486560" y="352224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7474320" y="352764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7471800" y="3534480"/>
                <a:ext cx="252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470000" y="354888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76120" y="3561120"/>
                <a:ext cx="828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84760" y="357660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494120" y="3589920"/>
                <a:ext cx="576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7497000" y="3603960"/>
                <a:ext cx="28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7482600" y="361656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7467120" y="362484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7451640" y="363060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7438680" y="363636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7436880" y="364428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435080" y="365688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40480" y="367128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49840" y="368496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458480" y="370008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7461360" y="3712320"/>
                <a:ext cx="360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7447320" y="372708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7431480" y="373320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7416000" y="374040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7403760" y="374580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7401240" y="3752640"/>
                <a:ext cx="28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399440" y="376740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05560" y="377964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414200" y="379476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423560" y="380808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7426440" y="3822480"/>
                <a:ext cx="28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7412040" y="383508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7396560" y="384264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7381080" y="384876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7368480" y="385416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7366320" y="386244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364520" y="387504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370280" y="3889440"/>
                <a:ext cx="864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379280" y="390312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387920" y="391824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7391160" y="393048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7377120" y="394488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7361640" y="395136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7345800" y="395712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7333200" y="396432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7330680" y="3970800"/>
                <a:ext cx="28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29240" y="398520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35360" y="399780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44000" y="4012920"/>
                <a:ext cx="864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353000" y="4026600"/>
                <a:ext cx="612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7356240" y="404064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7341480" y="40536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326360" y="406116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7310880" y="406692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7297920" y="407232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7295760" y="4080600"/>
                <a:ext cx="252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293960" y="4093920"/>
                <a:ext cx="576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299720" y="4107240"/>
                <a:ext cx="900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309080" y="412128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17720" y="413640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7320600" y="4148640"/>
                <a:ext cx="324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306560" y="416304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7291080" y="416916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7275240" y="417528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7263000" y="418248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260480" y="4188960"/>
                <a:ext cx="288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258680" y="420336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264800" y="421596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273440" y="423108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282800" y="424476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7285680" y="4258800"/>
                <a:ext cx="288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7271280" y="427140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7255800" y="427968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flipH="1">
              <a:off x="7218000" y="4275360"/>
              <a:ext cx="4104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571000" y="3147840"/>
            <a:ext cx="514800" cy="1398960"/>
            <a:chOff x="5571000" y="3147840"/>
            <a:chExt cx="514800" cy="1398960"/>
          </a:xfrm>
        </p:grpSpPr>
        <p:sp>
          <p:nvSpPr>
            <p:cNvPr id="319" name=""/>
            <p:cNvSpPr/>
            <p:nvPr/>
          </p:nvSpPr>
          <p:spPr>
            <a:xfrm flipH="1" flipV="1" rot="15126600">
              <a:off x="5105160" y="3809880"/>
              <a:ext cx="1446120" cy="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622120" y="3154320"/>
              <a:ext cx="352080" cy="1090800"/>
              <a:chOff x="5622120" y="3154320"/>
              <a:chExt cx="352080" cy="1090800"/>
            </a:xfrm>
          </p:grpSpPr>
          <p:sp>
            <p:nvSpPr>
              <p:cNvPr id="321" name=""/>
              <p:cNvSpPr/>
              <p:nvPr/>
            </p:nvSpPr>
            <p:spPr>
              <a:xfrm>
                <a:off x="5622120" y="315432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37600" y="316116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649840" y="3168360"/>
                <a:ext cx="252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5648040" y="318240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639040" y="319500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630760" y="320832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5624280" y="322344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624280" y="3236400"/>
                <a:ext cx="32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629320" y="325008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41920" y="325656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57400" y="326412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72520" y="326952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84760" y="3276720"/>
                <a:ext cx="252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682960" y="329076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5674680" y="330372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5665680" y="331848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5659560" y="333180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659560" y="3345840"/>
                <a:ext cx="28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664240" y="335844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677200" y="336672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92320" y="337248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08160" y="337968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20040" y="338616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5718240" y="339876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709600" y="341316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700960" y="342648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5694480" y="3441600"/>
                <a:ext cx="648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694840" y="345456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699880" y="346896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712480" y="347508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27960" y="348228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43080" y="348768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754960" y="3494880"/>
                <a:ext cx="288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5753520" y="350892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744880" y="352152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736240" y="353664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730120" y="3549960"/>
                <a:ext cx="576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30120" y="356400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34440" y="35766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747760" y="358488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62880" y="359064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78000" y="35964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790600" y="360432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788800" y="3617280"/>
                <a:ext cx="576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780160" y="3631320"/>
                <a:ext cx="864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771520" y="364500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5765040" y="366012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765040" y="367236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70080" y="368712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82680" y="369324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798520" y="3700800"/>
                <a:ext cx="147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13280" y="3705840"/>
                <a:ext cx="1260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25520" y="3712680"/>
                <a:ext cx="288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5823720" y="372744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5815440" y="373968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5806440" y="375480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00320" y="376812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00680" y="378252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05000" y="379512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18320" y="3802680"/>
                <a:ext cx="1476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33440" y="380880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48200" y="38142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60800" y="3822840"/>
                <a:ext cx="25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5859360" y="383544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5850360" y="3849480"/>
                <a:ext cx="900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5842080" y="386316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5835600" y="387828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35600" y="3890520"/>
                <a:ext cx="324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840640" y="390492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53240" y="391140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68360" y="391716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83840" y="392472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895720" y="3930840"/>
                <a:ext cx="288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5894280" y="394524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5886000" y="395784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5877000" y="3972960"/>
                <a:ext cx="900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5870880" y="3986640"/>
                <a:ext cx="576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70880" y="4000680"/>
                <a:ext cx="28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75560" y="401364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88880" y="4021560"/>
                <a:ext cx="147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903640" y="402696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918760" y="4032360"/>
                <a:ext cx="1296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931360" y="4041000"/>
                <a:ext cx="252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5929560" y="4053960"/>
                <a:ext cx="612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5920920" y="4067640"/>
                <a:ext cx="864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5912640" y="408132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5905800" y="409644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906160" y="410904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10840" y="412308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923440" y="412920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38920" y="413532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54400" y="414288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66280" y="4149360"/>
                <a:ext cx="28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5964840" y="416340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5956200" y="4176000"/>
                <a:ext cx="864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5947560" y="4191120"/>
                <a:ext cx="864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5941440" y="420480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41440" y="421884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45760" y="423144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959080" y="423972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5970600" y="4236120"/>
              <a:ext cx="4104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 flipV="1">
            <a:off x="6095880" y="3733560"/>
            <a:ext cx="0" cy="609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7086600" y="3733560"/>
            <a:ext cx="0" cy="609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6029280" y="4371840"/>
            <a:ext cx="152280" cy="152640"/>
            <a:chOff x="6029280" y="4371840"/>
            <a:chExt cx="152280" cy="152640"/>
          </a:xfrm>
        </p:grpSpPr>
        <p:sp>
          <p:nvSpPr>
            <p:cNvPr id="425" name=""/>
            <p:cNvSpPr/>
            <p:nvPr/>
          </p:nvSpPr>
          <p:spPr>
            <a:xfrm>
              <a:off x="6029280" y="4371840"/>
              <a:ext cx="152280" cy="152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29280" y="44416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6105240" y="437184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020000" y="4362120"/>
            <a:ext cx="152280" cy="152640"/>
            <a:chOff x="7020000" y="4362120"/>
            <a:chExt cx="152280" cy="152640"/>
          </a:xfrm>
        </p:grpSpPr>
        <p:sp>
          <p:nvSpPr>
            <p:cNvPr id="429" name=""/>
            <p:cNvSpPr/>
            <p:nvPr/>
          </p:nvSpPr>
          <p:spPr>
            <a:xfrm>
              <a:off x="7020000" y="4362480"/>
              <a:ext cx="152280" cy="152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20000" y="4432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095960" y="43621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60199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010280" y="36576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3120" y="5105520"/>
            <a:ext cx="8146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mally generated electrons are indistinguishable from photo-generated electrons . They constitut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ise source known as ‘Dark Current’ and it is important that CCDs are kept cold to reduce their numb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26eV corresponds to the energy of light with a wavelength of 1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. Beyond this wavelength silicon becom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arent and CCDs constructed from silicon become insensiti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4143000">
            <a:off x="5198040" y="308412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7641200">
            <a:off x="7151040" y="306108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467320" y="4745160"/>
            <a:ext cx="1767240" cy="276480"/>
            <a:chOff x="5467320" y="4745160"/>
            <a:chExt cx="1767240" cy="276480"/>
          </a:xfrm>
        </p:grpSpPr>
        <p:grpSp>
          <p:nvGrpSpPr>
            <p:cNvPr id="438" name=""/>
            <p:cNvGrpSpPr/>
            <p:nvPr/>
          </p:nvGrpSpPr>
          <p:grpSpPr>
            <a:xfrm>
              <a:off x="5467320" y="4800240"/>
              <a:ext cx="152280" cy="152640"/>
              <a:chOff x="5467320" y="4800240"/>
              <a:chExt cx="152280" cy="152640"/>
            </a:xfrm>
          </p:grpSpPr>
          <p:sp>
            <p:nvSpPr>
              <p:cNvPr id="439" name=""/>
              <p:cNvSpPr/>
              <p:nvPr/>
            </p:nvSpPr>
            <p:spPr>
              <a:xfrm>
                <a:off x="5467320" y="4800600"/>
                <a:ext cx="152280" cy="152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67320" y="487044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5543280" y="480024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6381720" y="48769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95480" y="4745160"/>
              <a:ext cx="163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ole                 Electr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4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435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7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438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0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1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452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4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4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465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7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0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481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4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485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7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7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8" name=""/>
          <p:cNvGrpSpPr/>
          <p:nvPr/>
        </p:nvGrpSpPr>
        <p:grpSpPr>
          <a:xfrm>
            <a:off x="3863880" y="4127400"/>
            <a:ext cx="326880" cy="304560"/>
            <a:chOff x="3863880" y="4127400"/>
            <a:chExt cx="326880" cy="304560"/>
          </a:xfrm>
        </p:grpSpPr>
        <p:sp>
          <p:nvSpPr>
            <p:cNvPr id="3499" name=""/>
            <p:cNvSpPr/>
            <p:nvPr/>
          </p:nvSpPr>
          <p:spPr>
            <a:xfrm>
              <a:off x="3875400" y="43102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3863880" y="41932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3866400" y="412740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386748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 flipH="1">
              <a:off x="418032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4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3505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0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511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6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517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6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7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528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0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531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3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4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545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7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7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558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0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3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574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7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578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0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0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1" name=""/>
          <p:cNvGrpSpPr/>
          <p:nvPr/>
        </p:nvGrpSpPr>
        <p:grpSpPr>
          <a:xfrm>
            <a:off x="4245120" y="4127400"/>
            <a:ext cx="326520" cy="304560"/>
            <a:chOff x="4245120" y="4127400"/>
            <a:chExt cx="326520" cy="304560"/>
          </a:xfrm>
        </p:grpSpPr>
        <p:sp>
          <p:nvSpPr>
            <p:cNvPr id="3592" name=""/>
            <p:cNvSpPr/>
            <p:nvPr/>
          </p:nvSpPr>
          <p:spPr>
            <a:xfrm>
              <a:off x="42566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42451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42476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42487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 flipH="1">
              <a:off x="45612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7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598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3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604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3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614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6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617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9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631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3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3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644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6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9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660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3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664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6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6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7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3678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68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69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9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70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70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71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73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74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75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4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765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0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771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0" name=""/>
          <p:cNvSpPr/>
          <p:nvPr/>
        </p:nvSpPr>
        <p:spPr>
          <a:xfrm>
            <a:off x="1648800" y="1459080"/>
            <a:ext cx="558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entually all the buckets have been measured, the CCD has been read ou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647280" y="773280"/>
            <a:ext cx="7854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image area of the CCD is positioned at the focal plane of the telescope.  An image then builds up th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sts of a pattern of electric charge. At the end of the exposure this pattern is then transferred, pixel at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, by way of the serial register to the on-chip amplifier. Electrical connections are made to the outsi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ld via a series of bond pads and thin gold wires positioned around the chip periphe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3" name=""/>
          <p:cNvGrpSpPr/>
          <p:nvPr/>
        </p:nvGrpSpPr>
        <p:grpSpPr>
          <a:xfrm>
            <a:off x="1219320" y="2579760"/>
            <a:ext cx="3238560" cy="2806560"/>
            <a:chOff x="1219320" y="2579760"/>
            <a:chExt cx="3238560" cy="2806560"/>
          </a:xfrm>
        </p:grpSpPr>
        <p:sp>
          <p:nvSpPr>
            <p:cNvPr id="3784" name=""/>
            <p:cNvSpPr/>
            <p:nvPr/>
          </p:nvSpPr>
          <p:spPr>
            <a:xfrm>
              <a:off x="1219320" y="2579760"/>
              <a:ext cx="3238560" cy="2806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5" name=""/>
            <p:cNvGrpSpPr/>
            <p:nvPr/>
          </p:nvGrpSpPr>
          <p:grpSpPr>
            <a:xfrm>
              <a:off x="1550880" y="2811600"/>
              <a:ext cx="2595600" cy="2354040"/>
              <a:chOff x="1550880" y="2811600"/>
              <a:chExt cx="2595600" cy="2354040"/>
            </a:xfrm>
          </p:grpSpPr>
          <p:sp>
            <p:nvSpPr>
              <p:cNvPr id="3786" name=""/>
              <p:cNvSpPr/>
              <p:nvPr/>
            </p:nvSpPr>
            <p:spPr>
              <a:xfrm>
                <a:off x="1550880" y="2811600"/>
                <a:ext cx="2595600" cy="23540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161100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1611000" y="322344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1611000" y="357660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185256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209412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257688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281844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306000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342216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366372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395532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1611000" y="3811680"/>
                <a:ext cx="120600" cy="117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1611000" y="410616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1611000" y="445932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1611000" y="475344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161100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185256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215424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239580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287892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312048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348264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378432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396540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3965400" y="48124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3965400" y="4518000"/>
                <a:ext cx="120600" cy="117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3965400" y="410616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3965400" y="3811680"/>
                <a:ext cx="120600" cy="117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3965400" y="3458520"/>
                <a:ext cx="120600" cy="117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3965400" y="316440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7" name=""/>
            <p:cNvGrpSpPr/>
            <p:nvPr/>
          </p:nvGrpSpPr>
          <p:grpSpPr>
            <a:xfrm>
              <a:off x="1309680" y="2691000"/>
              <a:ext cx="60480" cy="2595600"/>
              <a:chOff x="1309680" y="2691000"/>
              <a:chExt cx="60480" cy="2595600"/>
            </a:xfrm>
          </p:grpSpPr>
          <p:sp>
            <p:nvSpPr>
              <p:cNvPr id="3818" name=""/>
              <p:cNvSpPr/>
              <p:nvPr/>
            </p:nvSpPr>
            <p:spPr>
              <a:xfrm>
                <a:off x="1309680" y="52264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1309680" y="504504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1309680" y="486396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1309680" y="46828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1309680" y="450180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1309680" y="432072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1309680" y="413964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1309680" y="395856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1309680" y="37774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1309680" y="359640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1309680" y="341532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1309680" y="323424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1309680" y="305316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1309680" y="28720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1309680" y="269100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3" name=""/>
            <p:cNvSpPr/>
            <p:nvPr/>
          </p:nvSpPr>
          <p:spPr>
            <a:xfrm>
              <a:off x="4297320" y="523548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4297320" y="505476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4297320" y="487368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4297320" y="469260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4297320" y="451188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4297320" y="433080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4297320" y="414972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4297320" y="3967200"/>
              <a:ext cx="604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4297320" y="378612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4297320" y="360540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4297320" y="342432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4297320" y="324324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4297320" y="306252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4297320" y="288144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4297320" y="270036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8" name=""/>
            <p:cNvGrpSpPr/>
            <p:nvPr/>
          </p:nvGrpSpPr>
          <p:grpSpPr>
            <a:xfrm>
              <a:off x="1541520" y="2690640"/>
              <a:ext cx="2593800" cy="60120"/>
              <a:chOff x="1541520" y="2690640"/>
              <a:chExt cx="2593800" cy="60120"/>
            </a:xfrm>
          </p:grpSpPr>
          <p:sp>
            <p:nvSpPr>
              <p:cNvPr id="3849" name=""/>
              <p:cNvSpPr/>
              <p:nvPr/>
            </p:nvSpPr>
            <p:spPr>
              <a:xfrm rot="16200000">
                <a:off x="407520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 rot="16200000">
                <a:off x="389412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rot="16200000">
                <a:off x="371304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 rot="16200000">
                <a:off x="353196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 rot="16200000">
                <a:off x="335124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rot="16200000">
                <a:off x="317016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 rot="16200000">
                <a:off x="298908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 rot="16200000">
                <a:off x="280836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rot="16200000">
                <a:off x="262728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 rot="16200000">
                <a:off x="244620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 rot="16200000">
                <a:off x="226512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rot="16200000">
                <a:off x="208440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 rot="16200000">
                <a:off x="190332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 rot="16200000">
                <a:off x="172224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 rot="16200000">
                <a:off x="154152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4" name=""/>
            <p:cNvGrpSpPr/>
            <p:nvPr/>
          </p:nvGrpSpPr>
          <p:grpSpPr>
            <a:xfrm>
              <a:off x="1550880" y="5244840"/>
              <a:ext cx="2595600" cy="60120"/>
              <a:chOff x="1550880" y="5244840"/>
              <a:chExt cx="2595600" cy="60120"/>
            </a:xfrm>
          </p:grpSpPr>
          <p:sp>
            <p:nvSpPr>
              <p:cNvPr id="3865" name=""/>
              <p:cNvSpPr/>
              <p:nvPr/>
            </p:nvSpPr>
            <p:spPr>
              <a:xfrm rot="16200000">
                <a:off x="408636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 rot="16200000">
                <a:off x="390492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 rot="16200000">
                <a:off x="372384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 rot="16200000">
                <a:off x="354276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 rot="16200000">
                <a:off x="336168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 rot="16200000">
                <a:off x="318060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 rot="16200000">
                <a:off x="299952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rot="16200000">
                <a:off x="281844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 rot="16200000">
                <a:off x="263736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 rot="16200000">
                <a:off x="245628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rot="16200000">
                <a:off x="227520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 rot="16200000">
                <a:off x="209412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 rot="16200000">
                <a:off x="191304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 rot="16200000">
                <a:off x="173196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 rot="16200000">
                <a:off x="155088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0" name=""/>
            <p:cNvSpPr/>
            <p:nvPr/>
          </p:nvSpPr>
          <p:spPr>
            <a:xfrm flipH="1" flipV="1">
              <a:off x="1360440" y="3998520"/>
              <a:ext cx="301680" cy="1810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 flipH="1">
              <a:off x="1371240" y="4484880"/>
              <a:ext cx="304920" cy="75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 flipH="1">
              <a:off x="1371240" y="4789440"/>
              <a:ext cx="304920" cy="763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 flipV="1">
              <a:off x="1371600" y="5018040"/>
              <a:ext cx="304920" cy="763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 flipV="1">
              <a:off x="1752480" y="5094000"/>
              <a:ext cx="15264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 flipV="1">
              <a:off x="2133720" y="5094000"/>
              <a:ext cx="7596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 flipH="1" flipV="1">
              <a:off x="2425680" y="4998600"/>
              <a:ext cx="76320" cy="3049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 flipV="1">
              <a:off x="2844720" y="5094000"/>
              <a:ext cx="7632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 flipV="1">
              <a:off x="3048120" y="5094000"/>
              <a:ext cx="7596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 flipH="1" flipV="1">
              <a:off x="3504960" y="5094000"/>
              <a:ext cx="7596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 flipH="1" flipV="1">
              <a:off x="3886200" y="5094000"/>
              <a:ext cx="7632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 flipH="1" flipV="1">
              <a:off x="4038480" y="5094000"/>
              <a:ext cx="7632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 flipH="1" flipV="1">
              <a:off x="4038120" y="4865400"/>
              <a:ext cx="30492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4038480" y="4560840"/>
              <a:ext cx="30492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4038480" y="4179960"/>
              <a:ext cx="30492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 flipV="1">
              <a:off x="4038480" y="3798720"/>
              <a:ext cx="304920" cy="75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 flipV="1">
              <a:off x="4038480" y="3417840"/>
              <a:ext cx="30492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038480" y="3189240"/>
              <a:ext cx="304920" cy="763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 flipV="1">
              <a:off x="4038480" y="2884320"/>
              <a:ext cx="304920" cy="75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 flipV="1">
              <a:off x="3733920" y="2731680"/>
              <a:ext cx="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 flipH="1" flipV="1">
              <a:off x="3352680" y="2732040"/>
              <a:ext cx="15264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 flipV="1">
              <a:off x="3124080" y="2731680"/>
              <a:ext cx="7632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 flipH="1" flipV="1">
              <a:off x="2819160" y="2731680"/>
              <a:ext cx="7596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 flipV="1">
              <a:off x="2666880" y="2732040"/>
              <a:ext cx="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 flipV="1">
              <a:off x="2152800" y="2732040"/>
              <a:ext cx="15228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 flipV="1">
              <a:off x="1905120" y="2731680"/>
              <a:ext cx="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 flipH="1" flipV="1">
              <a:off x="1600200" y="2732040"/>
              <a:ext cx="7632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 flipH="1">
              <a:off x="1371240" y="3265560"/>
              <a:ext cx="30492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 flipH="1">
              <a:off x="1294920" y="3646440"/>
              <a:ext cx="381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 flipH="1" flipV="1">
              <a:off x="1371240" y="3798720"/>
              <a:ext cx="304920" cy="75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0" name=""/>
          <p:cNvSpPr/>
          <p:nvPr/>
        </p:nvSpPr>
        <p:spPr>
          <a:xfrm>
            <a:off x="1905120" y="3112920"/>
            <a:ext cx="1904760" cy="167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1901880" y="4799160"/>
            <a:ext cx="1905120" cy="75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3809880" y="4803840"/>
            <a:ext cx="15264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4723200" y="2122560"/>
            <a:ext cx="1639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 p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old bond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nd pa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licon c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2819520" y="2274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 flipH="1">
            <a:off x="4343400" y="27320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H="1">
            <a:off x="4191120" y="311292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 flipH="1" flipV="1">
            <a:off x="4038120" y="3493800"/>
            <a:ext cx="8384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 flipH="1" flipV="1">
            <a:off x="4114440" y="47512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 flipH="1" flipV="1">
            <a:off x="1828800" y="2198520"/>
            <a:ext cx="38088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2495160" y="1981080"/>
            <a:ext cx="25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al,ceramic or plastic pack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1051560" y="190512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 flipV="1">
            <a:off x="2743200" y="4865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2344320" y="601992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ial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 flipH="1" flipV="1">
            <a:off x="3885840" y="486576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4629240" y="548640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chip amp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656280" y="773280"/>
            <a:ext cx="7630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Ds are are manufactured on silicon wafers using the same photo-lithographic techniques us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manufacture computer chips. Scientific  CCDs are very big ,only a few can be fitted onto a waf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is one reason that they are so cos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hoto below shows a silicon wafer with three large CCDs and assorted smaller devices. A CCD 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en produced by Philips that fills an entire 6 inch wafer! It is the worlds largest integrated circu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8" name="wafer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4940280" cy="3873600"/>
          </a:xfrm>
          <a:prstGeom prst="rect">
            <a:avLst/>
          </a:prstGeom>
          <a:ln w="0">
            <a:noFill/>
          </a:ln>
        </p:spPr>
      </p:pic>
      <p:sp>
        <p:nvSpPr>
          <p:cNvPr id="3929" name=""/>
          <p:cNvSpPr/>
          <p:nvPr/>
        </p:nvSpPr>
        <p:spPr>
          <a:xfrm>
            <a:off x="6102360" y="6351480"/>
            <a:ext cx="11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on Groom LBN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"/>
          <p:cNvSpPr/>
          <p:nvPr/>
        </p:nvSpPr>
        <p:spPr>
          <a:xfrm>
            <a:off x="2933640" y="1600200"/>
            <a:ext cx="3276720" cy="274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3305160" y="155268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4524480" y="1562040"/>
            <a:ext cx="7596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5819760" y="156204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687600" y="99072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2743200" y="3886200"/>
            <a:ext cx="380988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2743200" y="3448080"/>
            <a:ext cx="380988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2743200" y="3000240"/>
            <a:ext cx="3809880" cy="38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2743200" y="2571840"/>
            <a:ext cx="380988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2743200" y="2133720"/>
            <a:ext cx="380988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2771640" y="1704960"/>
            <a:ext cx="381024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 rot="16200000">
            <a:off x="3343320" y="2609280"/>
            <a:ext cx="1228680" cy="117180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2971800" y="4952880"/>
            <a:ext cx="3276720" cy="762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2971800" y="4952880"/>
            <a:ext cx="32767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3324240" y="4952880"/>
            <a:ext cx="74520" cy="104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4543560" y="4952880"/>
            <a:ext cx="74520" cy="104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5867280" y="4952880"/>
            <a:ext cx="74880" cy="104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2971800" y="4952880"/>
            <a:ext cx="327672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2971800" y="490536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 flipH="1" flipV="1">
            <a:off x="2057400" y="259056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1142640" y="236232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e pix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 flipV="1">
            <a:off x="3429000" y="1294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 flipH="1" flipV="1">
            <a:off x="4190760" y="1371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3707640" y="1135080"/>
            <a:ext cx="37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stops to define the columns of the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6553080" y="18288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 flipV="1">
            <a:off x="6553080" y="2590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 flipV="1">
            <a:off x="6553080" y="2285640"/>
            <a:ext cx="533520" cy="2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7066440" y="1763640"/>
            <a:ext cx="175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a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rizontal electr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define the pixe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ly. 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d to transfer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during read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746280" y="1690560"/>
            <a:ext cx="1249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750960" y="5013360"/>
            <a:ext cx="1546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655200" y="773280"/>
            <a:ext cx="761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agram shows a small section (a few pixels) of the image area of a CCD. This pattern is reape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 flipV="1">
            <a:off x="6248520" y="47242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 flipV="1">
            <a:off x="6248520" y="487656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6248520" y="5048280"/>
            <a:ext cx="609480" cy="57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6248520" y="5429160"/>
            <a:ext cx="609480" cy="133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6837840" y="4506840"/>
            <a:ext cx="1343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ulating 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-type sili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-type sili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741600" y="5715000"/>
            <a:ext cx="73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ery third electrode is connected together. Bus wires running down the edge of the chip make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. The channel stops are formed from high concentrations of Boron in  the silic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8" name=""/>
          <p:cNvGrpSpPr/>
          <p:nvPr/>
        </p:nvGrpSpPr>
        <p:grpSpPr>
          <a:xfrm>
            <a:off x="3067200" y="4853160"/>
            <a:ext cx="3438000" cy="156960"/>
            <a:chOff x="3067200" y="4853160"/>
            <a:chExt cx="3438000" cy="156960"/>
          </a:xfrm>
        </p:grpSpPr>
        <p:grpSp>
          <p:nvGrpSpPr>
            <p:cNvPr id="3969" name=""/>
            <p:cNvGrpSpPr/>
            <p:nvPr/>
          </p:nvGrpSpPr>
          <p:grpSpPr>
            <a:xfrm>
              <a:off x="3067200" y="4853160"/>
              <a:ext cx="218880" cy="152280"/>
              <a:chOff x="3067200" y="4853160"/>
              <a:chExt cx="218880" cy="152280"/>
            </a:xfrm>
          </p:grpSpPr>
          <p:sp>
            <p:nvSpPr>
              <p:cNvPr id="3970" name=""/>
              <p:cNvSpPr/>
              <p:nvPr/>
            </p:nvSpPr>
            <p:spPr>
              <a:xfrm>
                <a:off x="306720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313848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32144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328608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4" name=""/>
            <p:cNvGrpSpPr/>
            <p:nvPr/>
          </p:nvGrpSpPr>
          <p:grpSpPr>
            <a:xfrm>
              <a:off x="3357360" y="4853160"/>
              <a:ext cx="218880" cy="152280"/>
              <a:chOff x="3357360" y="4853160"/>
              <a:chExt cx="218880" cy="152280"/>
            </a:xfrm>
          </p:grpSpPr>
          <p:sp>
            <p:nvSpPr>
              <p:cNvPr id="3975" name=""/>
              <p:cNvSpPr/>
              <p:nvPr/>
            </p:nvSpPr>
            <p:spPr>
              <a:xfrm>
                <a:off x="335736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34286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50460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35762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9" name=""/>
            <p:cNvGrpSpPr/>
            <p:nvPr/>
          </p:nvGrpSpPr>
          <p:grpSpPr>
            <a:xfrm>
              <a:off x="3652560" y="4853160"/>
              <a:ext cx="218880" cy="152280"/>
              <a:chOff x="3652560" y="4853160"/>
              <a:chExt cx="218880" cy="152280"/>
            </a:xfrm>
          </p:grpSpPr>
          <p:sp>
            <p:nvSpPr>
              <p:cNvPr id="3980" name=""/>
              <p:cNvSpPr/>
              <p:nvPr/>
            </p:nvSpPr>
            <p:spPr>
              <a:xfrm>
                <a:off x="365256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37238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379980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8714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4" name=""/>
            <p:cNvGrpSpPr/>
            <p:nvPr/>
          </p:nvGrpSpPr>
          <p:grpSpPr>
            <a:xfrm>
              <a:off x="3943080" y="4853160"/>
              <a:ext cx="218880" cy="152280"/>
              <a:chOff x="3943080" y="4853160"/>
              <a:chExt cx="218880" cy="152280"/>
            </a:xfrm>
          </p:grpSpPr>
          <p:sp>
            <p:nvSpPr>
              <p:cNvPr id="3985" name=""/>
              <p:cNvSpPr/>
              <p:nvPr/>
            </p:nvSpPr>
            <p:spPr>
              <a:xfrm>
                <a:off x="394308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401436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409032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416196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9" name=""/>
            <p:cNvGrpSpPr/>
            <p:nvPr/>
          </p:nvGrpSpPr>
          <p:grpSpPr>
            <a:xfrm>
              <a:off x="4238640" y="4857840"/>
              <a:ext cx="218520" cy="152280"/>
              <a:chOff x="4238640" y="4857840"/>
              <a:chExt cx="218520" cy="152280"/>
            </a:xfrm>
          </p:grpSpPr>
          <p:sp>
            <p:nvSpPr>
              <p:cNvPr id="3990" name=""/>
              <p:cNvSpPr/>
              <p:nvPr/>
            </p:nvSpPr>
            <p:spPr>
              <a:xfrm>
                <a:off x="42386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430992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438552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44571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4" name=""/>
            <p:cNvGrpSpPr/>
            <p:nvPr/>
          </p:nvGrpSpPr>
          <p:grpSpPr>
            <a:xfrm>
              <a:off x="4529160" y="4857840"/>
              <a:ext cx="218520" cy="152280"/>
              <a:chOff x="4529160" y="4857840"/>
              <a:chExt cx="218520" cy="152280"/>
            </a:xfrm>
          </p:grpSpPr>
          <p:sp>
            <p:nvSpPr>
              <p:cNvPr id="3995" name=""/>
              <p:cNvSpPr/>
              <p:nvPr/>
            </p:nvSpPr>
            <p:spPr>
              <a:xfrm>
                <a:off x="45291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46004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46760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47476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9" name=""/>
            <p:cNvGrpSpPr/>
            <p:nvPr/>
          </p:nvGrpSpPr>
          <p:grpSpPr>
            <a:xfrm>
              <a:off x="4824360" y="4857840"/>
              <a:ext cx="218520" cy="152280"/>
              <a:chOff x="4824360" y="4857840"/>
              <a:chExt cx="218520" cy="152280"/>
            </a:xfrm>
          </p:grpSpPr>
          <p:sp>
            <p:nvSpPr>
              <p:cNvPr id="4000" name=""/>
              <p:cNvSpPr/>
              <p:nvPr/>
            </p:nvSpPr>
            <p:spPr>
              <a:xfrm>
                <a:off x="48243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48956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49712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50428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4" name=""/>
            <p:cNvGrpSpPr/>
            <p:nvPr/>
          </p:nvGrpSpPr>
          <p:grpSpPr>
            <a:xfrm>
              <a:off x="5114880" y="4857840"/>
              <a:ext cx="218520" cy="152280"/>
              <a:chOff x="5114880" y="4857840"/>
              <a:chExt cx="218520" cy="152280"/>
            </a:xfrm>
          </p:grpSpPr>
          <p:sp>
            <p:nvSpPr>
              <p:cNvPr id="4005" name=""/>
              <p:cNvSpPr/>
              <p:nvPr/>
            </p:nvSpPr>
            <p:spPr>
              <a:xfrm>
                <a:off x="51148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51861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52617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53334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9" name=""/>
            <p:cNvGrpSpPr/>
            <p:nvPr/>
          </p:nvGrpSpPr>
          <p:grpSpPr>
            <a:xfrm>
              <a:off x="5410080" y="4857840"/>
              <a:ext cx="218880" cy="152280"/>
              <a:chOff x="5410080" y="4857840"/>
              <a:chExt cx="218880" cy="152280"/>
            </a:xfrm>
          </p:grpSpPr>
          <p:sp>
            <p:nvSpPr>
              <p:cNvPr id="4010" name=""/>
              <p:cNvSpPr/>
              <p:nvPr/>
            </p:nvSpPr>
            <p:spPr>
              <a:xfrm>
                <a:off x="54100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54813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555732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56289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4" name=""/>
            <p:cNvGrpSpPr/>
            <p:nvPr/>
          </p:nvGrpSpPr>
          <p:grpSpPr>
            <a:xfrm>
              <a:off x="5700600" y="4857840"/>
              <a:ext cx="218880" cy="152280"/>
              <a:chOff x="5700600" y="4857840"/>
              <a:chExt cx="218880" cy="152280"/>
            </a:xfrm>
          </p:grpSpPr>
          <p:sp>
            <p:nvSpPr>
              <p:cNvPr id="4015" name=""/>
              <p:cNvSpPr/>
              <p:nvPr/>
            </p:nvSpPr>
            <p:spPr>
              <a:xfrm>
                <a:off x="57006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57718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58478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59194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9" name=""/>
            <p:cNvGrpSpPr/>
            <p:nvPr/>
          </p:nvGrpSpPr>
          <p:grpSpPr>
            <a:xfrm>
              <a:off x="5995800" y="4857840"/>
              <a:ext cx="218880" cy="152280"/>
              <a:chOff x="5995800" y="4857840"/>
              <a:chExt cx="218880" cy="152280"/>
            </a:xfrm>
          </p:grpSpPr>
          <p:sp>
            <p:nvSpPr>
              <p:cNvPr id="4020" name=""/>
              <p:cNvSpPr/>
              <p:nvPr/>
            </p:nvSpPr>
            <p:spPr>
              <a:xfrm>
                <a:off x="59958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60670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61430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62146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6286320" y="4857840"/>
              <a:ext cx="218880" cy="152280"/>
              <a:chOff x="6286320" y="4857840"/>
              <a:chExt cx="218880" cy="152280"/>
            </a:xfrm>
          </p:grpSpPr>
          <p:sp>
            <p:nvSpPr>
              <p:cNvPr id="4025" name=""/>
              <p:cNvSpPr/>
              <p:nvPr/>
            </p:nvSpPr>
            <p:spPr>
              <a:xfrm>
                <a:off x="628632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63576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64335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65052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29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687600" y="99072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2743200" y="4952880"/>
            <a:ext cx="4191120" cy="762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2743200" y="4952880"/>
            <a:ext cx="41911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2743200" y="4952880"/>
            <a:ext cx="38098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2743200" y="1600200"/>
            <a:ext cx="3467160" cy="3048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3114720" y="161928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3305160" y="155268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3505320" y="1562040"/>
            <a:ext cx="7596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3733920" y="1562040"/>
            <a:ext cx="7596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3914640" y="156204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4114800" y="157176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4343400" y="157176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4524480" y="1562040"/>
            <a:ext cx="7596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4724280" y="157176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4952880" y="157176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5143680" y="1571760"/>
            <a:ext cx="7596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5343480" y="158112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5572080" y="158112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5819760" y="156204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6019920" y="1571760"/>
            <a:ext cx="7596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6248520" y="1571760"/>
            <a:ext cx="7596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1" name=""/>
          <p:cNvGrpSpPr/>
          <p:nvPr/>
        </p:nvGrpSpPr>
        <p:grpSpPr>
          <a:xfrm>
            <a:off x="2733840" y="1704960"/>
            <a:ext cx="3819240" cy="1190160"/>
            <a:chOff x="2733840" y="1704960"/>
            <a:chExt cx="3819240" cy="1190160"/>
          </a:xfrm>
        </p:grpSpPr>
        <p:sp>
          <p:nvSpPr>
            <p:cNvPr id="4052" name=""/>
            <p:cNvSpPr/>
            <p:nvPr/>
          </p:nvSpPr>
          <p:spPr>
            <a:xfrm>
              <a:off x="2743200" y="271836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743200" y="251496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743200" y="2306880"/>
              <a:ext cx="3809880" cy="177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743200" y="210780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743200" y="190404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733840" y="170496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8" name=""/>
          <p:cNvSpPr/>
          <p:nvPr/>
        </p:nvSpPr>
        <p:spPr>
          <a:xfrm>
            <a:off x="2743200" y="393696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2743200" y="373392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2743200" y="352584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2743200" y="3327480"/>
            <a:ext cx="3809880" cy="176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2743200" y="312264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>
            <a:off x="2733840" y="292428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"/>
          <p:cNvSpPr/>
          <p:nvPr/>
        </p:nvSpPr>
        <p:spPr>
          <a:xfrm>
            <a:off x="2743200" y="413388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>
            <a:off x="2730600" y="1447920"/>
            <a:ext cx="42037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6172200" y="1676520"/>
            <a:ext cx="762120" cy="2971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2730600" y="1676520"/>
            <a:ext cx="304560" cy="2971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8" name=""/>
          <p:cNvGrpSpPr/>
          <p:nvPr/>
        </p:nvGrpSpPr>
        <p:grpSpPr>
          <a:xfrm>
            <a:off x="3043080" y="4309920"/>
            <a:ext cx="3453120" cy="190440"/>
            <a:chOff x="3043080" y="4309920"/>
            <a:chExt cx="3453120" cy="190440"/>
          </a:xfrm>
        </p:grpSpPr>
        <p:sp>
          <p:nvSpPr>
            <p:cNvPr id="4069" name=""/>
            <p:cNvSpPr/>
            <p:nvPr/>
          </p:nvSpPr>
          <p:spPr>
            <a:xfrm>
              <a:off x="3043080" y="4309920"/>
              <a:ext cx="3129120" cy="152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0" name=""/>
            <p:cNvGrpSpPr/>
            <p:nvPr/>
          </p:nvGrpSpPr>
          <p:grpSpPr>
            <a:xfrm>
              <a:off x="3057480" y="4343400"/>
              <a:ext cx="3438720" cy="156960"/>
              <a:chOff x="3057480" y="4343400"/>
              <a:chExt cx="3438720" cy="156960"/>
            </a:xfrm>
          </p:grpSpPr>
          <p:grpSp>
            <p:nvGrpSpPr>
              <p:cNvPr id="4071" name=""/>
              <p:cNvGrpSpPr/>
              <p:nvPr/>
            </p:nvGrpSpPr>
            <p:grpSpPr>
              <a:xfrm>
                <a:off x="3057480" y="4343400"/>
                <a:ext cx="219240" cy="152280"/>
                <a:chOff x="3057480" y="4343400"/>
                <a:chExt cx="219240" cy="152280"/>
              </a:xfrm>
            </p:grpSpPr>
            <p:sp>
              <p:nvSpPr>
                <p:cNvPr id="4072" name=""/>
                <p:cNvSpPr/>
                <p:nvPr/>
              </p:nvSpPr>
              <p:spPr>
                <a:xfrm>
                  <a:off x="305748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3" name=""/>
                <p:cNvSpPr/>
                <p:nvPr/>
              </p:nvSpPr>
              <p:spPr>
                <a:xfrm>
                  <a:off x="312912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4" name=""/>
                <p:cNvSpPr/>
                <p:nvPr/>
              </p:nvSpPr>
              <p:spPr>
                <a:xfrm>
                  <a:off x="320508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5" name=""/>
                <p:cNvSpPr/>
                <p:nvPr/>
              </p:nvSpPr>
              <p:spPr>
                <a:xfrm>
                  <a:off x="327672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6" name=""/>
              <p:cNvGrpSpPr/>
              <p:nvPr/>
            </p:nvGrpSpPr>
            <p:grpSpPr>
              <a:xfrm>
                <a:off x="3348000" y="4343400"/>
                <a:ext cx="219240" cy="152280"/>
                <a:chOff x="3348000" y="4343400"/>
                <a:chExt cx="219240" cy="152280"/>
              </a:xfrm>
            </p:grpSpPr>
            <p:sp>
              <p:nvSpPr>
                <p:cNvPr id="4077" name=""/>
                <p:cNvSpPr/>
                <p:nvPr/>
              </p:nvSpPr>
              <p:spPr>
                <a:xfrm>
                  <a:off x="334800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8" name=""/>
                <p:cNvSpPr/>
                <p:nvPr/>
              </p:nvSpPr>
              <p:spPr>
                <a:xfrm>
                  <a:off x="341964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9" name=""/>
                <p:cNvSpPr/>
                <p:nvPr/>
              </p:nvSpPr>
              <p:spPr>
                <a:xfrm>
                  <a:off x="349560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0" name=""/>
                <p:cNvSpPr/>
                <p:nvPr/>
              </p:nvSpPr>
              <p:spPr>
                <a:xfrm>
                  <a:off x="356724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1" name=""/>
              <p:cNvGrpSpPr/>
              <p:nvPr/>
            </p:nvGrpSpPr>
            <p:grpSpPr>
              <a:xfrm>
                <a:off x="3643200" y="4343400"/>
                <a:ext cx="219240" cy="152280"/>
                <a:chOff x="3643200" y="4343400"/>
                <a:chExt cx="219240" cy="152280"/>
              </a:xfrm>
            </p:grpSpPr>
            <p:sp>
              <p:nvSpPr>
                <p:cNvPr id="4082" name=""/>
                <p:cNvSpPr/>
                <p:nvPr/>
              </p:nvSpPr>
              <p:spPr>
                <a:xfrm>
                  <a:off x="364320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3" name=""/>
                <p:cNvSpPr/>
                <p:nvPr/>
              </p:nvSpPr>
              <p:spPr>
                <a:xfrm>
                  <a:off x="371484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4" name=""/>
                <p:cNvSpPr/>
                <p:nvPr/>
              </p:nvSpPr>
              <p:spPr>
                <a:xfrm>
                  <a:off x="379080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5" name=""/>
                <p:cNvSpPr/>
                <p:nvPr/>
              </p:nvSpPr>
              <p:spPr>
                <a:xfrm>
                  <a:off x="386244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6" name=""/>
              <p:cNvGrpSpPr/>
              <p:nvPr/>
            </p:nvGrpSpPr>
            <p:grpSpPr>
              <a:xfrm>
                <a:off x="3933720" y="4343400"/>
                <a:ext cx="219240" cy="152280"/>
                <a:chOff x="3933720" y="4343400"/>
                <a:chExt cx="219240" cy="152280"/>
              </a:xfrm>
            </p:grpSpPr>
            <p:sp>
              <p:nvSpPr>
                <p:cNvPr id="4087" name=""/>
                <p:cNvSpPr/>
                <p:nvPr/>
              </p:nvSpPr>
              <p:spPr>
                <a:xfrm>
                  <a:off x="393372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8" name=""/>
                <p:cNvSpPr/>
                <p:nvPr/>
              </p:nvSpPr>
              <p:spPr>
                <a:xfrm>
                  <a:off x="400536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9" name=""/>
                <p:cNvSpPr/>
                <p:nvPr/>
              </p:nvSpPr>
              <p:spPr>
                <a:xfrm>
                  <a:off x="408132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0" name=""/>
                <p:cNvSpPr/>
                <p:nvPr/>
              </p:nvSpPr>
              <p:spPr>
                <a:xfrm>
                  <a:off x="415296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1" name=""/>
              <p:cNvGrpSpPr/>
              <p:nvPr/>
            </p:nvGrpSpPr>
            <p:grpSpPr>
              <a:xfrm>
                <a:off x="4229280" y="4348080"/>
                <a:ext cx="218880" cy="152280"/>
                <a:chOff x="4229280" y="4348080"/>
                <a:chExt cx="218880" cy="152280"/>
              </a:xfrm>
            </p:grpSpPr>
            <p:sp>
              <p:nvSpPr>
                <p:cNvPr id="4092" name=""/>
                <p:cNvSpPr/>
                <p:nvPr/>
              </p:nvSpPr>
              <p:spPr>
                <a:xfrm>
                  <a:off x="42292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3" name=""/>
                <p:cNvSpPr/>
                <p:nvPr/>
              </p:nvSpPr>
              <p:spPr>
                <a:xfrm>
                  <a:off x="43005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4" name=""/>
                <p:cNvSpPr/>
                <p:nvPr/>
              </p:nvSpPr>
              <p:spPr>
                <a:xfrm>
                  <a:off x="437652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5" name=""/>
                <p:cNvSpPr/>
                <p:nvPr/>
              </p:nvSpPr>
              <p:spPr>
                <a:xfrm>
                  <a:off x="44481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6" name=""/>
              <p:cNvGrpSpPr/>
              <p:nvPr/>
            </p:nvGrpSpPr>
            <p:grpSpPr>
              <a:xfrm>
                <a:off x="4519800" y="4348080"/>
                <a:ext cx="218880" cy="152280"/>
                <a:chOff x="4519800" y="4348080"/>
                <a:chExt cx="218880" cy="152280"/>
              </a:xfrm>
            </p:grpSpPr>
            <p:sp>
              <p:nvSpPr>
                <p:cNvPr id="4097" name=""/>
                <p:cNvSpPr/>
                <p:nvPr/>
              </p:nvSpPr>
              <p:spPr>
                <a:xfrm>
                  <a:off x="45198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8" name=""/>
                <p:cNvSpPr/>
                <p:nvPr/>
              </p:nvSpPr>
              <p:spPr>
                <a:xfrm>
                  <a:off x="45910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9" name=""/>
                <p:cNvSpPr/>
                <p:nvPr/>
              </p:nvSpPr>
              <p:spPr>
                <a:xfrm>
                  <a:off x="46670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0" name=""/>
                <p:cNvSpPr/>
                <p:nvPr/>
              </p:nvSpPr>
              <p:spPr>
                <a:xfrm>
                  <a:off x="47386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1" name=""/>
              <p:cNvGrpSpPr/>
              <p:nvPr/>
            </p:nvGrpSpPr>
            <p:grpSpPr>
              <a:xfrm>
                <a:off x="4815000" y="4348080"/>
                <a:ext cx="218880" cy="152280"/>
                <a:chOff x="4815000" y="4348080"/>
                <a:chExt cx="218880" cy="152280"/>
              </a:xfrm>
            </p:grpSpPr>
            <p:sp>
              <p:nvSpPr>
                <p:cNvPr id="4102" name=""/>
                <p:cNvSpPr/>
                <p:nvPr/>
              </p:nvSpPr>
              <p:spPr>
                <a:xfrm>
                  <a:off x="48150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3" name=""/>
                <p:cNvSpPr/>
                <p:nvPr/>
              </p:nvSpPr>
              <p:spPr>
                <a:xfrm>
                  <a:off x="48862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4" name=""/>
                <p:cNvSpPr/>
                <p:nvPr/>
              </p:nvSpPr>
              <p:spPr>
                <a:xfrm>
                  <a:off x="49622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5" name=""/>
                <p:cNvSpPr/>
                <p:nvPr/>
              </p:nvSpPr>
              <p:spPr>
                <a:xfrm>
                  <a:off x="50338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6" name=""/>
              <p:cNvGrpSpPr/>
              <p:nvPr/>
            </p:nvGrpSpPr>
            <p:grpSpPr>
              <a:xfrm>
                <a:off x="5105520" y="4348080"/>
                <a:ext cx="218880" cy="152280"/>
                <a:chOff x="5105520" y="4348080"/>
                <a:chExt cx="218880" cy="152280"/>
              </a:xfrm>
            </p:grpSpPr>
            <p:sp>
              <p:nvSpPr>
                <p:cNvPr id="4107" name=""/>
                <p:cNvSpPr/>
                <p:nvPr/>
              </p:nvSpPr>
              <p:spPr>
                <a:xfrm>
                  <a:off x="510552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8" name=""/>
                <p:cNvSpPr/>
                <p:nvPr/>
              </p:nvSpPr>
              <p:spPr>
                <a:xfrm>
                  <a:off x="51768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9" name=""/>
                <p:cNvSpPr/>
                <p:nvPr/>
              </p:nvSpPr>
              <p:spPr>
                <a:xfrm>
                  <a:off x="52527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0" name=""/>
                <p:cNvSpPr/>
                <p:nvPr/>
              </p:nvSpPr>
              <p:spPr>
                <a:xfrm>
                  <a:off x="53244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1" name=""/>
              <p:cNvGrpSpPr/>
              <p:nvPr/>
            </p:nvGrpSpPr>
            <p:grpSpPr>
              <a:xfrm>
                <a:off x="5400720" y="4348080"/>
                <a:ext cx="219240" cy="152280"/>
                <a:chOff x="5400720" y="4348080"/>
                <a:chExt cx="219240" cy="152280"/>
              </a:xfrm>
            </p:grpSpPr>
            <p:sp>
              <p:nvSpPr>
                <p:cNvPr id="4112" name=""/>
                <p:cNvSpPr/>
                <p:nvPr/>
              </p:nvSpPr>
              <p:spPr>
                <a:xfrm>
                  <a:off x="540072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3" name=""/>
                <p:cNvSpPr/>
                <p:nvPr/>
              </p:nvSpPr>
              <p:spPr>
                <a:xfrm>
                  <a:off x="54723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4" name=""/>
                <p:cNvSpPr/>
                <p:nvPr/>
              </p:nvSpPr>
              <p:spPr>
                <a:xfrm>
                  <a:off x="554832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5" name=""/>
                <p:cNvSpPr/>
                <p:nvPr/>
              </p:nvSpPr>
              <p:spPr>
                <a:xfrm>
                  <a:off x="56199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6" name=""/>
              <p:cNvGrpSpPr/>
              <p:nvPr/>
            </p:nvGrpSpPr>
            <p:grpSpPr>
              <a:xfrm>
                <a:off x="5691240" y="4348080"/>
                <a:ext cx="219240" cy="152280"/>
                <a:chOff x="5691240" y="4348080"/>
                <a:chExt cx="219240" cy="152280"/>
              </a:xfrm>
            </p:grpSpPr>
            <p:sp>
              <p:nvSpPr>
                <p:cNvPr id="4117" name=""/>
                <p:cNvSpPr/>
                <p:nvPr/>
              </p:nvSpPr>
              <p:spPr>
                <a:xfrm>
                  <a:off x="56912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8" name=""/>
                <p:cNvSpPr/>
                <p:nvPr/>
              </p:nvSpPr>
              <p:spPr>
                <a:xfrm>
                  <a:off x="57628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9" name=""/>
                <p:cNvSpPr/>
                <p:nvPr/>
              </p:nvSpPr>
              <p:spPr>
                <a:xfrm>
                  <a:off x="58388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0" name=""/>
                <p:cNvSpPr/>
                <p:nvPr/>
              </p:nvSpPr>
              <p:spPr>
                <a:xfrm>
                  <a:off x="59104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1" name=""/>
              <p:cNvGrpSpPr/>
              <p:nvPr/>
            </p:nvGrpSpPr>
            <p:grpSpPr>
              <a:xfrm>
                <a:off x="5986440" y="4348080"/>
                <a:ext cx="219240" cy="152280"/>
                <a:chOff x="5986440" y="4348080"/>
                <a:chExt cx="219240" cy="152280"/>
              </a:xfrm>
            </p:grpSpPr>
            <p:sp>
              <p:nvSpPr>
                <p:cNvPr id="4122" name=""/>
                <p:cNvSpPr/>
                <p:nvPr/>
              </p:nvSpPr>
              <p:spPr>
                <a:xfrm>
                  <a:off x="59864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3" name=""/>
                <p:cNvSpPr/>
                <p:nvPr/>
              </p:nvSpPr>
              <p:spPr>
                <a:xfrm>
                  <a:off x="60580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4" name=""/>
                <p:cNvSpPr/>
                <p:nvPr/>
              </p:nvSpPr>
              <p:spPr>
                <a:xfrm>
                  <a:off x="61340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5" name=""/>
                <p:cNvSpPr/>
                <p:nvPr/>
              </p:nvSpPr>
              <p:spPr>
                <a:xfrm>
                  <a:off x="62056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6" name=""/>
              <p:cNvGrpSpPr/>
              <p:nvPr/>
            </p:nvGrpSpPr>
            <p:grpSpPr>
              <a:xfrm>
                <a:off x="6276960" y="4348080"/>
                <a:ext cx="219240" cy="152280"/>
                <a:chOff x="6276960" y="4348080"/>
                <a:chExt cx="219240" cy="152280"/>
              </a:xfrm>
            </p:grpSpPr>
            <p:sp>
              <p:nvSpPr>
                <p:cNvPr id="4127" name=""/>
                <p:cNvSpPr/>
                <p:nvPr/>
              </p:nvSpPr>
              <p:spPr>
                <a:xfrm>
                  <a:off x="62769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8" name=""/>
                <p:cNvSpPr/>
                <p:nvPr/>
              </p:nvSpPr>
              <p:spPr>
                <a:xfrm>
                  <a:off x="63486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9" name=""/>
                <p:cNvSpPr/>
                <p:nvPr/>
              </p:nvSpPr>
              <p:spPr>
                <a:xfrm>
                  <a:off x="64245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0" name=""/>
                <p:cNvSpPr/>
                <p:nvPr/>
              </p:nvSpPr>
              <p:spPr>
                <a:xfrm>
                  <a:off x="64962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131" name=""/>
          <p:cNvSpPr/>
          <p:nvPr/>
        </p:nvSpPr>
        <p:spPr>
          <a:xfrm>
            <a:off x="6553080" y="4267080"/>
            <a:ext cx="3049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6600960" y="493884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>
            <a:off x="2666880" y="4857840"/>
            <a:ext cx="4572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 flipV="1">
            <a:off x="6781680" y="39625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7144920" y="3592440"/>
            <a:ext cx="154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chip amp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end of the ser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>
            <a:off x="749520" y="5013360"/>
            <a:ext cx="182376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se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3657600" y="281952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 flipH="1" flipV="1">
            <a:off x="2209320" y="419076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1065240" y="38862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ial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2227680" y="5867280"/>
            <a:ext cx="56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ce again every third electrode is in the serial register connected togeth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650160" y="773280"/>
            <a:ext cx="798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low the image area (the area containing the horizontal electrodes) is the ‘Serial register’ . This 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sts of a group of small surface electrodes. There are three electrodes for every column of the image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1963080" y="5257800"/>
            <a:ext cx="6078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erial register is bent double to move the output amplifier away from the 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e chip. This useful if the CCD is to be used as part of a mosaic.The arrow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icate how charge is transferred through the dev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4" name="eevserialreg" descr=""/>
          <p:cNvPicPr/>
          <p:nvPr/>
        </p:nvPicPr>
        <p:blipFill>
          <a:blip r:embed="rId1"/>
          <a:stretch/>
        </p:blipFill>
        <p:spPr>
          <a:xfrm>
            <a:off x="2400480" y="1405080"/>
            <a:ext cx="5435280" cy="3570120"/>
          </a:xfrm>
          <a:prstGeom prst="rect">
            <a:avLst/>
          </a:prstGeom>
          <a:ln w="0">
            <a:noFill/>
          </a:ln>
        </p:spPr>
      </p:pic>
      <p:sp>
        <p:nvSpPr>
          <p:cNvPr id="4145" name=""/>
          <p:cNvSpPr/>
          <p:nvPr/>
        </p:nvSpPr>
        <p:spPr>
          <a:xfrm>
            <a:off x="7613640" y="102888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 rot="16200000">
            <a:off x="7148160" y="393912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g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li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 flipV="1">
            <a:off x="6966000" y="1104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6966000" y="11764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6950520" y="8380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3841920" y="148104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>
            <a:off x="2474640" y="2897280"/>
            <a:ext cx="145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rial 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3917880" y="3090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3384720" y="4071960"/>
            <a:ext cx="3352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 flipV="1">
            <a:off x="6889680" y="323388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6585480" y="3090960"/>
            <a:ext cx="303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 flipV="1">
            <a:off x="6585480" y="3766680"/>
            <a:ext cx="303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3815280" y="449568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 Out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2394000" y="3538440"/>
            <a:ext cx="76212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3200400" y="4572000"/>
            <a:ext cx="609480" cy="152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292752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368928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445140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521352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"/>
          <p:cNvSpPr/>
          <p:nvPr/>
        </p:nvSpPr>
        <p:spPr>
          <a:xfrm>
            <a:off x="597528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"/>
          <p:cNvSpPr/>
          <p:nvPr/>
        </p:nvSpPr>
        <p:spPr>
          <a:xfrm flipH="1">
            <a:off x="6127920" y="40719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6889680" y="330984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>
            <a:off x="5137200" y="3094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 rot="16200000">
            <a:off x="6668640" y="341712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s w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2889360" y="914400"/>
            <a:ext cx="34938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micrograph of a corner of an EEV CC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1" name="outputamp" descr=""/>
          <p:cNvPicPr/>
          <p:nvPr/>
        </p:nvPicPr>
        <p:blipFill>
          <a:blip r:embed="rId1"/>
          <a:stretch/>
        </p:blipFill>
        <p:spPr>
          <a:xfrm>
            <a:off x="990720" y="2376360"/>
            <a:ext cx="1996920" cy="3100680"/>
          </a:xfrm>
          <a:prstGeom prst="rect">
            <a:avLst/>
          </a:prstGeom>
          <a:ln w="0">
            <a:noFill/>
          </a:ln>
        </p:spPr>
      </p:pic>
      <p:sp>
        <p:nvSpPr>
          <p:cNvPr id="4172" name=""/>
          <p:cNvSpPr/>
          <p:nvPr/>
        </p:nvSpPr>
        <p:spPr>
          <a:xfrm>
            <a:off x="7272360" y="420516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>
            <a:off x="7191360" y="4281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 flipH="1">
            <a:off x="6734160" y="45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5" name=""/>
          <p:cNvGrpSpPr/>
          <p:nvPr/>
        </p:nvGrpSpPr>
        <p:grpSpPr>
          <a:xfrm>
            <a:off x="7343280" y="4662360"/>
            <a:ext cx="152280" cy="685800"/>
            <a:chOff x="7343280" y="4662360"/>
            <a:chExt cx="152280" cy="685800"/>
          </a:xfrm>
        </p:grpSpPr>
        <p:sp>
          <p:nvSpPr>
            <p:cNvPr id="4176" name=""/>
            <p:cNvSpPr/>
            <p:nvPr/>
          </p:nvSpPr>
          <p:spPr>
            <a:xfrm>
              <a:off x="7486560" y="466236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 flipH="1">
              <a:off x="7343280" y="467136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8" name=""/>
          <p:cNvGrpSpPr/>
          <p:nvPr/>
        </p:nvGrpSpPr>
        <p:grpSpPr>
          <a:xfrm>
            <a:off x="6267600" y="2843280"/>
            <a:ext cx="771120" cy="1666440"/>
            <a:chOff x="6267600" y="2843280"/>
            <a:chExt cx="771120" cy="1666440"/>
          </a:xfrm>
        </p:grpSpPr>
        <p:sp>
          <p:nvSpPr>
            <p:cNvPr id="4179" name=""/>
            <p:cNvSpPr/>
            <p:nvPr/>
          </p:nvSpPr>
          <p:spPr>
            <a:xfrm>
              <a:off x="6805800" y="3367080"/>
              <a:ext cx="76320" cy="609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0" name=""/>
            <p:cNvGrpSpPr/>
            <p:nvPr/>
          </p:nvGrpSpPr>
          <p:grpSpPr>
            <a:xfrm>
              <a:off x="6886440" y="2843280"/>
              <a:ext cx="152280" cy="685440"/>
              <a:chOff x="6886440" y="2843280"/>
              <a:chExt cx="152280" cy="685440"/>
            </a:xfrm>
          </p:grpSpPr>
          <p:sp>
            <p:nvSpPr>
              <p:cNvPr id="4181" name=""/>
              <p:cNvSpPr/>
              <p:nvPr/>
            </p:nvSpPr>
            <p:spPr>
              <a:xfrm flipV="1">
                <a:off x="7029720" y="2843280"/>
                <a:ext cx="0" cy="68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 flipH="1">
                <a:off x="6886440" y="351936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3" name=""/>
            <p:cNvSpPr/>
            <p:nvPr/>
          </p:nvSpPr>
          <p:spPr>
            <a:xfrm>
              <a:off x="6724800" y="3443040"/>
              <a:ext cx="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 flipH="1">
              <a:off x="6267600" y="3671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5" name=""/>
            <p:cNvGrpSpPr/>
            <p:nvPr/>
          </p:nvGrpSpPr>
          <p:grpSpPr>
            <a:xfrm>
              <a:off x="6876720" y="3824280"/>
              <a:ext cx="152280" cy="685440"/>
              <a:chOff x="6876720" y="3824280"/>
              <a:chExt cx="152280" cy="685440"/>
            </a:xfrm>
          </p:grpSpPr>
          <p:sp>
            <p:nvSpPr>
              <p:cNvPr id="4186" name=""/>
              <p:cNvSpPr/>
              <p:nvPr/>
            </p:nvSpPr>
            <p:spPr>
              <a:xfrm>
                <a:off x="7020000" y="3824280"/>
                <a:ext cx="0" cy="68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 flipH="1">
                <a:off x="6876720" y="383364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8" name=""/>
          <p:cNvSpPr/>
          <p:nvPr/>
        </p:nvSpPr>
        <p:spPr>
          <a:xfrm>
            <a:off x="6981840" y="4471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9" name=""/>
          <p:cNvGrpSpPr/>
          <p:nvPr/>
        </p:nvGrpSpPr>
        <p:grpSpPr>
          <a:xfrm>
            <a:off x="7353000" y="2833560"/>
            <a:ext cx="142920" cy="1532880"/>
            <a:chOff x="7353000" y="2833560"/>
            <a:chExt cx="142920" cy="1532880"/>
          </a:xfrm>
        </p:grpSpPr>
        <p:sp>
          <p:nvSpPr>
            <p:cNvPr id="4190" name=""/>
            <p:cNvSpPr/>
            <p:nvPr/>
          </p:nvSpPr>
          <p:spPr>
            <a:xfrm flipV="1">
              <a:off x="7487280" y="2833560"/>
              <a:ext cx="0" cy="153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 flipH="1">
              <a:off x="7353000" y="4345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2" name=""/>
          <p:cNvSpPr/>
          <p:nvPr/>
        </p:nvSpPr>
        <p:spPr>
          <a:xfrm>
            <a:off x="7410600" y="269064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6962760" y="2681280"/>
            <a:ext cx="15228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4" name=""/>
          <p:cNvGrpSpPr/>
          <p:nvPr/>
        </p:nvGrpSpPr>
        <p:grpSpPr>
          <a:xfrm>
            <a:off x="7477200" y="5272200"/>
            <a:ext cx="841320" cy="152280"/>
            <a:chOff x="7477200" y="5272200"/>
            <a:chExt cx="841320" cy="152280"/>
          </a:xfrm>
        </p:grpSpPr>
        <p:sp>
          <p:nvSpPr>
            <p:cNvPr id="4195" name=""/>
            <p:cNvSpPr/>
            <p:nvPr/>
          </p:nvSpPr>
          <p:spPr>
            <a:xfrm>
              <a:off x="7477200" y="53467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 rot="5400000">
              <a:off x="8165880" y="527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7" name=""/>
          <p:cNvSpPr/>
          <p:nvPr/>
        </p:nvSpPr>
        <p:spPr>
          <a:xfrm>
            <a:off x="6504120" y="4832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6504120" y="4746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 flipV="1">
            <a:off x="6732720" y="450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6734160" y="483408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6381720" y="5653080"/>
            <a:ext cx="7239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4348080" y="4738680"/>
            <a:ext cx="3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4753080" y="4738680"/>
            <a:ext cx="34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5170320" y="4738680"/>
            <a:ext cx="3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5667480" y="4738680"/>
            <a:ext cx="61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6" name=""/>
          <p:cNvGrpSpPr/>
          <p:nvPr/>
        </p:nvGrpSpPr>
        <p:grpSpPr>
          <a:xfrm>
            <a:off x="6200640" y="2681280"/>
            <a:ext cx="152280" cy="990720"/>
            <a:chOff x="6200640" y="2681280"/>
            <a:chExt cx="152280" cy="990720"/>
          </a:xfrm>
        </p:grpSpPr>
        <p:sp>
          <p:nvSpPr>
            <p:cNvPr id="4207" name=""/>
            <p:cNvSpPr/>
            <p:nvPr/>
          </p:nvSpPr>
          <p:spPr>
            <a:xfrm>
              <a:off x="6200640" y="2681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6276600" y="2833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9" name=""/>
          <p:cNvSpPr/>
          <p:nvPr/>
        </p:nvSpPr>
        <p:spPr>
          <a:xfrm>
            <a:off x="5896080" y="2681280"/>
            <a:ext cx="15228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5972040" y="283356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7269840" y="237528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8048520" y="4966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6822000" y="23752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4" name=""/>
          <p:cNvGrpSpPr/>
          <p:nvPr/>
        </p:nvGrpSpPr>
        <p:grpSpPr>
          <a:xfrm>
            <a:off x="6171840" y="2375280"/>
            <a:ext cx="379440" cy="307080"/>
            <a:chOff x="6171840" y="2375280"/>
            <a:chExt cx="379440" cy="307080"/>
          </a:xfrm>
        </p:grpSpPr>
        <p:grpSp>
          <p:nvGrpSpPr>
            <p:cNvPr id="4215" name=""/>
            <p:cNvGrpSpPr/>
            <p:nvPr/>
          </p:nvGrpSpPr>
          <p:grpSpPr>
            <a:xfrm>
              <a:off x="6171840" y="2411280"/>
              <a:ext cx="152640" cy="228600"/>
              <a:chOff x="6171840" y="2411280"/>
              <a:chExt cx="152640" cy="228600"/>
            </a:xfrm>
          </p:grpSpPr>
          <p:sp>
            <p:nvSpPr>
              <p:cNvPr id="4216" name=""/>
              <p:cNvSpPr/>
              <p:nvPr/>
            </p:nvSpPr>
            <p:spPr>
              <a:xfrm>
                <a:off x="6172200" y="24494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 flipH="1">
                <a:off x="6171840" y="2411280"/>
                <a:ext cx="1522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8" name=""/>
            <p:cNvSpPr/>
            <p:nvPr/>
          </p:nvSpPr>
          <p:spPr>
            <a:xfrm>
              <a:off x="6251760" y="2375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9" name=""/>
          <p:cNvSpPr/>
          <p:nvPr/>
        </p:nvSpPr>
        <p:spPr>
          <a:xfrm>
            <a:off x="5724360" y="2375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6537600" y="4165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6420960" y="5652000"/>
            <a:ext cx="60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bst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7441560" y="4318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6820920" y="349884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5918760" y="4165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1143000" y="2147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1143000" y="20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1362240" y="20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900360" y="171468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 flipV="1">
            <a:off x="2514600" y="3214440"/>
            <a:ext cx="91440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 flipV="1">
            <a:off x="2486160" y="2147400"/>
            <a:ext cx="53316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 flipV="1">
            <a:off x="2743200" y="268128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 flipV="1">
            <a:off x="2209680" y="1995120"/>
            <a:ext cx="7632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 flipV="1">
            <a:off x="2971800" y="3824280"/>
            <a:ext cx="4572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2819520" y="4433760"/>
            <a:ext cx="6094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1905120" y="4738680"/>
            <a:ext cx="106668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2362320" y="4433760"/>
            <a:ext cx="9144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1905840" y="153828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Drain (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3163320" y="240516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Source (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2971440" y="1919160"/>
            <a:ext cx="25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e of Output Tran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3430080" y="298620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1" name=""/>
          <p:cNvGrpSpPr/>
          <p:nvPr/>
        </p:nvGrpSpPr>
        <p:grpSpPr>
          <a:xfrm>
            <a:off x="3580920" y="4509000"/>
            <a:ext cx="379440" cy="307080"/>
            <a:chOff x="3580920" y="4509000"/>
            <a:chExt cx="379440" cy="307080"/>
          </a:xfrm>
        </p:grpSpPr>
        <p:grpSp>
          <p:nvGrpSpPr>
            <p:cNvPr id="4242" name=""/>
            <p:cNvGrpSpPr/>
            <p:nvPr/>
          </p:nvGrpSpPr>
          <p:grpSpPr>
            <a:xfrm>
              <a:off x="3580920" y="4545000"/>
              <a:ext cx="152640" cy="228600"/>
              <a:chOff x="3580920" y="4545000"/>
              <a:chExt cx="152640" cy="228600"/>
            </a:xfrm>
          </p:grpSpPr>
          <p:sp>
            <p:nvSpPr>
              <p:cNvPr id="4243" name=""/>
              <p:cNvSpPr/>
              <p:nvPr/>
            </p:nvSpPr>
            <p:spPr>
              <a:xfrm>
                <a:off x="3581280" y="4583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 flipH="1">
                <a:off x="3580920" y="4545000"/>
                <a:ext cx="1522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5" name=""/>
            <p:cNvSpPr/>
            <p:nvPr/>
          </p:nvSpPr>
          <p:spPr>
            <a:xfrm>
              <a:off x="3660840" y="45090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6" name=""/>
          <p:cNvSpPr/>
          <p:nvPr/>
        </p:nvSpPr>
        <p:spPr>
          <a:xfrm>
            <a:off x="3429360" y="359568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t Drain (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3352320" y="5119560"/>
            <a:ext cx="21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ing Well (S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2511000" y="5715000"/>
            <a:ext cx="36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few electrodes in Serial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4344480" y="4491720"/>
            <a:ext cx="136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ial Register Electro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1503360" y="914400"/>
            <a:ext cx="635148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micrograph of the on-chip amplifier of a Tektronix CCD and its circuit dia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507840" y="457200"/>
            <a:ext cx="19317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D Ana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3120" y="1611360"/>
            <a:ext cx="77612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common analogy for the operation of a CCD is as follow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 number of buckets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ixel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are distributed across a field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Focal Plane of a telesco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a square array. The buckets are placed on top of a series of parallel conveyor belts and collect  rain  f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hotons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cross the field. The conveyor belts are initially stationary, while the rain slowly fills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ckets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During the course of the exposu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. Once the rain stops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The camera shutter clos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yor belts start turning and transfer the buckets of rain , one by one , to a measuring cylin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lectronic Amplifi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at the corner of the field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at the corner of the CC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animation in the following slides demonstrates how the conveyor belts 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2666880"/>
            <a:ext cx="7848720" cy="152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"/>
          <p:cNvSpPr/>
          <p:nvPr/>
        </p:nvSpPr>
        <p:spPr>
          <a:xfrm>
            <a:off x="3050280" y="152280"/>
            <a:ext cx="33674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 Field in a CCD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665640" y="990720"/>
            <a:ext cx="7898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n-type layer contains an excess of electrons that diffuse into the p-layer. The p-layer contains 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cess of holes that diffuse into the n-layer. This structure is identical to that of a diode junc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ffusion creates a charge imbalance and induces an internal electric field. The electric potent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ches a maximum just inside the n-layer, and it is here that any photo-generated electrons will collec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science CCDs have this junction structure, known as a ‘Buried Channel’. It has the advantage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eping the photo-electrons confined away from the surface of the CCD where they could become trapp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also reduces the amount of thermally generated noise (dark current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3" name=""/>
          <p:cNvGrpSpPr/>
          <p:nvPr/>
        </p:nvGrpSpPr>
        <p:grpSpPr>
          <a:xfrm>
            <a:off x="3048120" y="4495680"/>
            <a:ext cx="2971800" cy="1371600"/>
            <a:chOff x="3048120" y="4495680"/>
            <a:chExt cx="2971800" cy="1371600"/>
          </a:xfrm>
        </p:grpSpPr>
        <p:sp>
          <p:nvSpPr>
            <p:cNvPr id="4254" name=""/>
            <p:cNvSpPr/>
            <p:nvPr/>
          </p:nvSpPr>
          <p:spPr>
            <a:xfrm rot="16200000">
              <a:off x="3751560" y="4422600"/>
              <a:ext cx="1371600" cy="1517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 rot="16200000">
              <a:off x="4267440" y="4419360"/>
              <a:ext cx="1371600" cy="1524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 flipV="1">
              <a:off x="3652920" y="4495680"/>
              <a:ext cx="5040" cy="13716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7" name=""/>
            <p:cNvGrpSpPr/>
            <p:nvPr/>
          </p:nvGrpSpPr>
          <p:grpSpPr>
            <a:xfrm>
              <a:off x="3276360" y="4998960"/>
              <a:ext cx="314640" cy="385560"/>
              <a:chOff x="3276360" y="4998960"/>
              <a:chExt cx="314640" cy="385560"/>
            </a:xfrm>
          </p:grpSpPr>
          <p:sp>
            <p:nvSpPr>
              <p:cNvPr id="4258" name=""/>
              <p:cNvSpPr/>
              <p:nvPr/>
            </p:nvSpPr>
            <p:spPr>
              <a:xfrm flipV="1">
                <a:off x="3591000" y="4998960"/>
                <a:ext cx="0" cy="38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 flipH="1">
                <a:off x="3276360" y="5191560"/>
                <a:ext cx="314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0" name=""/>
            <p:cNvGrpSpPr/>
            <p:nvPr/>
          </p:nvGrpSpPr>
          <p:grpSpPr>
            <a:xfrm>
              <a:off x="3241800" y="5416200"/>
              <a:ext cx="349200" cy="385920"/>
              <a:chOff x="3241800" y="5416200"/>
              <a:chExt cx="349200" cy="385920"/>
            </a:xfrm>
          </p:grpSpPr>
          <p:sp>
            <p:nvSpPr>
              <p:cNvPr id="4261" name=""/>
              <p:cNvSpPr/>
              <p:nvPr/>
            </p:nvSpPr>
            <p:spPr>
              <a:xfrm flipV="1">
                <a:off x="3591000" y="5416200"/>
                <a:ext cx="0" cy="385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 flipH="1">
                <a:off x="3241800" y="5609160"/>
                <a:ext cx="349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3" name=""/>
            <p:cNvGrpSpPr/>
            <p:nvPr/>
          </p:nvGrpSpPr>
          <p:grpSpPr>
            <a:xfrm>
              <a:off x="3286080" y="4562280"/>
              <a:ext cx="314640" cy="385560"/>
              <a:chOff x="3286080" y="4562280"/>
              <a:chExt cx="314640" cy="385560"/>
            </a:xfrm>
          </p:grpSpPr>
          <p:sp>
            <p:nvSpPr>
              <p:cNvPr id="4264" name=""/>
              <p:cNvSpPr/>
              <p:nvPr/>
            </p:nvSpPr>
            <p:spPr>
              <a:xfrm flipV="1">
                <a:off x="3600720" y="4562280"/>
                <a:ext cx="0" cy="38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 flipH="1">
                <a:off x="3286080" y="4754880"/>
                <a:ext cx="314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6" name=""/>
            <p:cNvSpPr/>
            <p:nvPr/>
          </p:nvSpPr>
          <p:spPr>
            <a:xfrm>
              <a:off x="3048120" y="5190840"/>
              <a:ext cx="2971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 rot="16200000">
              <a:off x="4041360" y="5364000"/>
              <a:ext cx="270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8" name=""/>
          <p:cNvSpPr/>
          <p:nvPr/>
        </p:nvSpPr>
        <p:spPr>
          <a:xfrm>
            <a:off x="3610080" y="41148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4181400" y="3124080"/>
            <a:ext cx="0" cy="1390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5715000" y="3886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 rot="16200000">
            <a:off x="2724840" y="329112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ic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5783400" y="4925880"/>
            <a:ext cx="239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tential along this line sh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graph abo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3600360" y="411480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 flipV="1">
            <a:off x="3600360" y="28951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 rot="16200000">
            <a:off x="2724840" y="329112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ic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3610080" y="2946240"/>
            <a:ext cx="2133360" cy="1168560"/>
          </a:xfrm>
          <a:custGeom>
            <a:avLst/>
            <a:gdLst/>
            <a:ahLst/>
            <a:rect l="l" t="t" r="r" b="b"/>
            <a:pathLst>
              <a:path w="1344" h="736">
                <a:moveTo>
                  <a:pt x="0" y="736"/>
                </a:moveTo>
                <a:cubicBezTo>
                  <a:pt x="32" y="572"/>
                  <a:pt x="64" y="408"/>
                  <a:pt x="96" y="304"/>
                </a:cubicBezTo>
                <a:cubicBezTo>
                  <a:pt x="128" y="200"/>
                  <a:pt x="144" y="152"/>
                  <a:pt x="192" y="112"/>
                </a:cubicBezTo>
                <a:cubicBezTo>
                  <a:pt x="240" y="72"/>
                  <a:pt x="296" y="0"/>
                  <a:pt x="384" y="64"/>
                </a:cubicBezTo>
                <a:cubicBezTo>
                  <a:pt x="472" y="128"/>
                  <a:pt x="608" y="392"/>
                  <a:pt x="720" y="496"/>
                </a:cubicBezTo>
                <a:cubicBezTo>
                  <a:pt x="832" y="600"/>
                  <a:pt x="952" y="648"/>
                  <a:pt x="1056" y="688"/>
                </a:cubicBezTo>
                <a:cubicBezTo>
                  <a:pt x="1160" y="728"/>
                  <a:pt x="1296" y="728"/>
                  <a:pt x="1344" y="736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2962800" y="5943600"/>
            <a:ext cx="358992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oss section through the thickness of the C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"/>
          <p:cNvSpPr/>
          <p:nvPr/>
        </p:nvSpPr>
        <p:spPr>
          <a:xfrm>
            <a:off x="3050280" y="152280"/>
            <a:ext cx="33674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 Field in a CC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949680" y="1001880"/>
            <a:ext cx="7725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ring integration of the image, one of the electrodes in each pixel is held at a positive potential. Th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rther increases the potential in the silicon below that electrode and it is here that the photoelectrons 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d. The neighboring electrodes, with their lower potentials, act as potential barriers that def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vertical  boundaries of the pixel. The horizontal boundaries are defined by the channel sto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 rot="16200000">
            <a:off x="3749760" y="4421160"/>
            <a:ext cx="1371600" cy="151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 rot="16200000">
            <a:off x="4265640" y="4417920"/>
            <a:ext cx="1371600" cy="1524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 flipV="1">
            <a:off x="3651120" y="4494240"/>
            <a:ext cx="5040" cy="137160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3" name=""/>
          <p:cNvGrpSpPr/>
          <p:nvPr/>
        </p:nvGrpSpPr>
        <p:grpSpPr>
          <a:xfrm>
            <a:off x="3274560" y="4995720"/>
            <a:ext cx="314640" cy="385920"/>
            <a:chOff x="3274560" y="4995720"/>
            <a:chExt cx="314640" cy="385920"/>
          </a:xfrm>
        </p:grpSpPr>
        <p:sp>
          <p:nvSpPr>
            <p:cNvPr id="4284" name=""/>
            <p:cNvSpPr/>
            <p:nvPr/>
          </p:nvSpPr>
          <p:spPr>
            <a:xfrm flipV="1">
              <a:off x="3589200" y="4995720"/>
              <a:ext cx="0" cy="3859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H="1">
              <a:off x="3274560" y="5188680"/>
              <a:ext cx="31428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6" name=""/>
          <p:cNvGrpSpPr/>
          <p:nvPr/>
        </p:nvGrpSpPr>
        <p:grpSpPr>
          <a:xfrm>
            <a:off x="3240000" y="5413320"/>
            <a:ext cx="349200" cy="385920"/>
            <a:chOff x="3240000" y="5413320"/>
            <a:chExt cx="349200" cy="385920"/>
          </a:xfrm>
        </p:grpSpPr>
        <p:sp>
          <p:nvSpPr>
            <p:cNvPr id="4287" name=""/>
            <p:cNvSpPr/>
            <p:nvPr/>
          </p:nvSpPr>
          <p:spPr>
            <a:xfrm flipV="1">
              <a:off x="3589200" y="5413320"/>
              <a:ext cx="0" cy="385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H="1">
              <a:off x="3240000" y="5606280"/>
              <a:ext cx="34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9" name=""/>
          <p:cNvGrpSpPr/>
          <p:nvPr/>
        </p:nvGrpSpPr>
        <p:grpSpPr>
          <a:xfrm>
            <a:off x="3284280" y="4559040"/>
            <a:ext cx="314640" cy="385560"/>
            <a:chOff x="3284280" y="4559040"/>
            <a:chExt cx="314640" cy="385560"/>
          </a:xfrm>
        </p:grpSpPr>
        <p:sp>
          <p:nvSpPr>
            <p:cNvPr id="4290" name=""/>
            <p:cNvSpPr/>
            <p:nvPr/>
          </p:nvSpPr>
          <p:spPr>
            <a:xfrm flipV="1">
              <a:off x="3598920" y="4559040"/>
              <a:ext cx="0" cy="385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 flipH="1">
              <a:off x="3284280" y="4751640"/>
              <a:ext cx="31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2" name=""/>
          <p:cNvSpPr/>
          <p:nvPr/>
        </p:nvSpPr>
        <p:spPr>
          <a:xfrm>
            <a:off x="3046320" y="51894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 rot="16200000">
            <a:off x="4039560" y="5362200"/>
            <a:ext cx="27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"/>
          <p:cNvSpPr/>
          <p:nvPr/>
        </p:nvSpPr>
        <p:spPr>
          <a:xfrm>
            <a:off x="3610080" y="41148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>
            <a:off x="4181400" y="3124080"/>
            <a:ext cx="0" cy="1390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>
            <a:off x="5715000" y="3886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 rot="16200000">
            <a:off x="2724840" y="329112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ic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"/>
          <p:cNvSpPr/>
          <p:nvPr/>
        </p:nvSpPr>
        <p:spPr>
          <a:xfrm>
            <a:off x="3610080" y="2946240"/>
            <a:ext cx="2133360" cy="1168560"/>
          </a:xfrm>
          <a:custGeom>
            <a:avLst/>
            <a:gdLst/>
            <a:ahLst/>
            <a:rect l="l" t="t" r="r" b="b"/>
            <a:pathLst>
              <a:path w="1344" h="736">
                <a:moveTo>
                  <a:pt x="0" y="736"/>
                </a:moveTo>
                <a:cubicBezTo>
                  <a:pt x="32" y="572"/>
                  <a:pt x="64" y="408"/>
                  <a:pt x="96" y="304"/>
                </a:cubicBezTo>
                <a:cubicBezTo>
                  <a:pt x="128" y="200"/>
                  <a:pt x="144" y="152"/>
                  <a:pt x="192" y="112"/>
                </a:cubicBezTo>
                <a:cubicBezTo>
                  <a:pt x="240" y="72"/>
                  <a:pt x="296" y="0"/>
                  <a:pt x="384" y="64"/>
                </a:cubicBezTo>
                <a:cubicBezTo>
                  <a:pt x="472" y="128"/>
                  <a:pt x="608" y="392"/>
                  <a:pt x="720" y="496"/>
                </a:cubicBezTo>
                <a:cubicBezTo>
                  <a:pt x="832" y="600"/>
                  <a:pt x="952" y="648"/>
                  <a:pt x="1056" y="688"/>
                </a:cubicBezTo>
                <a:cubicBezTo>
                  <a:pt x="1160" y="728"/>
                  <a:pt x="1296" y="728"/>
                  <a:pt x="1344" y="736"/>
                </a:cubicBezTo>
              </a:path>
            </a:pathLst>
          </a:custGeom>
          <a:noFill/>
          <a:ln cap="rnd" w="12600">
            <a:solidFill>
              <a:srgbClr val="ff006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3600360" y="2666880"/>
            <a:ext cx="1981440" cy="1447920"/>
          </a:xfrm>
          <a:custGeom>
            <a:avLst/>
            <a:gdLst/>
            <a:ahLst/>
            <a:rect l="l" t="t" r="r" b="b"/>
            <a:pathLst>
              <a:path w="1248" h="912">
                <a:moveTo>
                  <a:pt x="0" y="528"/>
                </a:moveTo>
                <a:cubicBezTo>
                  <a:pt x="28" y="376"/>
                  <a:pt x="56" y="224"/>
                  <a:pt x="96" y="144"/>
                </a:cubicBezTo>
                <a:cubicBezTo>
                  <a:pt x="136" y="64"/>
                  <a:pt x="184" y="56"/>
                  <a:pt x="240" y="48"/>
                </a:cubicBezTo>
                <a:cubicBezTo>
                  <a:pt x="296" y="40"/>
                  <a:pt x="352" y="0"/>
                  <a:pt x="432" y="96"/>
                </a:cubicBezTo>
                <a:cubicBezTo>
                  <a:pt x="512" y="192"/>
                  <a:pt x="584" y="488"/>
                  <a:pt x="720" y="624"/>
                </a:cubicBezTo>
                <a:cubicBezTo>
                  <a:pt x="856" y="760"/>
                  <a:pt x="1160" y="864"/>
                  <a:pt x="1248" y="912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3971880" y="4924440"/>
            <a:ext cx="228600" cy="533520"/>
          </a:xfrm>
          <a:prstGeom prst="ellipse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 flipV="1">
            <a:off x="4162320" y="4572000"/>
            <a:ext cx="2162160" cy="380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3600360" y="411480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 flipV="1">
            <a:off x="3600360" y="2666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6216840" y="4295880"/>
            <a:ext cx="170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on of maximu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"/>
          <p:cNvSpPr/>
          <p:nvPr/>
        </p:nvSpPr>
        <p:spPr>
          <a:xfrm>
            <a:off x="1600200" y="2575080"/>
            <a:ext cx="5638680" cy="761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6" name=""/>
          <p:cNvGrpSpPr/>
          <p:nvPr/>
        </p:nvGrpSpPr>
        <p:grpSpPr>
          <a:xfrm>
            <a:off x="4673520" y="2016000"/>
            <a:ext cx="685800" cy="457200"/>
            <a:chOff x="4673520" y="2016000"/>
            <a:chExt cx="685800" cy="457200"/>
          </a:xfrm>
        </p:grpSpPr>
        <p:sp>
          <p:nvSpPr>
            <p:cNvPr id="4307" name=""/>
            <p:cNvSpPr/>
            <p:nvPr/>
          </p:nvSpPr>
          <p:spPr>
            <a:xfrm>
              <a:off x="4673520" y="24732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V="1">
              <a:off x="5016600" y="2016000"/>
              <a:ext cx="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9" name=""/>
          <p:cNvGrpSpPr/>
          <p:nvPr/>
        </p:nvGrpSpPr>
        <p:grpSpPr>
          <a:xfrm>
            <a:off x="5410080" y="1965240"/>
            <a:ext cx="685800" cy="507600"/>
            <a:chOff x="5410080" y="1965240"/>
            <a:chExt cx="685800" cy="507600"/>
          </a:xfrm>
        </p:grpSpPr>
        <p:sp>
          <p:nvSpPr>
            <p:cNvPr id="4310" name=""/>
            <p:cNvSpPr/>
            <p:nvPr/>
          </p:nvSpPr>
          <p:spPr>
            <a:xfrm>
              <a:off x="541008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 flipV="1">
              <a:off x="575316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2" name=""/>
          <p:cNvGrpSpPr/>
          <p:nvPr/>
        </p:nvGrpSpPr>
        <p:grpSpPr>
          <a:xfrm>
            <a:off x="6159600" y="1965240"/>
            <a:ext cx="685800" cy="507600"/>
            <a:chOff x="6159600" y="1965240"/>
            <a:chExt cx="685800" cy="507600"/>
          </a:xfrm>
        </p:grpSpPr>
        <p:sp>
          <p:nvSpPr>
            <p:cNvPr id="4313" name=""/>
            <p:cNvSpPr/>
            <p:nvPr/>
          </p:nvSpPr>
          <p:spPr>
            <a:xfrm>
              <a:off x="615960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650268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5" name=""/>
          <p:cNvSpPr/>
          <p:nvPr/>
        </p:nvSpPr>
        <p:spPr>
          <a:xfrm>
            <a:off x="1600200" y="3336840"/>
            <a:ext cx="5638680" cy="762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1600200" y="2536920"/>
            <a:ext cx="563868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7" name=""/>
          <p:cNvGrpSpPr/>
          <p:nvPr/>
        </p:nvGrpSpPr>
        <p:grpSpPr>
          <a:xfrm>
            <a:off x="3504960" y="2895480"/>
            <a:ext cx="74880" cy="1371600"/>
            <a:chOff x="3504960" y="2895480"/>
            <a:chExt cx="74880" cy="1371600"/>
          </a:xfrm>
        </p:grpSpPr>
        <p:sp>
          <p:nvSpPr>
            <p:cNvPr id="4318" name=""/>
            <p:cNvSpPr/>
            <p:nvPr/>
          </p:nvSpPr>
          <p:spPr>
            <a:xfrm rot="16200000">
              <a:off x="2857320" y="3544560"/>
              <a:ext cx="13716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9" name=""/>
            <p:cNvGrpSpPr/>
            <p:nvPr/>
          </p:nvGrpSpPr>
          <p:grpSpPr>
            <a:xfrm>
              <a:off x="3504960" y="3179520"/>
              <a:ext cx="46440" cy="1087560"/>
              <a:chOff x="3504960" y="3179520"/>
              <a:chExt cx="46440" cy="1087560"/>
            </a:xfrm>
          </p:grpSpPr>
          <p:sp>
            <p:nvSpPr>
              <p:cNvPr id="4320" name=""/>
              <p:cNvSpPr/>
              <p:nvPr/>
            </p:nvSpPr>
            <p:spPr>
              <a:xfrm flipH="1" flipV="1">
                <a:off x="3514680" y="4255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 flipH="1" flipV="1">
                <a:off x="3504960" y="42462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 flipV="1">
                <a:off x="3505320" y="423216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 flipV="1">
                <a:off x="3505320" y="4222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 flipV="1">
                <a:off x="3515040" y="42130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 flipV="1">
                <a:off x="3527640" y="4201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 flipV="1">
                <a:off x="3540240" y="41922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3549960" y="4178160"/>
                <a:ext cx="144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 flipH="1" flipV="1">
                <a:off x="3539880" y="4168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 flipH="1" flipV="1">
                <a:off x="3527280" y="41572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 flipH="1" flipV="1">
                <a:off x="3514680" y="41479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 flipH="1" flipV="1">
                <a:off x="3504960" y="41382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 flipV="1">
                <a:off x="3505320" y="412416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 flipV="1">
                <a:off x="3505320" y="4114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 flipV="1">
                <a:off x="3515040" y="41032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 flipV="1">
                <a:off x="3527640" y="40939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 flipV="1">
                <a:off x="3540240" y="40827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 flipV="1">
                <a:off x="3549960" y="407016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 flipH="1" flipV="1">
                <a:off x="3539880" y="40590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 flipH="1" flipV="1">
                <a:off x="3527280" y="40492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 flipH="1" flipV="1">
                <a:off x="3514680" y="403848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 flipH="1" flipV="1">
                <a:off x="3504960" y="40287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 flipV="1">
                <a:off x="3505320" y="401616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 flipV="1">
                <a:off x="3505320" y="40050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 flipV="1">
                <a:off x="3515040" y="39952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 flipV="1">
                <a:off x="3527640" y="398448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 flipV="1">
                <a:off x="3540240" y="39747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 flipV="1">
                <a:off x="3549960" y="396036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 flipH="1" flipV="1">
                <a:off x="3539880" y="39510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 flipH="1" flipV="1">
                <a:off x="3527280" y="39398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 flipH="1" flipV="1">
                <a:off x="3514680" y="3930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 flipH="1" flipV="1">
                <a:off x="3504960" y="39207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 flipV="1">
                <a:off x="3505320" y="390672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 flipV="1">
                <a:off x="3505320" y="38970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 flipV="1">
                <a:off x="3515040" y="38858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 flipV="1">
                <a:off x="3527640" y="3876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 flipV="1">
                <a:off x="3540240" y="38653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 flipV="1">
                <a:off x="3549960" y="385272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 flipH="1" flipV="1">
                <a:off x="3539880" y="3841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 flipH="1" flipV="1">
                <a:off x="3527280" y="38318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 flipH="1" flipV="1">
                <a:off x="3514680" y="3822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 flipH="1" flipV="1">
                <a:off x="3504960" y="38113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 flipV="1">
                <a:off x="3505320" y="379872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 flipV="1">
                <a:off x="3505320" y="3787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 flipV="1">
                <a:off x="3515040" y="37778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 flipV="1">
                <a:off x="3527640" y="37666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 flipV="1">
                <a:off x="3540240" y="37573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 flipV="1">
                <a:off x="3549960" y="374292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 flipH="1" flipV="1">
                <a:off x="3539880" y="37335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 flipH="1" flipV="1">
                <a:off x="3527280" y="37224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 flipH="1" flipV="1">
                <a:off x="3514680" y="3713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 flipH="1" flipV="1">
                <a:off x="3504960" y="37033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 flipV="1">
                <a:off x="3505320" y="368892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 flipV="1">
                <a:off x="3505320" y="36795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 flipV="1">
                <a:off x="3515040" y="36684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 flipV="1">
                <a:off x="3527640" y="3659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 flipV="1">
                <a:off x="3540240" y="36478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 flipV="1">
                <a:off x="3549960" y="363492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 flipH="1" flipV="1">
                <a:off x="3539880" y="362412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 flipH="1" flipV="1">
                <a:off x="3527280" y="36144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 flipH="1" flipV="1">
                <a:off x="3514680" y="3605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 flipH="1" flipV="1">
                <a:off x="3504960" y="35938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 flipV="1">
                <a:off x="3505320" y="358128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 flipV="1">
                <a:off x="3505320" y="35701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 flipV="1">
                <a:off x="3515040" y="35604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 flipV="1">
                <a:off x="3527640" y="35492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 flipV="1">
                <a:off x="3540240" y="35398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 flipV="1">
                <a:off x="3549960" y="352548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 flipH="1" flipV="1">
                <a:off x="3539880" y="35161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 flipH="1" flipV="1">
                <a:off x="3527280" y="35064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 flipH="1" flipV="1">
                <a:off x="3514680" y="34952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 flipH="1" flipV="1">
                <a:off x="3504960" y="34858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 flipV="1">
                <a:off x="3505320" y="347148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 flipV="1">
                <a:off x="3505320" y="34621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 flipV="1">
                <a:off x="3515040" y="34509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 flipV="1">
                <a:off x="3527640" y="34412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 flipV="1">
                <a:off x="3540240" y="343044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 flipV="1">
                <a:off x="3549960" y="341748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 flipH="1" flipV="1">
                <a:off x="3539880" y="34063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 flipH="1" flipV="1">
                <a:off x="3527280" y="33969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 flipH="1" flipV="1">
                <a:off x="3514680" y="33876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 flipH="1" flipV="1">
                <a:off x="3504960" y="33764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 flipV="1">
                <a:off x="3505320" y="3363480"/>
                <a:ext cx="18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 flipV="1">
                <a:off x="3505320" y="335268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 flipV="1">
                <a:off x="3515040" y="33429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 flipV="1">
                <a:off x="3527640" y="3331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 flipV="1">
                <a:off x="3540240" y="33224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 flipV="1">
                <a:off x="3549960" y="330804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 flipH="1" flipV="1">
                <a:off x="3539880" y="32986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 flipH="1" flipV="1">
                <a:off x="3527280" y="32889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 flipH="1" flipV="1">
                <a:off x="3514680" y="3277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 flipH="1" flipV="1">
                <a:off x="3504960" y="32684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 flipV="1">
                <a:off x="3505320" y="325404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 flipV="1">
                <a:off x="3505320" y="32446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 flipV="1">
                <a:off x="3515040" y="32335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 flipV="1">
                <a:off x="3527640" y="3223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 flipV="1">
                <a:off x="3540240" y="32126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 flipV="1">
                <a:off x="3549960" y="320004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 flipH="1" flipV="1">
                <a:off x="3539880" y="31888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 flipH="1" flipV="1">
                <a:off x="3527280" y="31795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0" name=""/>
            <p:cNvSpPr/>
            <p:nvPr/>
          </p:nvSpPr>
          <p:spPr>
            <a:xfrm flipV="1">
              <a:off x="3527640" y="306216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1" name=""/>
          <p:cNvGrpSpPr/>
          <p:nvPr/>
        </p:nvGrpSpPr>
        <p:grpSpPr>
          <a:xfrm>
            <a:off x="4368600" y="3564000"/>
            <a:ext cx="74880" cy="1371600"/>
            <a:chOff x="4368600" y="3564000"/>
            <a:chExt cx="74880" cy="1371600"/>
          </a:xfrm>
        </p:grpSpPr>
        <p:sp>
          <p:nvSpPr>
            <p:cNvPr id="4422" name=""/>
            <p:cNvSpPr/>
            <p:nvPr/>
          </p:nvSpPr>
          <p:spPr>
            <a:xfrm rot="16200000">
              <a:off x="3720960" y="4213080"/>
              <a:ext cx="13716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3" name=""/>
            <p:cNvGrpSpPr/>
            <p:nvPr/>
          </p:nvGrpSpPr>
          <p:grpSpPr>
            <a:xfrm>
              <a:off x="4368600" y="3848040"/>
              <a:ext cx="46440" cy="1087560"/>
              <a:chOff x="4368600" y="3848040"/>
              <a:chExt cx="46440" cy="1087560"/>
            </a:xfrm>
          </p:grpSpPr>
          <p:sp>
            <p:nvSpPr>
              <p:cNvPr id="4424" name=""/>
              <p:cNvSpPr/>
              <p:nvPr/>
            </p:nvSpPr>
            <p:spPr>
              <a:xfrm flipH="1" flipV="1">
                <a:off x="4378320" y="49244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 flipH="1" flipV="1">
                <a:off x="4368600" y="4914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 flipV="1">
                <a:off x="4368960" y="490068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 flipV="1">
                <a:off x="4368960" y="48909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 flipV="1">
                <a:off x="4378680" y="48816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 flipV="1">
                <a:off x="4391280" y="48704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 flipV="1">
                <a:off x="4403880" y="4860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 flipV="1">
                <a:off x="4413600" y="4846680"/>
                <a:ext cx="144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 flipH="1" flipV="1">
                <a:off x="4403520" y="48369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 flipH="1" flipV="1">
                <a:off x="4390920" y="4825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 flipH="1" flipV="1">
                <a:off x="4378320" y="4816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 flipH="1" flipV="1">
                <a:off x="4368600" y="4806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 flipV="1">
                <a:off x="4368960" y="479268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 flipV="1">
                <a:off x="4368960" y="47829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 flipV="1">
                <a:off x="4378680" y="4771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 flipV="1">
                <a:off x="4391280" y="4762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 flipV="1">
                <a:off x="4403880" y="47512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 flipV="1">
                <a:off x="4413600" y="473868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 flipH="1" flipV="1">
                <a:off x="4403520" y="47275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 flipH="1" flipV="1">
                <a:off x="4390920" y="4717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 flipH="1" flipV="1">
                <a:off x="4378320" y="470700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 flipH="1" flipV="1">
                <a:off x="4368600" y="46972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 flipV="1">
                <a:off x="4368960" y="468468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 flipV="1">
                <a:off x="4368960" y="46735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 flipV="1">
                <a:off x="4378680" y="4663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 flipV="1">
                <a:off x="4391280" y="465300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 flipV="1">
                <a:off x="4403880" y="46432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 flipV="1">
                <a:off x="4413600" y="462888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 flipH="1" flipV="1">
                <a:off x="4403520" y="46195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 flipH="1" flipV="1">
                <a:off x="4390920" y="46083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 flipH="1" flipV="1">
                <a:off x="4378320" y="4599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 flipH="1" flipV="1">
                <a:off x="4368600" y="45892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 flipV="1">
                <a:off x="4368960" y="457524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 flipV="1">
                <a:off x="4368960" y="45655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 flipV="1">
                <a:off x="4378680" y="45543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 flipV="1">
                <a:off x="4391280" y="4545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 flipV="1">
                <a:off x="4403880" y="4533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 flipV="1">
                <a:off x="4413600" y="452124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 flipH="1" flipV="1">
                <a:off x="4403520" y="45100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 flipH="1" flipV="1">
                <a:off x="4390920" y="4500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 flipH="1" flipV="1">
                <a:off x="4378320" y="4491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 flipH="1" flipV="1">
                <a:off x="4368600" y="4479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 flipV="1">
                <a:off x="4368960" y="446724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 flipV="1">
                <a:off x="4368960" y="44560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 flipV="1">
                <a:off x="4378680" y="4446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 flipV="1">
                <a:off x="4391280" y="44352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 flipV="1">
                <a:off x="4403880" y="44258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 flipV="1">
                <a:off x="4413600" y="441144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 flipH="1" flipV="1">
                <a:off x="4403520" y="44020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 flipH="1" flipV="1">
                <a:off x="4390920" y="4390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 flipH="1" flipV="1">
                <a:off x="4378320" y="43815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 flipH="1" flipV="1">
                <a:off x="4368600" y="43718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 flipV="1">
                <a:off x="4368960" y="435744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 flipV="1">
                <a:off x="4368960" y="43480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 flipV="1">
                <a:off x="4378680" y="4336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 flipV="1">
                <a:off x="4391280" y="43275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 flipV="1">
                <a:off x="4403880" y="43164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 flipV="1">
                <a:off x="4413600" y="430344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 flipH="1" flipV="1">
                <a:off x="4403520" y="429264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 flipH="1" flipV="1">
                <a:off x="4390920" y="4282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 flipH="1" flipV="1">
                <a:off x="4378320" y="42735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 flipH="1" flipV="1">
                <a:off x="4368600" y="42624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 flipV="1">
                <a:off x="4368960" y="424980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 flipV="1">
                <a:off x="4368960" y="42386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 flipV="1">
                <a:off x="4378680" y="4228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 flipV="1">
                <a:off x="4391280" y="4217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 flipV="1">
                <a:off x="4403880" y="42084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 flipV="1">
                <a:off x="4413600" y="419400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 flipH="1" flipV="1">
                <a:off x="4403520" y="41846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 flipH="1" flipV="1">
                <a:off x="4390920" y="4174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 flipH="1" flipV="1">
                <a:off x="4378320" y="4163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 flipH="1" flipV="1">
                <a:off x="4368600" y="41544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 flipV="1">
                <a:off x="4368960" y="414000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 flipV="1">
                <a:off x="4368960" y="41306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 flipV="1">
                <a:off x="4378680" y="41194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 flipV="1">
                <a:off x="4391280" y="41097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 flipV="1">
                <a:off x="4403880" y="409896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 flipV="1">
                <a:off x="4413600" y="408600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 flipH="1" flipV="1">
                <a:off x="4403520" y="4074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 flipH="1" flipV="1">
                <a:off x="4390920" y="4065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 flipH="1" flipV="1">
                <a:off x="4378320" y="40561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 flipH="1" flipV="1">
                <a:off x="4368600" y="40449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 flipV="1">
                <a:off x="4368960" y="4032000"/>
                <a:ext cx="18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 flipV="1">
                <a:off x="4368960" y="402120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 flipV="1">
                <a:off x="4378680" y="40114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 flipV="1">
                <a:off x="4391280" y="40003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 flipV="1">
                <a:off x="4403880" y="39909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 flipV="1">
                <a:off x="4413600" y="397656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 flipH="1" flipV="1">
                <a:off x="4403520" y="39672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 flipH="1" flipV="1">
                <a:off x="4390920" y="39574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 flipH="1" flipV="1">
                <a:off x="4378320" y="39463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 flipH="1" flipV="1">
                <a:off x="4368600" y="39369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 flipV="1">
                <a:off x="4368960" y="392256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 flipV="1">
                <a:off x="4368960" y="39132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 flipV="1">
                <a:off x="4378680" y="39020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 flipV="1">
                <a:off x="4391280" y="38923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 flipV="1">
                <a:off x="4403880" y="38811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 flipV="1">
                <a:off x="4413600" y="386856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 flipH="1" flipV="1">
                <a:off x="4403520" y="38574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 flipH="1" flipV="1">
                <a:off x="4390920" y="3848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4" name=""/>
            <p:cNvSpPr/>
            <p:nvPr/>
          </p:nvSpPr>
          <p:spPr>
            <a:xfrm flipV="1">
              <a:off x="4391280" y="373068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5" name=""/>
          <p:cNvGrpSpPr/>
          <p:nvPr/>
        </p:nvGrpSpPr>
        <p:grpSpPr>
          <a:xfrm>
            <a:off x="5752800" y="3700440"/>
            <a:ext cx="74880" cy="1371600"/>
            <a:chOff x="5752800" y="3700440"/>
            <a:chExt cx="74880" cy="1371600"/>
          </a:xfrm>
        </p:grpSpPr>
        <p:sp>
          <p:nvSpPr>
            <p:cNvPr id="4526" name=""/>
            <p:cNvSpPr/>
            <p:nvPr/>
          </p:nvSpPr>
          <p:spPr>
            <a:xfrm rot="16200000">
              <a:off x="5105160" y="4349520"/>
              <a:ext cx="13716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7" name=""/>
            <p:cNvGrpSpPr/>
            <p:nvPr/>
          </p:nvGrpSpPr>
          <p:grpSpPr>
            <a:xfrm>
              <a:off x="5752800" y="3984480"/>
              <a:ext cx="46440" cy="1087560"/>
              <a:chOff x="5752800" y="3984480"/>
              <a:chExt cx="46440" cy="1087560"/>
            </a:xfrm>
          </p:grpSpPr>
          <p:sp>
            <p:nvSpPr>
              <p:cNvPr id="4528" name=""/>
              <p:cNvSpPr/>
              <p:nvPr/>
            </p:nvSpPr>
            <p:spPr>
              <a:xfrm flipH="1" flipV="1">
                <a:off x="5762520" y="50608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 flipH="1" flipV="1">
                <a:off x="5752800" y="50511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 flipV="1">
                <a:off x="5753160" y="503712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 flipV="1">
                <a:off x="5753160" y="50274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 flipV="1">
                <a:off x="5762880" y="5018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 flipV="1">
                <a:off x="5775480" y="50068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 flipV="1">
                <a:off x="5788080" y="49971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 flipV="1">
                <a:off x="5797800" y="4983120"/>
                <a:ext cx="144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 flipH="1" flipV="1">
                <a:off x="5787720" y="49734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 flipH="1" flipV="1">
                <a:off x="5775120" y="49622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 flipH="1" flipV="1">
                <a:off x="5762520" y="49528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 flipH="1" flipV="1">
                <a:off x="5752800" y="49431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 flipV="1">
                <a:off x="5753160" y="492912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 flipV="1">
                <a:off x="5753160" y="49194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 flipV="1">
                <a:off x="5762880" y="49082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 flipV="1">
                <a:off x="5775480" y="48988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 flipV="1">
                <a:off x="5788080" y="48877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 flipV="1">
                <a:off x="5797800" y="487512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 flipH="1" flipV="1">
                <a:off x="5787720" y="48639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 flipH="1" flipV="1">
                <a:off x="5775120" y="48542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 flipH="1" flipV="1">
                <a:off x="5762520" y="484344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 flipH="1" flipV="1">
                <a:off x="5752800" y="4833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 flipV="1">
                <a:off x="5753160" y="482112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 flipV="1">
                <a:off x="5753160" y="48099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 flipV="1">
                <a:off x="5762880" y="48002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 flipV="1">
                <a:off x="5775480" y="478944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 flipV="1">
                <a:off x="5788080" y="4779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 flipV="1">
                <a:off x="5797800" y="476532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 flipH="1" flipV="1">
                <a:off x="5787720" y="47559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 flipH="1" flipV="1">
                <a:off x="5775120" y="4744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 flipH="1" flipV="1">
                <a:off x="5762520" y="4735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 flipH="1" flipV="1">
                <a:off x="5752800" y="4725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 flipV="1">
                <a:off x="5753160" y="471168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 flipV="1">
                <a:off x="5753160" y="47019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 flipV="1">
                <a:off x="5762880" y="4690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 flipV="1">
                <a:off x="5775480" y="4681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 flipV="1">
                <a:off x="5788080" y="46702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 flipV="1">
                <a:off x="5797800" y="465768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 flipH="1" flipV="1">
                <a:off x="5787720" y="46465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 flipH="1" flipV="1">
                <a:off x="5775120" y="4636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 flipH="1" flipV="1">
                <a:off x="5762520" y="4627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 flipH="1" flipV="1">
                <a:off x="5752800" y="46162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 flipV="1">
                <a:off x="5753160" y="460368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 flipV="1">
                <a:off x="5753160" y="45925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 flipV="1">
                <a:off x="5762880" y="4582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 flipV="1">
                <a:off x="5775480" y="45716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 flipV="1">
                <a:off x="5788080" y="45622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 flipV="1">
                <a:off x="5797800" y="454788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 flipH="1" flipV="1">
                <a:off x="5787720" y="45385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 flipH="1" flipV="1">
                <a:off x="5775120" y="45273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 flipH="1" flipV="1">
                <a:off x="5762520" y="4518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 flipH="1" flipV="1">
                <a:off x="5752800" y="45082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 flipV="1">
                <a:off x="5753160" y="449388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 flipV="1">
                <a:off x="5753160" y="44845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 flipV="1">
                <a:off x="5762880" y="44733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 flipV="1">
                <a:off x="5775480" y="4464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 flipV="1">
                <a:off x="5788080" y="4452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 flipV="1">
                <a:off x="5797800" y="443988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 flipH="1" flipV="1">
                <a:off x="5787720" y="442908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 flipH="1" flipV="1">
                <a:off x="5775120" y="4419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 flipH="1" flipV="1">
                <a:off x="5762520" y="4410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 flipH="1" flipV="1">
                <a:off x="5752800" y="4398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 flipV="1">
                <a:off x="5753160" y="438624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 flipV="1">
                <a:off x="5753160" y="43750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 flipV="1">
                <a:off x="5762880" y="4365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 flipV="1">
                <a:off x="5775480" y="43542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 flipV="1">
                <a:off x="5788080" y="43448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 flipV="1">
                <a:off x="5797800" y="433044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 flipH="1" flipV="1">
                <a:off x="5787720" y="43210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 flipH="1" flipV="1">
                <a:off x="5775120" y="4311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 flipH="1" flipV="1">
                <a:off x="5762520" y="43002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 flipH="1" flipV="1">
                <a:off x="5752800" y="42908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 flipV="1">
                <a:off x="5753160" y="427644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 flipV="1">
                <a:off x="5753160" y="42670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 flipV="1">
                <a:off x="5762880" y="4255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 flipV="1">
                <a:off x="5775480" y="42462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 flipV="1">
                <a:off x="5788080" y="423540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 flipV="1">
                <a:off x="5797800" y="422244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 flipH="1" flipV="1">
                <a:off x="5787720" y="42112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 flipH="1" flipV="1">
                <a:off x="5775120" y="42019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 flipH="1" flipV="1">
                <a:off x="5762520" y="41925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 flipH="1" flipV="1">
                <a:off x="5752800" y="41814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 flipV="1">
                <a:off x="5753160" y="4168440"/>
                <a:ext cx="18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 flipV="1">
                <a:off x="5753160" y="415764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 flipV="1">
                <a:off x="5762880" y="4147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 flipV="1">
                <a:off x="5775480" y="4136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 flipV="1">
                <a:off x="5788080" y="41274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 flipV="1">
                <a:off x="5797800" y="411300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 flipH="1" flipV="1">
                <a:off x="5787720" y="41036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 flipH="1" flipV="1">
                <a:off x="5775120" y="4093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 flipH="1" flipV="1">
                <a:off x="5762520" y="4082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 flipH="1" flipV="1">
                <a:off x="5752800" y="40734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 flipV="1">
                <a:off x="5753160" y="405900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 flipV="1">
                <a:off x="5753160" y="40496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 flipV="1">
                <a:off x="5762880" y="40384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 flipV="1">
                <a:off x="5775480" y="40287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 flipV="1">
                <a:off x="5788080" y="40176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 flipV="1">
                <a:off x="5797800" y="400500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 flipH="1" flipV="1">
                <a:off x="5787720" y="3993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 flipH="1" flipV="1">
                <a:off x="5775120" y="3984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8" name=""/>
            <p:cNvSpPr/>
            <p:nvPr/>
          </p:nvSpPr>
          <p:spPr>
            <a:xfrm flipV="1">
              <a:off x="5775480" y="386712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9" name=""/>
          <p:cNvGrpSpPr/>
          <p:nvPr/>
        </p:nvGrpSpPr>
        <p:grpSpPr>
          <a:xfrm>
            <a:off x="2656080" y="3643200"/>
            <a:ext cx="74880" cy="836640"/>
            <a:chOff x="2656080" y="3643200"/>
            <a:chExt cx="74880" cy="836640"/>
          </a:xfrm>
        </p:grpSpPr>
        <p:sp>
          <p:nvSpPr>
            <p:cNvPr id="4630" name=""/>
            <p:cNvSpPr/>
            <p:nvPr/>
          </p:nvSpPr>
          <p:spPr>
            <a:xfrm flipH="1" rot="5400000">
              <a:off x="2273760" y="4024800"/>
              <a:ext cx="83664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1" name=""/>
            <p:cNvGrpSpPr/>
            <p:nvPr/>
          </p:nvGrpSpPr>
          <p:grpSpPr>
            <a:xfrm>
              <a:off x="2684520" y="3816720"/>
              <a:ext cx="46440" cy="663120"/>
              <a:chOff x="2684520" y="3816720"/>
              <a:chExt cx="46440" cy="663120"/>
            </a:xfrm>
          </p:grpSpPr>
          <p:sp>
            <p:nvSpPr>
              <p:cNvPr id="4632" name=""/>
              <p:cNvSpPr/>
              <p:nvPr/>
            </p:nvSpPr>
            <p:spPr>
              <a:xfrm flipV="1">
                <a:off x="2708640" y="447336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 flipV="1">
                <a:off x="2721240" y="446760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 flipH="1" flipV="1">
                <a:off x="2728800" y="4458960"/>
                <a:ext cx="180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 flipH="1" flipV="1">
                <a:off x="2720880" y="445284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 flipH="1" flipV="1">
                <a:off x="2708280" y="444744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 flipH="1" flipV="1">
                <a:off x="2695680" y="444060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 flipH="1" flipV="1">
                <a:off x="2685960" y="443448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 flipH="1" flipV="1">
                <a:off x="2684520" y="4426200"/>
                <a:ext cx="144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 flipV="1">
                <a:off x="2686320" y="442008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 flipV="1">
                <a:off x="2696040" y="44132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 flipV="1">
                <a:off x="2708640" y="440748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 flipV="1">
                <a:off x="2721240" y="440172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 flipH="1" flipV="1">
                <a:off x="2728800" y="4393080"/>
                <a:ext cx="180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 flipH="1" flipV="1">
                <a:off x="2720880" y="438696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 flipH="1" flipV="1">
                <a:off x="2708280" y="438048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 flipH="1" flipV="1">
                <a:off x="2695680" y="437472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 flipH="1" flipV="1">
                <a:off x="2685960" y="43678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 flipH="1" flipV="1">
                <a:off x="2684520" y="435996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 flipV="1">
                <a:off x="2686320" y="43534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 flipV="1">
                <a:off x="2696040" y="434736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 flipV="1">
                <a:off x="2708640" y="43405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 flipV="1">
                <a:off x="2721240" y="433476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 flipH="1" flipV="1">
                <a:off x="2728800" y="4327200"/>
                <a:ext cx="180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 flipH="1" flipV="1">
                <a:off x="2720880" y="432036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 flipH="1" flipV="1">
                <a:off x="2708280" y="431424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 flipH="1" flipV="1">
                <a:off x="2695680" y="430776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 flipH="1" flipV="1">
                <a:off x="2685960" y="430164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 flipH="1" flipV="1">
                <a:off x="2684520" y="4293000"/>
                <a:ext cx="144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 flipV="1">
                <a:off x="2686320" y="428760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 flipV="1">
                <a:off x="2696040" y="428076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 flipV="1">
                <a:off x="2708640" y="427500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 flipV="1">
                <a:off x="2721240" y="426888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 flipH="1" flipV="1">
                <a:off x="2728800" y="4260240"/>
                <a:ext cx="180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 flipH="1" flipV="1">
                <a:off x="2720880" y="425448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 flipH="1" flipV="1">
                <a:off x="2708280" y="42476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 flipH="1" flipV="1">
                <a:off x="2695680" y="424188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 flipH="1" flipV="1">
                <a:off x="2685960" y="423504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 flipH="1" flipV="1">
                <a:off x="2684520" y="422748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 flipV="1">
                <a:off x="2686320" y="422064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 flipV="1">
                <a:off x="2696040" y="421452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 flipV="1">
                <a:off x="2708640" y="420912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 flipV="1">
                <a:off x="2721240" y="42022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 flipH="1" flipV="1">
                <a:off x="2728800" y="4194360"/>
                <a:ext cx="180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 flipH="1" flipV="1">
                <a:off x="2720880" y="41878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 flipH="1" flipV="1">
                <a:off x="2708280" y="418176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 flipH="1" flipV="1">
                <a:off x="2695680" y="41749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 flipH="1" flipV="1">
                <a:off x="2685960" y="416916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 flipH="1" flipV="1">
                <a:off x="2684520" y="4160160"/>
                <a:ext cx="144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 flipV="1">
                <a:off x="2686320" y="415476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 flipV="1">
                <a:off x="2696040" y="41479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 flipV="1">
                <a:off x="2708640" y="414216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 flipV="1">
                <a:off x="2721240" y="413604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 flipH="1" flipV="1">
                <a:off x="2728800" y="4127400"/>
                <a:ext cx="180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 flipH="1" flipV="1">
                <a:off x="2720880" y="412200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 flipH="1" flipV="1">
                <a:off x="2708280" y="411516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 flipH="1" flipV="1">
                <a:off x="2695680" y="410940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 flipH="1" flipV="1">
                <a:off x="2685960" y="410256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 flipH="1" flipV="1">
                <a:off x="2684520" y="409464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 flipV="1">
                <a:off x="2686320" y="408780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 flipV="1">
                <a:off x="2696040" y="408204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 flipV="1">
                <a:off x="2708640" y="407628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 flipV="1">
                <a:off x="2721240" y="406944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 flipH="1" flipV="1">
                <a:off x="2728800" y="4061520"/>
                <a:ext cx="180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 flipH="1" flipV="1">
                <a:off x="2720880" y="405504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 flipH="1" flipV="1">
                <a:off x="2708280" y="404892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 flipH="1" flipV="1">
                <a:off x="2695680" y="40424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 flipH="1" flipV="1">
                <a:off x="2685960" y="403668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 flipH="1" flipV="1">
                <a:off x="2684520" y="4027680"/>
                <a:ext cx="144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 flipV="1">
                <a:off x="2686320" y="402228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 flipV="1">
                <a:off x="2696040" y="401616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 flipV="1">
                <a:off x="2708640" y="40093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 flipV="1">
                <a:off x="2721240" y="400356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 flipH="1" flipV="1">
                <a:off x="2728800" y="3994560"/>
                <a:ext cx="180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 flipH="1" flipV="1">
                <a:off x="2720880" y="398916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 flipH="1" flipV="1">
                <a:off x="2708280" y="39823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 flipH="1" flipV="1">
                <a:off x="2695680" y="397620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 flipH="1" flipV="1">
                <a:off x="2685960" y="396972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 flipH="1" flipV="1">
                <a:off x="2684520" y="396180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 flipV="1">
                <a:off x="2686320" y="395496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 flipV="1">
                <a:off x="2696040" y="394956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 flipV="1">
                <a:off x="2708640" y="394380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 flipV="1">
                <a:off x="2721240" y="393696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 flipH="1" flipV="1">
                <a:off x="2728800" y="3929040"/>
                <a:ext cx="180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 flipH="1" flipV="1">
                <a:off x="2720880" y="392220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 flipH="1" flipV="1">
                <a:off x="2708280" y="391644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 flipH="1" flipV="1">
                <a:off x="2695680" y="390960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 flipH="1" flipV="1">
                <a:off x="2685960" y="390384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 flipH="1" flipV="1">
                <a:off x="2684520" y="3894840"/>
                <a:ext cx="144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 flipV="1">
                <a:off x="2686320" y="388944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 flipV="1">
                <a:off x="2696040" y="388332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 flipV="1">
                <a:off x="2708640" y="38768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 flipV="1">
                <a:off x="2721240" y="387108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 flipH="1" flipV="1">
                <a:off x="2728800" y="3862080"/>
                <a:ext cx="180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 flipH="1" flipV="1">
                <a:off x="2720880" y="385632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 flipH="1" flipV="1">
                <a:off x="2708280" y="38498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 flipH="1" flipV="1">
                <a:off x="2695680" y="384372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 flipH="1" flipV="1">
                <a:off x="2685960" y="38368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 flipH="1" flipV="1">
                <a:off x="2684520" y="382896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 flipV="1">
                <a:off x="2686320" y="38224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 flipV="1">
                <a:off x="2696040" y="381672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2" name=""/>
            <p:cNvSpPr/>
            <p:nvPr/>
          </p:nvSpPr>
          <p:spPr>
            <a:xfrm flipV="1">
              <a:off x="2708280" y="3745080"/>
              <a:ext cx="0" cy="7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3" name=""/>
          <p:cNvGrpSpPr/>
          <p:nvPr/>
        </p:nvGrpSpPr>
        <p:grpSpPr>
          <a:xfrm>
            <a:off x="5409720" y="2871720"/>
            <a:ext cx="74880" cy="1371600"/>
            <a:chOff x="5409720" y="2871720"/>
            <a:chExt cx="74880" cy="1371600"/>
          </a:xfrm>
        </p:grpSpPr>
        <p:sp>
          <p:nvSpPr>
            <p:cNvPr id="4734" name=""/>
            <p:cNvSpPr/>
            <p:nvPr/>
          </p:nvSpPr>
          <p:spPr>
            <a:xfrm rot="16200000">
              <a:off x="4762080" y="3520800"/>
              <a:ext cx="13716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5" name=""/>
            <p:cNvGrpSpPr/>
            <p:nvPr/>
          </p:nvGrpSpPr>
          <p:grpSpPr>
            <a:xfrm>
              <a:off x="5409720" y="3155760"/>
              <a:ext cx="46440" cy="1087560"/>
              <a:chOff x="5409720" y="3155760"/>
              <a:chExt cx="46440" cy="1087560"/>
            </a:xfrm>
          </p:grpSpPr>
          <p:sp>
            <p:nvSpPr>
              <p:cNvPr id="4736" name=""/>
              <p:cNvSpPr/>
              <p:nvPr/>
            </p:nvSpPr>
            <p:spPr>
              <a:xfrm flipH="1" flipV="1">
                <a:off x="5419440" y="42321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 flipH="1" flipV="1">
                <a:off x="5409720" y="4222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 flipV="1">
                <a:off x="5410080" y="420840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 flipV="1">
                <a:off x="5410080" y="41986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 flipV="1">
                <a:off x="5419800" y="41893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 flipV="1">
                <a:off x="5432400" y="41781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 flipV="1">
                <a:off x="5445000" y="4168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 flipV="1">
                <a:off x="5454720" y="4154400"/>
                <a:ext cx="144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 flipH="1" flipV="1">
                <a:off x="5444640" y="41446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 flipH="1" flipV="1">
                <a:off x="5432040" y="41335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 flipH="1" flipV="1">
                <a:off x="5419440" y="41241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 flipH="1" flipV="1">
                <a:off x="5409720" y="4114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 flipV="1">
                <a:off x="5410080" y="410040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 flipV="1">
                <a:off x="5410080" y="40906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 flipV="1">
                <a:off x="5419800" y="40795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 flipV="1">
                <a:off x="5432400" y="40701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 flipV="1">
                <a:off x="5445000" y="40590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 flipV="1">
                <a:off x="5454720" y="404640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 flipH="1" flipV="1">
                <a:off x="5444640" y="40352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 flipH="1" flipV="1">
                <a:off x="5432040" y="40255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 flipH="1" flipV="1">
                <a:off x="5419440" y="401472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 flipH="1" flipV="1">
                <a:off x="5409720" y="40050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 flipV="1">
                <a:off x="5410080" y="399240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 flipV="1">
                <a:off x="5410080" y="39812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 flipV="1">
                <a:off x="5419800" y="39715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 flipV="1">
                <a:off x="5432400" y="396072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 flipV="1">
                <a:off x="5445000" y="39510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 flipV="1">
                <a:off x="5454720" y="393660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 flipH="1" flipV="1">
                <a:off x="5444640" y="39272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 flipH="1" flipV="1">
                <a:off x="5432040" y="39160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 flipH="1" flipV="1">
                <a:off x="5419440" y="39067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 flipH="1" flipV="1">
                <a:off x="5409720" y="38970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 flipV="1">
                <a:off x="5410080" y="388296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 flipV="1">
                <a:off x="5410080" y="38732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 flipV="1">
                <a:off x="5419800" y="38620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 flipV="1">
                <a:off x="5432400" y="38527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 flipV="1">
                <a:off x="5445000" y="3841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 flipV="1">
                <a:off x="5454720" y="382896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 flipH="1" flipV="1">
                <a:off x="5444640" y="38178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 flipH="1" flipV="1">
                <a:off x="5432040" y="38080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 flipH="1" flipV="1">
                <a:off x="5419440" y="37987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 flipH="1" flipV="1">
                <a:off x="5409720" y="3787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 flipV="1">
                <a:off x="5410080" y="377496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 flipV="1">
                <a:off x="5410080" y="37638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 flipV="1">
                <a:off x="5419800" y="37540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 flipV="1">
                <a:off x="5432400" y="3742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 flipV="1">
                <a:off x="5445000" y="37335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 flipV="1">
                <a:off x="5454720" y="371916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 flipH="1" flipV="1">
                <a:off x="5444640" y="37098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 flipH="1" flipV="1">
                <a:off x="5432040" y="36986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 flipH="1" flipV="1">
                <a:off x="5419440" y="36892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 flipH="1" flipV="1">
                <a:off x="5409720" y="36795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 flipV="1">
                <a:off x="5410080" y="366516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 flipV="1">
                <a:off x="5410080" y="36558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 flipV="1">
                <a:off x="5419800" y="36446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 flipV="1">
                <a:off x="5432400" y="36352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 flipV="1">
                <a:off x="5445000" y="36241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 flipV="1">
                <a:off x="5454720" y="361116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 flipH="1" flipV="1">
                <a:off x="5444640" y="360036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 flipH="1" flipV="1">
                <a:off x="5432040" y="35906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 flipH="1" flipV="1">
                <a:off x="5419440" y="35812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 flipH="1" flipV="1">
                <a:off x="5409720" y="35701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 flipV="1">
                <a:off x="5410080" y="355752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 flipV="1">
                <a:off x="5410080" y="35463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 flipV="1">
                <a:off x="5419800" y="35366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 flipV="1">
                <a:off x="5432400" y="35254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 flipV="1">
                <a:off x="5445000" y="35161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 flipV="1">
                <a:off x="5454720" y="350172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 flipH="1" flipV="1">
                <a:off x="5444640" y="34923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 flipH="1" flipV="1">
                <a:off x="5432040" y="34826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 flipH="1" flipV="1">
                <a:off x="5419440" y="34714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 flipH="1" flipV="1">
                <a:off x="5409720" y="34621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 flipV="1">
                <a:off x="5410080" y="344772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 flipV="1">
                <a:off x="5410080" y="34383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 flipV="1">
                <a:off x="5419800" y="34272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 flipV="1">
                <a:off x="5432400" y="34174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 flipV="1">
                <a:off x="5445000" y="340668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 flipV="1">
                <a:off x="5454720" y="339372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 flipH="1" flipV="1">
                <a:off x="5444640" y="3382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 flipH="1" flipV="1">
                <a:off x="5432040" y="33732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 flipH="1" flipV="1">
                <a:off x="5419440" y="33638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 flipH="1" flipV="1">
                <a:off x="5409720" y="33526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 flipV="1">
                <a:off x="5410080" y="3339720"/>
                <a:ext cx="18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 flipV="1">
                <a:off x="5410080" y="332892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 flipV="1">
                <a:off x="5419800" y="33192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 flipV="1">
                <a:off x="5432400" y="33080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 flipV="1">
                <a:off x="5445000" y="32986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 flipV="1">
                <a:off x="5454720" y="328428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 flipH="1" flipV="1">
                <a:off x="5444640" y="32749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 flipH="1" flipV="1">
                <a:off x="5432040" y="32652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 flipH="1" flipV="1">
                <a:off x="5419440" y="32540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 flipH="1" flipV="1">
                <a:off x="5409720" y="32446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 flipV="1">
                <a:off x="5410080" y="323028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 flipV="1">
                <a:off x="5410080" y="32209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 flipV="1">
                <a:off x="5419800" y="3209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 flipV="1">
                <a:off x="5432400" y="32000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 flipV="1">
                <a:off x="5445000" y="31888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 flipV="1">
                <a:off x="5454720" y="317628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 flipH="1" flipV="1">
                <a:off x="5444640" y="31651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 flipH="1" flipV="1">
                <a:off x="5432040" y="31557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6" name=""/>
            <p:cNvSpPr/>
            <p:nvPr/>
          </p:nvSpPr>
          <p:spPr>
            <a:xfrm flipV="1">
              <a:off x="5432400" y="303840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7" name=""/>
          <p:cNvSpPr/>
          <p:nvPr/>
        </p:nvSpPr>
        <p:spPr>
          <a:xfrm flipH="1">
            <a:off x="2867040" y="3038400"/>
            <a:ext cx="1288080" cy="29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 flipH="1">
            <a:off x="5012640" y="3006720"/>
            <a:ext cx="783720" cy="30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9531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953150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9" name=""/>
          <p:cNvSpPr/>
          <p:nvPr/>
        </p:nvSpPr>
        <p:spPr>
          <a:xfrm rot="16200000">
            <a:off x="2391120" y="3625560"/>
            <a:ext cx="105912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47993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479936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"/>
          <p:cNvSpPr/>
          <p:nvPr/>
        </p:nvSpPr>
        <p:spPr>
          <a:xfrm rot="16200000">
            <a:off x="4822920" y="2800800"/>
            <a:ext cx="818280" cy="172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165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16553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"/>
          <p:cNvSpPr/>
          <p:nvPr/>
        </p:nvSpPr>
        <p:spPr>
          <a:xfrm flipH="1" flipV="1">
            <a:off x="4985640" y="2684880"/>
            <a:ext cx="1569600" cy="117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830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83083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2" name=""/>
          <p:cNvSpPr/>
          <p:nvPr/>
        </p:nvSpPr>
        <p:spPr>
          <a:xfrm>
            <a:off x="3914640" y="1846440"/>
            <a:ext cx="0" cy="2709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"/>
          <p:cNvSpPr/>
          <p:nvPr/>
        </p:nvSpPr>
        <p:spPr>
          <a:xfrm>
            <a:off x="6124680" y="1828800"/>
            <a:ext cx="0" cy="2727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4" name=""/>
          <p:cNvSpPr/>
          <p:nvPr/>
        </p:nvSpPr>
        <p:spPr>
          <a:xfrm rot="16200000">
            <a:off x="5770440" y="448164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ix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"/>
          <p:cNvSpPr/>
          <p:nvPr/>
        </p:nvSpPr>
        <p:spPr>
          <a:xfrm flipH="1" rot="16200000">
            <a:off x="1902240" y="5587920"/>
            <a:ext cx="1558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6" name=""/>
          <p:cNvSpPr/>
          <p:nvPr/>
        </p:nvSpPr>
        <p:spPr>
          <a:xfrm>
            <a:off x="2272680" y="558792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7" name=""/>
          <p:cNvGrpSpPr/>
          <p:nvPr/>
        </p:nvGrpSpPr>
        <p:grpSpPr>
          <a:xfrm>
            <a:off x="4222800" y="5761080"/>
            <a:ext cx="1343160" cy="307080"/>
            <a:chOff x="4222800" y="5761080"/>
            <a:chExt cx="1343160" cy="307080"/>
          </a:xfrm>
        </p:grpSpPr>
        <p:sp>
          <p:nvSpPr>
            <p:cNvPr id="4848" name=""/>
            <p:cNvSpPr/>
            <p:nvPr/>
          </p:nvSpPr>
          <p:spPr>
            <a:xfrm>
              <a:off x="4222800" y="5862600"/>
              <a:ext cx="228600" cy="128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4402080" y="576108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-type silic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0" name=""/>
          <p:cNvGrpSpPr/>
          <p:nvPr/>
        </p:nvGrpSpPr>
        <p:grpSpPr>
          <a:xfrm>
            <a:off x="4191120" y="5486400"/>
            <a:ext cx="1359000" cy="307080"/>
            <a:chOff x="4191120" y="5486400"/>
            <a:chExt cx="1359000" cy="307080"/>
          </a:xfrm>
        </p:grpSpPr>
        <p:sp>
          <p:nvSpPr>
            <p:cNvPr id="4851" name=""/>
            <p:cNvSpPr/>
            <p:nvPr/>
          </p:nvSpPr>
          <p:spPr>
            <a:xfrm>
              <a:off x="4191120" y="5587920"/>
              <a:ext cx="228600" cy="128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4386240" y="548640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-type silic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3" name=""/>
          <p:cNvSpPr/>
          <p:nvPr/>
        </p:nvSpPr>
        <p:spPr>
          <a:xfrm>
            <a:off x="5710680" y="5791320"/>
            <a:ext cx="171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O2 Insulating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"/>
          <p:cNvSpPr/>
          <p:nvPr/>
        </p:nvSpPr>
        <p:spPr>
          <a:xfrm>
            <a:off x="5686560" y="5862600"/>
            <a:ext cx="0" cy="1522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5864040" y="541008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ode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6" name=""/>
          <p:cNvGrpSpPr/>
          <p:nvPr/>
        </p:nvGrpSpPr>
        <p:grpSpPr>
          <a:xfrm>
            <a:off x="5681520" y="5486400"/>
            <a:ext cx="109440" cy="228600"/>
            <a:chOff x="5681520" y="5486400"/>
            <a:chExt cx="109440" cy="228600"/>
          </a:xfrm>
        </p:grpSpPr>
        <p:sp>
          <p:nvSpPr>
            <p:cNvPr id="4857" name=""/>
            <p:cNvSpPr/>
            <p:nvPr/>
          </p:nvSpPr>
          <p:spPr>
            <a:xfrm>
              <a:off x="5686200" y="5599080"/>
              <a:ext cx="1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5681520" y="5486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9" name=""/>
          <p:cNvSpPr/>
          <p:nvPr/>
        </p:nvSpPr>
        <p:spPr>
          <a:xfrm rot="16200000">
            <a:off x="3483000" y="442440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ix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0" name=""/>
          <p:cNvSpPr/>
          <p:nvPr/>
        </p:nvSpPr>
        <p:spPr>
          <a:xfrm rot="16200000">
            <a:off x="2236320" y="4506120"/>
            <a:ext cx="84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o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hot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1" name=""/>
          <p:cNvSpPr/>
          <p:nvPr/>
        </p:nvSpPr>
        <p:spPr>
          <a:xfrm>
            <a:off x="2365200" y="152280"/>
            <a:ext cx="3713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Collection in a CC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2" name=""/>
          <p:cNvGrpSpPr/>
          <p:nvPr/>
        </p:nvGrpSpPr>
        <p:grpSpPr>
          <a:xfrm>
            <a:off x="2457360" y="2016000"/>
            <a:ext cx="685800" cy="457200"/>
            <a:chOff x="2457360" y="2016000"/>
            <a:chExt cx="685800" cy="457200"/>
          </a:xfrm>
        </p:grpSpPr>
        <p:sp>
          <p:nvSpPr>
            <p:cNvPr id="4863" name=""/>
            <p:cNvSpPr/>
            <p:nvPr/>
          </p:nvSpPr>
          <p:spPr>
            <a:xfrm>
              <a:off x="2457360" y="24732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 flipV="1">
              <a:off x="2800440" y="2016000"/>
              <a:ext cx="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5" name=""/>
          <p:cNvGrpSpPr/>
          <p:nvPr/>
        </p:nvGrpSpPr>
        <p:grpSpPr>
          <a:xfrm>
            <a:off x="3193920" y="1965240"/>
            <a:ext cx="685800" cy="507600"/>
            <a:chOff x="3193920" y="1965240"/>
            <a:chExt cx="685800" cy="507600"/>
          </a:xfrm>
        </p:grpSpPr>
        <p:sp>
          <p:nvSpPr>
            <p:cNvPr id="4866" name=""/>
            <p:cNvSpPr/>
            <p:nvPr/>
          </p:nvSpPr>
          <p:spPr>
            <a:xfrm>
              <a:off x="319392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 flipV="1">
              <a:off x="353700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8" name=""/>
          <p:cNvGrpSpPr/>
          <p:nvPr/>
        </p:nvGrpSpPr>
        <p:grpSpPr>
          <a:xfrm>
            <a:off x="3943440" y="1965240"/>
            <a:ext cx="685800" cy="507600"/>
            <a:chOff x="3943440" y="1965240"/>
            <a:chExt cx="685800" cy="507600"/>
          </a:xfrm>
        </p:grpSpPr>
        <p:sp>
          <p:nvSpPr>
            <p:cNvPr id="4869" name=""/>
            <p:cNvSpPr/>
            <p:nvPr/>
          </p:nvSpPr>
          <p:spPr>
            <a:xfrm>
              <a:off x="394344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 flipV="1">
              <a:off x="428652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1" name=""/>
          <p:cNvGrpSpPr/>
          <p:nvPr/>
        </p:nvGrpSpPr>
        <p:grpSpPr>
          <a:xfrm>
            <a:off x="6934320" y="1965240"/>
            <a:ext cx="685800" cy="507600"/>
            <a:chOff x="6934320" y="1965240"/>
            <a:chExt cx="685800" cy="507600"/>
          </a:xfrm>
        </p:grpSpPr>
        <p:sp>
          <p:nvSpPr>
            <p:cNvPr id="4872" name=""/>
            <p:cNvSpPr/>
            <p:nvPr/>
          </p:nvSpPr>
          <p:spPr>
            <a:xfrm>
              <a:off x="693432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 flipV="1">
              <a:off x="727740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4" name=""/>
          <p:cNvGrpSpPr/>
          <p:nvPr/>
        </p:nvGrpSpPr>
        <p:grpSpPr>
          <a:xfrm>
            <a:off x="1714680" y="1965240"/>
            <a:ext cx="685800" cy="507600"/>
            <a:chOff x="1714680" y="1965240"/>
            <a:chExt cx="685800" cy="507600"/>
          </a:xfrm>
        </p:grpSpPr>
        <p:sp>
          <p:nvSpPr>
            <p:cNvPr id="4875" name=""/>
            <p:cNvSpPr/>
            <p:nvPr/>
          </p:nvSpPr>
          <p:spPr>
            <a:xfrm>
              <a:off x="171468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 flipV="1">
              <a:off x="205776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7" name=""/>
          <p:cNvSpPr/>
          <p:nvPr/>
        </p:nvSpPr>
        <p:spPr>
          <a:xfrm>
            <a:off x="1109520" y="1001880"/>
            <a:ext cx="691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ns entering the CCD create electron-hole pairs. The electrons are then attracted towar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ost positive potential in the device where they create ‘charge packets’. Each pack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responds to one pix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8" name=""/>
          <p:cNvSpPr/>
          <p:nvPr/>
        </p:nvSpPr>
        <p:spPr>
          <a:xfrm>
            <a:off x="2819520" y="3276720"/>
            <a:ext cx="75960" cy="91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9" name=""/>
          <p:cNvSpPr/>
          <p:nvPr/>
        </p:nvSpPr>
        <p:spPr>
          <a:xfrm>
            <a:off x="4943520" y="3247920"/>
            <a:ext cx="76320" cy="92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0" name=""/>
          <p:cNvSpPr/>
          <p:nvPr/>
        </p:nvSpPr>
        <p:spPr>
          <a:xfrm>
            <a:off x="2743200" y="3276720"/>
            <a:ext cx="228600" cy="91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"/>
          <p:cNvSpPr/>
          <p:nvPr/>
        </p:nvSpPr>
        <p:spPr>
          <a:xfrm>
            <a:off x="4829040" y="3238560"/>
            <a:ext cx="228600" cy="92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>
            <a:off x="4819680" y="3200400"/>
            <a:ext cx="27936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"/>
          <p:cNvSpPr/>
          <p:nvPr/>
        </p:nvSpPr>
        <p:spPr>
          <a:xfrm>
            <a:off x="1104840" y="1001880"/>
            <a:ext cx="709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following few slides, the implementation of the ‘conveyor belts’ as actual electro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uctures is explained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harge is moved along these conveyor belts by modulating the voltages on the electr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itioned on the surface of the CCD.  In the following illustrations, electrodes colour coded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 held at a positive potential, those coloured black are held at a negative potent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5" name=""/>
          <p:cNvSpPr/>
          <p:nvPr/>
        </p:nvSpPr>
        <p:spPr>
          <a:xfrm>
            <a:off x="3336840" y="4148280"/>
            <a:ext cx="291168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6" name=""/>
          <p:cNvGrpSpPr/>
          <p:nvPr/>
        </p:nvGrpSpPr>
        <p:grpSpPr>
          <a:xfrm>
            <a:off x="4784760" y="3797280"/>
            <a:ext cx="430200" cy="287280"/>
            <a:chOff x="4784760" y="3797280"/>
            <a:chExt cx="430200" cy="287280"/>
          </a:xfrm>
        </p:grpSpPr>
        <p:sp>
          <p:nvSpPr>
            <p:cNvPr id="4887" name=""/>
            <p:cNvSpPr/>
            <p:nvPr/>
          </p:nvSpPr>
          <p:spPr>
            <a:xfrm>
              <a:off x="4784760" y="408456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 flipV="1">
              <a:off x="5000040" y="379728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9" name=""/>
          <p:cNvGrpSpPr/>
          <p:nvPr/>
        </p:nvGrpSpPr>
        <p:grpSpPr>
          <a:xfrm>
            <a:off x="5246640" y="3431880"/>
            <a:ext cx="428760" cy="652320"/>
            <a:chOff x="5246640" y="3431880"/>
            <a:chExt cx="428760" cy="652320"/>
          </a:xfrm>
        </p:grpSpPr>
        <p:sp>
          <p:nvSpPr>
            <p:cNvPr id="4890" name=""/>
            <p:cNvSpPr/>
            <p:nvPr/>
          </p:nvSpPr>
          <p:spPr>
            <a:xfrm>
              <a:off x="5246640" y="408420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 flipV="1">
              <a:off x="5461200" y="343188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2" name=""/>
          <p:cNvGrpSpPr/>
          <p:nvPr/>
        </p:nvGrpSpPr>
        <p:grpSpPr>
          <a:xfrm>
            <a:off x="5715000" y="3049200"/>
            <a:ext cx="430200" cy="1034640"/>
            <a:chOff x="5715000" y="3049200"/>
            <a:chExt cx="430200" cy="1034640"/>
          </a:xfrm>
        </p:grpSpPr>
        <p:sp>
          <p:nvSpPr>
            <p:cNvPr id="4893" name=""/>
            <p:cNvSpPr/>
            <p:nvPr/>
          </p:nvSpPr>
          <p:spPr>
            <a:xfrm>
              <a:off x="5715000" y="408384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 flipV="1">
              <a:off x="5930280" y="304920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5" name=""/>
          <p:cNvSpPr/>
          <p:nvPr/>
        </p:nvSpPr>
        <p:spPr>
          <a:xfrm>
            <a:off x="3225960" y="402732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6" name=""/>
          <p:cNvGrpSpPr/>
          <p:nvPr/>
        </p:nvGrpSpPr>
        <p:grpSpPr>
          <a:xfrm>
            <a:off x="3400560" y="3797280"/>
            <a:ext cx="430200" cy="287280"/>
            <a:chOff x="3400560" y="3797280"/>
            <a:chExt cx="430200" cy="287280"/>
          </a:xfrm>
        </p:grpSpPr>
        <p:sp>
          <p:nvSpPr>
            <p:cNvPr id="4897" name=""/>
            <p:cNvSpPr/>
            <p:nvPr/>
          </p:nvSpPr>
          <p:spPr>
            <a:xfrm>
              <a:off x="3400560" y="408456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 flipV="1">
              <a:off x="3615840" y="379728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9" name=""/>
          <p:cNvGrpSpPr/>
          <p:nvPr/>
        </p:nvGrpSpPr>
        <p:grpSpPr>
          <a:xfrm>
            <a:off x="3862440" y="3431880"/>
            <a:ext cx="428400" cy="652320"/>
            <a:chOff x="3862440" y="3431880"/>
            <a:chExt cx="428400" cy="652320"/>
          </a:xfrm>
        </p:grpSpPr>
        <p:sp>
          <p:nvSpPr>
            <p:cNvPr id="4900" name=""/>
            <p:cNvSpPr/>
            <p:nvPr/>
          </p:nvSpPr>
          <p:spPr>
            <a:xfrm>
              <a:off x="3862440" y="4084200"/>
              <a:ext cx="428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 flipV="1">
              <a:off x="4076640" y="343188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2" name=""/>
          <p:cNvGrpSpPr/>
          <p:nvPr/>
        </p:nvGrpSpPr>
        <p:grpSpPr>
          <a:xfrm>
            <a:off x="4330800" y="3049200"/>
            <a:ext cx="430200" cy="1034640"/>
            <a:chOff x="4330800" y="3049200"/>
            <a:chExt cx="430200" cy="1034640"/>
          </a:xfrm>
        </p:grpSpPr>
        <p:sp>
          <p:nvSpPr>
            <p:cNvPr id="4903" name=""/>
            <p:cNvSpPr/>
            <p:nvPr/>
          </p:nvSpPr>
          <p:spPr>
            <a:xfrm>
              <a:off x="4330800" y="408384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 flipV="1">
              <a:off x="4546080" y="304920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5" name=""/>
          <p:cNvSpPr/>
          <p:nvPr/>
        </p:nvSpPr>
        <p:spPr>
          <a:xfrm>
            <a:off x="3336840" y="4624560"/>
            <a:ext cx="2911680" cy="477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"/>
          <p:cNvSpPr/>
          <p:nvPr/>
        </p:nvSpPr>
        <p:spPr>
          <a:xfrm>
            <a:off x="3495600" y="4529160"/>
            <a:ext cx="247680" cy="95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7" name=""/>
          <p:cNvSpPr/>
          <p:nvPr/>
        </p:nvSpPr>
        <p:spPr>
          <a:xfrm>
            <a:off x="3336840" y="4124160"/>
            <a:ext cx="291168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 flipH="1">
            <a:off x="3225960" y="304956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 flipH="1">
            <a:off x="3225960" y="3432240"/>
            <a:ext cx="223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 flipH="1">
            <a:off x="3225600" y="3797280"/>
            <a:ext cx="1773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"/>
          <p:cNvSpPr/>
          <p:nvPr/>
        </p:nvSpPr>
        <p:spPr>
          <a:xfrm>
            <a:off x="4498920" y="300204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"/>
          <p:cNvSpPr/>
          <p:nvPr/>
        </p:nvSpPr>
        <p:spPr>
          <a:xfrm>
            <a:off x="4029120" y="3376440"/>
            <a:ext cx="9504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"/>
          <p:cNvSpPr/>
          <p:nvPr/>
        </p:nvSpPr>
        <p:spPr>
          <a:xfrm>
            <a:off x="3567240" y="3749760"/>
            <a:ext cx="9684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>
            <a:off x="4784760" y="4433760"/>
            <a:ext cx="422280" cy="190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5" name=""/>
          <p:cNvGrpSpPr/>
          <p:nvPr/>
        </p:nvGrpSpPr>
        <p:grpSpPr>
          <a:xfrm>
            <a:off x="2761920" y="2819520"/>
            <a:ext cx="394920" cy="459720"/>
            <a:chOff x="2761920" y="2819520"/>
            <a:chExt cx="394920" cy="459720"/>
          </a:xfrm>
        </p:grpSpPr>
        <p:grpSp>
          <p:nvGrpSpPr>
            <p:cNvPr id="4916" name=""/>
            <p:cNvGrpSpPr/>
            <p:nvPr/>
          </p:nvGrpSpPr>
          <p:grpSpPr>
            <a:xfrm>
              <a:off x="2761920" y="2949840"/>
              <a:ext cx="114480" cy="228600"/>
              <a:chOff x="2761920" y="2949840"/>
              <a:chExt cx="114480" cy="228600"/>
            </a:xfrm>
          </p:grpSpPr>
          <p:sp>
            <p:nvSpPr>
              <p:cNvPr id="4917" name=""/>
              <p:cNvSpPr/>
              <p:nvPr/>
            </p:nvSpPr>
            <p:spPr>
              <a:xfrm>
                <a:off x="2762280" y="300672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 flipH="1">
                <a:off x="2761920" y="294984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9" name=""/>
            <p:cNvSpPr/>
            <p:nvPr/>
          </p:nvSpPr>
          <p:spPr>
            <a:xfrm>
              <a:off x="2823840" y="28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0" name=""/>
          <p:cNvGrpSpPr/>
          <p:nvPr/>
        </p:nvGrpSpPr>
        <p:grpSpPr>
          <a:xfrm>
            <a:off x="2742840" y="3197160"/>
            <a:ext cx="394920" cy="459720"/>
            <a:chOff x="2742840" y="3197160"/>
            <a:chExt cx="394920" cy="459720"/>
          </a:xfrm>
        </p:grpSpPr>
        <p:grpSp>
          <p:nvGrpSpPr>
            <p:cNvPr id="4921" name=""/>
            <p:cNvGrpSpPr/>
            <p:nvPr/>
          </p:nvGrpSpPr>
          <p:grpSpPr>
            <a:xfrm>
              <a:off x="2742840" y="3327480"/>
              <a:ext cx="114480" cy="228600"/>
              <a:chOff x="2742840" y="3327480"/>
              <a:chExt cx="114480" cy="228600"/>
            </a:xfrm>
          </p:grpSpPr>
          <p:sp>
            <p:nvSpPr>
              <p:cNvPr id="4922" name=""/>
              <p:cNvSpPr/>
              <p:nvPr/>
            </p:nvSpPr>
            <p:spPr>
              <a:xfrm>
                <a:off x="2743200" y="338436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 flipH="1">
                <a:off x="2742840" y="332748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4" name=""/>
            <p:cNvSpPr/>
            <p:nvPr/>
          </p:nvSpPr>
          <p:spPr>
            <a:xfrm>
              <a:off x="2804760" y="3197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5" name=""/>
          <p:cNvGrpSpPr/>
          <p:nvPr/>
        </p:nvGrpSpPr>
        <p:grpSpPr>
          <a:xfrm>
            <a:off x="2743200" y="3540240"/>
            <a:ext cx="411120" cy="459720"/>
            <a:chOff x="2743200" y="3540240"/>
            <a:chExt cx="411120" cy="459720"/>
          </a:xfrm>
        </p:grpSpPr>
        <p:grpSp>
          <p:nvGrpSpPr>
            <p:cNvPr id="4926" name=""/>
            <p:cNvGrpSpPr/>
            <p:nvPr/>
          </p:nvGrpSpPr>
          <p:grpSpPr>
            <a:xfrm>
              <a:off x="2743200" y="3670200"/>
              <a:ext cx="114480" cy="228600"/>
              <a:chOff x="2743200" y="3670200"/>
              <a:chExt cx="114480" cy="228600"/>
            </a:xfrm>
          </p:grpSpPr>
          <p:sp>
            <p:nvSpPr>
              <p:cNvPr id="4927" name=""/>
              <p:cNvSpPr/>
              <p:nvPr/>
            </p:nvSpPr>
            <p:spPr>
              <a:xfrm>
                <a:off x="2743200" y="372708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flipH="1">
                <a:off x="2743200" y="367020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9" name=""/>
            <p:cNvSpPr/>
            <p:nvPr/>
          </p:nvSpPr>
          <p:spPr>
            <a:xfrm>
              <a:off x="2821320" y="3540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0" name=""/>
          <p:cNvSpPr/>
          <p:nvPr/>
        </p:nvSpPr>
        <p:spPr>
          <a:xfrm>
            <a:off x="521964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2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4933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5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4936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8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4939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1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2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4943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5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4946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8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4949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1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1819440" y="4989600"/>
            <a:ext cx="24732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0" name=""/>
          <p:cNvSpPr/>
          <p:nvPr/>
        </p:nvSpPr>
        <p:spPr>
          <a:xfrm>
            <a:off x="3108240" y="4894200"/>
            <a:ext cx="422280" cy="190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1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4962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4963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5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6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4967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4968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0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1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4972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4973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5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6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4977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3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4984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0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4991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7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 flipH="1" flipV="1">
            <a:off x="5486400" y="38098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>
            <a:off x="5949000" y="4267080"/>
            <a:ext cx="196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slice shown in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5" name=""/>
          <p:cNvGrpSpPr/>
          <p:nvPr/>
        </p:nvGrpSpPr>
        <p:grpSpPr>
          <a:xfrm>
            <a:off x="4419360" y="1828800"/>
            <a:ext cx="394920" cy="459720"/>
            <a:chOff x="4419360" y="1828800"/>
            <a:chExt cx="394920" cy="459720"/>
          </a:xfrm>
        </p:grpSpPr>
        <p:grpSp>
          <p:nvGrpSpPr>
            <p:cNvPr id="5006" name=""/>
            <p:cNvGrpSpPr/>
            <p:nvPr/>
          </p:nvGrpSpPr>
          <p:grpSpPr>
            <a:xfrm>
              <a:off x="4419360" y="1959120"/>
              <a:ext cx="114480" cy="228600"/>
              <a:chOff x="4419360" y="1959120"/>
              <a:chExt cx="114480" cy="228600"/>
            </a:xfrm>
          </p:grpSpPr>
          <p:sp>
            <p:nvSpPr>
              <p:cNvPr id="5007" name=""/>
              <p:cNvSpPr/>
              <p:nvPr/>
            </p:nvSpPr>
            <p:spPr>
              <a:xfrm>
                <a:off x="441972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 flipH="1">
                <a:off x="441936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9" name=""/>
            <p:cNvSpPr/>
            <p:nvPr/>
          </p:nvSpPr>
          <p:spPr>
            <a:xfrm>
              <a:off x="44812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0" name=""/>
          <p:cNvGrpSpPr/>
          <p:nvPr/>
        </p:nvGrpSpPr>
        <p:grpSpPr>
          <a:xfrm>
            <a:off x="4419360" y="914400"/>
            <a:ext cx="394920" cy="459720"/>
            <a:chOff x="4419360" y="914400"/>
            <a:chExt cx="394920" cy="459720"/>
          </a:xfrm>
        </p:grpSpPr>
        <p:grpSp>
          <p:nvGrpSpPr>
            <p:cNvPr id="5011" name=""/>
            <p:cNvGrpSpPr/>
            <p:nvPr/>
          </p:nvGrpSpPr>
          <p:grpSpPr>
            <a:xfrm>
              <a:off x="4419360" y="1044720"/>
              <a:ext cx="114480" cy="228600"/>
              <a:chOff x="4419360" y="1044720"/>
              <a:chExt cx="114480" cy="228600"/>
            </a:xfrm>
          </p:grpSpPr>
          <p:sp>
            <p:nvSpPr>
              <p:cNvPr id="5012" name=""/>
              <p:cNvSpPr/>
              <p:nvPr/>
            </p:nvSpPr>
            <p:spPr>
              <a:xfrm>
                <a:off x="4419720" y="11016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 flipH="1">
                <a:off x="4419360" y="10447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4" name=""/>
            <p:cNvSpPr/>
            <p:nvPr/>
          </p:nvSpPr>
          <p:spPr>
            <a:xfrm>
              <a:off x="4481280" y="914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5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016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017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9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0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1" name=""/>
          <p:cNvSpPr/>
          <p:nvPr/>
        </p:nvSpPr>
        <p:spPr>
          <a:xfrm>
            <a:off x="563868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3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024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6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027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9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030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2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3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034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6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037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9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040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2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3" name=""/>
          <p:cNvSpPr/>
          <p:nvPr/>
        </p:nvSpPr>
        <p:spPr>
          <a:xfrm>
            <a:off x="1819440" y="4989600"/>
            <a:ext cx="771480" cy="74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7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9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1" name=""/>
          <p:cNvSpPr/>
          <p:nvPr/>
        </p:nvSpPr>
        <p:spPr>
          <a:xfrm>
            <a:off x="3108240" y="4932360"/>
            <a:ext cx="930240" cy="135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2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053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054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6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7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058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059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1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2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063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064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6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7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068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4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075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1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082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8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9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2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4" name=""/>
          <p:cNvGrpSpPr/>
          <p:nvPr/>
        </p:nvGrpSpPr>
        <p:grpSpPr>
          <a:xfrm>
            <a:off x="4403520" y="1828800"/>
            <a:ext cx="394920" cy="459720"/>
            <a:chOff x="4403520" y="1828800"/>
            <a:chExt cx="394920" cy="459720"/>
          </a:xfrm>
        </p:grpSpPr>
        <p:grpSp>
          <p:nvGrpSpPr>
            <p:cNvPr id="5095" name=""/>
            <p:cNvGrpSpPr/>
            <p:nvPr/>
          </p:nvGrpSpPr>
          <p:grpSpPr>
            <a:xfrm>
              <a:off x="4403520" y="1959120"/>
              <a:ext cx="114480" cy="228600"/>
              <a:chOff x="4403520" y="1959120"/>
              <a:chExt cx="114480" cy="228600"/>
            </a:xfrm>
          </p:grpSpPr>
          <p:sp>
            <p:nvSpPr>
              <p:cNvPr id="5096" name=""/>
              <p:cNvSpPr/>
              <p:nvPr/>
            </p:nvSpPr>
            <p:spPr>
              <a:xfrm>
                <a:off x="440388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 flipH="1">
                <a:off x="440352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8" name=""/>
            <p:cNvSpPr/>
            <p:nvPr/>
          </p:nvSpPr>
          <p:spPr>
            <a:xfrm>
              <a:off x="446544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9" name=""/>
          <p:cNvGrpSpPr/>
          <p:nvPr/>
        </p:nvGrpSpPr>
        <p:grpSpPr>
          <a:xfrm>
            <a:off x="4416120" y="939960"/>
            <a:ext cx="394920" cy="459720"/>
            <a:chOff x="4416120" y="939960"/>
            <a:chExt cx="394920" cy="459720"/>
          </a:xfrm>
        </p:grpSpPr>
        <p:grpSp>
          <p:nvGrpSpPr>
            <p:cNvPr id="5100" name=""/>
            <p:cNvGrpSpPr/>
            <p:nvPr/>
          </p:nvGrpSpPr>
          <p:grpSpPr>
            <a:xfrm>
              <a:off x="4416120" y="1070280"/>
              <a:ext cx="114480" cy="228600"/>
              <a:chOff x="4416120" y="1070280"/>
              <a:chExt cx="114480" cy="228600"/>
            </a:xfrm>
          </p:grpSpPr>
          <p:sp>
            <p:nvSpPr>
              <p:cNvPr id="5101" name=""/>
              <p:cNvSpPr/>
              <p:nvPr/>
            </p:nvSpPr>
            <p:spPr>
              <a:xfrm>
                <a:off x="4416480" y="112716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 flipH="1">
                <a:off x="4416120" y="107028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3" name=""/>
            <p:cNvSpPr/>
            <p:nvPr/>
          </p:nvSpPr>
          <p:spPr>
            <a:xfrm>
              <a:off x="4478040" y="93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4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105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106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8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9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"/>
          <p:cNvSpPr/>
          <p:nvPr/>
        </p:nvSpPr>
        <p:spPr>
          <a:xfrm>
            <a:off x="606744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2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113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5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116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8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119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1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2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123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5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126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8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129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1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"/>
          <p:cNvSpPr/>
          <p:nvPr/>
        </p:nvSpPr>
        <p:spPr>
          <a:xfrm>
            <a:off x="2247840" y="4989600"/>
            <a:ext cx="24768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3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6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7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8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"/>
          <p:cNvSpPr/>
          <p:nvPr/>
        </p:nvSpPr>
        <p:spPr>
          <a:xfrm>
            <a:off x="3581280" y="4894200"/>
            <a:ext cx="422280" cy="190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1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142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143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5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6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147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148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0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1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152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153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5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6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157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3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164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0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171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7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3" name=""/>
          <p:cNvGrpSpPr/>
          <p:nvPr/>
        </p:nvGrpSpPr>
        <p:grpSpPr>
          <a:xfrm>
            <a:off x="4419360" y="1828800"/>
            <a:ext cx="394920" cy="459720"/>
            <a:chOff x="4419360" y="1828800"/>
            <a:chExt cx="394920" cy="459720"/>
          </a:xfrm>
        </p:grpSpPr>
        <p:grpSp>
          <p:nvGrpSpPr>
            <p:cNvPr id="5184" name=""/>
            <p:cNvGrpSpPr/>
            <p:nvPr/>
          </p:nvGrpSpPr>
          <p:grpSpPr>
            <a:xfrm>
              <a:off x="4419360" y="1959120"/>
              <a:ext cx="114480" cy="228600"/>
              <a:chOff x="4419360" y="1959120"/>
              <a:chExt cx="114480" cy="228600"/>
            </a:xfrm>
          </p:grpSpPr>
          <p:sp>
            <p:nvSpPr>
              <p:cNvPr id="5185" name=""/>
              <p:cNvSpPr/>
              <p:nvPr/>
            </p:nvSpPr>
            <p:spPr>
              <a:xfrm>
                <a:off x="441972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 flipH="1">
                <a:off x="441936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7" name=""/>
            <p:cNvSpPr/>
            <p:nvPr/>
          </p:nvSpPr>
          <p:spPr>
            <a:xfrm>
              <a:off x="44812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8" name=""/>
          <p:cNvGrpSpPr/>
          <p:nvPr/>
        </p:nvGrpSpPr>
        <p:grpSpPr>
          <a:xfrm>
            <a:off x="4419360" y="914400"/>
            <a:ext cx="394920" cy="459720"/>
            <a:chOff x="4419360" y="914400"/>
            <a:chExt cx="394920" cy="459720"/>
          </a:xfrm>
        </p:grpSpPr>
        <p:grpSp>
          <p:nvGrpSpPr>
            <p:cNvPr id="5189" name=""/>
            <p:cNvGrpSpPr/>
            <p:nvPr/>
          </p:nvGrpSpPr>
          <p:grpSpPr>
            <a:xfrm>
              <a:off x="4419360" y="1044720"/>
              <a:ext cx="114480" cy="228600"/>
              <a:chOff x="4419360" y="1044720"/>
              <a:chExt cx="114480" cy="228600"/>
            </a:xfrm>
          </p:grpSpPr>
          <p:sp>
            <p:nvSpPr>
              <p:cNvPr id="5190" name=""/>
              <p:cNvSpPr/>
              <p:nvPr/>
            </p:nvSpPr>
            <p:spPr>
              <a:xfrm>
                <a:off x="4419720" y="11016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 flipH="1">
                <a:off x="4419360" y="10447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2" name=""/>
            <p:cNvSpPr/>
            <p:nvPr/>
          </p:nvSpPr>
          <p:spPr>
            <a:xfrm>
              <a:off x="4481280" y="914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3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194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195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7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8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9" name=""/>
          <p:cNvSpPr/>
          <p:nvPr/>
        </p:nvSpPr>
        <p:spPr>
          <a:xfrm>
            <a:off x="6477120" y="609480"/>
            <a:ext cx="30456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1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202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4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205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7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208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0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1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212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4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215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7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218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0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"/>
          <p:cNvSpPr/>
          <p:nvPr/>
        </p:nvSpPr>
        <p:spPr>
          <a:xfrm>
            <a:off x="2276640" y="4989600"/>
            <a:ext cx="771480" cy="74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>
            <a:off x="3565440" y="4932360"/>
            <a:ext cx="930240" cy="135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0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231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232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4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5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236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237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9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0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241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242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4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5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246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2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253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9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260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6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9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2" name=""/>
          <p:cNvGrpSpPr/>
          <p:nvPr/>
        </p:nvGrpSpPr>
        <p:grpSpPr>
          <a:xfrm>
            <a:off x="4403520" y="1828800"/>
            <a:ext cx="394920" cy="459720"/>
            <a:chOff x="4403520" y="1828800"/>
            <a:chExt cx="394920" cy="459720"/>
          </a:xfrm>
        </p:grpSpPr>
        <p:grpSp>
          <p:nvGrpSpPr>
            <p:cNvPr id="5273" name=""/>
            <p:cNvGrpSpPr/>
            <p:nvPr/>
          </p:nvGrpSpPr>
          <p:grpSpPr>
            <a:xfrm>
              <a:off x="4403520" y="1959120"/>
              <a:ext cx="114480" cy="228600"/>
              <a:chOff x="4403520" y="1959120"/>
              <a:chExt cx="114480" cy="228600"/>
            </a:xfrm>
          </p:grpSpPr>
          <p:sp>
            <p:nvSpPr>
              <p:cNvPr id="5274" name=""/>
              <p:cNvSpPr/>
              <p:nvPr/>
            </p:nvSpPr>
            <p:spPr>
              <a:xfrm>
                <a:off x="440388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 flipH="1">
                <a:off x="440352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6" name=""/>
            <p:cNvSpPr/>
            <p:nvPr/>
          </p:nvSpPr>
          <p:spPr>
            <a:xfrm>
              <a:off x="446544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7" name=""/>
          <p:cNvGrpSpPr/>
          <p:nvPr/>
        </p:nvGrpSpPr>
        <p:grpSpPr>
          <a:xfrm>
            <a:off x="4416120" y="939960"/>
            <a:ext cx="394920" cy="459720"/>
            <a:chOff x="4416120" y="939960"/>
            <a:chExt cx="394920" cy="459720"/>
          </a:xfrm>
        </p:grpSpPr>
        <p:grpSp>
          <p:nvGrpSpPr>
            <p:cNvPr id="5278" name=""/>
            <p:cNvGrpSpPr/>
            <p:nvPr/>
          </p:nvGrpSpPr>
          <p:grpSpPr>
            <a:xfrm>
              <a:off x="4416120" y="1070280"/>
              <a:ext cx="114480" cy="228600"/>
              <a:chOff x="4416120" y="1070280"/>
              <a:chExt cx="114480" cy="228600"/>
            </a:xfrm>
          </p:grpSpPr>
          <p:sp>
            <p:nvSpPr>
              <p:cNvPr id="5279" name=""/>
              <p:cNvSpPr/>
              <p:nvPr/>
            </p:nvSpPr>
            <p:spPr>
              <a:xfrm>
                <a:off x="4416480" y="112716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 flipH="1">
                <a:off x="4416120" y="107028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1" name=""/>
            <p:cNvSpPr/>
            <p:nvPr/>
          </p:nvSpPr>
          <p:spPr>
            <a:xfrm>
              <a:off x="4478040" y="93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2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283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284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6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7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8" name=""/>
          <p:cNvSpPr/>
          <p:nvPr/>
        </p:nvSpPr>
        <p:spPr>
          <a:xfrm>
            <a:off x="6934320" y="609480"/>
            <a:ext cx="30456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0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291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3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294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6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297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9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0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301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3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304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6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307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9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0" name=""/>
          <p:cNvSpPr/>
          <p:nvPr/>
        </p:nvSpPr>
        <p:spPr>
          <a:xfrm>
            <a:off x="2724120" y="4989600"/>
            <a:ext cx="24768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4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4073400" y="4894200"/>
            <a:ext cx="422280" cy="190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9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320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321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3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4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325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326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8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9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330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331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3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4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335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1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342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8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349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5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8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0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1" name=""/>
          <p:cNvGrpSpPr/>
          <p:nvPr/>
        </p:nvGrpSpPr>
        <p:grpSpPr>
          <a:xfrm>
            <a:off x="4419360" y="1828800"/>
            <a:ext cx="394920" cy="459720"/>
            <a:chOff x="4419360" y="1828800"/>
            <a:chExt cx="394920" cy="459720"/>
          </a:xfrm>
        </p:grpSpPr>
        <p:grpSp>
          <p:nvGrpSpPr>
            <p:cNvPr id="5362" name=""/>
            <p:cNvGrpSpPr/>
            <p:nvPr/>
          </p:nvGrpSpPr>
          <p:grpSpPr>
            <a:xfrm>
              <a:off x="4419360" y="1959120"/>
              <a:ext cx="114480" cy="228600"/>
              <a:chOff x="4419360" y="1959120"/>
              <a:chExt cx="114480" cy="228600"/>
            </a:xfrm>
          </p:grpSpPr>
          <p:sp>
            <p:nvSpPr>
              <p:cNvPr id="5363" name=""/>
              <p:cNvSpPr/>
              <p:nvPr/>
            </p:nvSpPr>
            <p:spPr>
              <a:xfrm>
                <a:off x="441972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 flipH="1">
                <a:off x="441936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5" name=""/>
            <p:cNvSpPr/>
            <p:nvPr/>
          </p:nvSpPr>
          <p:spPr>
            <a:xfrm>
              <a:off x="44812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6" name=""/>
          <p:cNvGrpSpPr/>
          <p:nvPr/>
        </p:nvGrpSpPr>
        <p:grpSpPr>
          <a:xfrm>
            <a:off x="4419360" y="914400"/>
            <a:ext cx="394920" cy="459720"/>
            <a:chOff x="4419360" y="914400"/>
            <a:chExt cx="394920" cy="459720"/>
          </a:xfrm>
        </p:grpSpPr>
        <p:grpSp>
          <p:nvGrpSpPr>
            <p:cNvPr id="5367" name=""/>
            <p:cNvGrpSpPr/>
            <p:nvPr/>
          </p:nvGrpSpPr>
          <p:grpSpPr>
            <a:xfrm>
              <a:off x="4419360" y="1044720"/>
              <a:ext cx="114480" cy="228600"/>
              <a:chOff x="4419360" y="1044720"/>
              <a:chExt cx="114480" cy="228600"/>
            </a:xfrm>
          </p:grpSpPr>
          <p:sp>
            <p:nvSpPr>
              <p:cNvPr id="5368" name=""/>
              <p:cNvSpPr/>
              <p:nvPr/>
            </p:nvSpPr>
            <p:spPr>
              <a:xfrm>
                <a:off x="4419720" y="11016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 flipH="1">
                <a:off x="4419360" y="10447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0" name=""/>
            <p:cNvSpPr/>
            <p:nvPr/>
          </p:nvSpPr>
          <p:spPr>
            <a:xfrm>
              <a:off x="4481280" y="914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1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372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373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5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6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7" name=""/>
          <p:cNvSpPr/>
          <p:nvPr/>
        </p:nvSpPr>
        <p:spPr>
          <a:xfrm>
            <a:off x="736272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9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380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2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383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5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386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8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9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390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2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393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5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396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8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>
            <a:off x="2743200" y="4989600"/>
            <a:ext cx="771480" cy="74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4098960" y="4932360"/>
            <a:ext cx="930240" cy="135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8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409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410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2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3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414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415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7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8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419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420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2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3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424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0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431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7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438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4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0" name=""/>
          <p:cNvGrpSpPr/>
          <p:nvPr/>
        </p:nvGrpSpPr>
        <p:grpSpPr>
          <a:xfrm>
            <a:off x="4403520" y="1828800"/>
            <a:ext cx="394920" cy="459720"/>
            <a:chOff x="4403520" y="1828800"/>
            <a:chExt cx="394920" cy="459720"/>
          </a:xfrm>
        </p:grpSpPr>
        <p:grpSp>
          <p:nvGrpSpPr>
            <p:cNvPr id="5451" name=""/>
            <p:cNvGrpSpPr/>
            <p:nvPr/>
          </p:nvGrpSpPr>
          <p:grpSpPr>
            <a:xfrm>
              <a:off x="4403520" y="1959120"/>
              <a:ext cx="114480" cy="228600"/>
              <a:chOff x="4403520" y="1959120"/>
              <a:chExt cx="114480" cy="228600"/>
            </a:xfrm>
          </p:grpSpPr>
          <p:sp>
            <p:nvSpPr>
              <p:cNvPr id="5452" name=""/>
              <p:cNvSpPr/>
              <p:nvPr/>
            </p:nvSpPr>
            <p:spPr>
              <a:xfrm>
                <a:off x="440388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 flipH="1">
                <a:off x="440352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4" name=""/>
            <p:cNvSpPr/>
            <p:nvPr/>
          </p:nvSpPr>
          <p:spPr>
            <a:xfrm>
              <a:off x="446544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5" name=""/>
          <p:cNvGrpSpPr/>
          <p:nvPr/>
        </p:nvGrpSpPr>
        <p:grpSpPr>
          <a:xfrm>
            <a:off x="4416120" y="939960"/>
            <a:ext cx="394920" cy="459720"/>
            <a:chOff x="4416120" y="939960"/>
            <a:chExt cx="394920" cy="459720"/>
          </a:xfrm>
        </p:grpSpPr>
        <p:grpSp>
          <p:nvGrpSpPr>
            <p:cNvPr id="5456" name=""/>
            <p:cNvGrpSpPr/>
            <p:nvPr/>
          </p:nvGrpSpPr>
          <p:grpSpPr>
            <a:xfrm>
              <a:off x="4416120" y="1070280"/>
              <a:ext cx="114480" cy="228600"/>
              <a:chOff x="4416120" y="1070280"/>
              <a:chExt cx="114480" cy="228600"/>
            </a:xfrm>
          </p:grpSpPr>
          <p:sp>
            <p:nvSpPr>
              <p:cNvPr id="5457" name=""/>
              <p:cNvSpPr/>
              <p:nvPr/>
            </p:nvSpPr>
            <p:spPr>
              <a:xfrm>
                <a:off x="4416480" y="112716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 flipH="1">
                <a:off x="4416120" y="107028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9" name=""/>
            <p:cNvSpPr/>
            <p:nvPr/>
          </p:nvSpPr>
          <p:spPr>
            <a:xfrm>
              <a:off x="4478040" y="93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0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461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462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4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5" name=""/>
          <p:cNvSpPr/>
          <p:nvPr/>
        </p:nvSpPr>
        <p:spPr>
          <a:xfrm>
            <a:off x="1285920" y="4876920"/>
            <a:ext cx="771480" cy="311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6" name=""/>
          <p:cNvSpPr/>
          <p:nvPr/>
        </p:nvSpPr>
        <p:spPr>
          <a:xfrm>
            <a:off x="5057640" y="500076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"/>
          <p:cNvSpPr/>
          <p:nvPr/>
        </p:nvSpPr>
        <p:spPr>
          <a:xfrm>
            <a:off x="628560" y="50101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"/>
          <p:cNvSpPr/>
          <p:nvPr/>
        </p:nvSpPr>
        <p:spPr>
          <a:xfrm>
            <a:off x="585360" y="1459080"/>
            <a:ext cx="332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packet from subsequent pixel en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left as first pixel exits to the rig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2496960" y="2336400"/>
            <a:ext cx="3620880" cy="1800720"/>
            <a:chOff x="2496960" y="2336400"/>
            <a:chExt cx="3620880" cy="1800720"/>
          </a:xfrm>
        </p:grpSpPr>
        <p:sp>
          <p:nvSpPr>
            <p:cNvPr id="448" name=""/>
            <p:cNvSpPr/>
            <p:nvPr/>
          </p:nvSpPr>
          <p:spPr>
            <a:xfrm flipV="1">
              <a:off x="3900960" y="235260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26800" y="362628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3435480" y="3592800"/>
              <a:ext cx="325440" cy="544320"/>
              <a:chOff x="3435480" y="3592800"/>
              <a:chExt cx="325440" cy="544320"/>
            </a:xfrm>
          </p:grpSpPr>
          <p:sp>
            <p:nvSpPr>
              <p:cNvPr id="451" name=""/>
              <p:cNvSpPr/>
              <p:nvPr/>
            </p:nvSpPr>
            <p:spPr>
              <a:xfrm>
                <a:off x="3435480" y="362556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552120" y="359280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 flipH="1">
              <a:off x="3541320" y="407736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48800" y="357408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3507120" y="234720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95800" y="234432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869360" y="234360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815360" y="234000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4859640" y="272304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42720" y="264312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3947400" y="271908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839120" y="237492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64960" y="362448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4373640" y="3591000"/>
              <a:ext cx="325080" cy="544320"/>
              <a:chOff x="4373640" y="3591000"/>
              <a:chExt cx="325080" cy="544320"/>
            </a:xfrm>
          </p:grpSpPr>
          <p:sp>
            <p:nvSpPr>
              <p:cNvPr id="465" name=""/>
              <p:cNvSpPr/>
              <p:nvPr/>
            </p:nvSpPr>
            <p:spPr>
              <a:xfrm>
                <a:off x="4373640" y="362376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490280" y="359100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 flipH="1">
              <a:off x="4479480" y="407556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90920" y="357228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437720" y="235980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942080" y="271008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06160" y="23421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689440" y="27208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83320" y="265428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4885200" y="272664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2962080" y="235116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88280" y="362376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2496960" y="3588480"/>
              <a:ext cx="325440" cy="544320"/>
              <a:chOff x="2496960" y="3588480"/>
              <a:chExt cx="325440" cy="544320"/>
            </a:xfrm>
          </p:grpSpPr>
          <p:sp>
            <p:nvSpPr>
              <p:cNvPr id="478" name=""/>
              <p:cNvSpPr/>
              <p:nvPr/>
            </p:nvSpPr>
            <p:spPr>
              <a:xfrm>
                <a:off x="2496960" y="362088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613600" y="358848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 flipH="1">
              <a:off x="2602800" y="407484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09920" y="356652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2576160" y="234900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059640" y="270432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65640" y="23418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flipV="1">
              <a:off x="4029840" y="233640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975840" y="233784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4019040" y="271980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90960" y="263556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3008160" y="272232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996720" y="269532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722200" y="233964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682600" y="233712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138400" y="4244760"/>
            <a:ext cx="2872800" cy="781200"/>
            <a:chOff x="2138400" y="4244760"/>
            <a:chExt cx="2872800" cy="781200"/>
          </a:xfrm>
        </p:grpSpPr>
        <p:sp>
          <p:nvSpPr>
            <p:cNvPr id="494" name=""/>
            <p:cNvSpPr/>
            <p:nvPr/>
          </p:nvSpPr>
          <p:spPr>
            <a:xfrm>
              <a:off x="2138400" y="4466160"/>
              <a:ext cx="344880" cy="454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222280" y="4263120"/>
              <a:ext cx="289800" cy="23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2517120" y="424476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4599000" y="4283280"/>
              <a:ext cx="412200" cy="635040"/>
              <a:chOff x="4599000" y="4283280"/>
              <a:chExt cx="412200" cy="635040"/>
            </a:xfrm>
          </p:grpSpPr>
          <p:sp>
            <p:nvSpPr>
              <p:cNvPr id="498" name=""/>
              <p:cNvSpPr/>
              <p:nvPr/>
            </p:nvSpPr>
            <p:spPr>
              <a:xfrm>
                <a:off x="4666680" y="434700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283280"/>
                <a:ext cx="241560" cy="63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4392360" y="4563360"/>
              <a:ext cx="344520" cy="454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622600" y="424584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82960" y="471960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4642200" y="476712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2302200" y="492588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16840" y="471024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2412360" y="469836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8900000">
              <a:off x="2307240" y="440892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90560" y="441144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2314800" y="446076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940120" y="3119400"/>
            <a:ext cx="296280" cy="282240"/>
            <a:chOff x="2940120" y="3119400"/>
            <a:chExt cx="296280" cy="282240"/>
          </a:xfrm>
        </p:grpSpPr>
        <p:sp>
          <p:nvSpPr>
            <p:cNvPr id="511" name=""/>
            <p:cNvSpPr/>
            <p:nvPr/>
          </p:nvSpPr>
          <p:spPr>
            <a:xfrm>
              <a:off x="2950920" y="328896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40120" y="3180600"/>
              <a:ext cx="294120" cy="1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42640" y="3119400"/>
              <a:ext cx="289080" cy="11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43720" y="3179880"/>
              <a:ext cx="5400" cy="1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226680" y="317664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462040" y="2421000"/>
            <a:ext cx="29556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4745160" y="3121200"/>
            <a:ext cx="296280" cy="282240"/>
            <a:chOff x="4745160" y="3121200"/>
            <a:chExt cx="296280" cy="282240"/>
          </a:xfrm>
        </p:grpSpPr>
        <p:sp>
          <p:nvSpPr>
            <p:cNvPr id="518" name=""/>
            <p:cNvSpPr/>
            <p:nvPr/>
          </p:nvSpPr>
          <p:spPr>
            <a:xfrm>
              <a:off x="4756320" y="329076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45160" y="3182040"/>
              <a:ext cx="294120" cy="1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47680" y="3121200"/>
              <a:ext cx="289080" cy="11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48760" y="3181680"/>
              <a:ext cx="5400" cy="1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5031720" y="317844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851280" y="3121200"/>
            <a:ext cx="296280" cy="282240"/>
            <a:chOff x="3851280" y="3121200"/>
            <a:chExt cx="296280" cy="282240"/>
          </a:xfrm>
        </p:grpSpPr>
        <p:sp>
          <p:nvSpPr>
            <p:cNvPr id="524" name=""/>
            <p:cNvSpPr/>
            <p:nvPr/>
          </p:nvSpPr>
          <p:spPr>
            <a:xfrm>
              <a:off x="3862080" y="329076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51280" y="3182040"/>
              <a:ext cx="294480" cy="1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853440" y="3121200"/>
              <a:ext cx="289800" cy="11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54880" y="3181680"/>
              <a:ext cx="5400" cy="1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137840" y="317844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091120" y="2766960"/>
            <a:ext cx="280800" cy="274680"/>
            <a:chOff x="5091120" y="2766960"/>
            <a:chExt cx="280800" cy="274680"/>
          </a:xfrm>
        </p:grpSpPr>
        <p:sp>
          <p:nvSpPr>
            <p:cNvPr id="530" name=""/>
            <p:cNvSpPr/>
            <p:nvPr/>
          </p:nvSpPr>
          <p:spPr>
            <a:xfrm>
              <a:off x="5101560" y="2931840"/>
              <a:ext cx="2606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91120" y="2826000"/>
              <a:ext cx="2786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93280" y="2766960"/>
              <a:ext cx="27396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94720" y="282564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5362200" y="282240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208400" y="2766960"/>
            <a:ext cx="278640" cy="274680"/>
            <a:chOff x="4208400" y="2766960"/>
            <a:chExt cx="278640" cy="274680"/>
          </a:xfrm>
        </p:grpSpPr>
        <p:sp>
          <p:nvSpPr>
            <p:cNvPr id="536" name=""/>
            <p:cNvSpPr/>
            <p:nvPr/>
          </p:nvSpPr>
          <p:spPr>
            <a:xfrm>
              <a:off x="4218840" y="293184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208400" y="282600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10920" y="276696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212000" y="282564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4477320" y="282240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3305160" y="2766960"/>
            <a:ext cx="278640" cy="274680"/>
            <a:chOff x="3305160" y="2766960"/>
            <a:chExt cx="278640" cy="274680"/>
          </a:xfrm>
        </p:grpSpPr>
        <p:sp>
          <p:nvSpPr>
            <p:cNvPr id="542" name=""/>
            <p:cNvSpPr/>
            <p:nvPr/>
          </p:nvSpPr>
          <p:spPr>
            <a:xfrm>
              <a:off x="3315600" y="293184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05160" y="282600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07680" y="276696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08760" y="282564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3574080" y="282240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3641760" y="2479680"/>
            <a:ext cx="257040" cy="252360"/>
            <a:chOff x="3641760" y="2479680"/>
            <a:chExt cx="257040" cy="252360"/>
          </a:xfrm>
        </p:grpSpPr>
        <p:sp>
          <p:nvSpPr>
            <p:cNvPr id="548" name=""/>
            <p:cNvSpPr/>
            <p:nvPr/>
          </p:nvSpPr>
          <p:spPr>
            <a:xfrm>
              <a:off x="3651480" y="263124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641760" y="253404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44280" y="247968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45360" y="253404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3889440" y="25308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4524480" y="2479680"/>
            <a:ext cx="257760" cy="252360"/>
            <a:chOff x="4524480" y="2479680"/>
            <a:chExt cx="257760" cy="252360"/>
          </a:xfrm>
        </p:grpSpPr>
        <p:sp>
          <p:nvSpPr>
            <p:cNvPr id="554" name=""/>
            <p:cNvSpPr/>
            <p:nvPr/>
          </p:nvSpPr>
          <p:spPr>
            <a:xfrm>
              <a:off x="4534200" y="2631240"/>
              <a:ext cx="23904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24480" y="2534040"/>
              <a:ext cx="25596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27000" y="2479680"/>
              <a:ext cx="25092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528080" y="25340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4773240" y="253080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372280" y="2479680"/>
            <a:ext cx="256320" cy="252360"/>
            <a:chOff x="5372280" y="2479680"/>
            <a:chExt cx="256320" cy="252360"/>
          </a:xfrm>
        </p:grpSpPr>
        <p:sp>
          <p:nvSpPr>
            <p:cNvPr id="560" name=""/>
            <p:cNvSpPr/>
            <p:nvPr/>
          </p:nvSpPr>
          <p:spPr>
            <a:xfrm>
              <a:off x="5382000" y="263124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372280" y="253404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74440" y="247968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375880" y="253404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5619600" y="253080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2530440" y="4137120"/>
            <a:ext cx="326880" cy="304560"/>
            <a:chOff x="2530440" y="4137120"/>
            <a:chExt cx="326880" cy="304560"/>
          </a:xfrm>
        </p:grpSpPr>
        <p:sp>
          <p:nvSpPr>
            <p:cNvPr id="566" name=""/>
            <p:cNvSpPr/>
            <p:nvPr/>
          </p:nvSpPr>
          <p:spPr>
            <a:xfrm>
              <a:off x="2541960" y="432000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30440" y="420300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32600" y="413712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34040" y="420228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2846880" y="419868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3416400" y="4151160"/>
            <a:ext cx="326520" cy="304560"/>
            <a:chOff x="3416400" y="4151160"/>
            <a:chExt cx="326520" cy="304560"/>
          </a:xfrm>
        </p:grpSpPr>
        <p:sp>
          <p:nvSpPr>
            <p:cNvPr id="572" name=""/>
            <p:cNvSpPr/>
            <p:nvPr/>
          </p:nvSpPr>
          <p:spPr>
            <a:xfrm>
              <a:off x="3427920" y="43340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16400" y="421704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18920" y="415116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20000" y="42163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732480" y="42127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4352760" y="4175280"/>
            <a:ext cx="326880" cy="306000"/>
            <a:chOff x="4352760" y="4175280"/>
            <a:chExt cx="326880" cy="306000"/>
          </a:xfrm>
        </p:grpSpPr>
        <p:sp>
          <p:nvSpPr>
            <p:cNvPr id="578" name=""/>
            <p:cNvSpPr/>
            <p:nvPr/>
          </p:nvSpPr>
          <p:spPr>
            <a:xfrm>
              <a:off x="4364280" y="4358880"/>
              <a:ext cx="30492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352760" y="424152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55280" y="4175280"/>
              <a:ext cx="31968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56360" y="424080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4669200" y="4236840"/>
              <a:ext cx="10440" cy="18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4863960" y="5210280"/>
            <a:ext cx="497880" cy="492120"/>
            <a:chOff x="4863960" y="5210280"/>
            <a:chExt cx="497880" cy="492120"/>
          </a:xfrm>
        </p:grpSpPr>
        <p:sp>
          <p:nvSpPr>
            <p:cNvPr id="584" name=""/>
            <p:cNvSpPr/>
            <p:nvPr/>
          </p:nvSpPr>
          <p:spPr>
            <a:xfrm>
              <a:off x="4880520" y="550368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63960" y="531756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66480" y="521028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68280" y="531504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348520" y="530856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105520" y="5446800"/>
            <a:ext cx="60120" cy="247680"/>
            <a:chOff x="5105520" y="5446800"/>
            <a:chExt cx="60120" cy="247680"/>
          </a:xfrm>
        </p:grpSpPr>
        <p:sp>
          <p:nvSpPr>
            <p:cNvPr id="590" name=""/>
            <p:cNvSpPr/>
            <p:nvPr/>
          </p:nvSpPr>
          <p:spPr>
            <a:xfrm>
              <a:off x="5105520" y="544680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8040" y="54687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08040" y="5499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108040" y="552672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08040" y="55551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08040" y="558612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108040" y="56145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08040" y="56426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08040" y="56685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3035160" y="10065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122800" y="431640"/>
            <a:ext cx="0" cy="1725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479920" y="55260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798720" y="7113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417920" y="66204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41640" y="13161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543480" y="601560"/>
            <a:ext cx="0" cy="1725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14800" y="404640"/>
            <a:ext cx="0" cy="1725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7400" y="1447920"/>
            <a:ext cx="1414080" cy="22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IN 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HOTO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3116160" y="2525760"/>
            <a:ext cx="177840" cy="210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81080" y="2239920"/>
            <a:ext cx="167184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CKETS (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IXEL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769000" y="1861920"/>
            <a:ext cx="25200" cy="41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09720" y="1219320"/>
            <a:ext cx="137592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Y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CD COLUM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5133960" y="2057040"/>
            <a:ext cx="27612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801880" y="5018040"/>
            <a:ext cx="239760" cy="301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10760" y="5365800"/>
            <a:ext cx="17157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VEYOR BEL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ERIAL REGI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5520" y="4927680"/>
            <a:ext cx="11167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LI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MPLIFI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69000" y="142092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338720" y="10065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171960" y="13161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7840" y="457200"/>
            <a:ext cx="19317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D Ana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0" name=""/>
          <p:cNvSpPr/>
          <p:nvPr/>
        </p:nvSpPr>
        <p:spPr>
          <a:xfrm>
            <a:off x="775332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1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2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473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5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476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8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479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1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2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483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5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486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8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489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1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"/>
          <p:cNvSpPr/>
          <p:nvPr/>
        </p:nvSpPr>
        <p:spPr>
          <a:xfrm>
            <a:off x="3200400" y="4971960"/>
            <a:ext cx="247680" cy="95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3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4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5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8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9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>
            <a:off x="1711440" y="4886280"/>
            <a:ext cx="422280" cy="266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1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502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503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5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6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507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508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0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1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512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513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5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6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517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3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524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0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531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7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9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1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3" name=""/>
          <p:cNvGrpSpPr/>
          <p:nvPr/>
        </p:nvGrpSpPr>
        <p:grpSpPr>
          <a:xfrm>
            <a:off x="4419360" y="1828800"/>
            <a:ext cx="394920" cy="459720"/>
            <a:chOff x="4419360" y="1828800"/>
            <a:chExt cx="394920" cy="459720"/>
          </a:xfrm>
        </p:grpSpPr>
        <p:grpSp>
          <p:nvGrpSpPr>
            <p:cNvPr id="5544" name=""/>
            <p:cNvGrpSpPr/>
            <p:nvPr/>
          </p:nvGrpSpPr>
          <p:grpSpPr>
            <a:xfrm>
              <a:off x="4419360" y="1959120"/>
              <a:ext cx="114480" cy="228600"/>
              <a:chOff x="4419360" y="1959120"/>
              <a:chExt cx="114480" cy="228600"/>
            </a:xfrm>
          </p:grpSpPr>
          <p:sp>
            <p:nvSpPr>
              <p:cNvPr id="5545" name=""/>
              <p:cNvSpPr/>
              <p:nvPr/>
            </p:nvSpPr>
            <p:spPr>
              <a:xfrm>
                <a:off x="441972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 flipH="1">
                <a:off x="441936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7" name=""/>
            <p:cNvSpPr/>
            <p:nvPr/>
          </p:nvSpPr>
          <p:spPr>
            <a:xfrm>
              <a:off x="44812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8" name=""/>
          <p:cNvGrpSpPr/>
          <p:nvPr/>
        </p:nvGrpSpPr>
        <p:grpSpPr>
          <a:xfrm>
            <a:off x="4419360" y="914400"/>
            <a:ext cx="394920" cy="459720"/>
            <a:chOff x="4419360" y="914400"/>
            <a:chExt cx="394920" cy="459720"/>
          </a:xfrm>
        </p:grpSpPr>
        <p:grpSp>
          <p:nvGrpSpPr>
            <p:cNvPr id="5549" name=""/>
            <p:cNvGrpSpPr/>
            <p:nvPr/>
          </p:nvGrpSpPr>
          <p:grpSpPr>
            <a:xfrm>
              <a:off x="4419360" y="1044720"/>
              <a:ext cx="114480" cy="228600"/>
              <a:chOff x="4419360" y="1044720"/>
              <a:chExt cx="114480" cy="228600"/>
            </a:xfrm>
          </p:grpSpPr>
          <p:sp>
            <p:nvSpPr>
              <p:cNvPr id="5550" name=""/>
              <p:cNvSpPr/>
              <p:nvPr/>
            </p:nvSpPr>
            <p:spPr>
              <a:xfrm>
                <a:off x="4419720" y="11016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 flipH="1">
                <a:off x="4419360" y="10447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2" name=""/>
            <p:cNvSpPr/>
            <p:nvPr/>
          </p:nvSpPr>
          <p:spPr>
            <a:xfrm>
              <a:off x="4481280" y="914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3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554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555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7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8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9" name=""/>
          <p:cNvSpPr/>
          <p:nvPr/>
        </p:nvSpPr>
        <p:spPr>
          <a:xfrm>
            <a:off x="803160" y="4546440"/>
            <a:ext cx="175284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0" name=""/>
          <p:cNvSpPr/>
          <p:nvPr/>
        </p:nvSpPr>
        <p:spPr>
          <a:xfrm>
            <a:off x="3051720" y="152280"/>
            <a:ext cx="28339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Chip Amplifier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"/>
          <p:cNvSpPr/>
          <p:nvPr/>
        </p:nvSpPr>
        <p:spPr>
          <a:xfrm>
            <a:off x="2865600" y="3962520"/>
            <a:ext cx="75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"/>
          <p:cNvSpPr/>
          <p:nvPr/>
        </p:nvSpPr>
        <p:spPr>
          <a:xfrm>
            <a:off x="2784600" y="4038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3" name=""/>
          <p:cNvSpPr/>
          <p:nvPr/>
        </p:nvSpPr>
        <p:spPr>
          <a:xfrm flipH="1">
            <a:off x="232740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4" name=""/>
          <p:cNvGrpSpPr/>
          <p:nvPr/>
        </p:nvGrpSpPr>
        <p:grpSpPr>
          <a:xfrm>
            <a:off x="2936520" y="4419720"/>
            <a:ext cx="152280" cy="685800"/>
            <a:chOff x="2936520" y="4419720"/>
            <a:chExt cx="152280" cy="685800"/>
          </a:xfrm>
        </p:grpSpPr>
        <p:sp>
          <p:nvSpPr>
            <p:cNvPr id="5565" name=""/>
            <p:cNvSpPr/>
            <p:nvPr/>
          </p:nvSpPr>
          <p:spPr>
            <a:xfrm>
              <a:off x="3079800" y="4419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 flipH="1">
              <a:off x="2936520" y="4428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7" name=""/>
          <p:cNvSpPr/>
          <p:nvPr/>
        </p:nvSpPr>
        <p:spPr>
          <a:xfrm>
            <a:off x="2398680" y="312408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8" name=""/>
          <p:cNvGrpSpPr/>
          <p:nvPr/>
        </p:nvGrpSpPr>
        <p:grpSpPr>
          <a:xfrm>
            <a:off x="2479320" y="2599920"/>
            <a:ext cx="152280" cy="685800"/>
            <a:chOff x="2479320" y="2599920"/>
            <a:chExt cx="152280" cy="685800"/>
          </a:xfrm>
        </p:grpSpPr>
        <p:sp>
          <p:nvSpPr>
            <p:cNvPr id="5569" name=""/>
            <p:cNvSpPr/>
            <p:nvPr/>
          </p:nvSpPr>
          <p:spPr>
            <a:xfrm flipV="1">
              <a:off x="2622600" y="25999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 flipH="1">
              <a:off x="2479320" y="3276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1" name=""/>
          <p:cNvSpPr/>
          <p:nvPr/>
        </p:nvSpPr>
        <p:spPr>
          <a:xfrm>
            <a:off x="2317680" y="3200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"/>
          <p:cNvSpPr/>
          <p:nvPr/>
        </p:nvSpPr>
        <p:spPr>
          <a:xfrm flipH="1">
            <a:off x="1860480" y="3429000"/>
            <a:ext cx="4572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3" name=""/>
          <p:cNvGrpSpPr/>
          <p:nvPr/>
        </p:nvGrpSpPr>
        <p:grpSpPr>
          <a:xfrm>
            <a:off x="2469960" y="3581280"/>
            <a:ext cx="152280" cy="685800"/>
            <a:chOff x="2469960" y="3581280"/>
            <a:chExt cx="152280" cy="685800"/>
          </a:xfrm>
        </p:grpSpPr>
        <p:sp>
          <p:nvSpPr>
            <p:cNvPr id="5574" name=""/>
            <p:cNvSpPr/>
            <p:nvPr/>
          </p:nvSpPr>
          <p:spPr>
            <a:xfrm>
              <a:off x="2613240" y="3581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 flipH="1">
              <a:off x="2469960" y="3590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6" name=""/>
          <p:cNvSpPr/>
          <p:nvPr/>
        </p:nvSpPr>
        <p:spPr>
          <a:xfrm>
            <a:off x="2575080" y="42292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7" name=""/>
          <p:cNvGrpSpPr/>
          <p:nvPr/>
        </p:nvGrpSpPr>
        <p:grpSpPr>
          <a:xfrm>
            <a:off x="2945880" y="2590560"/>
            <a:ext cx="142920" cy="1532520"/>
            <a:chOff x="2945880" y="2590560"/>
            <a:chExt cx="142920" cy="1532520"/>
          </a:xfrm>
        </p:grpSpPr>
        <p:sp>
          <p:nvSpPr>
            <p:cNvPr id="5578" name=""/>
            <p:cNvSpPr/>
            <p:nvPr/>
          </p:nvSpPr>
          <p:spPr>
            <a:xfrm flipV="1">
              <a:off x="3080160" y="2590560"/>
              <a:ext cx="0" cy="153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 flipH="1">
              <a:off x="2945880" y="4102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0" name=""/>
          <p:cNvSpPr/>
          <p:nvPr/>
        </p:nvSpPr>
        <p:spPr>
          <a:xfrm>
            <a:off x="3003480" y="244800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>
            <a:off x="2556000" y="243828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2" name=""/>
          <p:cNvGrpSpPr/>
          <p:nvPr/>
        </p:nvGrpSpPr>
        <p:grpSpPr>
          <a:xfrm>
            <a:off x="3070080" y="5029200"/>
            <a:ext cx="857160" cy="152280"/>
            <a:chOff x="3070080" y="5029200"/>
            <a:chExt cx="857160" cy="152280"/>
          </a:xfrm>
        </p:grpSpPr>
        <p:sp>
          <p:nvSpPr>
            <p:cNvPr id="5583" name=""/>
            <p:cNvSpPr/>
            <p:nvPr/>
          </p:nvSpPr>
          <p:spPr>
            <a:xfrm>
              <a:off x="3070080" y="51037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 rot="5400000">
              <a:off x="3773160" y="5027400"/>
              <a:ext cx="152280" cy="155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5" name=""/>
          <p:cNvSpPr/>
          <p:nvPr/>
        </p:nvSpPr>
        <p:spPr>
          <a:xfrm>
            <a:off x="1255680" y="4495680"/>
            <a:ext cx="61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6" name=""/>
          <p:cNvGrpSpPr/>
          <p:nvPr/>
        </p:nvGrpSpPr>
        <p:grpSpPr>
          <a:xfrm>
            <a:off x="1793880" y="2438280"/>
            <a:ext cx="152280" cy="990720"/>
            <a:chOff x="1793880" y="2438280"/>
            <a:chExt cx="152280" cy="990720"/>
          </a:xfrm>
        </p:grpSpPr>
        <p:sp>
          <p:nvSpPr>
            <p:cNvPr id="5587" name=""/>
            <p:cNvSpPr/>
            <p:nvPr/>
          </p:nvSpPr>
          <p:spPr>
            <a:xfrm>
              <a:off x="179388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1869840" y="2590920"/>
              <a:ext cx="0" cy="838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9" name=""/>
          <p:cNvSpPr/>
          <p:nvPr/>
        </p:nvSpPr>
        <p:spPr>
          <a:xfrm>
            <a:off x="1488960" y="2438280"/>
            <a:ext cx="15264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>
            <a:off x="1565280" y="25909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"/>
          <p:cNvSpPr/>
          <p:nvPr/>
        </p:nvSpPr>
        <p:spPr>
          <a:xfrm>
            <a:off x="2862720" y="213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3598920" y="472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2414880" y="213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4" name=""/>
          <p:cNvGrpSpPr/>
          <p:nvPr/>
        </p:nvGrpSpPr>
        <p:grpSpPr>
          <a:xfrm>
            <a:off x="1765080" y="2132640"/>
            <a:ext cx="379440" cy="307080"/>
            <a:chOff x="1765080" y="2132640"/>
            <a:chExt cx="379440" cy="307080"/>
          </a:xfrm>
        </p:grpSpPr>
        <p:grpSp>
          <p:nvGrpSpPr>
            <p:cNvPr id="5595" name=""/>
            <p:cNvGrpSpPr/>
            <p:nvPr/>
          </p:nvGrpSpPr>
          <p:grpSpPr>
            <a:xfrm>
              <a:off x="1765080" y="2168280"/>
              <a:ext cx="152640" cy="228240"/>
              <a:chOff x="1765080" y="2168280"/>
              <a:chExt cx="152640" cy="228240"/>
            </a:xfrm>
          </p:grpSpPr>
          <p:sp>
            <p:nvSpPr>
              <p:cNvPr id="5596" name=""/>
              <p:cNvSpPr/>
              <p:nvPr/>
            </p:nvSpPr>
            <p:spPr>
              <a:xfrm>
                <a:off x="1765440" y="22060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 flipH="1">
                <a:off x="1765080" y="2168280"/>
                <a:ext cx="1522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8" name=""/>
            <p:cNvSpPr/>
            <p:nvPr/>
          </p:nvSpPr>
          <p:spPr>
            <a:xfrm>
              <a:off x="1845000" y="2132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9" name=""/>
          <p:cNvSpPr/>
          <p:nvPr/>
        </p:nvSpPr>
        <p:spPr>
          <a:xfrm>
            <a:off x="1317600" y="2132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0" name=""/>
          <p:cNvSpPr/>
          <p:nvPr/>
        </p:nvSpPr>
        <p:spPr>
          <a:xfrm>
            <a:off x="2130840" y="3922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1" name=""/>
          <p:cNvSpPr/>
          <p:nvPr/>
        </p:nvSpPr>
        <p:spPr>
          <a:xfrm>
            <a:off x="3034800" y="4075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2" name=""/>
          <p:cNvSpPr/>
          <p:nvPr/>
        </p:nvSpPr>
        <p:spPr>
          <a:xfrm>
            <a:off x="2413800" y="3256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3" name=""/>
          <p:cNvSpPr/>
          <p:nvPr/>
        </p:nvSpPr>
        <p:spPr>
          <a:xfrm>
            <a:off x="1512000" y="3922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4" name=""/>
          <p:cNvSpPr/>
          <p:nvPr/>
        </p:nvSpPr>
        <p:spPr>
          <a:xfrm>
            <a:off x="5200560" y="1295280"/>
            <a:ext cx="15264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5" name=""/>
          <p:cNvSpPr/>
          <p:nvPr/>
        </p:nvSpPr>
        <p:spPr>
          <a:xfrm>
            <a:off x="6791400" y="4029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6" name=""/>
          <p:cNvSpPr/>
          <p:nvPr/>
        </p:nvSpPr>
        <p:spPr>
          <a:xfrm>
            <a:off x="7991640" y="3581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7" name=""/>
          <p:cNvSpPr/>
          <p:nvPr/>
        </p:nvSpPr>
        <p:spPr>
          <a:xfrm flipV="1">
            <a:off x="5200560" y="330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8" name=""/>
          <p:cNvSpPr/>
          <p:nvPr/>
        </p:nvSpPr>
        <p:spPr>
          <a:xfrm flipV="1">
            <a:off x="7848720" y="3342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9" name=""/>
          <p:cNvSpPr/>
          <p:nvPr/>
        </p:nvSpPr>
        <p:spPr>
          <a:xfrm>
            <a:off x="5353200" y="3038400"/>
            <a:ext cx="23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"/>
          <p:cNvSpPr/>
          <p:nvPr/>
        </p:nvSpPr>
        <p:spPr>
          <a:xfrm>
            <a:off x="520056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"/>
          <p:cNvSpPr/>
          <p:nvPr/>
        </p:nvSpPr>
        <p:spPr>
          <a:xfrm>
            <a:off x="5353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"/>
          <p:cNvSpPr/>
          <p:nvPr/>
        </p:nvSpPr>
        <p:spPr>
          <a:xfrm>
            <a:off x="520056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"/>
          <p:cNvSpPr/>
          <p:nvPr/>
        </p:nvSpPr>
        <p:spPr>
          <a:xfrm>
            <a:off x="5105520" y="1876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"/>
          <p:cNvSpPr/>
          <p:nvPr/>
        </p:nvSpPr>
        <p:spPr>
          <a:xfrm>
            <a:off x="51055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"/>
          <p:cNvSpPr/>
          <p:nvPr/>
        </p:nvSpPr>
        <p:spPr>
          <a:xfrm>
            <a:off x="5486400" y="1600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6" name=""/>
          <p:cNvSpPr/>
          <p:nvPr/>
        </p:nvSpPr>
        <p:spPr>
          <a:xfrm>
            <a:off x="69343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7" name=""/>
          <p:cNvSpPr/>
          <p:nvPr/>
        </p:nvSpPr>
        <p:spPr>
          <a:xfrm>
            <a:off x="54864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8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"/>
          <p:cNvSpPr/>
          <p:nvPr/>
        </p:nvSpPr>
        <p:spPr>
          <a:xfrm>
            <a:off x="4725720" y="14479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"/>
          <p:cNvSpPr/>
          <p:nvPr/>
        </p:nvSpPr>
        <p:spPr>
          <a:xfrm>
            <a:off x="4725720" y="2324160"/>
            <a:ext cx="471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1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1" name=""/>
          <p:cNvSpPr/>
          <p:nvPr/>
        </p:nvSpPr>
        <p:spPr>
          <a:xfrm flipH="1">
            <a:off x="5105520" y="16002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"/>
          <p:cNvSpPr/>
          <p:nvPr/>
        </p:nvSpPr>
        <p:spPr>
          <a:xfrm flipH="1">
            <a:off x="5105520" y="248616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3" name=""/>
          <p:cNvGrpSpPr/>
          <p:nvPr/>
        </p:nvGrpSpPr>
        <p:grpSpPr>
          <a:xfrm>
            <a:off x="4267080" y="2514600"/>
            <a:ext cx="445680" cy="459720"/>
            <a:chOff x="4267080" y="2514600"/>
            <a:chExt cx="445680" cy="459720"/>
          </a:xfrm>
        </p:grpSpPr>
        <p:grpSp>
          <p:nvGrpSpPr>
            <p:cNvPr id="5624" name=""/>
            <p:cNvGrpSpPr/>
            <p:nvPr/>
          </p:nvGrpSpPr>
          <p:grpSpPr>
            <a:xfrm>
              <a:off x="4267080" y="2644920"/>
              <a:ext cx="114480" cy="228600"/>
              <a:chOff x="4267080" y="2644920"/>
              <a:chExt cx="114480" cy="228600"/>
            </a:xfrm>
          </p:grpSpPr>
          <p:sp>
            <p:nvSpPr>
              <p:cNvPr id="5625" name=""/>
              <p:cNvSpPr/>
              <p:nvPr/>
            </p:nvSpPr>
            <p:spPr>
              <a:xfrm>
                <a:off x="4267080" y="2701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 flipH="1">
                <a:off x="4267080" y="2644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7" name=""/>
            <p:cNvSpPr/>
            <p:nvPr/>
          </p:nvSpPr>
          <p:spPr>
            <a:xfrm>
              <a:off x="4329360" y="25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8" name=""/>
          <p:cNvSpPr/>
          <p:nvPr/>
        </p:nvSpPr>
        <p:spPr>
          <a:xfrm>
            <a:off x="4116600" y="1600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9" name=""/>
          <p:cNvSpPr/>
          <p:nvPr/>
        </p:nvSpPr>
        <p:spPr>
          <a:xfrm>
            <a:off x="803160" y="4851360"/>
            <a:ext cx="1752840" cy="393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0" name=""/>
          <p:cNvSpPr/>
          <p:nvPr/>
        </p:nvSpPr>
        <p:spPr>
          <a:xfrm>
            <a:off x="803160" y="453384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1" name=""/>
          <p:cNvSpPr/>
          <p:nvPr/>
        </p:nvSpPr>
        <p:spPr>
          <a:xfrm>
            <a:off x="803160" y="4724280"/>
            <a:ext cx="30492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2" name=""/>
          <p:cNvSpPr/>
          <p:nvPr/>
        </p:nvSpPr>
        <p:spPr>
          <a:xfrm>
            <a:off x="3851280" y="5181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"/>
          <p:cNvSpPr/>
          <p:nvPr/>
        </p:nvSpPr>
        <p:spPr>
          <a:xfrm>
            <a:off x="3724200" y="525780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4" name=""/>
          <p:cNvSpPr/>
          <p:nvPr/>
        </p:nvSpPr>
        <p:spPr>
          <a:xfrm flipH="1">
            <a:off x="802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5" name=""/>
          <p:cNvSpPr/>
          <p:nvPr/>
        </p:nvSpPr>
        <p:spPr>
          <a:xfrm>
            <a:off x="305640" y="4190040"/>
            <a:ext cx="11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-end of serial regi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6" name=""/>
          <p:cNvSpPr/>
          <p:nvPr/>
        </p:nvSpPr>
        <p:spPr>
          <a:xfrm flipH="1">
            <a:off x="3685680" y="6019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"/>
          <p:cNvSpPr/>
          <p:nvPr/>
        </p:nvSpPr>
        <p:spPr>
          <a:xfrm>
            <a:off x="69343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8" name=""/>
          <p:cNvSpPr/>
          <p:nvPr/>
        </p:nvSpPr>
        <p:spPr>
          <a:xfrm flipH="1">
            <a:off x="67719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"/>
          <p:cNvSpPr/>
          <p:nvPr/>
        </p:nvSpPr>
        <p:spPr>
          <a:xfrm>
            <a:off x="504828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"/>
          <p:cNvSpPr/>
          <p:nvPr/>
        </p:nvSpPr>
        <p:spPr>
          <a:xfrm>
            <a:off x="5200560" y="33051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"/>
          <p:cNvSpPr/>
          <p:nvPr/>
        </p:nvSpPr>
        <p:spPr>
          <a:xfrm>
            <a:off x="5353200" y="33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 flipV="1">
            <a:off x="6791400" y="353376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>
            <a:off x="5353200" y="35337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>
            <a:off x="7839000" y="25052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799164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>
            <a:off x="783900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7686720" y="3038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76960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>
            <a:off x="76960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 flipV="1">
            <a:off x="7848720" y="33433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7848720" y="3352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7991640" y="3362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8001000" y="3029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>
            <a:off x="407988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>
            <a:off x="415620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"/>
          <p:cNvSpPr/>
          <p:nvPr/>
        </p:nvSpPr>
        <p:spPr>
          <a:xfrm>
            <a:off x="39276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>
            <a:off x="41562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/>
          <p:cNvSpPr/>
          <p:nvPr/>
        </p:nvSpPr>
        <p:spPr>
          <a:xfrm>
            <a:off x="4278960" y="49258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4431600" y="33526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>
            <a:off x="1108800" y="849240"/>
            <a:ext cx="694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on-chip amplifier measures each charge packet as it pops out the end of the serial regis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>
            <a:off x="5159520" y="4735440"/>
            <a:ext cx="342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easurement process begins with a 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e ‘reset node’. This removes the char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aining from the previous pixel. The 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 is in fact a tiny capacitance (&lt; 0.1p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1203480" y="1459080"/>
            <a:ext cx="186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 and OD are held 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tant volt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3" name=""/>
          <p:cNvGrpSpPr/>
          <p:nvPr/>
        </p:nvGrpSpPr>
        <p:grpSpPr>
          <a:xfrm>
            <a:off x="2019240" y="4314960"/>
            <a:ext cx="609480" cy="380880"/>
            <a:chOff x="2019240" y="4314960"/>
            <a:chExt cx="609480" cy="380880"/>
          </a:xfrm>
        </p:grpSpPr>
        <p:sp>
          <p:nvSpPr>
            <p:cNvPr id="5664" name=""/>
            <p:cNvSpPr/>
            <p:nvPr/>
          </p:nvSpPr>
          <p:spPr>
            <a:xfrm>
              <a:off x="2171520" y="4390920"/>
              <a:ext cx="304920" cy="3049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2019240" y="431496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6" name=""/>
          <p:cNvSpPr/>
          <p:nvPr/>
        </p:nvSpPr>
        <p:spPr>
          <a:xfrm flipH="1" flipV="1">
            <a:off x="2325240" y="4258800"/>
            <a:ext cx="180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>
            <a:off x="5340960" y="4419720"/>
            <a:ext cx="30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graphs above show the signal wavefo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8" name=""/>
          <p:cNvSpPr/>
          <p:nvPr/>
        </p:nvSpPr>
        <p:spPr>
          <a:xfrm>
            <a:off x="803160" y="4546440"/>
            <a:ext cx="175284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3051720" y="152280"/>
            <a:ext cx="28339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Chip Amplifier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>
            <a:off x="2865600" y="3962520"/>
            <a:ext cx="75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2784600" y="4038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 flipH="1">
            <a:off x="232740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3" name=""/>
          <p:cNvGrpSpPr/>
          <p:nvPr/>
        </p:nvGrpSpPr>
        <p:grpSpPr>
          <a:xfrm>
            <a:off x="2936520" y="4419720"/>
            <a:ext cx="152280" cy="685800"/>
            <a:chOff x="2936520" y="4419720"/>
            <a:chExt cx="152280" cy="685800"/>
          </a:xfrm>
        </p:grpSpPr>
        <p:sp>
          <p:nvSpPr>
            <p:cNvPr id="5674" name=""/>
            <p:cNvSpPr/>
            <p:nvPr/>
          </p:nvSpPr>
          <p:spPr>
            <a:xfrm>
              <a:off x="3079800" y="4419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 flipH="1">
              <a:off x="2936520" y="4428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6" name=""/>
          <p:cNvSpPr/>
          <p:nvPr/>
        </p:nvSpPr>
        <p:spPr>
          <a:xfrm>
            <a:off x="2398680" y="312408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7" name=""/>
          <p:cNvGrpSpPr/>
          <p:nvPr/>
        </p:nvGrpSpPr>
        <p:grpSpPr>
          <a:xfrm>
            <a:off x="2479320" y="2599920"/>
            <a:ext cx="152280" cy="685800"/>
            <a:chOff x="2479320" y="2599920"/>
            <a:chExt cx="152280" cy="685800"/>
          </a:xfrm>
        </p:grpSpPr>
        <p:sp>
          <p:nvSpPr>
            <p:cNvPr id="5678" name=""/>
            <p:cNvSpPr/>
            <p:nvPr/>
          </p:nvSpPr>
          <p:spPr>
            <a:xfrm flipV="1">
              <a:off x="2622600" y="25999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 flipH="1">
              <a:off x="2479320" y="3276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0" name=""/>
          <p:cNvSpPr/>
          <p:nvPr/>
        </p:nvSpPr>
        <p:spPr>
          <a:xfrm>
            <a:off x="2317680" y="3200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 flipH="1">
            <a:off x="186048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2" name=""/>
          <p:cNvGrpSpPr/>
          <p:nvPr/>
        </p:nvGrpSpPr>
        <p:grpSpPr>
          <a:xfrm>
            <a:off x="2469960" y="3581280"/>
            <a:ext cx="152280" cy="685800"/>
            <a:chOff x="2469960" y="3581280"/>
            <a:chExt cx="152280" cy="685800"/>
          </a:xfrm>
        </p:grpSpPr>
        <p:sp>
          <p:nvSpPr>
            <p:cNvPr id="5683" name=""/>
            <p:cNvSpPr/>
            <p:nvPr/>
          </p:nvSpPr>
          <p:spPr>
            <a:xfrm>
              <a:off x="2613240" y="3581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 flipH="1">
              <a:off x="2469960" y="3590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5" name=""/>
          <p:cNvSpPr/>
          <p:nvPr/>
        </p:nvSpPr>
        <p:spPr>
          <a:xfrm>
            <a:off x="2575080" y="42292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6" name=""/>
          <p:cNvGrpSpPr/>
          <p:nvPr/>
        </p:nvGrpSpPr>
        <p:grpSpPr>
          <a:xfrm>
            <a:off x="2945880" y="2590560"/>
            <a:ext cx="142920" cy="1532520"/>
            <a:chOff x="2945880" y="2590560"/>
            <a:chExt cx="142920" cy="1532520"/>
          </a:xfrm>
        </p:grpSpPr>
        <p:sp>
          <p:nvSpPr>
            <p:cNvPr id="5687" name=""/>
            <p:cNvSpPr/>
            <p:nvPr/>
          </p:nvSpPr>
          <p:spPr>
            <a:xfrm flipV="1">
              <a:off x="3080160" y="2590560"/>
              <a:ext cx="0" cy="153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 flipH="1">
              <a:off x="2945880" y="4102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9" name=""/>
          <p:cNvSpPr/>
          <p:nvPr/>
        </p:nvSpPr>
        <p:spPr>
          <a:xfrm>
            <a:off x="3003480" y="244800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>
            <a:off x="2556000" y="243828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1" name=""/>
          <p:cNvGrpSpPr/>
          <p:nvPr/>
        </p:nvGrpSpPr>
        <p:grpSpPr>
          <a:xfrm>
            <a:off x="3070080" y="5029200"/>
            <a:ext cx="857160" cy="152280"/>
            <a:chOff x="3070080" y="5029200"/>
            <a:chExt cx="857160" cy="152280"/>
          </a:xfrm>
        </p:grpSpPr>
        <p:sp>
          <p:nvSpPr>
            <p:cNvPr id="5692" name=""/>
            <p:cNvSpPr/>
            <p:nvPr/>
          </p:nvSpPr>
          <p:spPr>
            <a:xfrm>
              <a:off x="3070080" y="51037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 rot="5400000">
              <a:off x="3773160" y="5027400"/>
              <a:ext cx="152280" cy="155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4" name=""/>
          <p:cNvSpPr/>
          <p:nvPr/>
        </p:nvSpPr>
        <p:spPr>
          <a:xfrm>
            <a:off x="1255680" y="4495680"/>
            <a:ext cx="614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5" name=""/>
          <p:cNvGrpSpPr/>
          <p:nvPr/>
        </p:nvGrpSpPr>
        <p:grpSpPr>
          <a:xfrm>
            <a:off x="1793880" y="2438280"/>
            <a:ext cx="152280" cy="990720"/>
            <a:chOff x="1793880" y="2438280"/>
            <a:chExt cx="152280" cy="990720"/>
          </a:xfrm>
        </p:grpSpPr>
        <p:sp>
          <p:nvSpPr>
            <p:cNvPr id="5696" name=""/>
            <p:cNvSpPr/>
            <p:nvPr/>
          </p:nvSpPr>
          <p:spPr>
            <a:xfrm>
              <a:off x="179388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186984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8" name=""/>
          <p:cNvSpPr/>
          <p:nvPr/>
        </p:nvSpPr>
        <p:spPr>
          <a:xfrm>
            <a:off x="1488960" y="2438280"/>
            <a:ext cx="15264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9" name=""/>
          <p:cNvSpPr/>
          <p:nvPr/>
        </p:nvSpPr>
        <p:spPr>
          <a:xfrm>
            <a:off x="1565280" y="25909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0" name=""/>
          <p:cNvSpPr/>
          <p:nvPr/>
        </p:nvSpPr>
        <p:spPr>
          <a:xfrm>
            <a:off x="2862720" y="213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1" name=""/>
          <p:cNvSpPr/>
          <p:nvPr/>
        </p:nvSpPr>
        <p:spPr>
          <a:xfrm>
            <a:off x="3598920" y="472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"/>
          <p:cNvSpPr/>
          <p:nvPr/>
        </p:nvSpPr>
        <p:spPr>
          <a:xfrm>
            <a:off x="2414880" y="213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3" name=""/>
          <p:cNvGrpSpPr/>
          <p:nvPr/>
        </p:nvGrpSpPr>
        <p:grpSpPr>
          <a:xfrm>
            <a:off x="1765080" y="2132640"/>
            <a:ext cx="379440" cy="307080"/>
            <a:chOff x="1765080" y="2132640"/>
            <a:chExt cx="379440" cy="307080"/>
          </a:xfrm>
        </p:grpSpPr>
        <p:grpSp>
          <p:nvGrpSpPr>
            <p:cNvPr id="5704" name=""/>
            <p:cNvGrpSpPr/>
            <p:nvPr/>
          </p:nvGrpSpPr>
          <p:grpSpPr>
            <a:xfrm>
              <a:off x="1765080" y="2168280"/>
              <a:ext cx="152640" cy="228240"/>
              <a:chOff x="1765080" y="2168280"/>
              <a:chExt cx="152640" cy="228240"/>
            </a:xfrm>
          </p:grpSpPr>
          <p:sp>
            <p:nvSpPr>
              <p:cNvPr id="5705" name=""/>
              <p:cNvSpPr/>
              <p:nvPr/>
            </p:nvSpPr>
            <p:spPr>
              <a:xfrm>
                <a:off x="1765440" y="22060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 flipH="1">
                <a:off x="1765080" y="2168280"/>
                <a:ext cx="1522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7" name=""/>
            <p:cNvSpPr/>
            <p:nvPr/>
          </p:nvSpPr>
          <p:spPr>
            <a:xfrm>
              <a:off x="1845000" y="2132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8" name=""/>
          <p:cNvSpPr/>
          <p:nvPr/>
        </p:nvSpPr>
        <p:spPr>
          <a:xfrm>
            <a:off x="1317600" y="2132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2130840" y="3922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3034800" y="4075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2413800" y="3256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2" name=""/>
          <p:cNvSpPr/>
          <p:nvPr/>
        </p:nvSpPr>
        <p:spPr>
          <a:xfrm>
            <a:off x="1512000" y="3922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"/>
          <p:cNvSpPr/>
          <p:nvPr/>
        </p:nvSpPr>
        <p:spPr>
          <a:xfrm>
            <a:off x="5486400" y="1295280"/>
            <a:ext cx="129528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679140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>
            <a:off x="7991640" y="3581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 flipV="1">
            <a:off x="5210280" y="33242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"/>
          <p:cNvSpPr/>
          <p:nvPr/>
        </p:nvSpPr>
        <p:spPr>
          <a:xfrm flipV="1">
            <a:off x="784872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5353200" y="3038400"/>
            <a:ext cx="23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520056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5353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"/>
          <p:cNvSpPr/>
          <p:nvPr/>
        </p:nvSpPr>
        <p:spPr>
          <a:xfrm>
            <a:off x="520056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>
            <a:off x="5105520" y="1876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51055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5486400" y="1600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69343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54864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4725720" y="14479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4725720" y="2324160"/>
            <a:ext cx="471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1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"/>
          <p:cNvSpPr/>
          <p:nvPr/>
        </p:nvSpPr>
        <p:spPr>
          <a:xfrm flipH="1">
            <a:off x="5105520" y="16002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"/>
          <p:cNvSpPr/>
          <p:nvPr/>
        </p:nvSpPr>
        <p:spPr>
          <a:xfrm flipH="1">
            <a:off x="5105520" y="248616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2" name=""/>
          <p:cNvGrpSpPr/>
          <p:nvPr/>
        </p:nvGrpSpPr>
        <p:grpSpPr>
          <a:xfrm>
            <a:off x="4267080" y="2514600"/>
            <a:ext cx="445680" cy="459720"/>
            <a:chOff x="4267080" y="2514600"/>
            <a:chExt cx="445680" cy="459720"/>
          </a:xfrm>
        </p:grpSpPr>
        <p:grpSp>
          <p:nvGrpSpPr>
            <p:cNvPr id="5733" name=""/>
            <p:cNvGrpSpPr/>
            <p:nvPr/>
          </p:nvGrpSpPr>
          <p:grpSpPr>
            <a:xfrm>
              <a:off x="4267080" y="2644920"/>
              <a:ext cx="114480" cy="228600"/>
              <a:chOff x="4267080" y="2644920"/>
              <a:chExt cx="114480" cy="228600"/>
            </a:xfrm>
          </p:grpSpPr>
          <p:sp>
            <p:nvSpPr>
              <p:cNvPr id="5734" name=""/>
              <p:cNvSpPr/>
              <p:nvPr/>
            </p:nvSpPr>
            <p:spPr>
              <a:xfrm>
                <a:off x="4267080" y="2701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 flipH="1">
                <a:off x="4267080" y="2644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6" name=""/>
            <p:cNvSpPr/>
            <p:nvPr/>
          </p:nvSpPr>
          <p:spPr>
            <a:xfrm>
              <a:off x="4329360" y="25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7" name=""/>
          <p:cNvSpPr/>
          <p:nvPr/>
        </p:nvSpPr>
        <p:spPr>
          <a:xfrm>
            <a:off x="4116600" y="1600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803160" y="4851360"/>
            <a:ext cx="1752840" cy="393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803160" y="453384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1371600" y="4724280"/>
            <a:ext cx="30492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3851280" y="5181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>
            <a:off x="3724200" y="525780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 flipH="1">
            <a:off x="802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305640" y="4190040"/>
            <a:ext cx="11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-end of serial regi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 flipH="1">
            <a:off x="3685680" y="6019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69343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 flipH="1">
            <a:off x="67719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504828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>
            <a:off x="5210280" y="33242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5353200" y="332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 flipV="1">
            <a:off x="6791400" y="3543120"/>
            <a:ext cx="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>
            <a:off x="5353200" y="3543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>
            <a:off x="7839000" y="25052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"/>
          <p:cNvSpPr/>
          <p:nvPr/>
        </p:nvSpPr>
        <p:spPr>
          <a:xfrm>
            <a:off x="799164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"/>
          <p:cNvSpPr/>
          <p:nvPr/>
        </p:nvSpPr>
        <p:spPr>
          <a:xfrm>
            <a:off x="783900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"/>
          <p:cNvSpPr/>
          <p:nvPr/>
        </p:nvSpPr>
        <p:spPr>
          <a:xfrm>
            <a:off x="7686720" y="3038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76960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"/>
          <p:cNvSpPr/>
          <p:nvPr/>
        </p:nvSpPr>
        <p:spPr>
          <a:xfrm>
            <a:off x="76960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"/>
          <p:cNvSpPr/>
          <p:nvPr/>
        </p:nvSpPr>
        <p:spPr>
          <a:xfrm flipV="1">
            <a:off x="78487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"/>
          <p:cNvSpPr/>
          <p:nvPr/>
        </p:nvSpPr>
        <p:spPr>
          <a:xfrm>
            <a:off x="7848720" y="3362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1" name=""/>
          <p:cNvSpPr/>
          <p:nvPr/>
        </p:nvSpPr>
        <p:spPr>
          <a:xfrm>
            <a:off x="7991640" y="3362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2" name=""/>
          <p:cNvSpPr/>
          <p:nvPr/>
        </p:nvSpPr>
        <p:spPr>
          <a:xfrm>
            <a:off x="8001000" y="3029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"/>
          <p:cNvSpPr/>
          <p:nvPr/>
        </p:nvSpPr>
        <p:spPr>
          <a:xfrm>
            <a:off x="407988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"/>
          <p:cNvSpPr/>
          <p:nvPr/>
        </p:nvSpPr>
        <p:spPr>
          <a:xfrm>
            <a:off x="415620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5" name=""/>
          <p:cNvSpPr/>
          <p:nvPr/>
        </p:nvSpPr>
        <p:spPr>
          <a:xfrm>
            <a:off x="39276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"/>
          <p:cNvSpPr/>
          <p:nvPr/>
        </p:nvSpPr>
        <p:spPr>
          <a:xfrm>
            <a:off x="41562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"/>
          <p:cNvSpPr/>
          <p:nvPr/>
        </p:nvSpPr>
        <p:spPr>
          <a:xfrm>
            <a:off x="4278960" y="49258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8" name=""/>
          <p:cNvSpPr/>
          <p:nvPr/>
        </p:nvSpPr>
        <p:spPr>
          <a:xfrm>
            <a:off x="4431600" y="33526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"/>
          <p:cNvSpPr/>
          <p:nvPr/>
        </p:nvSpPr>
        <p:spPr>
          <a:xfrm>
            <a:off x="1122120" y="776160"/>
            <a:ext cx="677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harge is then transferred onto the Summing Well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now at the ‘Reference level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"/>
          <p:cNvSpPr/>
          <p:nvPr/>
        </p:nvSpPr>
        <p:spPr>
          <a:xfrm>
            <a:off x="5157000" y="4735440"/>
            <a:ext cx="359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e is now a wait of up to a few ten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seconds while external circuitry meas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‘reference’ lev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1" name=""/>
          <p:cNvGrpSpPr/>
          <p:nvPr/>
        </p:nvGrpSpPr>
        <p:grpSpPr>
          <a:xfrm>
            <a:off x="2019240" y="4319640"/>
            <a:ext cx="609480" cy="380880"/>
            <a:chOff x="2019240" y="4319640"/>
            <a:chExt cx="609480" cy="380880"/>
          </a:xfrm>
        </p:grpSpPr>
        <p:sp>
          <p:nvSpPr>
            <p:cNvPr id="5772" name=""/>
            <p:cNvSpPr/>
            <p:nvPr/>
          </p:nvSpPr>
          <p:spPr>
            <a:xfrm>
              <a:off x="2171520" y="4395600"/>
              <a:ext cx="304920" cy="3049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2019240" y="431964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4" name=""/>
          <p:cNvSpPr/>
          <p:nvPr/>
        </p:nvSpPr>
        <p:spPr>
          <a:xfrm flipH="1" flipV="1">
            <a:off x="2325240" y="4258800"/>
            <a:ext cx="180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5" name=""/>
          <p:cNvSpPr/>
          <p:nvPr/>
        </p:nvSpPr>
        <p:spPr>
          <a:xfrm>
            <a:off x="803160" y="4546440"/>
            <a:ext cx="175284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3051720" y="152280"/>
            <a:ext cx="28339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Chip Amplifier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2865600" y="3962520"/>
            <a:ext cx="75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2784600" y="4038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"/>
          <p:cNvSpPr/>
          <p:nvPr/>
        </p:nvSpPr>
        <p:spPr>
          <a:xfrm flipH="1">
            <a:off x="232740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0" name=""/>
          <p:cNvGrpSpPr/>
          <p:nvPr/>
        </p:nvGrpSpPr>
        <p:grpSpPr>
          <a:xfrm>
            <a:off x="2936520" y="4419720"/>
            <a:ext cx="152280" cy="685800"/>
            <a:chOff x="2936520" y="4419720"/>
            <a:chExt cx="152280" cy="685800"/>
          </a:xfrm>
        </p:grpSpPr>
        <p:sp>
          <p:nvSpPr>
            <p:cNvPr id="5781" name=""/>
            <p:cNvSpPr/>
            <p:nvPr/>
          </p:nvSpPr>
          <p:spPr>
            <a:xfrm>
              <a:off x="3079800" y="4419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 flipH="1">
              <a:off x="2936520" y="4428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3" name=""/>
          <p:cNvSpPr/>
          <p:nvPr/>
        </p:nvSpPr>
        <p:spPr>
          <a:xfrm>
            <a:off x="2398680" y="312408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4" name=""/>
          <p:cNvGrpSpPr/>
          <p:nvPr/>
        </p:nvGrpSpPr>
        <p:grpSpPr>
          <a:xfrm>
            <a:off x="2479320" y="2599920"/>
            <a:ext cx="152280" cy="685800"/>
            <a:chOff x="2479320" y="2599920"/>
            <a:chExt cx="152280" cy="685800"/>
          </a:xfrm>
        </p:grpSpPr>
        <p:sp>
          <p:nvSpPr>
            <p:cNvPr id="5785" name=""/>
            <p:cNvSpPr/>
            <p:nvPr/>
          </p:nvSpPr>
          <p:spPr>
            <a:xfrm flipV="1">
              <a:off x="2622600" y="25999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 flipH="1">
              <a:off x="2479320" y="3276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7" name=""/>
          <p:cNvSpPr/>
          <p:nvPr/>
        </p:nvSpPr>
        <p:spPr>
          <a:xfrm>
            <a:off x="2317680" y="3200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 flipH="1">
            <a:off x="186048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9" name=""/>
          <p:cNvGrpSpPr/>
          <p:nvPr/>
        </p:nvGrpSpPr>
        <p:grpSpPr>
          <a:xfrm>
            <a:off x="2469960" y="3581280"/>
            <a:ext cx="152280" cy="685800"/>
            <a:chOff x="2469960" y="3581280"/>
            <a:chExt cx="152280" cy="685800"/>
          </a:xfrm>
        </p:grpSpPr>
        <p:sp>
          <p:nvSpPr>
            <p:cNvPr id="5790" name=""/>
            <p:cNvSpPr/>
            <p:nvPr/>
          </p:nvSpPr>
          <p:spPr>
            <a:xfrm>
              <a:off x="2613240" y="3581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 flipH="1">
              <a:off x="2469960" y="3590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2" name=""/>
          <p:cNvSpPr/>
          <p:nvPr/>
        </p:nvSpPr>
        <p:spPr>
          <a:xfrm>
            <a:off x="2575080" y="42292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3" name=""/>
          <p:cNvGrpSpPr/>
          <p:nvPr/>
        </p:nvGrpSpPr>
        <p:grpSpPr>
          <a:xfrm>
            <a:off x="2945880" y="2590560"/>
            <a:ext cx="142920" cy="1532520"/>
            <a:chOff x="2945880" y="2590560"/>
            <a:chExt cx="142920" cy="1532520"/>
          </a:xfrm>
        </p:grpSpPr>
        <p:sp>
          <p:nvSpPr>
            <p:cNvPr id="5794" name=""/>
            <p:cNvSpPr/>
            <p:nvPr/>
          </p:nvSpPr>
          <p:spPr>
            <a:xfrm flipV="1">
              <a:off x="3080160" y="2590560"/>
              <a:ext cx="0" cy="153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 flipH="1">
              <a:off x="2945880" y="4102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6" name=""/>
          <p:cNvSpPr/>
          <p:nvPr/>
        </p:nvSpPr>
        <p:spPr>
          <a:xfrm>
            <a:off x="3003480" y="244800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7" name=""/>
          <p:cNvSpPr/>
          <p:nvPr/>
        </p:nvSpPr>
        <p:spPr>
          <a:xfrm>
            <a:off x="2556000" y="243828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8" name=""/>
          <p:cNvGrpSpPr/>
          <p:nvPr/>
        </p:nvGrpSpPr>
        <p:grpSpPr>
          <a:xfrm>
            <a:off x="3070080" y="5029200"/>
            <a:ext cx="857160" cy="152280"/>
            <a:chOff x="3070080" y="5029200"/>
            <a:chExt cx="857160" cy="152280"/>
          </a:xfrm>
        </p:grpSpPr>
        <p:sp>
          <p:nvSpPr>
            <p:cNvPr id="5799" name=""/>
            <p:cNvSpPr/>
            <p:nvPr/>
          </p:nvSpPr>
          <p:spPr>
            <a:xfrm>
              <a:off x="3070080" y="51037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 rot="5400000">
              <a:off x="3773160" y="5027400"/>
              <a:ext cx="152280" cy="155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1" name=""/>
          <p:cNvSpPr/>
          <p:nvPr/>
        </p:nvSpPr>
        <p:spPr>
          <a:xfrm>
            <a:off x="2097000" y="4529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1255680" y="4495680"/>
            <a:ext cx="61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3" name=""/>
          <p:cNvGrpSpPr/>
          <p:nvPr/>
        </p:nvGrpSpPr>
        <p:grpSpPr>
          <a:xfrm>
            <a:off x="1793880" y="2438280"/>
            <a:ext cx="152280" cy="990720"/>
            <a:chOff x="1793880" y="2438280"/>
            <a:chExt cx="152280" cy="990720"/>
          </a:xfrm>
        </p:grpSpPr>
        <p:sp>
          <p:nvSpPr>
            <p:cNvPr id="5804" name=""/>
            <p:cNvSpPr/>
            <p:nvPr/>
          </p:nvSpPr>
          <p:spPr>
            <a:xfrm>
              <a:off x="179388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186984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6" name=""/>
          <p:cNvSpPr/>
          <p:nvPr/>
        </p:nvSpPr>
        <p:spPr>
          <a:xfrm>
            <a:off x="1488960" y="2438280"/>
            <a:ext cx="15264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1565280" y="25909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2862720" y="213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9" name=""/>
          <p:cNvSpPr/>
          <p:nvPr/>
        </p:nvSpPr>
        <p:spPr>
          <a:xfrm>
            <a:off x="3598920" y="472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"/>
          <p:cNvSpPr/>
          <p:nvPr/>
        </p:nvSpPr>
        <p:spPr>
          <a:xfrm>
            <a:off x="2414880" y="213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1" name=""/>
          <p:cNvGrpSpPr/>
          <p:nvPr/>
        </p:nvGrpSpPr>
        <p:grpSpPr>
          <a:xfrm>
            <a:off x="1765080" y="2132640"/>
            <a:ext cx="379440" cy="307080"/>
            <a:chOff x="1765080" y="2132640"/>
            <a:chExt cx="379440" cy="307080"/>
          </a:xfrm>
        </p:grpSpPr>
        <p:grpSp>
          <p:nvGrpSpPr>
            <p:cNvPr id="5812" name=""/>
            <p:cNvGrpSpPr/>
            <p:nvPr/>
          </p:nvGrpSpPr>
          <p:grpSpPr>
            <a:xfrm>
              <a:off x="1765080" y="2168280"/>
              <a:ext cx="152640" cy="228240"/>
              <a:chOff x="1765080" y="2168280"/>
              <a:chExt cx="152640" cy="228240"/>
            </a:xfrm>
          </p:grpSpPr>
          <p:sp>
            <p:nvSpPr>
              <p:cNvPr id="5813" name=""/>
              <p:cNvSpPr/>
              <p:nvPr/>
            </p:nvSpPr>
            <p:spPr>
              <a:xfrm>
                <a:off x="1765440" y="22060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 flipH="1">
                <a:off x="1765080" y="2168280"/>
                <a:ext cx="1522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5" name=""/>
            <p:cNvSpPr/>
            <p:nvPr/>
          </p:nvSpPr>
          <p:spPr>
            <a:xfrm>
              <a:off x="1845000" y="2132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6" name=""/>
          <p:cNvSpPr/>
          <p:nvPr/>
        </p:nvSpPr>
        <p:spPr>
          <a:xfrm>
            <a:off x="1317600" y="2132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"/>
          <p:cNvSpPr/>
          <p:nvPr/>
        </p:nvSpPr>
        <p:spPr>
          <a:xfrm>
            <a:off x="2130840" y="3922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3034800" y="4075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2413800" y="3256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1512000" y="3922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1" name=""/>
          <p:cNvSpPr/>
          <p:nvPr/>
        </p:nvSpPr>
        <p:spPr>
          <a:xfrm>
            <a:off x="6791400" y="1295280"/>
            <a:ext cx="15228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2" name=""/>
          <p:cNvSpPr/>
          <p:nvPr/>
        </p:nvSpPr>
        <p:spPr>
          <a:xfrm>
            <a:off x="679140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3" name=""/>
          <p:cNvSpPr/>
          <p:nvPr/>
        </p:nvSpPr>
        <p:spPr>
          <a:xfrm>
            <a:off x="7991640" y="3581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4" name=""/>
          <p:cNvSpPr/>
          <p:nvPr/>
        </p:nvSpPr>
        <p:spPr>
          <a:xfrm flipV="1">
            <a:off x="5210280" y="33242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"/>
          <p:cNvSpPr/>
          <p:nvPr/>
        </p:nvSpPr>
        <p:spPr>
          <a:xfrm flipV="1">
            <a:off x="784872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6" name=""/>
          <p:cNvSpPr/>
          <p:nvPr/>
        </p:nvSpPr>
        <p:spPr>
          <a:xfrm>
            <a:off x="5353200" y="3038400"/>
            <a:ext cx="23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"/>
          <p:cNvSpPr/>
          <p:nvPr/>
        </p:nvSpPr>
        <p:spPr>
          <a:xfrm>
            <a:off x="520056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8" name=""/>
          <p:cNvSpPr/>
          <p:nvPr/>
        </p:nvSpPr>
        <p:spPr>
          <a:xfrm>
            <a:off x="5353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"/>
          <p:cNvSpPr/>
          <p:nvPr/>
        </p:nvSpPr>
        <p:spPr>
          <a:xfrm>
            <a:off x="520056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0" name=""/>
          <p:cNvSpPr/>
          <p:nvPr/>
        </p:nvSpPr>
        <p:spPr>
          <a:xfrm>
            <a:off x="5105520" y="1876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1" name=""/>
          <p:cNvSpPr/>
          <p:nvPr/>
        </p:nvSpPr>
        <p:spPr>
          <a:xfrm>
            <a:off x="51055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2" name=""/>
          <p:cNvSpPr/>
          <p:nvPr/>
        </p:nvSpPr>
        <p:spPr>
          <a:xfrm>
            <a:off x="5486400" y="1600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3" name=""/>
          <p:cNvSpPr/>
          <p:nvPr/>
        </p:nvSpPr>
        <p:spPr>
          <a:xfrm>
            <a:off x="69343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4" name=""/>
          <p:cNvSpPr/>
          <p:nvPr/>
        </p:nvSpPr>
        <p:spPr>
          <a:xfrm>
            <a:off x="54864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5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4725720" y="14479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4725720" y="2324160"/>
            <a:ext cx="471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1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 flipH="1">
            <a:off x="5105520" y="16002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9" name=""/>
          <p:cNvSpPr/>
          <p:nvPr/>
        </p:nvSpPr>
        <p:spPr>
          <a:xfrm flipH="1">
            <a:off x="5105520" y="248616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0" name=""/>
          <p:cNvGrpSpPr/>
          <p:nvPr/>
        </p:nvGrpSpPr>
        <p:grpSpPr>
          <a:xfrm>
            <a:off x="4267080" y="2514600"/>
            <a:ext cx="445680" cy="459720"/>
            <a:chOff x="4267080" y="2514600"/>
            <a:chExt cx="445680" cy="459720"/>
          </a:xfrm>
        </p:grpSpPr>
        <p:grpSp>
          <p:nvGrpSpPr>
            <p:cNvPr id="5841" name=""/>
            <p:cNvGrpSpPr/>
            <p:nvPr/>
          </p:nvGrpSpPr>
          <p:grpSpPr>
            <a:xfrm>
              <a:off x="4267080" y="2644920"/>
              <a:ext cx="114480" cy="228600"/>
              <a:chOff x="4267080" y="2644920"/>
              <a:chExt cx="114480" cy="228600"/>
            </a:xfrm>
          </p:grpSpPr>
          <p:sp>
            <p:nvSpPr>
              <p:cNvPr id="5842" name=""/>
              <p:cNvSpPr/>
              <p:nvPr/>
            </p:nvSpPr>
            <p:spPr>
              <a:xfrm>
                <a:off x="4267080" y="2701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 flipH="1">
                <a:off x="4267080" y="2644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4" name=""/>
            <p:cNvSpPr/>
            <p:nvPr/>
          </p:nvSpPr>
          <p:spPr>
            <a:xfrm>
              <a:off x="4329360" y="25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5" name=""/>
          <p:cNvSpPr/>
          <p:nvPr/>
        </p:nvSpPr>
        <p:spPr>
          <a:xfrm>
            <a:off x="4116600" y="1600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803160" y="4851360"/>
            <a:ext cx="1752840" cy="393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803160" y="453384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>
            <a:off x="3851280" y="5181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>
            <a:off x="3724200" y="525780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 flipH="1">
            <a:off x="802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>
            <a:off x="305640" y="4190040"/>
            <a:ext cx="11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-end of serial regi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 flipH="1">
            <a:off x="3685680" y="6019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>
            <a:off x="69343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 flipH="1">
            <a:off x="67719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5" name=""/>
          <p:cNvSpPr/>
          <p:nvPr/>
        </p:nvSpPr>
        <p:spPr>
          <a:xfrm>
            <a:off x="504828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"/>
          <p:cNvSpPr/>
          <p:nvPr/>
        </p:nvSpPr>
        <p:spPr>
          <a:xfrm>
            <a:off x="5210280" y="33242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5353200" y="332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 flipV="1">
            <a:off x="6791400" y="3543120"/>
            <a:ext cx="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"/>
          <p:cNvSpPr/>
          <p:nvPr/>
        </p:nvSpPr>
        <p:spPr>
          <a:xfrm>
            <a:off x="5353200" y="3543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"/>
          <p:cNvSpPr/>
          <p:nvPr/>
        </p:nvSpPr>
        <p:spPr>
          <a:xfrm>
            <a:off x="7839000" y="25052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"/>
          <p:cNvSpPr/>
          <p:nvPr/>
        </p:nvSpPr>
        <p:spPr>
          <a:xfrm>
            <a:off x="799164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2" name=""/>
          <p:cNvSpPr/>
          <p:nvPr/>
        </p:nvSpPr>
        <p:spPr>
          <a:xfrm>
            <a:off x="783900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3" name=""/>
          <p:cNvSpPr/>
          <p:nvPr/>
        </p:nvSpPr>
        <p:spPr>
          <a:xfrm>
            <a:off x="7686720" y="3038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4" name=""/>
          <p:cNvSpPr/>
          <p:nvPr/>
        </p:nvSpPr>
        <p:spPr>
          <a:xfrm>
            <a:off x="76960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5" name=""/>
          <p:cNvSpPr/>
          <p:nvPr/>
        </p:nvSpPr>
        <p:spPr>
          <a:xfrm>
            <a:off x="76960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"/>
          <p:cNvSpPr/>
          <p:nvPr/>
        </p:nvSpPr>
        <p:spPr>
          <a:xfrm flipV="1">
            <a:off x="78487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7" name=""/>
          <p:cNvSpPr/>
          <p:nvPr/>
        </p:nvSpPr>
        <p:spPr>
          <a:xfrm>
            <a:off x="7848720" y="3362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"/>
          <p:cNvSpPr/>
          <p:nvPr/>
        </p:nvSpPr>
        <p:spPr>
          <a:xfrm>
            <a:off x="7991640" y="3362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9" name=""/>
          <p:cNvSpPr/>
          <p:nvPr/>
        </p:nvSpPr>
        <p:spPr>
          <a:xfrm>
            <a:off x="8001000" y="3029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"/>
          <p:cNvSpPr/>
          <p:nvPr/>
        </p:nvSpPr>
        <p:spPr>
          <a:xfrm>
            <a:off x="407988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1" name=""/>
          <p:cNvSpPr/>
          <p:nvPr/>
        </p:nvSpPr>
        <p:spPr>
          <a:xfrm>
            <a:off x="415620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"/>
          <p:cNvSpPr/>
          <p:nvPr/>
        </p:nvSpPr>
        <p:spPr>
          <a:xfrm>
            <a:off x="39276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"/>
          <p:cNvSpPr/>
          <p:nvPr/>
        </p:nvSpPr>
        <p:spPr>
          <a:xfrm>
            <a:off x="41562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4" name=""/>
          <p:cNvSpPr/>
          <p:nvPr/>
        </p:nvSpPr>
        <p:spPr>
          <a:xfrm>
            <a:off x="4278960" y="49258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5" name=""/>
          <p:cNvSpPr/>
          <p:nvPr/>
        </p:nvSpPr>
        <p:spPr>
          <a:xfrm>
            <a:off x="4431600" y="33526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6" name=""/>
          <p:cNvSpPr/>
          <p:nvPr/>
        </p:nvSpPr>
        <p:spPr>
          <a:xfrm>
            <a:off x="1447920" y="4724280"/>
            <a:ext cx="30456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7" name=""/>
          <p:cNvGrpSpPr/>
          <p:nvPr/>
        </p:nvGrpSpPr>
        <p:grpSpPr>
          <a:xfrm>
            <a:off x="800280" y="4549680"/>
            <a:ext cx="1752480" cy="698760"/>
            <a:chOff x="800280" y="4549680"/>
            <a:chExt cx="1752480" cy="698760"/>
          </a:xfrm>
        </p:grpSpPr>
        <p:sp>
          <p:nvSpPr>
            <p:cNvPr id="5878" name=""/>
            <p:cNvSpPr/>
            <p:nvPr/>
          </p:nvSpPr>
          <p:spPr>
            <a:xfrm>
              <a:off x="800280" y="4549680"/>
              <a:ext cx="175248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800280" y="4854600"/>
              <a:ext cx="1752480" cy="393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1771920" y="4730760"/>
              <a:ext cx="304560" cy="127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1686240" y="4797360"/>
              <a:ext cx="5331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2" name=""/>
          <p:cNvSpPr/>
          <p:nvPr/>
        </p:nvSpPr>
        <p:spPr>
          <a:xfrm>
            <a:off x="800280" y="4552920"/>
            <a:ext cx="175248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"/>
          <p:cNvSpPr/>
          <p:nvPr/>
        </p:nvSpPr>
        <p:spPr>
          <a:xfrm>
            <a:off x="800280" y="4857840"/>
            <a:ext cx="1752480" cy="393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4" name=""/>
          <p:cNvSpPr/>
          <p:nvPr/>
        </p:nvSpPr>
        <p:spPr>
          <a:xfrm>
            <a:off x="5158080" y="4735440"/>
            <a:ext cx="3228840" cy="10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action is known as the ‘charge dum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voltage step 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as much 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ra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 for each electron conta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charge pac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"/>
          <p:cNvSpPr/>
          <p:nvPr/>
        </p:nvSpPr>
        <p:spPr>
          <a:xfrm>
            <a:off x="1117440" y="776160"/>
            <a:ext cx="69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harge is then transferred onto the output node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ow steps down to the ‘Signal level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6" name=""/>
          <p:cNvGrpSpPr/>
          <p:nvPr/>
        </p:nvGrpSpPr>
        <p:grpSpPr>
          <a:xfrm>
            <a:off x="2014560" y="4319640"/>
            <a:ext cx="609480" cy="380880"/>
            <a:chOff x="2014560" y="4319640"/>
            <a:chExt cx="609480" cy="380880"/>
          </a:xfrm>
        </p:grpSpPr>
        <p:sp>
          <p:nvSpPr>
            <p:cNvPr id="5887" name=""/>
            <p:cNvSpPr/>
            <p:nvPr/>
          </p:nvSpPr>
          <p:spPr>
            <a:xfrm>
              <a:off x="2166840" y="4395600"/>
              <a:ext cx="304200" cy="30492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2014560" y="431964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9" name=""/>
          <p:cNvSpPr/>
          <p:nvPr/>
        </p:nvSpPr>
        <p:spPr>
          <a:xfrm flipH="1" flipV="1">
            <a:off x="2325240" y="4258800"/>
            <a:ext cx="180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 flipV="1">
            <a:off x="1371600" y="4571640"/>
            <a:ext cx="761760" cy="15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1" name=""/>
          <p:cNvSpPr/>
          <p:nvPr/>
        </p:nvSpPr>
        <p:spPr>
          <a:xfrm>
            <a:off x="803160" y="4546440"/>
            <a:ext cx="175284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2" name=""/>
          <p:cNvSpPr/>
          <p:nvPr/>
        </p:nvSpPr>
        <p:spPr>
          <a:xfrm>
            <a:off x="3051720" y="152280"/>
            <a:ext cx="28339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Chip Amplifier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3" name=""/>
          <p:cNvSpPr/>
          <p:nvPr/>
        </p:nvSpPr>
        <p:spPr>
          <a:xfrm>
            <a:off x="2865600" y="3962520"/>
            <a:ext cx="75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4" name=""/>
          <p:cNvSpPr/>
          <p:nvPr/>
        </p:nvSpPr>
        <p:spPr>
          <a:xfrm>
            <a:off x="2784600" y="4038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5" name=""/>
          <p:cNvSpPr/>
          <p:nvPr/>
        </p:nvSpPr>
        <p:spPr>
          <a:xfrm flipH="1">
            <a:off x="232740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6" name=""/>
          <p:cNvGrpSpPr/>
          <p:nvPr/>
        </p:nvGrpSpPr>
        <p:grpSpPr>
          <a:xfrm>
            <a:off x="2936520" y="4419720"/>
            <a:ext cx="152280" cy="685800"/>
            <a:chOff x="2936520" y="4419720"/>
            <a:chExt cx="152280" cy="685800"/>
          </a:xfrm>
        </p:grpSpPr>
        <p:sp>
          <p:nvSpPr>
            <p:cNvPr id="5897" name=""/>
            <p:cNvSpPr/>
            <p:nvPr/>
          </p:nvSpPr>
          <p:spPr>
            <a:xfrm>
              <a:off x="3079800" y="4419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 flipH="1">
              <a:off x="2936520" y="4428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9" name=""/>
          <p:cNvSpPr/>
          <p:nvPr/>
        </p:nvSpPr>
        <p:spPr>
          <a:xfrm>
            <a:off x="2398680" y="312408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0" name=""/>
          <p:cNvGrpSpPr/>
          <p:nvPr/>
        </p:nvGrpSpPr>
        <p:grpSpPr>
          <a:xfrm>
            <a:off x="2479320" y="2599920"/>
            <a:ext cx="152280" cy="685800"/>
            <a:chOff x="2479320" y="2599920"/>
            <a:chExt cx="152280" cy="685800"/>
          </a:xfrm>
        </p:grpSpPr>
        <p:sp>
          <p:nvSpPr>
            <p:cNvPr id="5901" name=""/>
            <p:cNvSpPr/>
            <p:nvPr/>
          </p:nvSpPr>
          <p:spPr>
            <a:xfrm flipV="1">
              <a:off x="2622600" y="25999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 flipH="1">
              <a:off x="2479320" y="3276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3" name=""/>
          <p:cNvSpPr/>
          <p:nvPr/>
        </p:nvSpPr>
        <p:spPr>
          <a:xfrm>
            <a:off x="2317680" y="3200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 flipH="1">
            <a:off x="186048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5" name=""/>
          <p:cNvGrpSpPr/>
          <p:nvPr/>
        </p:nvGrpSpPr>
        <p:grpSpPr>
          <a:xfrm>
            <a:off x="2469960" y="3581280"/>
            <a:ext cx="152280" cy="685800"/>
            <a:chOff x="2469960" y="3581280"/>
            <a:chExt cx="152280" cy="685800"/>
          </a:xfrm>
        </p:grpSpPr>
        <p:sp>
          <p:nvSpPr>
            <p:cNvPr id="5906" name=""/>
            <p:cNvSpPr/>
            <p:nvPr/>
          </p:nvSpPr>
          <p:spPr>
            <a:xfrm>
              <a:off x="2613240" y="3581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 flipH="1">
              <a:off x="2469960" y="3590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8" name=""/>
          <p:cNvSpPr/>
          <p:nvPr/>
        </p:nvSpPr>
        <p:spPr>
          <a:xfrm>
            <a:off x="2575080" y="42292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9" name=""/>
          <p:cNvGrpSpPr/>
          <p:nvPr/>
        </p:nvGrpSpPr>
        <p:grpSpPr>
          <a:xfrm>
            <a:off x="2945880" y="2590560"/>
            <a:ext cx="142920" cy="1532520"/>
            <a:chOff x="2945880" y="2590560"/>
            <a:chExt cx="142920" cy="1532520"/>
          </a:xfrm>
        </p:grpSpPr>
        <p:sp>
          <p:nvSpPr>
            <p:cNvPr id="5910" name=""/>
            <p:cNvSpPr/>
            <p:nvPr/>
          </p:nvSpPr>
          <p:spPr>
            <a:xfrm flipV="1">
              <a:off x="3080160" y="2590560"/>
              <a:ext cx="0" cy="153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 flipH="1">
              <a:off x="2945880" y="4102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2" name=""/>
          <p:cNvSpPr/>
          <p:nvPr/>
        </p:nvSpPr>
        <p:spPr>
          <a:xfrm>
            <a:off x="3003480" y="244800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2556000" y="243828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4" name=""/>
          <p:cNvGrpSpPr/>
          <p:nvPr/>
        </p:nvGrpSpPr>
        <p:grpSpPr>
          <a:xfrm>
            <a:off x="3070080" y="5029200"/>
            <a:ext cx="857160" cy="152280"/>
            <a:chOff x="3070080" y="5029200"/>
            <a:chExt cx="857160" cy="152280"/>
          </a:xfrm>
        </p:grpSpPr>
        <p:sp>
          <p:nvSpPr>
            <p:cNvPr id="5915" name=""/>
            <p:cNvSpPr/>
            <p:nvPr/>
          </p:nvSpPr>
          <p:spPr>
            <a:xfrm>
              <a:off x="3070080" y="51037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 rot="5400000">
              <a:off x="3773160" y="5027400"/>
              <a:ext cx="152280" cy="155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7" name=""/>
          <p:cNvSpPr/>
          <p:nvPr/>
        </p:nvSpPr>
        <p:spPr>
          <a:xfrm>
            <a:off x="2097000" y="4529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"/>
          <p:cNvSpPr/>
          <p:nvPr/>
        </p:nvSpPr>
        <p:spPr>
          <a:xfrm>
            <a:off x="1255680" y="4495680"/>
            <a:ext cx="614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9" name=""/>
          <p:cNvGrpSpPr/>
          <p:nvPr/>
        </p:nvGrpSpPr>
        <p:grpSpPr>
          <a:xfrm>
            <a:off x="1793880" y="2438280"/>
            <a:ext cx="152280" cy="990720"/>
            <a:chOff x="1793880" y="2438280"/>
            <a:chExt cx="152280" cy="990720"/>
          </a:xfrm>
        </p:grpSpPr>
        <p:sp>
          <p:nvSpPr>
            <p:cNvPr id="5920" name=""/>
            <p:cNvSpPr/>
            <p:nvPr/>
          </p:nvSpPr>
          <p:spPr>
            <a:xfrm>
              <a:off x="179388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186984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2" name=""/>
          <p:cNvSpPr/>
          <p:nvPr/>
        </p:nvSpPr>
        <p:spPr>
          <a:xfrm>
            <a:off x="1488960" y="2438280"/>
            <a:ext cx="15264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"/>
          <p:cNvSpPr/>
          <p:nvPr/>
        </p:nvSpPr>
        <p:spPr>
          <a:xfrm>
            <a:off x="1565280" y="25909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"/>
          <p:cNvSpPr/>
          <p:nvPr/>
        </p:nvSpPr>
        <p:spPr>
          <a:xfrm>
            <a:off x="2862720" y="213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5" name=""/>
          <p:cNvSpPr/>
          <p:nvPr/>
        </p:nvSpPr>
        <p:spPr>
          <a:xfrm>
            <a:off x="3598920" y="472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"/>
          <p:cNvSpPr/>
          <p:nvPr/>
        </p:nvSpPr>
        <p:spPr>
          <a:xfrm>
            <a:off x="2414880" y="213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7" name=""/>
          <p:cNvGrpSpPr/>
          <p:nvPr/>
        </p:nvGrpSpPr>
        <p:grpSpPr>
          <a:xfrm>
            <a:off x="1765080" y="2132640"/>
            <a:ext cx="379440" cy="307080"/>
            <a:chOff x="1765080" y="2132640"/>
            <a:chExt cx="379440" cy="307080"/>
          </a:xfrm>
        </p:grpSpPr>
        <p:grpSp>
          <p:nvGrpSpPr>
            <p:cNvPr id="5928" name=""/>
            <p:cNvGrpSpPr/>
            <p:nvPr/>
          </p:nvGrpSpPr>
          <p:grpSpPr>
            <a:xfrm>
              <a:off x="1765080" y="2168280"/>
              <a:ext cx="152640" cy="228240"/>
              <a:chOff x="1765080" y="2168280"/>
              <a:chExt cx="152640" cy="228240"/>
            </a:xfrm>
          </p:grpSpPr>
          <p:sp>
            <p:nvSpPr>
              <p:cNvPr id="5929" name=""/>
              <p:cNvSpPr/>
              <p:nvPr/>
            </p:nvSpPr>
            <p:spPr>
              <a:xfrm>
                <a:off x="1765440" y="22060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 flipH="1">
                <a:off x="1765080" y="2168280"/>
                <a:ext cx="1522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1" name=""/>
            <p:cNvSpPr/>
            <p:nvPr/>
          </p:nvSpPr>
          <p:spPr>
            <a:xfrm>
              <a:off x="1845000" y="2132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2" name=""/>
          <p:cNvSpPr/>
          <p:nvPr/>
        </p:nvSpPr>
        <p:spPr>
          <a:xfrm>
            <a:off x="1317600" y="2132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"/>
          <p:cNvSpPr/>
          <p:nvPr/>
        </p:nvSpPr>
        <p:spPr>
          <a:xfrm>
            <a:off x="2130840" y="3922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"/>
          <p:cNvSpPr/>
          <p:nvPr/>
        </p:nvSpPr>
        <p:spPr>
          <a:xfrm>
            <a:off x="3034800" y="4075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"/>
          <p:cNvSpPr/>
          <p:nvPr/>
        </p:nvSpPr>
        <p:spPr>
          <a:xfrm>
            <a:off x="2413800" y="3256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"/>
          <p:cNvSpPr/>
          <p:nvPr/>
        </p:nvSpPr>
        <p:spPr>
          <a:xfrm>
            <a:off x="1512000" y="3922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7" name=""/>
          <p:cNvSpPr/>
          <p:nvPr/>
        </p:nvSpPr>
        <p:spPr>
          <a:xfrm>
            <a:off x="6934320" y="1295280"/>
            <a:ext cx="76176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"/>
          <p:cNvSpPr/>
          <p:nvPr/>
        </p:nvSpPr>
        <p:spPr>
          <a:xfrm>
            <a:off x="679140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7991640" y="3581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 flipV="1">
            <a:off x="5210280" y="33242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"/>
          <p:cNvSpPr/>
          <p:nvPr/>
        </p:nvSpPr>
        <p:spPr>
          <a:xfrm flipV="1">
            <a:off x="784872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>
            <a:off x="5353200" y="3038400"/>
            <a:ext cx="23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>
            <a:off x="520056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4" name=""/>
          <p:cNvSpPr/>
          <p:nvPr/>
        </p:nvSpPr>
        <p:spPr>
          <a:xfrm>
            <a:off x="5353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"/>
          <p:cNvSpPr/>
          <p:nvPr/>
        </p:nvSpPr>
        <p:spPr>
          <a:xfrm>
            <a:off x="520056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"/>
          <p:cNvSpPr/>
          <p:nvPr/>
        </p:nvSpPr>
        <p:spPr>
          <a:xfrm>
            <a:off x="5105520" y="1876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"/>
          <p:cNvSpPr/>
          <p:nvPr/>
        </p:nvSpPr>
        <p:spPr>
          <a:xfrm>
            <a:off x="51055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8" name=""/>
          <p:cNvSpPr/>
          <p:nvPr/>
        </p:nvSpPr>
        <p:spPr>
          <a:xfrm>
            <a:off x="5486400" y="1600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9" name=""/>
          <p:cNvSpPr/>
          <p:nvPr/>
        </p:nvSpPr>
        <p:spPr>
          <a:xfrm>
            <a:off x="69343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0" name=""/>
          <p:cNvSpPr/>
          <p:nvPr/>
        </p:nvSpPr>
        <p:spPr>
          <a:xfrm>
            <a:off x="54864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1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2" name=""/>
          <p:cNvSpPr/>
          <p:nvPr/>
        </p:nvSpPr>
        <p:spPr>
          <a:xfrm>
            <a:off x="4725720" y="14479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3" name=""/>
          <p:cNvSpPr/>
          <p:nvPr/>
        </p:nvSpPr>
        <p:spPr>
          <a:xfrm>
            <a:off x="4725720" y="2324160"/>
            <a:ext cx="471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1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4" name=""/>
          <p:cNvSpPr/>
          <p:nvPr/>
        </p:nvSpPr>
        <p:spPr>
          <a:xfrm flipH="1">
            <a:off x="5105520" y="16002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5" name=""/>
          <p:cNvSpPr/>
          <p:nvPr/>
        </p:nvSpPr>
        <p:spPr>
          <a:xfrm flipH="1">
            <a:off x="5105520" y="248616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6" name=""/>
          <p:cNvGrpSpPr/>
          <p:nvPr/>
        </p:nvGrpSpPr>
        <p:grpSpPr>
          <a:xfrm>
            <a:off x="4267080" y="2514600"/>
            <a:ext cx="445680" cy="459720"/>
            <a:chOff x="4267080" y="2514600"/>
            <a:chExt cx="445680" cy="459720"/>
          </a:xfrm>
        </p:grpSpPr>
        <p:grpSp>
          <p:nvGrpSpPr>
            <p:cNvPr id="5957" name=""/>
            <p:cNvGrpSpPr/>
            <p:nvPr/>
          </p:nvGrpSpPr>
          <p:grpSpPr>
            <a:xfrm>
              <a:off x="4267080" y="2644920"/>
              <a:ext cx="114480" cy="228600"/>
              <a:chOff x="4267080" y="2644920"/>
              <a:chExt cx="114480" cy="228600"/>
            </a:xfrm>
          </p:grpSpPr>
          <p:sp>
            <p:nvSpPr>
              <p:cNvPr id="5958" name=""/>
              <p:cNvSpPr/>
              <p:nvPr/>
            </p:nvSpPr>
            <p:spPr>
              <a:xfrm>
                <a:off x="4267080" y="2701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 flipH="1">
                <a:off x="4267080" y="2644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0" name=""/>
            <p:cNvSpPr/>
            <p:nvPr/>
          </p:nvSpPr>
          <p:spPr>
            <a:xfrm>
              <a:off x="4329360" y="25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1" name=""/>
          <p:cNvSpPr/>
          <p:nvPr/>
        </p:nvSpPr>
        <p:spPr>
          <a:xfrm>
            <a:off x="4116600" y="1600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"/>
          <p:cNvSpPr/>
          <p:nvPr/>
        </p:nvSpPr>
        <p:spPr>
          <a:xfrm>
            <a:off x="803160" y="4851360"/>
            <a:ext cx="1752840" cy="393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>
            <a:off x="803160" y="453384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3851280" y="5181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5" name=""/>
          <p:cNvSpPr/>
          <p:nvPr/>
        </p:nvSpPr>
        <p:spPr>
          <a:xfrm>
            <a:off x="3724200" y="525780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"/>
          <p:cNvSpPr/>
          <p:nvPr/>
        </p:nvSpPr>
        <p:spPr>
          <a:xfrm flipH="1">
            <a:off x="802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"/>
          <p:cNvSpPr/>
          <p:nvPr/>
        </p:nvSpPr>
        <p:spPr>
          <a:xfrm>
            <a:off x="305640" y="4190040"/>
            <a:ext cx="11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-end of serial regi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"/>
          <p:cNvSpPr/>
          <p:nvPr/>
        </p:nvSpPr>
        <p:spPr>
          <a:xfrm flipH="1">
            <a:off x="3685680" y="6019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9" name=""/>
          <p:cNvSpPr/>
          <p:nvPr/>
        </p:nvSpPr>
        <p:spPr>
          <a:xfrm>
            <a:off x="69343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"/>
          <p:cNvSpPr/>
          <p:nvPr/>
        </p:nvSpPr>
        <p:spPr>
          <a:xfrm flipH="1">
            <a:off x="67719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"/>
          <p:cNvSpPr/>
          <p:nvPr/>
        </p:nvSpPr>
        <p:spPr>
          <a:xfrm>
            <a:off x="504828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2" name=""/>
          <p:cNvSpPr/>
          <p:nvPr/>
        </p:nvSpPr>
        <p:spPr>
          <a:xfrm>
            <a:off x="5210280" y="33242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"/>
          <p:cNvSpPr/>
          <p:nvPr/>
        </p:nvSpPr>
        <p:spPr>
          <a:xfrm>
            <a:off x="5353200" y="332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"/>
          <p:cNvSpPr/>
          <p:nvPr/>
        </p:nvSpPr>
        <p:spPr>
          <a:xfrm flipV="1">
            <a:off x="6791400" y="3543120"/>
            <a:ext cx="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"/>
          <p:cNvSpPr/>
          <p:nvPr/>
        </p:nvSpPr>
        <p:spPr>
          <a:xfrm>
            <a:off x="5353200" y="3543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"/>
          <p:cNvSpPr/>
          <p:nvPr/>
        </p:nvSpPr>
        <p:spPr>
          <a:xfrm>
            <a:off x="7839000" y="25052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7" name=""/>
          <p:cNvSpPr/>
          <p:nvPr/>
        </p:nvSpPr>
        <p:spPr>
          <a:xfrm>
            <a:off x="799164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"/>
          <p:cNvSpPr/>
          <p:nvPr/>
        </p:nvSpPr>
        <p:spPr>
          <a:xfrm>
            <a:off x="783900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"/>
          <p:cNvSpPr/>
          <p:nvPr/>
        </p:nvSpPr>
        <p:spPr>
          <a:xfrm>
            <a:off x="7686720" y="3038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"/>
          <p:cNvSpPr/>
          <p:nvPr/>
        </p:nvSpPr>
        <p:spPr>
          <a:xfrm>
            <a:off x="76960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"/>
          <p:cNvSpPr/>
          <p:nvPr/>
        </p:nvSpPr>
        <p:spPr>
          <a:xfrm>
            <a:off x="76960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"/>
          <p:cNvSpPr/>
          <p:nvPr/>
        </p:nvSpPr>
        <p:spPr>
          <a:xfrm flipV="1">
            <a:off x="78487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"/>
          <p:cNvSpPr/>
          <p:nvPr/>
        </p:nvSpPr>
        <p:spPr>
          <a:xfrm>
            <a:off x="7848720" y="3362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4" name=""/>
          <p:cNvSpPr/>
          <p:nvPr/>
        </p:nvSpPr>
        <p:spPr>
          <a:xfrm>
            <a:off x="7991640" y="3362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>
            <a:off x="8001000" y="3029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>
            <a:off x="407988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"/>
          <p:cNvSpPr/>
          <p:nvPr/>
        </p:nvSpPr>
        <p:spPr>
          <a:xfrm>
            <a:off x="415620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8" name=""/>
          <p:cNvSpPr/>
          <p:nvPr/>
        </p:nvSpPr>
        <p:spPr>
          <a:xfrm>
            <a:off x="39276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"/>
          <p:cNvSpPr/>
          <p:nvPr/>
        </p:nvSpPr>
        <p:spPr>
          <a:xfrm>
            <a:off x="41562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0" name=""/>
          <p:cNvSpPr/>
          <p:nvPr/>
        </p:nvSpPr>
        <p:spPr>
          <a:xfrm>
            <a:off x="4278960" y="49258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"/>
          <p:cNvSpPr/>
          <p:nvPr/>
        </p:nvSpPr>
        <p:spPr>
          <a:xfrm>
            <a:off x="4431600" y="33526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2" name=""/>
          <p:cNvSpPr/>
          <p:nvPr/>
        </p:nvSpPr>
        <p:spPr>
          <a:xfrm>
            <a:off x="1123200" y="776160"/>
            <a:ext cx="5953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now sampled by external circuitry for up to a few tens of microsecon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"/>
          <p:cNvSpPr/>
          <p:nvPr/>
        </p:nvSpPr>
        <p:spPr>
          <a:xfrm>
            <a:off x="5155200" y="4735440"/>
            <a:ext cx="327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ample level - reference level will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ortional to the size of the input char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4" name=""/>
          <p:cNvGrpSpPr/>
          <p:nvPr/>
        </p:nvGrpSpPr>
        <p:grpSpPr>
          <a:xfrm>
            <a:off x="2014560" y="4319640"/>
            <a:ext cx="609480" cy="380880"/>
            <a:chOff x="2014560" y="4319640"/>
            <a:chExt cx="609480" cy="380880"/>
          </a:xfrm>
        </p:grpSpPr>
        <p:sp>
          <p:nvSpPr>
            <p:cNvPr id="5995" name=""/>
            <p:cNvSpPr/>
            <p:nvPr/>
          </p:nvSpPr>
          <p:spPr>
            <a:xfrm>
              <a:off x="2166840" y="4395600"/>
              <a:ext cx="304200" cy="30492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2014560" y="431964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7" name=""/>
          <p:cNvSpPr/>
          <p:nvPr/>
        </p:nvSpPr>
        <p:spPr>
          <a:xfrm flipH="1" flipV="1">
            <a:off x="2325240" y="4258800"/>
            <a:ext cx="180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62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62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63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65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66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67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940120" y="3095640"/>
            <a:ext cx="296280" cy="282240"/>
            <a:chOff x="2940120" y="3095640"/>
            <a:chExt cx="296280" cy="282240"/>
          </a:xfrm>
        </p:grpSpPr>
        <p:sp>
          <p:nvSpPr>
            <p:cNvPr id="684" name=""/>
            <p:cNvSpPr/>
            <p:nvPr/>
          </p:nvSpPr>
          <p:spPr>
            <a:xfrm>
              <a:off x="2950920" y="326520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940120" y="3156840"/>
              <a:ext cx="294120" cy="1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42640" y="3095640"/>
              <a:ext cx="289080" cy="11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943720" y="3156120"/>
              <a:ext cx="5400" cy="1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3226680" y="315288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4745160" y="3097080"/>
            <a:ext cx="296280" cy="282240"/>
            <a:chOff x="4745160" y="3097080"/>
            <a:chExt cx="296280" cy="282240"/>
          </a:xfrm>
        </p:grpSpPr>
        <p:sp>
          <p:nvSpPr>
            <p:cNvPr id="691" name=""/>
            <p:cNvSpPr/>
            <p:nvPr/>
          </p:nvSpPr>
          <p:spPr>
            <a:xfrm>
              <a:off x="4756320" y="326664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45160" y="3157920"/>
              <a:ext cx="2941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47680" y="3097080"/>
              <a:ext cx="289080" cy="11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48760" y="3157560"/>
              <a:ext cx="540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5031720" y="315432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851280" y="3097080"/>
            <a:ext cx="296280" cy="282240"/>
            <a:chOff x="3851280" y="3097080"/>
            <a:chExt cx="296280" cy="282240"/>
          </a:xfrm>
        </p:grpSpPr>
        <p:sp>
          <p:nvSpPr>
            <p:cNvPr id="697" name=""/>
            <p:cNvSpPr/>
            <p:nvPr/>
          </p:nvSpPr>
          <p:spPr>
            <a:xfrm>
              <a:off x="3862080" y="326664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51280" y="3157920"/>
              <a:ext cx="29448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853440" y="3097080"/>
              <a:ext cx="289800" cy="11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54880" y="3157560"/>
              <a:ext cx="540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4137840" y="315432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5091120" y="2743200"/>
            <a:ext cx="280800" cy="274680"/>
            <a:chOff x="5091120" y="2743200"/>
            <a:chExt cx="280800" cy="274680"/>
          </a:xfrm>
        </p:grpSpPr>
        <p:sp>
          <p:nvSpPr>
            <p:cNvPr id="703" name=""/>
            <p:cNvSpPr/>
            <p:nvPr/>
          </p:nvSpPr>
          <p:spPr>
            <a:xfrm>
              <a:off x="5101560" y="2908080"/>
              <a:ext cx="2606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91120" y="2802240"/>
              <a:ext cx="2786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93280" y="2743200"/>
              <a:ext cx="27396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94720" y="280188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5362200" y="279864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4208400" y="2743200"/>
            <a:ext cx="278640" cy="274680"/>
            <a:chOff x="4208400" y="2743200"/>
            <a:chExt cx="278640" cy="274680"/>
          </a:xfrm>
        </p:grpSpPr>
        <p:sp>
          <p:nvSpPr>
            <p:cNvPr id="709" name=""/>
            <p:cNvSpPr/>
            <p:nvPr/>
          </p:nvSpPr>
          <p:spPr>
            <a:xfrm>
              <a:off x="4218840" y="290808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208400" y="280224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210920" y="274320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12000" y="280188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477320" y="279864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305160" y="2743200"/>
            <a:ext cx="278640" cy="274680"/>
            <a:chOff x="3305160" y="2743200"/>
            <a:chExt cx="278640" cy="274680"/>
          </a:xfrm>
        </p:grpSpPr>
        <p:sp>
          <p:nvSpPr>
            <p:cNvPr id="715" name=""/>
            <p:cNvSpPr/>
            <p:nvPr/>
          </p:nvSpPr>
          <p:spPr>
            <a:xfrm>
              <a:off x="3315600" y="290808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05160" y="280224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307680" y="274320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08760" y="280188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3574080" y="279864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641760" y="2455920"/>
            <a:ext cx="257040" cy="252360"/>
            <a:chOff x="3641760" y="2455920"/>
            <a:chExt cx="257040" cy="252360"/>
          </a:xfrm>
        </p:grpSpPr>
        <p:sp>
          <p:nvSpPr>
            <p:cNvPr id="721" name=""/>
            <p:cNvSpPr/>
            <p:nvPr/>
          </p:nvSpPr>
          <p:spPr>
            <a:xfrm>
              <a:off x="3651480" y="26074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641760" y="25102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44280" y="24559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645360" y="25102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3889440" y="25070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4524480" y="2455920"/>
            <a:ext cx="257760" cy="252360"/>
            <a:chOff x="4524480" y="2455920"/>
            <a:chExt cx="257760" cy="252360"/>
          </a:xfrm>
        </p:grpSpPr>
        <p:sp>
          <p:nvSpPr>
            <p:cNvPr id="727" name=""/>
            <p:cNvSpPr/>
            <p:nvPr/>
          </p:nvSpPr>
          <p:spPr>
            <a:xfrm>
              <a:off x="4534200" y="2607480"/>
              <a:ext cx="23904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24480" y="2510280"/>
              <a:ext cx="25596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27000" y="2455920"/>
              <a:ext cx="25092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528080" y="251028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773240" y="25070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372280" y="2455920"/>
            <a:ext cx="256320" cy="252360"/>
            <a:chOff x="5372280" y="2455920"/>
            <a:chExt cx="256320" cy="252360"/>
          </a:xfrm>
        </p:grpSpPr>
        <p:sp>
          <p:nvSpPr>
            <p:cNvPr id="733" name=""/>
            <p:cNvSpPr/>
            <p:nvPr/>
          </p:nvSpPr>
          <p:spPr>
            <a:xfrm>
              <a:off x="5382000" y="26074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372280" y="25102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374440" y="24559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75880" y="25102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5619600" y="25070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739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745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751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757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763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1649160" y="1459080"/>
            <a:ext cx="422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osure finished, buckets now contain samples of r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774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777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791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804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820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824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2530440" y="3562200"/>
            <a:ext cx="289080" cy="399960"/>
            <a:chOff x="2530440" y="3562200"/>
            <a:chExt cx="289080" cy="399960"/>
          </a:xfrm>
        </p:grpSpPr>
        <p:sp>
          <p:nvSpPr>
            <p:cNvPr id="837" name=""/>
            <p:cNvSpPr/>
            <p:nvPr/>
          </p:nvSpPr>
          <p:spPr>
            <a:xfrm>
              <a:off x="2538360" y="3562200"/>
              <a:ext cx="2761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530440" y="3624120"/>
              <a:ext cx="28908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876920" y="3002040"/>
            <a:ext cx="280440" cy="274680"/>
            <a:chOff x="4876920" y="3002040"/>
            <a:chExt cx="280440" cy="274680"/>
          </a:xfrm>
        </p:grpSpPr>
        <p:sp>
          <p:nvSpPr>
            <p:cNvPr id="841" name=""/>
            <p:cNvSpPr/>
            <p:nvPr/>
          </p:nvSpPr>
          <p:spPr>
            <a:xfrm>
              <a:off x="4887360" y="31669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876920" y="30610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79080" y="30020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880520" y="30607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1476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962520" y="3002040"/>
            <a:ext cx="278640" cy="274680"/>
            <a:chOff x="3962520" y="3002040"/>
            <a:chExt cx="278640" cy="274680"/>
          </a:xfrm>
        </p:grpSpPr>
        <p:sp>
          <p:nvSpPr>
            <p:cNvPr id="847" name=""/>
            <p:cNvSpPr/>
            <p:nvPr/>
          </p:nvSpPr>
          <p:spPr>
            <a:xfrm>
              <a:off x="3972960" y="31669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962520" y="30610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965040" y="30020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966120" y="30607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42314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048120" y="3002040"/>
            <a:ext cx="278640" cy="274680"/>
            <a:chOff x="3048120" y="3002040"/>
            <a:chExt cx="278640" cy="274680"/>
          </a:xfrm>
        </p:grpSpPr>
        <p:sp>
          <p:nvSpPr>
            <p:cNvPr id="853" name=""/>
            <p:cNvSpPr/>
            <p:nvPr/>
          </p:nvSpPr>
          <p:spPr>
            <a:xfrm>
              <a:off x="3058560" y="31669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048120" y="30610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50640" y="30020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51720" y="30607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33170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3352680" y="2719440"/>
            <a:ext cx="257400" cy="252360"/>
            <a:chOff x="3352680" y="2719440"/>
            <a:chExt cx="257400" cy="252360"/>
          </a:xfrm>
        </p:grpSpPr>
        <p:sp>
          <p:nvSpPr>
            <p:cNvPr id="859" name=""/>
            <p:cNvSpPr/>
            <p:nvPr/>
          </p:nvSpPr>
          <p:spPr>
            <a:xfrm>
              <a:off x="3362400" y="287100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52680" y="2773800"/>
              <a:ext cx="25488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55200" y="271944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356280" y="277380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3600720" y="277056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267080" y="2719440"/>
            <a:ext cx="258840" cy="252360"/>
            <a:chOff x="4267080" y="2719440"/>
            <a:chExt cx="258840" cy="252360"/>
          </a:xfrm>
        </p:grpSpPr>
        <p:sp>
          <p:nvSpPr>
            <p:cNvPr id="865" name=""/>
            <p:cNvSpPr/>
            <p:nvPr/>
          </p:nvSpPr>
          <p:spPr>
            <a:xfrm>
              <a:off x="4276800" y="287100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67080" y="277380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69600" y="271944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270680" y="277380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4516560" y="277056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5181480" y="2719440"/>
            <a:ext cx="256680" cy="252360"/>
            <a:chOff x="5181480" y="2719440"/>
            <a:chExt cx="256680" cy="252360"/>
          </a:xfrm>
        </p:grpSpPr>
        <p:sp>
          <p:nvSpPr>
            <p:cNvPr id="871" name=""/>
            <p:cNvSpPr/>
            <p:nvPr/>
          </p:nvSpPr>
          <p:spPr>
            <a:xfrm>
              <a:off x="5191200" y="2871000"/>
              <a:ext cx="23832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81480" y="2773800"/>
              <a:ext cx="25488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83640" y="2719440"/>
              <a:ext cx="25020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85080" y="277380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5429160" y="277056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877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883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889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895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901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505320" y="3562200"/>
            <a:ext cx="288720" cy="399960"/>
            <a:chOff x="3505320" y="3562200"/>
            <a:chExt cx="288720" cy="399960"/>
          </a:xfrm>
        </p:grpSpPr>
        <p:sp>
          <p:nvSpPr>
            <p:cNvPr id="911" name=""/>
            <p:cNvSpPr/>
            <p:nvPr/>
          </p:nvSpPr>
          <p:spPr>
            <a:xfrm>
              <a:off x="3512880" y="356220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05320" y="362412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4416480" y="3581280"/>
            <a:ext cx="288720" cy="399960"/>
            <a:chOff x="4416480" y="3581280"/>
            <a:chExt cx="288720" cy="399960"/>
          </a:xfrm>
        </p:grpSpPr>
        <p:sp>
          <p:nvSpPr>
            <p:cNvPr id="914" name=""/>
            <p:cNvSpPr/>
            <p:nvPr/>
          </p:nvSpPr>
          <p:spPr>
            <a:xfrm>
              <a:off x="4424040" y="358128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416480" y="364320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 flipH="1">
            <a:off x="2649600" y="379584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3564000" y="3733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06840" y="3814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639080" y="1459080"/>
            <a:ext cx="664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yor belt starts turning and transfers buckets. Rain collected on the vertical convey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tipped into buckets on the horizontal convey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92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92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93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95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96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97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985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991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997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003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009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015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2562120" y="4076640"/>
            <a:ext cx="326880" cy="304560"/>
            <a:chOff x="2562120" y="4076640"/>
            <a:chExt cx="326880" cy="304560"/>
          </a:xfrm>
        </p:grpSpPr>
        <p:sp>
          <p:nvSpPr>
            <p:cNvPr id="1021" name=""/>
            <p:cNvSpPr/>
            <p:nvPr/>
          </p:nvSpPr>
          <p:spPr>
            <a:xfrm>
              <a:off x="2573640" y="42595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562120" y="41425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564280" y="40766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565720" y="41418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2878560" y="41382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4330800" y="4137120"/>
            <a:ext cx="326520" cy="304560"/>
            <a:chOff x="4330800" y="4137120"/>
            <a:chExt cx="326520" cy="304560"/>
          </a:xfrm>
        </p:grpSpPr>
        <p:sp>
          <p:nvSpPr>
            <p:cNvPr id="1027" name=""/>
            <p:cNvSpPr/>
            <p:nvPr/>
          </p:nvSpPr>
          <p:spPr>
            <a:xfrm>
              <a:off x="4342320" y="432000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330800" y="420300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333320" y="4137120"/>
              <a:ext cx="31932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334400" y="420228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4646880" y="4198680"/>
              <a:ext cx="10440" cy="18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033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039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3463920" y="4133880"/>
            <a:ext cx="326520" cy="304560"/>
            <a:chOff x="3463920" y="4133880"/>
            <a:chExt cx="326520" cy="304560"/>
          </a:xfrm>
        </p:grpSpPr>
        <p:sp>
          <p:nvSpPr>
            <p:cNvPr id="1049" name=""/>
            <p:cNvSpPr/>
            <p:nvPr/>
          </p:nvSpPr>
          <p:spPr>
            <a:xfrm>
              <a:off x="3475440" y="431676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463920" y="419976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466080" y="413388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467520" y="419904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3780000" y="419544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1350720" y="1523880"/>
            <a:ext cx="644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 conveyor stops. Horizontal conveyor starts up and tips each bucket in turn i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easuring cylinder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056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8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059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2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073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5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086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8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102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106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8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120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126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132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138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144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150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3025800" y="4113360"/>
            <a:ext cx="326520" cy="304560"/>
            <a:chOff x="3025800" y="4113360"/>
            <a:chExt cx="326520" cy="304560"/>
          </a:xfrm>
        </p:grpSpPr>
        <p:sp>
          <p:nvSpPr>
            <p:cNvPr id="1156" name=""/>
            <p:cNvSpPr/>
            <p:nvPr/>
          </p:nvSpPr>
          <p:spPr>
            <a:xfrm>
              <a:off x="30373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0258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0279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0294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341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3863880" y="4127400"/>
            <a:ext cx="326880" cy="304560"/>
            <a:chOff x="3863880" y="4127400"/>
            <a:chExt cx="326880" cy="304560"/>
          </a:xfrm>
        </p:grpSpPr>
        <p:sp>
          <p:nvSpPr>
            <p:cNvPr id="1162" name=""/>
            <p:cNvSpPr/>
            <p:nvPr/>
          </p:nvSpPr>
          <p:spPr>
            <a:xfrm>
              <a:off x="3875400" y="43102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63880" y="41932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66400" y="412740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6748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418032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1168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17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18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650960" y="1459080"/>
            <a:ext cx="457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ter each bucket has been measured, the measuring cyli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emptied , ready for the next bucket lo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2T11:04:13Z</dcterms:created>
  <dc:creator>Preferred Customer</dc:creator>
  <dc:description/>
  <dc:language>en-US</dc:language>
  <cp:lastModifiedBy>smtport</cp:lastModifiedBy>
  <dcterms:modified xsi:type="dcterms:W3CDTF">2001-01-22T14:32:04Z</dcterms:modified>
  <cp:revision>18</cp:revision>
  <dc:subject/>
  <dc:title>No Slide Title</dc:title>
</cp:coreProperties>
</file>