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CF1-8449-43C4-A49C-ECADAE21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4BD-1B64-4253-88A8-20DA5D2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FA4-DDD3-4FAA-8CD4-8C3B45AA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AF6-A5E8-4DC6-BE46-2187B543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4FB-8040-4E04-8A53-721377D5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1D3-3E97-4A0D-BAE0-D303040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22A-BE9F-473C-A9E3-4ADF18E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17A-7360-47D9-9FEE-36496CC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ACA-F659-42B0-BCB4-76A53BD8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F4C-71FA-43FC-94D6-6A19760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C66-81FD-4F26-A8F4-62DCB26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A88-D63C-477B-87CC-7757715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B3AB-0073-42D8-92A1-8208573A0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l Campo Cristal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201600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5373720"/>
            <a:ext cx="2879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MAURICIO MOREL ESCO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Licenciado en Química-Quí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Curso: Química Inorgánica I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21F-BC3E-4D50-9165-67EE03A2BF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268280"/>
            <a:ext cx="3456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764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820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esdoblamiento_octaedrico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755800" cy="2676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84464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64500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63640" y="4653000"/>
          <a:ext cx="1185840" cy="12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653000"/>
                    <a:ext cx="118584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desdobalmiento_tetraedrico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69892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6720" y="170028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371628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6720" y="4508640"/>
          <a:ext cx="1346040" cy="14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508640"/>
                    <a:ext cx="134604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B48-6991-49D8-90B6-F62F7F38A9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219320"/>
            <a:ext cx="70866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6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desdoblamiento_plaano_cuadrado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165480" cy="335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3720" y="5334120"/>
            <a:ext cx="1066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96252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3341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9625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96252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124080" y="281916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9920" y="44956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41920" y="5450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y, xz, 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89800" y="335268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0240" y="25146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ctaé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9960" y="160020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ano-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657600"/>
            <a:ext cx="2590920" cy="25146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0B8-62F7-4BBA-90CC-7B0C3B634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3080" y="40788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Complejos de alto o bajo s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8229600" cy="204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 aparear un electrón se requiere 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energía de apareamiento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para vencer la repulsión que existe entre los dos electrones que ocupan el mismo orb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80920" y="4165560"/>
            <a:ext cx="7344000" cy="2089080"/>
            <a:chOff x="880920" y="4165560"/>
            <a:chExt cx="7344000" cy="2089080"/>
          </a:xfrm>
        </p:grpSpPr>
        <p:sp>
          <p:nvSpPr>
            <p:cNvPr id="163" name=""/>
            <p:cNvSpPr/>
            <p:nvPr/>
          </p:nvSpPr>
          <p:spPr>
            <a:xfrm>
              <a:off x="880920" y="4165560"/>
              <a:ext cx="7344000" cy="20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9800" y="4425840"/>
              <a:ext cx="62157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l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fuerte o baj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2440" y="5356080"/>
              <a:ext cx="59216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g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débil o alt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2B3-4000-44A3-9BA0-3D025E12177F}" type="slidenum">
              <a:t>12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95280"/>
            <a:ext cx="9144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4920" y="5335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ERGÍA DE ESTABILIZACIÓN PRODU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 EL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5276880" y="1371600"/>
            <a:ext cx="3181320" cy="28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0" b="15559"/>
          <a:stretch/>
        </p:blipFill>
        <p:spPr>
          <a:xfrm>
            <a:off x="685800" y="1371600"/>
            <a:ext cx="316692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5248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8620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188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7640" y="205740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01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593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71920" y="213372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0120" y="4648320"/>
            <a:ext cx="418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3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+1.(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ALT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2280" y="4648320"/>
            <a:ext cx="414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4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8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 (+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INT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BAJ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83880" y="2332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8040" y="236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F4B-A067-4BB5-83BF-0CE6EF8121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620640"/>
            <a:ext cx="805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DEL DESDOBLAMIENTO ES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LA ENERGÍA DE APAREAMIENTO, SE SIGUE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DE AUF-BAU,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ÁXIMO DESAPAREAMIEN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ALT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ES MAYOR, SE OCUPAN PRIMERO LOS NIVELES INFERIORES Y LUEGO LOS SUP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BAJ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2E6-A9BA-4F11-9907-AA37D64F64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400" y="90792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QUE AFECTAN AL DESDOB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916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RIE A LA PERTENECE EL METAL AL BAJAR EN UN GRUPO, AUMENTA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0114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L ESTADO DE OXIDACIÓN DEL 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YE CUANDO LOS LIGANDOS SON DADORES. AL AUMENTAR EL E.O., AUMENT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21200"/>
            <a:ext cx="777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. GEOMETRÍA DEL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pc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9/4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7E8-C938-41F8-8B7E-45E7723017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898640" y="476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URALEZA DEL LIG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2960" y="3789360"/>
            <a:ext cx="80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IE ESPECTROQUÍMICA  (DATOS EXPERI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MENTA CON EL CARÁCTER ACEPTOR Y DISMIN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9960" y="1235160"/>
            <a:ext cx="8729640" cy="2196720"/>
            <a:chOff x="219960" y="1235160"/>
            <a:chExt cx="8729640" cy="2196720"/>
          </a:xfrm>
        </p:grpSpPr>
        <p:sp>
          <p:nvSpPr>
            <p:cNvPr id="192" name=""/>
            <p:cNvSpPr/>
            <p:nvPr/>
          </p:nvSpPr>
          <p:spPr>
            <a:xfrm>
              <a:off x="263520" y="1235160"/>
              <a:ext cx="86104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960" y="1495440"/>
              <a:ext cx="872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Br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l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F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OH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&lt;py&lt;N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PP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N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520" y="2454120"/>
              <a:ext cx="8534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54480" y="2454120"/>
              <a:ext cx="0" cy="60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4800" y="26064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8880" y="2606400"/>
              <a:ext cx="238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EPTOR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F8E-B3EF-4CCA-819D-4BFBA2118A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720" y="260280"/>
            <a:ext cx="813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be el efecto del campo eléctrico de los ligandos sobre las energías de los orbitales de valencia de un ión metá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147760"/>
            <a:ext cx="42480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sume que la unión metal-ligando es puramente ió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ata a los átomos de ligando y metal como cargas puntuales no polariz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32360" y="1700280"/>
            <a:ext cx="4066920" cy="4975200"/>
            <a:chOff x="4932360" y="1700280"/>
            <a:chExt cx="4066920" cy="4975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0" t="0" r="66653" b="55241"/>
            <a:stretch/>
          </p:blipFill>
          <p:spPr>
            <a:xfrm>
              <a:off x="4932360" y="170028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5194080" y="2116080"/>
              <a:ext cx="3341520" cy="4114800"/>
              <a:chOff x="5194080" y="2116080"/>
              <a:chExt cx="3341520" cy="411480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7671960" y="308628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22960" y="211608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94080" y="327816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7108920" y="551016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5402160" y="497376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786440" y="500652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219-3CE6-470A-9D14-21BE8C7D6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26028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pone que cuando se acercan los ligandos éstos crean un campo cristalino de repulsión sobre el átomo del metal que produce orbitales d dege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gnitud del campo cristalino determina la magnitud de las repulsiones electrost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337-D367-4DF5-9C0A-943535183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0000cc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4F0-FE2E-483C-970B-FFA22D340F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6040" y="1103400"/>
            <a:ext cx="8170920" cy="5854680"/>
            <a:chOff x="446040" y="1103400"/>
            <a:chExt cx="8170920" cy="58546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16069" r="0" b="0"/>
            <a:stretch/>
          </p:blipFill>
          <p:spPr>
            <a:xfrm>
              <a:off x="488880" y="110340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446040" y="650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5E0-5437-4864-8A99-3A540FADC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1393920" cy="1855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741920" cy="69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3224160"/>
            <a:ext cx="1942920" cy="2370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1263600" cy="166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1373400" cy="16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4221000"/>
            <a:ext cx="1451160" cy="170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98800" y="442908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5680" y="4457880"/>
            <a:ext cx="890640" cy="1463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68760" y="595008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4600" y="593424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16880" y="5916600"/>
            <a:ext cx="145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95680" y="2768760"/>
            <a:ext cx="1820880" cy="1643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300720" y="836640"/>
            <a:ext cx="1344600" cy="186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14760" y="2766960"/>
            <a:ext cx="138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0520" y="276876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70828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2133720"/>
            <a:ext cx="649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5370480"/>
            <a:ext cx="64944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608976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05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or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437000"/>
            <a:ext cx="583236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0360" y="34354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781360"/>
            <a:ext cx="0" cy="3168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3F8-4091-48B6-9B54-1E7E654B3D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859280" y="2060640"/>
            <a:ext cx="2879640" cy="3600360"/>
            <a:chOff x="4859280" y="2060640"/>
            <a:chExt cx="2879640" cy="3600360"/>
          </a:xfrm>
        </p:grpSpPr>
        <p:sp>
          <p:nvSpPr>
            <p:cNvPr id="88" name=""/>
            <p:cNvSpPr/>
            <p:nvPr/>
          </p:nvSpPr>
          <p:spPr>
            <a:xfrm>
              <a:off x="4859280" y="2060640"/>
              <a:ext cx="287964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09920" y="4068720"/>
              <a:ext cx="867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055920" y="2476440"/>
              <a:ext cx="411120" cy="157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072120" y="3222720"/>
              <a:ext cx="35820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2400" y="4073400"/>
              <a:ext cx="302760" cy="971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2400" y="4056120"/>
              <a:ext cx="336240" cy="49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108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1840" y="457668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280" y="320364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6760" y="246060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148000" y="3408480"/>
              <a:ext cx="8632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69744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2920" y="4991040"/>
              <a:ext cx="555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3520" y="427032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61160" y="2182680"/>
              <a:ext cx="746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43520" y="2852640"/>
              <a:ext cx="510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00600" y="499104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836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Plano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1B5-9624-405E-B24D-E5930EB66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con elongación tetragon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7128000" cy="297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236000" y="1700280"/>
            <a:ext cx="1180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2637000"/>
            <a:ext cx="15112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989-98EC-458D-81C3-4F04C2F80F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7150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9128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Tetrae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56360" y="1736640"/>
            <a:ext cx="2735280" cy="3384720"/>
            <a:chOff x="6156360" y="1736640"/>
            <a:chExt cx="2735280" cy="3384720"/>
          </a:xfrm>
        </p:grpSpPr>
        <p:sp>
          <p:nvSpPr>
            <p:cNvPr id="115" name=""/>
            <p:cNvSpPr/>
            <p:nvPr/>
          </p:nvSpPr>
          <p:spPr>
            <a:xfrm>
              <a:off x="6228000" y="1736640"/>
              <a:ext cx="2663640" cy="338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3220920"/>
              <a:ext cx="90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1400" y="2274840"/>
              <a:ext cx="182520" cy="94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69320" y="3224160"/>
              <a:ext cx="296640" cy="128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3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224760" y="2351160"/>
              <a:ext cx="7444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64680" y="4537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94960" y="4616280"/>
              <a:ext cx="746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461628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178416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8360" y="1787400"/>
              <a:ext cx="5104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3200" y="180504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12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6000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2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98A-A8B8-4946-B71D-B93316194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1:00:30Z</dcterms:created>
  <dc:creator>FCFM</dc:creator>
  <dc:description/>
  <dc:language>en-US</dc:language>
  <cp:lastModifiedBy>FCFM</cp:lastModifiedBy>
  <dcterms:modified xsi:type="dcterms:W3CDTF">2009-06-12T18:03:17Z</dcterms:modified>
  <cp:revision>6</cp:revision>
  <dc:subject/>
  <dc:title>Diapositiva 1</dc:title>
</cp:coreProperties>
</file>