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B6-1C1D-46AD-87D3-9D852FC5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DD81-432F-4BE9-9E72-B4BEE5DB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AB-63F1-435F-A7CA-B4F89599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654-44C6-4696-9839-35ADB36D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4C06-B339-40F6-AB50-3B352772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00F-34BC-4498-A2D4-727A1567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4111-B416-45E8-BA4E-C617096E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C35B-38F8-48CB-94CF-DB204558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AFB-4AFB-4E38-8BD2-AAB87F6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4F6D-AD24-4B3E-AB3E-62FB9254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296-9908-407A-B7AA-35555CE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CD7-FABA-42B9-869F-C257008B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B952-3575-4319-851C-717ECE001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00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eoría del Campo Cristal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1341360"/>
            <a:ext cx="2016000" cy="172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19640" y="5373720"/>
            <a:ext cx="2879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MAURICIO MOREL ESCOB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Licenciado en Química-Quím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bbe0e3"/>
                </a:solidFill>
                <a:latin typeface="Arial"/>
              </a:rPr>
              <a:t>Curso: Química Inorgánica I-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B779-2577-400F-ACCA-873114EDE1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280" y="1268280"/>
            <a:ext cx="345600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5764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4820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sdoblamiento_octaedrico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55800" cy="2676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84464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i="1" lang="es-E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64500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763640" y="4653000"/>
          <a:ext cx="1185840" cy="12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4653000"/>
                    <a:ext cx="118584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9" name="desdobalmiento_tetraedrico" descr=""/>
          <p:cNvPicPr/>
          <p:nvPr/>
        </p:nvPicPr>
        <p:blipFill>
          <a:blip r:embed="rId4"/>
          <a:stretch/>
        </p:blipFill>
        <p:spPr>
          <a:xfrm>
            <a:off x="5364000" y="1052640"/>
            <a:ext cx="2698920" cy="3095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956720" y="1700280"/>
            <a:ext cx="5317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56720" y="3716280"/>
            <a:ext cx="695160" cy="50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516720" y="4508640"/>
          <a:ext cx="1346040" cy="14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6720" y="4508640"/>
                    <a:ext cx="134604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6BED-04FE-44FD-9076-B568883E42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95280" y="1219320"/>
            <a:ext cx="7086600" cy="53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7652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desdoblamiento_plaano_cuadrado" descr=""/>
          <p:cNvPicPr/>
          <p:nvPr/>
        </p:nvPicPr>
        <p:blipFill>
          <a:blip r:embed="rId1"/>
          <a:stretch/>
        </p:blipFill>
        <p:spPr>
          <a:xfrm>
            <a:off x="4191120" y="2438280"/>
            <a:ext cx="3165480" cy="335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33720" y="5334120"/>
            <a:ext cx="1066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962520"/>
            <a:ext cx="990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53341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962520"/>
            <a:ext cx="2057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3962520"/>
            <a:ext cx="21337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3124080" y="281916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9625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9920" y="449568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41920" y="5450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xy, xz, y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89800" y="335268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30240" y="25146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ctaéd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9960" y="1600200"/>
            <a:ext cx="24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o-cuad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3657600"/>
            <a:ext cx="2590920" cy="2514600"/>
          </a:xfrm>
          <a:prstGeom prst="rect">
            <a:avLst/>
          </a:prstGeom>
          <a:noFill/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CBC-6A34-4228-8C6D-0B8134F39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3080" y="40788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Complejos de alto o bajo s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676520"/>
            <a:ext cx="8229600" cy="204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a aparear un electrón se requiere 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energía de apareamiento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i="1" lang="es-ES_tradnl" sz="32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para vencer la repulsión que existe entre los dos electrones que ocupan el mismo orbit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880920" y="4165560"/>
            <a:ext cx="7344000" cy="2089080"/>
            <a:chOff x="880920" y="4165560"/>
            <a:chExt cx="7344000" cy="2089080"/>
          </a:xfrm>
        </p:grpSpPr>
        <p:sp>
          <p:nvSpPr>
            <p:cNvPr id="163" name=""/>
            <p:cNvSpPr/>
            <p:nvPr/>
          </p:nvSpPr>
          <p:spPr>
            <a:xfrm>
              <a:off x="880920" y="4165560"/>
              <a:ext cx="7344000" cy="2089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9800" y="4425840"/>
              <a:ext cx="621576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l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fuerte o baj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22440" y="5356080"/>
              <a:ext cx="592164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 &gt; </a:t>
              </a:r>
              <a:r>
                <a:rPr b="1" lang="es-ES_tradnl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Campo débil o alto sp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BF8-3911-4D56-9887-165DAD01267D}" type="slidenum">
              <a:t>1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295280"/>
            <a:ext cx="91440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4920" y="5335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ERGÍA DE ESTABILIZACIÓN PRO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R EL CA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0" r="0" b="17399"/>
          <a:stretch/>
        </p:blipFill>
        <p:spPr>
          <a:xfrm>
            <a:off x="5276880" y="1371600"/>
            <a:ext cx="3181320" cy="289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rcRect l="0" t="0" r="0" b="15559"/>
          <a:stretch/>
        </p:blipFill>
        <p:spPr>
          <a:xfrm>
            <a:off x="685800" y="1371600"/>
            <a:ext cx="3166920" cy="28954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75248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62640" y="2933640"/>
            <a:ext cx="221004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88620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1880" y="2952720"/>
            <a:ext cx="0" cy="91440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381880" y="1523880"/>
            <a:ext cx="0" cy="1371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7640" y="205740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01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159320" y="3048120"/>
            <a:ext cx="11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-2/5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71920" y="2133720"/>
            <a:ext cx="11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+3/5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0120" y="4648320"/>
            <a:ext cx="418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3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+1.(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3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ALT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2280" y="4648320"/>
            <a:ext cx="4149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Ee= 4.(-2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)=-8/5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o (+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AMPO INT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</a:rPr>
              <a:t>CONFIGURACIÓN DE BAJO S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83880" y="2332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48040" y="236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</a:t>
            </a:r>
            <a:r>
              <a:rPr b="0" lang="en-US" sz="2400" spc="-1" strike="noStrike" baseline="30000">
                <a:solidFill>
                  <a:srgbClr val="333399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235-75C7-42C3-84B8-36B6729752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826920" y="620640"/>
            <a:ext cx="8058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DEL DESDOBLAMIENTO ES ME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LA ENERGÍA DE APAREAMIENTO, SE SIGUE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DE AUF-BAU, D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ÁXIMO DESAPAREAMIEN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ALT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VALOR ES MAYOR, SE OCUPAN PRIMERO LOS NIVELES INFERIORES Y LUEGO LOS SUPERI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RESULTADO ES UN COMPLEJO DE BAJO SP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D53-B90C-4067-862A-C23108B23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05400" y="907920"/>
            <a:ext cx="76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TORES QUE AFECTAN AL DESDOB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19162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SERIE A LA PERTENECE EL METAL AL BAJAR EN UN GRUPO, AUMENTA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301140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L ESTADO DE OXIDACIÓN DEL M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LUYE CUANDO LOS LIGANDOS SON DADORES. AL AUMENTAR EL E.O., AUMENTA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4921200"/>
            <a:ext cx="77724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. GEOMETRÍA DEL COMPL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pc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&gt;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9/4 </a:t>
            </a:r>
            <a:r>
              <a:rPr b="1" lang="es-E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36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79C-D71B-4B0C-B8AC-DC6A07E36B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898640" y="476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ATURALEZA DEL LIGA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2960" y="3789360"/>
            <a:ext cx="803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RIE ESPECTROQUÍMICA  (DATOS EXPERIMENT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MENTA CON EL CARÁCTER ACEPTOR Y DISMINU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 EL D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219960" y="1235160"/>
            <a:ext cx="8729640" cy="2196720"/>
            <a:chOff x="219960" y="1235160"/>
            <a:chExt cx="8729640" cy="2196720"/>
          </a:xfrm>
        </p:grpSpPr>
        <p:sp>
          <p:nvSpPr>
            <p:cNvPr id="192" name=""/>
            <p:cNvSpPr/>
            <p:nvPr/>
          </p:nvSpPr>
          <p:spPr>
            <a:xfrm>
              <a:off x="263520" y="1235160"/>
              <a:ext cx="861048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9960" y="1495440"/>
              <a:ext cx="8729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Br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l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F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OH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2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O&lt;py&lt;N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PPh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N</a:t>
              </a:r>
              <a:r>
                <a:rPr b="0" lang="es-ES" sz="2800" spc="-1" strike="noStrike" baseline="30000">
                  <a:solidFill>
                    <a:srgbClr val="000000"/>
                  </a:solidFill>
                  <a:latin typeface="Comic Sans MS"/>
                </a:rPr>
                <a:t>-</a:t>
              </a:r>
              <a:r>
                <a:rPr b="0" lang="es-ES" sz="2800" spc="-1" strike="noStrike">
                  <a:solidFill>
                    <a:srgbClr val="000000"/>
                  </a:solidFill>
                  <a:latin typeface="Comic Sans MS"/>
                </a:rPr>
                <a:t>&lt;C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3520" y="2454120"/>
              <a:ext cx="8534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54480" y="2454120"/>
              <a:ext cx="0" cy="609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4800" y="2606400"/>
              <a:ext cx="203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8880" y="2606400"/>
              <a:ext cx="238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ADORE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ACEPTOR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CB5-2C2D-4A31-9713-E3CB6F0004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720" y="260280"/>
            <a:ext cx="8136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cribe el efecto del campo eléctrico de los ligandos sobre las energías de los orbitales de valencia de un ión metál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147760"/>
            <a:ext cx="4248000" cy="35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sume que la unión metal-ligando es puramente ió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ta a los átomos de ligando y metal como cargas puntuales no polariz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932360" y="1700280"/>
            <a:ext cx="4066920" cy="4975200"/>
            <a:chOff x="4932360" y="1700280"/>
            <a:chExt cx="4066920" cy="4975200"/>
          </a:xfrm>
        </p:grpSpPr>
        <p:pic>
          <p:nvPicPr>
            <p:cNvPr id="48" name="" descr=""/>
            <p:cNvPicPr/>
            <p:nvPr/>
          </p:nvPicPr>
          <p:blipFill>
            <a:blip r:embed="rId1"/>
            <a:srcRect l="0" t="0" r="66653" b="55241"/>
            <a:stretch/>
          </p:blipFill>
          <p:spPr>
            <a:xfrm>
              <a:off x="4932360" y="170028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49" name=""/>
            <p:cNvGrpSpPr/>
            <p:nvPr/>
          </p:nvGrpSpPr>
          <p:grpSpPr>
            <a:xfrm>
              <a:off x="5194080" y="2116080"/>
              <a:ext cx="3341520" cy="4114800"/>
              <a:chOff x="5194080" y="2116080"/>
              <a:chExt cx="3341520" cy="4114800"/>
            </a:xfrm>
          </p:grpSpPr>
          <p:sp>
            <p:nvSpPr>
              <p:cNvPr id="50" name=""/>
              <p:cNvSpPr/>
              <p:nvPr/>
            </p:nvSpPr>
            <p:spPr>
              <a:xfrm flipH="1">
                <a:off x="7671960" y="308628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22960" y="211608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194080" y="327816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7108920" y="551016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5402160" y="497376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7786440" y="500652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2D6-7433-4532-ACA4-A594C02D7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260280"/>
            <a:ext cx="777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one que cuando se acercan los ligandos éstos crean un campo cristalino de repulsión sobre el átomo del metal que produce orbitales d degener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magnitud del campo cristalino determina la magnitud de las repulsiones electrost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AEA-611C-4BF4-9985-91CE76C83A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9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0000cc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BAD-7ABB-4D1B-B0A6-B5A226DCA3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46040" y="1103400"/>
            <a:ext cx="8170920" cy="5854680"/>
            <a:chOff x="446040" y="1103400"/>
            <a:chExt cx="8170920" cy="58546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0" t="16069" r="0" b="0"/>
            <a:stretch/>
          </p:blipFill>
          <p:spPr>
            <a:xfrm>
              <a:off x="488880" y="110340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63" name=""/>
            <p:cNvSpPr/>
            <p:nvPr/>
          </p:nvSpPr>
          <p:spPr>
            <a:xfrm>
              <a:off x="446040" y="65008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C46A-D604-4F4A-8773-C95DE21B5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0" y="836640"/>
            <a:ext cx="1393920" cy="1855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907560"/>
            <a:ext cx="4741920" cy="69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08000" y="3224160"/>
            <a:ext cx="1942920" cy="2370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708360" y="4221000"/>
            <a:ext cx="1263600" cy="1660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219640" y="4221000"/>
            <a:ext cx="1373400" cy="1679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04000" y="4221000"/>
            <a:ext cx="1451160" cy="1703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98800" y="442908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95680" y="4457880"/>
            <a:ext cx="890640" cy="14634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68760" y="5950080"/>
            <a:ext cx="123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4600" y="593424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16880" y="5916600"/>
            <a:ext cx="145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695680" y="2768760"/>
            <a:ext cx="1820880" cy="16430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6300720" y="836640"/>
            <a:ext cx="1344600" cy="1868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14760" y="2766960"/>
            <a:ext cx="138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40520" y="2768760"/>
            <a:ext cx="1384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270828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459640" y="2133720"/>
            <a:ext cx="64944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8360" y="5370480"/>
            <a:ext cx="64944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2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6089760"/>
            <a:ext cx="180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tabiliz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580536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or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4437000"/>
            <a:ext cx="5832360" cy="0"/>
          </a:xfrm>
          <a:prstGeom prst="line">
            <a:avLst/>
          </a:prstGeom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80360" y="343548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2781360"/>
            <a:ext cx="0" cy="3168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CDE-7BA0-4CC0-9BAA-08E600C4B2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859280" y="2060640"/>
            <a:ext cx="2879640" cy="3600360"/>
            <a:chOff x="4859280" y="2060640"/>
            <a:chExt cx="2879640" cy="3600360"/>
          </a:xfrm>
        </p:grpSpPr>
        <p:sp>
          <p:nvSpPr>
            <p:cNvPr id="88" name=""/>
            <p:cNvSpPr/>
            <p:nvPr/>
          </p:nvSpPr>
          <p:spPr>
            <a:xfrm>
              <a:off x="4859280" y="2060640"/>
              <a:ext cx="2879640" cy="36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09920" y="4068720"/>
              <a:ext cx="86796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055920" y="2476440"/>
              <a:ext cx="411120" cy="157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6072120" y="3222720"/>
              <a:ext cx="35820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2400" y="4073400"/>
              <a:ext cx="302760" cy="971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2400" y="4056120"/>
              <a:ext cx="336240" cy="49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9108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41840" y="457668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280" y="320364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6760" y="246060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148000" y="3408480"/>
              <a:ext cx="86328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697440" y="5067360"/>
              <a:ext cx="1742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82920" y="4991040"/>
              <a:ext cx="555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43520" y="427032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61160" y="2182680"/>
              <a:ext cx="746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3520" y="2852640"/>
              <a:ext cx="5104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00600" y="4991040"/>
              <a:ext cx="4996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6836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Plano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330-14CB-4327-9BA7-12CE70D00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00000" y="549360"/>
            <a:ext cx="81360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Octaédrico con elongación tetragonal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000" y="2492280"/>
            <a:ext cx="7128000" cy="2970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0000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180800" cy="475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76720" y="2997360"/>
            <a:ext cx="1511280" cy="20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51640" y="2637000"/>
            <a:ext cx="1511280" cy="273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6D4-650C-47C8-A63D-DFDF948209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5715000" cy="2724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991280" cy="69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o Cristalino Tetraedric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156360" y="1736640"/>
            <a:ext cx="2735280" cy="3384720"/>
            <a:chOff x="6156360" y="1736640"/>
            <a:chExt cx="2735280" cy="3384720"/>
          </a:xfrm>
        </p:grpSpPr>
        <p:sp>
          <p:nvSpPr>
            <p:cNvPr id="115" name=""/>
            <p:cNvSpPr/>
            <p:nvPr/>
          </p:nvSpPr>
          <p:spPr>
            <a:xfrm>
              <a:off x="6228000" y="1736640"/>
              <a:ext cx="2663640" cy="338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3220920"/>
              <a:ext cx="90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061400" y="2274840"/>
              <a:ext cx="182520" cy="944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69320" y="3224160"/>
              <a:ext cx="296640" cy="1285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3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6224760" y="2351160"/>
              <a:ext cx="74448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564680" y="4537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94960" y="4616280"/>
              <a:ext cx="74664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2-y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36080" y="461628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z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178416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8360" y="1787400"/>
              <a:ext cx="5104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x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93200" y="1805040"/>
              <a:ext cx="499680" cy="50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e0043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6e0043"/>
                  </a:solidFill>
                  <a:latin typeface="Times New Roman"/>
                </a:rPr>
                <a:t>y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81236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60000" y="2313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52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44000" y="4545000"/>
              <a:ext cx="182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9E7-FADA-41C2-87F2-F49163590A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21:00:30Z</dcterms:created>
  <dc:creator>FCFM</dc:creator>
  <dc:description/>
  <dc:language>en-US</dc:language>
  <cp:lastModifiedBy>FCFM</cp:lastModifiedBy>
  <dcterms:modified xsi:type="dcterms:W3CDTF">2009-06-12T18:03:17Z</dcterms:modified>
  <cp:revision>6</cp:revision>
  <dc:subject/>
  <dc:title>Diapositiva 1</dc:title>
</cp:coreProperties>
</file>