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B135-34E4-45FB-A0AC-D1ED5AC78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650D-E2E0-4553-9478-8EB858783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4F4F-D21D-4B52-A7C0-D1A79DF10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949F-8FC9-4FC5-BC6E-EEC6AECE4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D04E-68E5-4F51-B92E-8BF81D72D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0913-5AE1-41D1-A692-FFF05BC27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1F15-AEDA-4A3A-BB58-C92E438A7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E46D-9981-4BF7-A99E-764F998D3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4952-17C5-4C30-9DE4-BF1D43111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3685-C326-4268-B76B-777A2D1B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4669-8EDC-49AF-B92E-B4C17248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0403-252F-49BD-803B-1D3C0F93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AC39-DBB9-489D-8CEE-B4C3AC461C39}" type="slidenum">
              <a:rPr b="0" lang="es-A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3200400"/>
            <a:ext cx="7121520" cy="825120"/>
          </a:xfrm>
          <a:prstGeom prst="rect">
            <a:avLst/>
          </a:prstGeom>
          <a:solidFill>
            <a:srgbClr val="ffd8c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cc3300"/>
                </a:solidFill>
                <a:latin typeface="Arial"/>
              </a:rPr>
              <a:t>Metales de transición II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0600" y="762120"/>
            <a:ext cx="4762800" cy="1557000"/>
          </a:xfrm>
          <a:prstGeom prst="rect">
            <a:avLst/>
          </a:prstGeom>
          <a:solidFill>
            <a:srgbClr val="ffd8c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Arial"/>
              </a:rPr>
              <a:t>Química General e Inorgánica</a:t>
            </a:r>
            <a:br>
              <a:rPr sz="2400"/>
            </a:br>
            <a:r>
              <a:rPr b="1" lang="es-ES_tradnl" sz="2400" spc="-1" strike="noStrike">
                <a:solidFill>
                  <a:srgbClr val="cc3300"/>
                </a:solidFill>
                <a:latin typeface="Arial"/>
              </a:rPr>
              <a:t>Clase 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cc3300"/>
                </a:solidFill>
                <a:latin typeface="Arial"/>
              </a:rPr>
              <a:t>15 de junio de 2005</a:t>
            </a:r>
            <a:br>
              <a:rPr sz="2400"/>
            </a:br>
            <a:r>
              <a:rPr b="1" lang="es-ES_tradnl" sz="2400" spc="-1" strike="noStrike">
                <a:solidFill>
                  <a:srgbClr val="cc3300"/>
                </a:solidFill>
                <a:latin typeface="Arial"/>
              </a:rPr>
              <a:t>Dr. Pablo Evel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"/>
          <p:cNvGrpSpPr/>
          <p:nvPr/>
        </p:nvGrpSpPr>
        <p:grpSpPr>
          <a:xfrm>
            <a:off x="324000" y="584280"/>
            <a:ext cx="8458200" cy="4287600"/>
            <a:chOff x="324000" y="584280"/>
            <a:chExt cx="8458200" cy="4287600"/>
          </a:xfrm>
        </p:grpSpPr>
        <p:pic>
          <p:nvPicPr>
            <p:cNvPr id="333" name="" descr=""/>
            <p:cNvPicPr/>
            <p:nvPr/>
          </p:nvPicPr>
          <p:blipFill>
            <a:blip r:embed="rId2"/>
            <a:stretch/>
          </p:blipFill>
          <p:spPr>
            <a:xfrm>
              <a:off x="324000" y="1928880"/>
              <a:ext cx="8458200" cy="2943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34" name=""/>
            <p:cNvSpPr/>
            <p:nvPr/>
          </p:nvSpPr>
          <p:spPr>
            <a:xfrm>
              <a:off x="3030480" y="584280"/>
              <a:ext cx="3043440" cy="642600"/>
            </a:xfrm>
            <a:prstGeom prst="rect">
              <a:avLst/>
            </a:prstGeom>
            <a:solidFill>
              <a:srgbClr val="ffd8c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3600" spc="-1" strike="noStrike">
                  <a:solidFill>
                    <a:srgbClr val="cc3300"/>
                  </a:solidFill>
                  <a:latin typeface="Arial"/>
                </a:rPr>
                <a:t>Orbitales 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"/>
          <p:cNvGrpSpPr/>
          <p:nvPr/>
        </p:nvGrpSpPr>
        <p:grpSpPr>
          <a:xfrm>
            <a:off x="470520" y="669960"/>
            <a:ext cx="8272800" cy="5857200"/>
            <a:chOff x="470520" y="669960"/>
            <a:chExt cx="8272800" cy="5857200"/>
          </a:xfrm>
        </p:grpSpPr>
        <p:pic>
          <p:nvPicPr>
            <p:cNvPr id="336" name="" descr=""/>
            <p:cNvPicPr/>
            <p:nvPr/>
          </p:nvPicPr>
          <p:blipFill>
            <a:blip r:embed="rId2"/>
            <a:srcRect l="0" t="16069" r="0" b="0"/>
            <a:stretch/>
          </p:blipFill>
          <p:spPr>
            <a:xfrm>
              <a:off x="488880" y="669960"/>
              <a:ext cx="8128080" cy="51163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37" name=""/>
            <p:cNvSpPr/>
            <p:nvPr/>
          </p:nvSpPr>
          <p:spPr>
            <a:xfrm>
              <a:off x="470520" y="6067440"/>
              <a:ext cx="8272800" cy="459720"/>
            </a:xfrm>
            <a:prstGeom prst="rect">
              <a:avLst/>
            </a:prstGeom>
            <a:solidFill>
              <a:srgbClr val="ffd3c5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cc3300"/>
                  </a:solidFill>
                  <a:latin typeface="Arial"/>
                </a:rPr>
                <a:t>Los orbitales </a:t>
              </a:r>
              <a:r>
                <a:rPr b="1" i="1" lang="es-ES_tradnl" sz="2400" spc="-1" strike="noStrike">
                  <a:solidFill>
                    <a:srgbClr val="cc3300"/>
                  </a:solidFill>
                  <a:latin typeface="Arial"/>
                </a:rPr>
                <a:t>d</a:t>
              </a:r>
              <a:r>
                <a:rPr b="1" lang="es-ES_tradnl" sz="2400" spc="-1" strike="noStrike">
                  <a:solidFill>
                    <a:srgbClr val="cc3300"/>
                  </a:solidFill>
                  <a:latin typeface="Arial"/>
                </a:rPr>
                <a:t> más afectados serán los </a:t>
              </a:r>
              <a:r>
                <a:rPr b="1" i="1" lang="es-ES_tradnl" sz="2400" spc="-1" strike="noStrike">
                  <a:solidFill>
                    <a:srgbClr val="cc3300"/>
                  </a:solidFill>
                  <a:latin typeface="Arial"/>
                </a:rPr>
                <a:t>dx</a:t>
              </a:r>
              <a:r>
                <a:rPr b="1" i="1" lang="es-ES_tradnl" sz="2400" spc="-1" strike="noStrike" baseline="30000">
                  <a:solidFill>
                    <a:srgbClr val="cc3300"/>
                  </a:solidFill>
                  <a:latin typeface="Arial"/>
                </a:rPr>
                <a:t>2</a:t>
              </a:r>
              <a:r>
                <a:rPr b="1" i="1" lang="es-ES_tradnl" sz="2400" spc="-1" strike="noStrike">
                  <a:solidFill>
                    <a:srgbClr val="cc3300"/>
                  </a:solidFill>
                  <a:latin typeface="Arial"/>
                </a:rPr>
                <a:t>-y</a:t>
              </a:r>
              <a:r>
                <a:rPr b="1" i="1" lang="es-ES_tradnl" sz="2400" spc="-1" strike="noStrike" baseline="30000">
                  <a:solidFill>
                    <a:srgbClr val="cc3300"/>
                  </a:solidFill>
                  <a:latin typeface="Arial"/>
                </a:rPr>
                <a:t>2</a:t>
              </a:r>
              <a:r>
                <a:rPr b="1" i="1" lang="es-ES_tradnl" sz="2400" spc="-1" strike="noStrike">
                  <a:solidFill>
                    <a:srgbClr val="cc3300"/>
                  </a:solidFill>
                  <a:latin typeface="Arial"/>
                </a:rPr>
                <a:t> </a:t>
              </a:r>
              <a:r>
                <a:rPr b="1" lang="es-ES_tradnl" sz="2400" spc="-1" strike="noStrike">
                  <a:solidFill>
                    <a:srgbClr val="cc3300"/>
                  </a:solidFill>
                  <a:latin typeface="Arial"/>
                </a:rPr>
                <a:t>y los</a:t>
              </a:r>
              <a:r>
                <a:rPr b="1" i="1" lang="es-ES_tradnl" sz="2400" spc="-1" strike="noStrike">
                  <a:solidFill>
                    <a:srgbClr val="cc3300"/>
                  </a:solidFill>
                  <a:latin typeface="Arial"/>
                </a:rPr>
                <a:t> dz</a:t>
              </a:r>
              <a:r>
                <a:rPr b="1" i="1" lang="es-ES_tradnl" sz="2400" spc="-1" strike="noStrike" baseline="30000">
                  <a:solidFill>
                    <a:srgbClr val="cc3300"/>
                  </a:solidFill>
                  <a:latin typeface="Arial"/>
                </a:rPr>
                <a:t>2</a:t>
              </a:r>
              <a:r>
                <a:rPr b="1" lang="es-ES_tradnl" sz="2400" spc="-1" strike="noStrike">
                  <a:solidFill>
                    <a:srgbClr val="cc33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"/>
          <p:cNvGrpSpPr/>
          <p:nvPr/>
        </p:nvGrpSpPr>
        <p:grpSpPr>
          <a:xfrm>
            <a:off x="1276200" y="457200"/>
            <a:ext cx="6539040" cy="5959440"/>
            <a:chOff x="1276200" y="457200"/>
            <a:chExt cx="6539040" cy="5959440"/>
          </a:xfrm>
        </p:grpSpPr>
        <p:pic>
          <p:nvPicPr>
            <p:cNvPr id="339" name="" descr=""/>
            <p:cNvPicPr/>
            <p:nvPr/>
          </p:nvPicPr>
          <p:blipFill>
            <a:blip r:embed="rId2"/>
            <a:stretch/>
          </p:blipFill>
          <p:spPr>
            <a:xfrm>
              <a:off x="1276200" y="457200"/>
              <a:ext cx="6539040" cy="59594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grpSp>
          <p:nvGrpSpPr>
            <p:cNvPr id="340" name=""/>
            <p:cNvGrpSpPr/>
            <p:nvPr/>
          </p:nvGrpSpPr>
          <p:grpSpPr>
            <a:xfrm>
              <a:off x="3578400" y="3049560"/>
              <a:ext cx="3009600" cy="3337920"/>
              <a:chOff x="3578400" y="3049560"/>
              <a:chExt cx="3009600" cy="3337920"/>
            </a:xfrm>
          </p:grpSpPr>
          <p:sp>
            <p:nvSpPr>
              <p:cNvPr id="341" name=""/>
              <p:cNvSpPr/>
              <p:nvPr/>
            </p:nvSpPr>
            <p:spPr>
              <a:xfrm>
                <a:off x="4743360" y="3049560"/>
                <a:ext cx="18446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Orbitales e</a:t>
                </a:r>
                <a:r>
                  <a:rPr b="1" lang="es-ES_tradnl" sz="1800" spc="-1" strike="noStrike" baseline="-25000">
                    <a:solidFill>
                      <a:srgbClr val="ff0000"/>
                    </a:solidFill>
                    <a:latin typeface="Times New Roman"/>
                  </a:rPr>
                  <a:t>g</a:t>
                </a:r>
                <a:r>
                  <a:rPr b="1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 o d</a:t>
                </a:r>
                <a:r>
                  <a:rPr b="1" lang="es-ES_tradnl" sz="18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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578400" y="5981760"/>
                <a:ext cx="19303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Orbitales t</a:t>
                </a:r>
                <a:r>
                  <a:rPr b="1" lang="es-ES_tradnl" sz="1800" spc="-1" strike="noStrike" baseline="-25000">
                    <a:solidFill>
                      <a:srgbClr val="ff0000"/>
                    </a:solidFill>
                    <a:latin typeface="Times New Roman"/>
                  </a:rPr>
                  <a:t>2g</a:t>
                </a:r>
                <a:r>
                  <a:rPr b="1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 o d</a:t>
                </a:r>
                <a:r>
                  <a:rPr b="1" lang="es-ES_tradnl" sz="18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1403280" y="3587760"/>
              <a:ext cx="6195240" cy="2080800"/>
              <a:chOff x="1403280" y="3587760"/>
              <a:chExt cx="6195240" cy="2080800"/>
            </a:xfrm>
          </p:grpSpPr>
          <p:grpSp>
            <p:nvGrpSpPr>
              <p:cNvPr id="344" name=""/>
              <p:cNvGrpSpPr/>
              <p:nvPr/>
            </p:nvGrpSpPr>
            <p:grpSpPr>
              <a:xfrm>
                <a:off x="1403280" y="3587760"/>
                <a:ext cx="1803600" cy="2076120"/>
                <a:chOff x="1403280" y="3587760"/>
                <a:chExt cx="1803600" cy="2076120"/>
              </a:xfrm>
            </p:grpSpPr>
            <p:sp>
              <p:nvSpPr>
                <p:cNvPr id="345" name=""/>
                <p:cNvSpPr/>
                <p:nvPr/>
              </p:nvSpPr>
              <p:spPr>
                <a:xfrm flipH="1">
                  <a:off x="2738520" y="4227480"/>
                  <a:ext cx="465120" cy="2350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2290680" y="3587760"/>
                  <a:ext cx="0" cy="5079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1403280" y="4294080"/>
                  <a:ext cx="389160" cy="157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flipV="1">
                  <a:off x="2287440" y="5273280"/>
                  <a:ext cx="0" cy="3906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flipV="1">
                  <a:off x="1515960" y="4869000"/>
                  <a:ext cx="347760" cy="1569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 flipH="1" flipV="1">
                  <a:off x="2819520" y="4923000"/>
                  <a:ext cx="387360" cy="1951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3613320" y="3592440"/>
                <a:ext cx="1802520" cy="2076120"/>
                <a:chOff x="3613320" y="3592440"/>
                <a:chExt cx="1802520" cy="2076120"/>
              </a:xfrm>
            </p:grpSpPr>
            <p:sp>
              <p:nvSpPr>
                <p:cNvPr id="352" name=""/>
                <p:cNvSpPr/>
                <p:nvPr/>
              </p:nvSpPr>
              <p:spPr>
                <a:xfrm flipH="1">
                  <a:off x="4947840" y="4232160"/>
                  <a:ext cx="464760" cy="2350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4500360" y="3592440"/>
                  <a:ext cx="0" cy="5079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3613320" y="4298760"/>
                  <a:ext cx="388800" cy="157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 flipV="1">
                  <a:off x="4497120" y="5277960"/>
                  <a:ext cx="0" cy="3906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 flipV="1">
                  <a:off x="3725640" y="4873680"/>
                  <a:ext cx="347400" cy="1569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 flipH="1" flipV="1">
                  <a:off x="5028840" y="4927680"/>
                  <a:ext cx="387000" cy="1951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5796000" y="3587760"/>
                <a:ext cx="1802520" cy="2076120"/>
                <a:chOff x="5796000" y="3587760"/>
                <a:chExt cx="1802520" cy="2076120"/>
              </a:xfrm>
            </p:grpSpPr>
            <p:sp>
              <p:nvSpPr>
                <p:cNvPr id="359" name=""/>
                <p:cNvSpPr/>
                <p:nvPr/>
              </p:nvSpPr>
              <p:spPr>
                <a:xfrm flipH="1">
                  <a:off x="7130520" y="4227480"/>
                  <a:ext cx="464760" cy="2350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6683040" y="3587760"/>
                  <a:ext cx="0" cy="5079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5796000" y="4294080"/>
                  <a:ext cx="388800" cy="157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 flipV="1">
                  <a:off x="6679800" y="5273280"/>
                  <a:ext cx="0" cy="3906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 flipV="1">
                  <a:off x="5908320" y="4869000"/>
                  <a:ext cx="347400" cy="1569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 flipH="1" flipV="1">
                  <a:off x="7211520" y="4923000"/>
                  <a:ext cx="387000" cy="1951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5" name=""/>
            <p:cNvGrpSpPr/>
            <p:nvPr/>
          </p:nvGrpSpPr>
          <p:grpSpPr>
            <a:xfrm>
              <a:off x="1400040" y="746280"/>
              <a:ext cx="6195240" cy="2080800"/>
              <a:chOff x="1400040" y="746280"/>
              <a:chExt cx="6195240" cy="2080800"/>
            </a:xfrm>
          </p:grpSpPr>
          <p:grpSp>
            <p:nvGrpSpPr>
              <p:cNvPr id="366" name=""/>
              <p:cNvGrpSpPr/>
              <p:nvPr/>
            </p:nvGrpSpPr>
            <p:grpSpPr>
              <a:xfrm>
                <a:off x="1400040" y="746280"/>
                <a:ext cx="1803600" cy="2076120"/>
                <a:chOff x="1400040" y="746280"/>
                <a:chExt cx="1803600" cy="2076120"/>
              </a:xfrm>
            </p:grpSpPr>
            <p:sp>
              <p:nvSpPr>
                <p:cNvPr id="367" name=""/>
                <p:cNvSpPr/>
                <p:nvPr/>
              </p:nvSpPr>
              <p:spPr>
                <a:xfrm flipH="1">
                  <a:off x="2735280" y="1386000"/>
                  <a:ext cx="465120" cy="2350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2287440" y="746280"/>
                  <a:ext cx="0" cy="5079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1400040" y="1452600"/>
                  <a:ext cx="389160" cy="157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flipV="1">
                  <a:off x="2284200" y="2431800"/>
                  <a:ext cx="0" cy="3906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flipV="1">
                  <a:off x="1512720" y="2027520"/>
                  <a:ext cx="347760" cy="1569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 flipH="1" flipV="1">
                  <a:off x="2816280" y="2081520"/>
                  <a:ext cx="387360" cy="1951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3610080" y="750960"/>
                <a:ext cx="1802520" cy="2076120"/>
                <a:chOff x="3610080" y="750960"/>
                <a:chExt cx="1802520" cy="2076120"/>
              </a:xfrm>
            </p:grpSpPr>
            <p:sp>
              <p:nvSpPr>
                <p:cNvPr id="374" name=""/>
                <p:cNvSpPr/>
                <p:nvPr/>
              </p:nvSpPr>
              <p:spPr>
                <a:xfrm flipH="1">
                  <a:off x="4944600" y="1390680"/>
                  <a:ext cx="464760" cy="2350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4497120" y="750960"/>
                  <a:ext cx="0" cy="5079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3610080" y="1457280"/>
                  <a:ext cx="388800" cy="157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flipV="1">
                  <a:off x="4493880" y="2436480"/>
                  <a:ext cx="0" cy="3906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flipV="1">
                  <a:off x="3722400" y="2032200"/>
                  <a:ext cx="347400" cy="1569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flipH="1" flipV="1">
                  <a:off x="5025600" y="2086200"/>
                  <a:ext cx="387000" cy="1951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5792760" y="746280"/>
                <a:ext cx="1802520" cy="2076120"/>
                <a:chOff x="5792760" y="746280"/>
                <a:chExt cx="1802520" cy="2076120"/>
              </a:xfrm>
            </p:grpSpPr>
            <p:sp>
              <p:nvSpPr>
                <p:cNvPr id="381" name=""/>
                <p:cNvSpPr/>
                <p:nvPr/>
              </p:nvSpPr>
              <p:spPr>
                <a:xfrm flipH="1">
                  <a:off x="7127280" y="1386000"/>
                  <a:ext cx="464760" cy="2350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6679800" y="746280"/>
                  <a:ext cx="0" cy="5079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5792760" y="1452600"/>
                  <a:ext cx="388800" cy="157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 flipV="1">
                  <a:off x="6676560" y="2431800"/>
                  <a:ext cx="0" cy="3906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 flipV="1">
                  <a:off x="5905080" y="2027520"/>
                  <a:ext cx="347400" cy="1569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 flipH="1" flipV="1">
                  <a:off x="7208280" y="2081520"/>
                  <a:ext cx="387000" cy="1951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"/>
          <p:cNvGrpSpPr/>
          <p:nvPr/>
        </p:nvGrpSpPr>
        <p:grpSpPr>
          <a:xfrm>
            <a:off x="514440" y="1197000"/>
            <a:ext cx="8069040" cy="5045400"/>
            <a:chOff x="514440" y="1197000"/>
            <a:chExt cx="8069040" cy="5045400"/>
          </a:xfrm>
        </p:grpSpPr>
        <p:sp>
          <p:nvSpPr>
            <p:cNvPr id="388" name=""/>
            <p:cNvSpPr/>
            <p:nvPr/>
          </p:nvSpPr>
          <p:spPr>
            <a:xfrm>
              <a:off x="514440" y="5000760"/>
              <a:ext cx="8069040" cy="1241640"/>
            </a:xfrm>
            <a:prstGeom prst="rect">
              <a:avLst/>
            </a:prstGeom>
            <a:solidFill>
              <a:srgbClr val="ffd3c5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cc3300"/>
                  </a:solidFill>
                  <a:latin typeface="Arial"/>
                </a:rPr>
                <a:t>Se denomina  </a:t>
              </a:r>
              <a:r>
                <a:rPr b="1" i="1" lang="es-ES_tradnl" sz="24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</a:t>
              </a:r>
              <a:r>
                <a:rPr b="1" i="1" lang="es-ES_tradnl" sz="2400" spc="-1" strike="noStrike" baseline="-25000">
                  <a:solidFill>
                    <a:srgbClr val="cc3300"/>
                  </a:solidFill>
                  <a:latin typeface="Arial"/>
                </a:rPr>
                <a:t>o</a:t>
              </a:r>
              <a:r>
                <a:rPr b="1" i="1" lang="es-ES_tradnl" sz="2400" spc="-1" strike="noStrike">
                  <a:solidFill>
                    <a:srgbClr val="cc3300"/>
                  </a:solidFill>
                  <a:latin typeface="Arial"/>
                </a:rPr>
                <a:t> a la energía del campo cristalino. Es la energía asociada a la separación de niveles y es proporcional a la fuerza del campo cristalino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9" name=""/>
            <p:cNvGrpSpPr/>
            <p:nvPr/>
          </p:nvGrpSpPr>
          <p:grpSpPr>
            <a:xfrm>
              <a:off x="915840" y="1197000"/>
              <a:ext cx="7439040" cy="3456000"/>
              <a:chOff x="915840" y="1197000"/>
              <a:chExt cx="7439040" cy="3456000"/>
            </a:xfrm>
          </p:grpSpPr>
          <p:grpSp>
            <p:nvGrpSpPr>
              <p:cNvPr id="390" name=""/>
              <p:cNvGrpSpPr/>
              <p:nvPr/>
            </p:nvGrpSpPr>
            <p:grpSpPr>
              <a:xfrm>
                <a:off x="915840" y="1197000"/>
                <a:ext cx="7272360" cy="3456000"/>
                <a:chOff x="915840" y="1197000"/>
                <a:chExt cx="7272360" cy="3456000"/>
              </a:xfrm>
            </p:grpSpPr>
            <p:pic>
              <p:nvPicPr>
                <p:cNvPr id="391" name="" descr=""/>
                <p:cNvPicPr/>
                <p:nvPr/>
              </p:nvPicPr>
              <p:blipFill>
                <a:blip r:embed="rId2"/>
                <a:srcRect l="0" t="22724" r="9018" b="11063"/>
                <a:stretch/>
              </p:blipFill>
              <p:spPr>
                <a:xfrm>
                  <a:off x="915840" y="1197000"/>
                  <a:ext cx="7272360" cy="3456000"/>
                </a:xfrm>
                <a:prstGeom prst="rect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pic>
            <p:sp>
              <p:nvSpPr>
                <p:cNvPr id="392" name=""/>
                <p:cNvSpPr/>
                <p:nvPr/>
              </p:nvSpPr>
              <p:spPr>
                <a:xfrm rot="16200000">
                  <a:off x="698400" y="2810160"/>
                  <a:ext cx="9244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Energí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3" name=""/>
              <p:cNvSpPr/>
              <p:nvPr/>
            </p:nvSpPr>
            <p:spPr>
              <a:xfrm>
                <a:off x="6745320" y="2492280"/>
                <a:ext cx="5234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1" lang="es-ES_tradnl" sz="2800" spc="-1" strike="noStrike" baseline="-25000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246800" y="1484280"/>
                <a:ext cx="596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AR" sz="2400" spc="-1" strike="noStrike">
                    <a:solidFill>
                      <a:srgbClr val="ff0000"/>
                    </a:solidFill>
                    <a:latin typeface="Arial"/>
                  </a:rPr>
                  <a:t>e</a:t>
                </a:r>
                <a:r>
                  <a:rPr b="1" i="1" lang="es-AR" sz="2400" spc="-1" strike="noStrike" baseline="-25000">
                    <a:solidFill>
                      <a:srgbClr val="ff0000"/>
                    </a:solidFill>
                    <a:latin typeface="Arial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7684920" y="3567240"/>
                <a:ext cx="669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Arial"/>
                  </a:rPr>
                  <a:t>t</a:t>
                </a:r>
                <a:r>
                  <a:rPr b="1" i="1" lang="en-US" sz="2400" spc="-1" strike="noStrike" baseline="-25000">
                    <a:solidFill>
                      <a:srgbClr val="ff0000"/>
                    </a:solidFill>
                    <a:latin typeface="Arial"/>
                  </a:rPr>
                  <a:t>2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"/>
          <p:cNvGrpSpPr/>
          <p:nvPr/>
        </p:nvGrpSpPr>
        <p:grpSpPr>
          <a:xfrm>
            <a:off x="457200" y="407880"/>
            <a:ext cx="8229600" cy="5846760"/>
            <a:chOff x="457200" y="407880"/>
            <a:chExt cx="8229600" cy="5846760"/>
          </a:xfrm>
        </p:grpSpPr>
        <p:sp>
          <p:nvSpPr>
            <p:cNvPr id="397" name=""/>
            <p:cNvSpPr/>
            <p:nvPr/>
          </p:nvSpPr>
          <p:spPr>
            <a:xfrm>
              <a:off x="1249200" y="407880"/>
              <a:ext cx="6651720" cy="642600"/>
            </a:xfrm>
            <a:prstGeom prst="rect">
              <a:avLst/>
            </a:prstGeom>
            <a:solidFill>
              <a:srgbClr val="ffd3c5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3600" spc="-1" strike="noStrike">
                  <a:solidFill>
                    <a:srgbClr val="cc3300"/>
                  </a:solidFill>
                  <a:latin typeface="Arial"/>
                </a:rPr>
                <a:t>Complejos de alto o bajo spi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57200" y="1676520"/>
              <a:ext cx="8229600" cy="2043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Para aparear un electrón se requiere </a:t>
              </a:r>
              <a:r>
                <a:rPr b="1" i="1" lang="es-ES_tradnl" sz="3200" spc="-1" strike="noStrike">
                  <a:solidFill>
                    <a:srgbClr val="333399"/>
                  </a:solidFill>
                  <a:latin typeface="Arial"/>
                </a:rPr>
                <a:t>energía de apareamiento</a:t>
              </a:r>
              <a:r>
                <a:rPr b="1" lang="es-ES_tradnl" sz="3200" spc="-1" strike="noStrike">
                  <a:solidFill>
                    <a:srgbClr val="333399"/>
                  </a:solidFill>
                  <a:latin typeface="Arial"/>
                </a:rPr>
                <a:t> (</a:t>
              </a:r>
              <a:r>
                <a:rPr b="1" i="1" lang="es-ES_tradnl" sz="3200" spc="-1" strike="noStrike">
                  <a:solidFill>
                    <a:srgbClr val="333399"/>
                  </a:solidFill>
                  <a:latin typeface="Arial"/>
                </a:rPr>
                <a:t>P</a:t>
              </a:r>
              <a:r>
                <a:rPr b="1" lang="es-ES_tradnl" sz="3200" spc="-1" strike="noStrike">
                  <a:solidFill>
                    <a:srgbClr val="333399"/>
                  </a:solidFill>
                  <a:latin typeface="Arial"/>
                </a:rPr>
                <a:t>)</a:t>
              </a: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 para vencer la repulsión que existe entre los dos electrones que ocupan el mismo orbital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"/>
            <p:cNvGrpSpPr/>
            <p:nvPr/>
          </p:nvGrpSpPr>
          <p:grpSpPr>
            <a:xfrm>
              <a:off x="880920" y="4165560"/>
              <a:ext cx="7344000" cy="2089080"/>
              <a:chOff x="880920" y="4165560"/>
              <a:chExt cx="7344000" cy="2089080"/>
            </a:xfrm>
          </p:grpSpPr>
          <p:sp>
            <p:nvSpPr>
              <p:cNvPr id="400" name=""/>
              <p:cNvSpPr/>
              <p:nvPr/>
            </p:nvSpPr>
            <p:spPr>
              <a:xfrm>
                <a:off x="880920" y="4165560"/>
                <a:ext cx="7344000" cy="2089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369800" y="4425840"/>
                <a:ext cx="6215760" cy="70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3200" spc="-1" strike="noStrike">
                    <a:solidFill>
                      <a:srgbClr val="000000"/>
                    </a:solidFill>
                    <a:latin typeface="Arial"/>
                  </a:rPr>
                  <a:t>P &lt; </a:t>
                </a:r>
                <a:r>
                  <a:rPr b="1" lang="es-ES_tradnl" sz="4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1" lang="es-ES_tradnl" sz="3200" spc="-1" strike="noStrike">
                    <a:solidFill>
                      <a:srgbClr val="000000"/>
                    </a:solidFill>
                    <a:latin typeface="Arial"/>
                  </a:rPr>
                  <a:t> Campo fuerte o bajo spin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522440" y="5356080"/>
                <a:ext cx="5921640" cy="70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3200" spc="-1" strike="noStrike">
                    <a:solidFill>
                      <a:srgbClr val="000000"/>
                    </a:solidFill>
                    <a:latin typeface="Arial"/>
                  </a:rPr>
                  <a:t>P &gt; </a:t>
                </a:r>
                <a:r>
                  <a:rPr b="1" lang="es-ES_tradnl" sz="4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1" lang="es-ES_tradnl" sz="3200" spc="-1" strike="noStrike">
                    <a:solidFill>
                      <a:srgbClr val="000000"/>
                    </a:solidFill>
                    <a:latin typeface="Arial"/>
                  </a:rPr>
                  <a:t> Campo débil o alto spin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" descr=""/>
          <p:cNvPicPr/>
          <p:nvPr/>
        </p:nvPicPr>
        <p:blipFill>
          <a:blip r:embed="rId2"/>
          <a:srcRect l="0" t="24892" r="0" b="9886"/>
          <a:stretch/>
        </p:blipFill>
        <p:spPr>
          <a:xfrm>
            <a:off x="488880" y="1420920"/>
            <a:ext cx="8128080" cy="396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4" name=""/>
          <p:cNvGrpSpPr/>
          <p:nvPr/>
        </p:nvGrpSpPr>
        <p:grpSpPr>
          <a:xfrm>
            <a:off x="533520" y="399960"/>
            <a:ext cx="7824600" cy="5943600"/>
            <a:chOff x="533520" y="399960"/>
            <a:chExt cx="7824600" cy="5943600"/>
          </a:xfrm>
        </p:grpSpPr>
        <p:pic>
          <p:nvPicPr>
            <p:cNvPr id="405" name="" descr=""/>
            <p:cNvPicPr/>
            <p:nvPr/>
          </p:nvPicPr>
          <p:blipFill>
            <a:blip r:embed="rId2"/>
            <a:stretch/>
          </p:blipFill>
          <p:spPr>
            <a:xfrm>
              <a:off x="533520" y="399960"/>
              <a:ext cx="3504960" cy="2484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406" name="" descr=""/>
            <p:cNvPicPr/>
            <p:nvPr/>
          </p:nvPicPr>
          <p:blipFill>
            <a:blip r:embed="rId3"/>
            <a:stretch/>
          </p:blipFill>
          <p:spPr>
            <a:xfrm>
              <a:off x="4876920" y="2190600"/>
              <a:ext cx="3481200" cy="24624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407" name="" descr=""/>
            <p:cNvPicPr/>
            <p:nvPr/>
          </p:nvPicPr>
          <p:blipFill>
            <a:blip r:embed="rId4"/>
            <a:stretch/>
          </p:blipFill>
          <p:spPr>
            <a:xfrm>
              <a:off x="533520" y="3886200"/>
              <a:ext cx="3481200" cy="2457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08" name=""/>
            <p:cNvSpPr/>
            <p:nvPr/>
          </p:nvSpPr>
          <p:spPr>
            <a:xfrm>
              <a:off x="1676520" y="5867280"/>
              <a:ext cx="4572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095880" y="4038480"/>
              <a:ext cx="4572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676520" y="2362320"/>
              <a:ext cx="53316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"/>
          <p:cNvGrpSpPr/>
          <p:nvPr/>
        </p:nvGrpSpPr>
        <p:grpSpPr>
          <a:xfrm>
            <a:off x="468360" y="333360"/>
            <a:ext cx="8429400" cy="6167520"/>
            <a:chOff x="468360" y="333360"/>
            <a:chExt cx="8429400" cy="6167520"/>
          </a:xfrm>
        </p:grpSpPr>
        <p:grpSp>
          <p:nvGrpSpPr>
            <p:cNvPr id="412" name=""/>
            <p:cNvGrpSpPr/>
            <p:nvPr/>
          </p:nvGrpSpPr>
          <p:grpSpPr>
            <a:xfrm>
              <a:off x="4859280" y="3645000"/>
              <a:ext cx="4038480" cy="2855880"/>
              <a:chOff x="4859280" y="3645000"/>
              <a:chExt cx="4038480" cy="2855880"/>
            </a:xfrm>
          </p:grpSpPr>
          <p:pic>
            <p:nvPicPr>
              <p:cNvPr id="41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859280" y="3645000"/>
                <a:ext cx="4038480" cy="285588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414" name=""/>
              <p:cNvSpPr/>
              <p:nvPr/>
            </p:nvSpPr>
            <p:spPr>
              <a:xfrm>
                <a:off x="6102000" y="5908680"/>
                <a:ext cx="792360" cy="432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468360" y="333360"/>
              <a:ext cx="3809880" cy="2825640"/>
              <a:chOff x="468360" y="333360"/>
              <a:chExt cx="3809880" cy="2825640"/>
            </a:xfrm>
          </p:grpSpPr>
          <p:pic>
            <p:nvPicPr>
              <p:cNvPr id="41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68360" y="333360"/>
                <a:ext cx="3809880" cy="28256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417" name=""/>
              <p:cNvSpPr/>
              <p:nvPr/>
            </p:nvSpPr>
            <p:spPr>
              <a:xfrm>
                <a:off x="1387440" y="2549520"/>
                <a:ext cx="792000" cy="503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"/>
          <p:cNvGrpSpPr/>
          <p:nvPr/>
        </p:nvGrpSpPr>
        <p:grpSpPr>
          <a:xfrm>
            <a:off x="468360" y="476280"/>
            <a:ext cx="8294760" cy="5931000"/>
            <a:chOff x="468360" y="476280"/>
            <a:chExt cx="8294760" cy="5931000"/>
          </a:xfrm>
        </p:grpSpPr>
        <p:pic>
          <p:nvPicPr>
            <p:cNvPr id="419" name="" descr=""/>
            <p:cNvPicPr/>
            <p:nvPr/>
          </p:nvPicPr>
          <p:blipFill>
            <a:blip r:embed="rId2"/>
            <a:stretch/>
          </p:blipFill>
          <p:spPr>
            <a:xfrm>
              <a:off x="468360" y="476280"/>
              <a:ext cx="3672000" cy="27320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420" name="" descr=""/>
            <p:cNvPicPr/>
            <p:nvPr/>
          </p:nvPicPr>
          <p:blipFill>
            <a:blip r:embed="rId3"/>
            <a:stretch/>
          </p:blipFill>
          <p:spPr>
            <a:xfrm>
              <a:off x="4876920" y="3657600"/>
              <a:ext cx="3886200" cy="2749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21" name=""/>
            <p:cNvSpPr/>
            <p:nvPr/>
          </p:nvSpPr>
          <p:spPr>
            <a:xfrm>
              <a:off x="6095880" y="57913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467000" y="2590920"/>
              <a:ext cx="60948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"/>
          <p:cNvGrpSpPr/>
          <p:nvPr/>
        </p:nvGrpSpPr>
        <p:grpSpPr>
          <a:xfrm>
            <a:off x="290520" y="260280"/>
            <a:ext cx="8523360" cy="6337440"/>
            <a:chOff x="290520" y="260280"/>
            <a:chExt cx="8523360" cy="6337440"/>
          </a:xfrm>
        </p:grpSpPr>
        <p:sp>
          <p:nvSpPr>
            <p:cNvPr id="424" name=""/>
            <p:cNvSpPr/>
            <p:nvPr/>
          </p:nvSpPr>
          <p:spPr>
            <a:xfrm>
              <a:off x="290520" y="260280"/>
              <a:ext cx="8523360" cy="520560"/>
            </a:xfrm>
            <a:prstGeom prst="rect">
              <a:avLst/>
            </a:prstGeom>
            <a:solidFill>
              <a:srgbClr val="ffd3c5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800" spc="-1" strike="noStrike">
                  <a:solidFill>
                    <a:srgbClr val="cc3300"/>
                  </a:solidFill>
                  <a:latin typeface="Arial"/>
                </a:rPr>
                <a:t>Energía de estabilización del campo cristalin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5" name=""/>
            <p:cNvGrpSpPr/>
            <p:nvPr/>
          </p:nvGrpSpPr>
          <p:grpSpPr>
            <a:xfrm>
              <a:off x="395280" y="981000"/>
              <a:ext cx="8353440" cy="5616720"/>
              <a:chOff x="395280" y="981000"/>
              <a:chExt cx="8353440" cy="5616720"/>
            </a:xfrm>
          </p:grpSpPr>
          <p:sp>
            <p:nvSpPr>
              <p:cNvPr id="426" name=""/>
              <p:cNvSpPr/>
              <p:nvPr/>
            </p:nvSpPr>
            <p:spPr>
              <a:xfrm>
                <a:off x="395280" y="981000"/>
                <a:ext cx="8353440" cy="5616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977760" y="4680000"/>
                <a:ext cx="7129440" cy="174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200" spc="-1" strike="noStrike">
                    <a:solidFill>
                      <a:srgbClr val="000000"/>
                    </a:solidFill>
                    <a:latin typeface="Arial"/>
                  </a:rPr>
                  <a:t>Se asigna un valor de -2/5</a:t>
                </a:r>
                <a:r>
                  <a:rPr b="1" lang="es-ES_tradnl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1" lang="es-ES_tradnl" sz="2200" spc="-1" strike="noStrike">
                    <a:solidFill>
                      <a:srgbClr val="000000"/>
                    </a:solidFill>
                    <a:latin typeface="Arial"/>
                  </a:rPr>
                  <a:t> (estabilización) a cada electrón t</a:t>
                </a:r>
                <a:r>
                  <a:rPr b="1" lang="es-ES_tradnl" sz="2200" spc="-1" strike="noStrike" baseline="-25000">
                    <a:solidFill>
                      <a:srgbClr val="000000"/>
                    </a:solidFill>
                    <a:latin typeface="Arial"/>
                  </a:rPr>
                  <a:t>2g</a:t>
                </a:r>
                <a:r>
                  <a:rPr b="1" lang="es-ES_tradnl" sz="2200" spc="-1" strike="noStrike">
                    <a:solidFill>
                      <a:srgbClr val="000000"/>
                    </a:solidFill>
                    <a:latin typeface="Arial"/>
                  </a:rPr>
                  <a:t> y una variación de energía de +3/5</a:t>
                </a:r>
                <a:r>
                  <a:rPr b="1" lang="es-ES_tradnl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1" lang="es-ES_tradnl" sz="2200" spc="-1" strike="noStrike">
                    <a:solidFill>
                      <a:srgbClr val="000000"/>
                    </a:solidFill>
                    <a:latin typeface="Arial"/>
                  </a:rPr>
                  <a:t> (desestabilización) a cada electrón e</a:t>
                </a:r>
                <a:r>
                  <a:rPr b="1" lang="es-ES_tradnl" sz="2200" spc="-1" strike="noStrike" baseline="-25000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1" lang="es-ES_tradnl" sz="2200" spc="-1" strike="noStrike">
                    <a:solidFill>
                      <a:srgbClr val="000000"/>
                    </a:solidFill>
                    <a:latin typeface="Arial"/>
                  </a:rPr>
                  <a:t>. La suma de las energías de todos los electrones es la EECC.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8" name=""/>
              <p:cNvGrpSpPr/>
              <p:nvPr/>
            </p:nvGrpSpPr>
            <p:grpSpPr>
              <a:xfrm>
                <a:off x="468360" y="1197000"/>
                <a:ext cx="7439040" cy="3456000"/>
                <a:chOff x="468360" y="1197000"/>
                <a:chExt cx="7439040" cy="3456000"/>
              </a:xfrm>
            </p:grpSpPr>
            <p:grpSp>
              <p:nvGrpSpPr>
                <p:cNvPr id="429" name=""/>
                <p:cNvGrpSpPr/>
                <p:nvPr/>
              </p:nvGrpSpPr>
              <p:grpSpPr>
                <a:xfrm>
                  <a:off x="468360" y="1197000"/>
                  <a:ext cx="7272360" cy="3456000"/>
                  <a:chOff x="468360" y="1197000"/>
                  <a:chExt cx="7272360" cy="3456000"/>
                </a:xfrm>
              </p:grpSpPr>
              <p:pic>
                <p:nvPicPr>
                  <p:cNvPr id="430" name="" descr=""/>
                  <p:cNvPicPr/>
                  <p:nvPr/>
                </p:nvPicPr>
                <p:blipFill>
                  <a:blip r:embed="rId2"/>
                  <a:srcRect l="0" t="22724" r="9018" b="11063"/>
                  <a:stretch/>
                </p:blipFill>
                <p:spPr>
                  <a:xfrm>
                    <a:off x="468360" y="1197000"/>
                    <a:ext cx="7272360" cy="345600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  <p:sp>
                <p:nvSpPr>
                  <p:cNvPr id="431" name=""/>
                  <p:cNvSpPr/>
                  <p:nvPr/>
                </p:nvSpPr>
                <p:spPr>
                  <a:xfrm rot="16200000">
                    <a:off x="250920" y="2810160"/>
                    <a:ext cx="924480" cy="337320"/>
                  </a:xfrm>
                  <a:prstGeom prst="rect">
                    <a:avLst/>
                  </a:prstGeom>
                  <a:noFill/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Energía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32" name=""/>
                <p:cNvSpPr/>
                <p:nvPr/>
              </p:nvSpPr>
              <p:spPr>
                <a:xfrm>
                  <a:off x="6304320" y="2492280"/>
                  <a:ext cx="523440" cy="57960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1" lang="es-ES_tradnl" sz="2800" spc="-1" strike="noStrike" baseline="-25000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6799320" y="1484280"/>
                  <a:ext cx="596880" cy="5101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AR" sz="2400" spc="-1" strike="noStrike">
                      <a:solidFill>
                        <a:srgbClr val="000000"/>
                      </a:solidFill>
                      <a:latin typeface="Arial"/>
                    </a:rPr>
                    <a:t>e</a:t>
                  </a:r>
                  <a:r>
                    <a:rPr b="1" i="1" lang="es-AR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7237440" y="3567240"/>
                  <a:ext cx="669960" cy="5101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r>
                    <a:rPr b="1" i="1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2g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7687440" y="3597120"/>
                <a:ext cx="8330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200" spc="-1" strike="noStrike">
                    <a:solidFill>
                      <a:srgbClr val="000000"/>
                    </a:solidFill>
                    <a:latin typeface="Arial"/>
                  </a:rPr>
                  <a:t>-2/5</a:t>
                </a:r>
                <a:r>
                  <a:rPr b="1" lang="es-ES_tradnl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203600" y="1562040"/>
                <a:ext cx="902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200" spc="-1" strike="noStrike">
                    <a:solidFill>
                      <a:srgbClr val="000000"/>
                    </a:solidFill>
                    <a:latin typeface="Arial"/>
                  </a:rPr>
                  <a:t>+3/5</a:t>
                </a:r>
                <a:r>
                  <a:rPr b="1" lang="es-ES_tradnl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24000" y="1163520"/>
            <a:ext cx="8470800" cy="532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98880" y="236520"/>
            <a:ext cx="8249760" cy="6122160"/>
            <a:chOff x="398880" y="236520"/>
            <a:chExt cx="8249760" cy="6122160"/>
          </a:xfrm>
        </p:grpSpPr>
        <p:sp>
          <p:nvSpPr>
            <p:cNvPr id="45" name=""/>
            <p:cNvSpPr/>
            <p:nvPr/>
          </p:nvSpPr>
          <p:spPr>
            <a:xfrm>
              <a:off x="618480" y="236520"/>
              <a:ext cx="7849440" cy="642600"/>
            </a:xfrm>
            <a:prstGeom prst="rect">
              <a:avLst/>
            </a:prstGeom>
            <a:solidFill>
              <a:srgbClr val="ffd3c5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3600" spc="-1" strike="noStrike">
                  <a:solidFill>
                    <a:srgbClr val="cc3300"/>
                  </a:solidFill>
                  <a:latin typeface="Arial"/>
                </a:rPr>
                <a:t>Teorías de formación de complejo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99240" y="1192320"/>
              <a:ext cx="5918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3200" spc="-1" strike="noStrike">
                  <a:solidFill>
                    <a:srgbClr val="333399"/>
                  </a:solidFill>
                  <a:latin typeface="Arial"/>
                </a:rPr>
                <a:t>Teoría de enlace de valencia</a:t>
              </a: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99240" y="2743200"/>
              <a:ext cx="5468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3200" spc="-1" strike="noStrike">
                  <a:solidFill>
                    <a:srgbClr val="333399"/>
                  </a:solidFill>
                  <a:latin typeface="Arial"/>
                </a:rPr>
                <a:t>Teoría de campo cristalin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98880" y="4354560"/>
              <a:ext cx="5107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3200" spc="-1" strike="noStrike">
                  <a:solidFill>
                    <a:srgbClr val="333399"/>
                  </a:solidFill>
                  <a:latin typeface="Arial"/>
                </a:rPr>
                <a:t>Teoría de campo ligand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52600" y="1766880"/>
              <a:ext cx="7980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El enlace entre el ligando y el ion metálico es covalente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95360" y="3352680"/>
              <a:ext cx="8153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La unión entre el ligando y el ion metálico es electrostática (unión iónica)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06520" y="4984920"/>
              <a:ext cx="80978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El enlace entre el ligando y el ion metálico es parcialmente iónico. Posee algunas carterísticas de enlace covalente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7" name=""/>
          <p:cNvGrpSpPr/>
          <p:nvPr/>
        </p:nvGrpSpPr>
        <p:grpSpPr>
          <a:xfrm>
            <a:off x="615960" y="339840"/>
            <a:ext cx="7872480" cy="6103080"/>
            <a:chOff x="615960" y="339840"/>
            <a:chExt cx="7872480" cy="6103080"/>
          </a:xfrm>
        </p:grpSpPr>
        <p:sp>
          <p:nvSpPr>
            <p:cNvPr id="438" name=""/>
            <p:cNvSpPr/>
            <p:nvPr/>
          </p:nvSpPr>
          <p:spPr>
            <a:xfrm>
              <a:off x="3799440" y="339840"/>
              <a:ext cx="1505160" cy="703440"/>
            </a:xfrm>
            <a:prstGeom prst="rect">
              <a:avLst/>
            </a:prstGeom>
            <a:solidFill>
              <a:srgbClr val="ffd3c5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000" spc="-1" strike="noStrike">
                  <a:solidFill>
                    <a:srgbClr val="cc3300"/>
                  </a:solidFill>
                  <a:latin typeface="Arial"/>
                </a:rPr>
                <a:t>Colo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15960" y="1414440"/>
              <a:ext cx="7872480" cy="2044440"/>
            </a:xfrm>
            <a:prstGeom prst="rect">
              <a:avLst/>
            </a:prstGeom>
            <a:solidFill>
              <a:srgbClr val="ffd3c5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cc3300"/>
                  </a:solidFill>
                  <a:latin typeface="Arial"/>
                </a:rPr>
                <a:t>Los electrones </a:t>
              </a:r>
              <a:r>
                <a:rPr b="1" i="1" lang="es-ES_tradnl" sz="2400" spc="-1" strike="noStrike">
                  <a:solidFill>
                    <a:srgbClr val="cc3300"/>
                  </a:solidFill>
                  <a:latin typeface="Arial"/>
                </a:rPr>
                <a:t>t</a:t>
              </a:r>
              <a:r>
                <a:rPr b="1" lang="es-ES_tradnl" sz="2400" spc="-1" strike="noStrike">
                  <a:solidFill>
                    <a:srgbClr val="cc3300"/>
                  </a:solidFill>
                  <a:latin typeface="Arial"/>
                </a:rPr>
                <a:t> del complejo pueden ser excitados a uno de los orbitales </a:t>
              </a:r>
              <a:r>
                <a:rPr b="1" i="1" lang="es-ES_tradnl" sz="2400" spc="-1" strike="noStrike">
                  <a:solidFill>
                    <a:srgbClr val="cc3300"/>
                  </a:solidFill>
                  <a:latin typeface="Arial"/>
                </a:rPr>
                <a:t>e</a:t>
              </a:r>
              <a:r>
                <a:rPr b="1" lang="es-ES_tradnl" sz="2400" spc="-1" strike="noStrike">
                  <a:solidFill>
                    <a:srgbClr val="cc3300"/>
                  </a:solidFill>
                  <a:latin typeface="Arial"/>
                </a:rPr>
                <a:t> si este absorbe un fotón de energía igual a</a:t>
              </a:r>
              <a:r>
                <a:rPr b="0" lang="es-ES_tradnl" sz="3200" spc="-1" strike="noStrike">
                  <a:solidFill>
                    <a:srgbClr val="cc3300"/>
                  </a:solidFill>
                  <a:latin typeface="Arial"/>
                </a:rPr>
                <a:t> </a:t>
              </a:r>
              <a:r>
                <a:rPr b="1" lang="es-ES_tradnl" sz="32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</a:t>
              </a:r>
              <a:r>
                <a:rPr b="1" lang="es-ES_tradnl" sz="2400" spc="-1" strike="noStrike">
                  <a:solidFill>
                    <a:srgbClr val="cc3300"/>
                  </a:solidFill>
                  <a:latin typeface="Arial"/>
                </a:rPr>
                <a:t>. Por lo tanto puede usarse la longitud de onda absorbida para determinar el desdoblamiento del campo cristalino por un ligando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1162080" y="3813120"/>
              <a:ext cx="6797520" cy="2629800"/>
              <a:chOff x="1162080" y="3813120"/>
              <a:chExt cx="6797520" cy="2629800"/>
            </a:xfrm>
          </p:grpSpPr>
          <p:grpSp>
            <p:nvGrpSpPr>
              <p:cNvPr id="441" name=""/>
              <p:cNvGrpSpPr/>
              <p:nvPr/>
            </p:nvGrpSpPr>
            <p:grpSpPr>
              <a:xfrm>
                <a:off x="3009960" y="3813120"/>
                <a:ext cx="3124080" cy="1371600"/>
                <a:chOff x="3009960" y="3813120"/>
                <a:chExt cx="3124080" cy="137160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3009960" y="3813120"/>
                  <a:ext cx="3124080" cy="1371600"/>
                </a:xfrm>
                <a:prstGeom prst="rect">
                  <a:avLst/>
                </a:prstGeom>
                <a:solidFill>
                  <a:srgbClr val="ffd3c5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3300120" y="3976920"/>
                  <a:ext cx="26510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3200" spc="-1" strike="noStrike">
                      <a:solidFill>
                        <a:srgbClr val="cc33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1" lang="es-ES_tradnl" sz="3200" spc="-1" strike="noStrike">
                      <a:solidFill>
                        <a:srgbClr val="cc3300"/>
                      </a:solidFill>
                      <a:latin typeface="Arial"/>
                    </a:rPr>
                    <a:t> </a:t>
                  </a:r>
                  <a:r>
                    <a:rPr b="1" lang="es-ES_tradnl" sz="3200" spc="-1" strike="noStrike">
                      <a:solidFill>
                        <a:srgbClr val="cc3300"/>
                      </a:solidFill>
                      <a:latin typeface="Arial"/>
                    </a:rPr>
                    <a:t>=  h </a:t>
                  </a:r>
                  <a:r>
                    <a:rPr b="1" lang="es-ES_tradnl" sz="3200" spc="-1" strike="noStrike">
                      <a:solidFill>
                        <a:srgbClr val="cc3300"/>
                      </a:solidFill>
                      <a:latin typeface="Symbol"/>
                      <a:ea typeface="Symbol"/>
                    </a:rPr>
                    <a:t></a:t>
                  </a:r>
                  <a:r>
                    <a:rPr b="1" lang="es-ES_tradnl" sz="3200" spc="-1" strike="noStrike">
                      <a:solidFill>
                        <a:srgbClr val="cc3300"/>
                      </a:solidFill>
                      <a:latin typeface="Arial"/>
                    </a:rPr>
                    <a:t> = h c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5219640" y="4498920"/>
                  <a:ext cx="609120" cy="0"/>
                </a:xfrm>
                <a:prstGeom prst="line">
                  <a:avLst/>
                </a:prstGeom>
                <a:ln w="3816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5197320" y="4586400"/>
                  <a:ext cx="630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3200" spc="-1" strike="noStrike">
                      <a:solidFill>
                        <a:srgbClr val="ffff00"/>
                      </a:solidFill>
                      <a:latin typeface="Arial"/>
                    </a:rPr>
                    <a:t> </a:t>
                  </a:r>
                  <a:r>
                    <a:rPr b="1" lang="es-ES_tradnl" sz="3200" spc="-1" strike="noStrike">
                      <a:solidFill>
                        <a:srgbClr val="cc3300"/>
                      </a:solidFill>
                      <a:latin typeface="Symbol"/>
                      <a:ea typeface="Symbol"/>
                    </a:rPr>
                    <a:t></a:t>
                  </a:r>
                  <a:r>
                    <a:rPr b="1" lang="es-ES_tradnl" sz="3200" spc="-1" strike="noStrike">
                      <a:solidFill>
                        <a:srgbClr val="cc3300"/>
                      </a:solidFill>
                      <a:latin typeface="Arial"/>
                    </a:rPr>
                    <a:t> 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6" name=""/>
              <p:cNvSpPr/>
              <p:nvPr/>
            </p:nvSpPr>
            <p:spPr>
              <a:xfrm>
                <a:off x="1162080" y="5495760"/>
                <a:ext cx="6797520" cy="947160"/>
              </a:xfrm>
              <a:prstGeom prst="rect">
                <a:avLst/>
              </a:prstGeom>
              <a:solidFill>
                <a:srgbClr val="ffd3c5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cc3300"/>
                    </a:solidFill>
                    <a:latin typeface="Arial"/>
                  </a:rPr>
                  <a:t>A mayor </a:t>
                </a:r>
                <a:r>
                  <a:rPr b="1" lang="es-ES_tradnl" sz="2400" spc="-1" strike="noStrike">
                    <a:solidFill>
                      <a:srgbClr val="cc3300"/>
                    </a:solidFill>
                    <a:latin typeface="Symbol"/>
                    <a:ea typeface="Symbol"/>
                  </a:rPr>
                  <a:t></a:t>
                </a:r>
                <a:r>
                  <a:rPr b="1" lang="es-ES_tradnl" sz="2400" spc="-1" strike="noStrike">
                    <a:solidFill>
                      <a:srgbClr val="cc3300"/>
                    </a:solidFill>
                    <a:latin typeface="Arial"/>
                  </a:rPr>
                  <a:t> deberán absorber radiación de alta energía y baja longitud de onda</a:t>
                </a:r>
                <a:r>
                  <a:rPr b="1" lang="es-ES_tradnl" sz="3200" spc="-1" strike="noStrike">
                    <a:solidFill>
                      <a:srgbClr val="cc3300"/>
                    </a:solidFill>
                    <a:latin typeface="Arial"/>
                  </a:rPr>
                  <a:t>.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"/>
          <p:cNvGrpSpPr/>
          <p:nvPr/>
        </p:nvGrpSpPr>
        <p:grpSpPr>
          <a:xfrm>
            <a:off x="985680" y="282600"/>
            <a:ext cx="7129800" cy="6194520"/>
            <a:chOff x="985680" y="282600"/>
            <a:chExt cx="7129800" cy="6194520"/>
          </a:xfrm>
        </p:grpSpPr>
        <p:pic>
          <p:nvPicPr>
            <p:cNvPr id="448" name="" descr=""/>
            <p:cNvPicPr/>
            <p:nvPr/>
          </p:nvPicPr>
          <p:blipFill>
            <a:blip r:embed="rId2"/>
            <a:srcRect l="6582" t="13388" r="5705" b="0"/>
            <a:stretch/>
          </p:blipFill>
          <p:spPr>
            <a:xfrm>
              <a:off x="985680" y="1197000"/>
              <a:ext cx="7129800" cy="52801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49" name=""/>
            <p:cNvSpPr/>
            <p:nvPr/>
          </p:nvSpPr>
          <p:spPr>
            <a:xfrm>
              <a:off x="1529640" y="2046240"/>
              <a:ext cx="10569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000000"/>
                  </a:solidFill>
                  <a:latin typeface="Arial"/>
                </a:rPr>
                <a:t>Luz 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000000"/>
                  </a:solidFill>
                  <a:latin typeface="Arial"/>
                </a:rPr>
                <a:t>510 n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409200" y="282600"/>
              <a:ext cx="2268720" cy="703440"/>
            </a:xfrm>
            <a:prstGeom prst="rect">
              <a:avLst/>
            </a:prstGeom>
            <a:solidFill>
              <a:srgbClr val="ffd3c5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000" spc="-1" strike="noStrike">
                  <a:solidFill>
                    <a:srgbClr val="cc3300"/>
                  </a:solidFill>
                  <a:latin typeface="Arial"/>
                </a:rPr>
                <a:t>Color (II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"/>
          <p:cNvGrpSpPr/>
          <p:nvPr/>
        </p:nvGrpSpPr>
        <p:grpSpPr>
          <a:xfrm>
            <a:off x="1101600" y="282600"/>
            <a:ext cx="6912000" cy="6060960"/>
            <a:chOff x="1101600" y="282600"/>
            <a:chExt cx="6912000" cy="6060960"/>
          </a:xfrm>
        </p:grpSpPr>
        <p:pic>
          <p:nvPicPr>
            <p:cNvPr id="452" name="" descr=""/>
            <p:cNvPicPr/>
            <p:nvPr/>
          </p:nvPicPr>
          <p:blipFill>
            <a:blip r:embed="rId2"/>
            <a:srcRect l="3047" t="18101" r="11914" b="0"/>
            <a:stretch/>
          </p:blipFill>
          <p:spPr>
            <a:xfrm>
              <a:off x="1101600" y="1351080"/>
              <a:ext cx="6912000" cy="4992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53" name=""/>
            <p:cNvSpPr/>
            <p:nvPr/>
          </p:nvSpPr>
          <p:spPr>
            <a:xfrm>
              <a:off x="3219480" y="282600"/>
              <a:ext cx="2652840" cy="703440"/>
            </a:xfrm>
            <a:prstGeom prst="rect">
              <a:avLst/>
            </a:prstGeom>
            <a:solidFill>
              <a:srgbClr val="ffd3c5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000" spc="-1" strike="noStrike">
                  <a:solidFill>
                    <a:srgbClr val="cc3300"/>
                  </a:solidFill>
                  <a:latin typeface="Arial"/>
                </a:rPr>
                <a:t>Color (III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4" name=""/>
            <p:cNvGrpSpPr/>
            <p:nvPr/>
          </p:nvGrpSpPr>
          <p:grpSpPr>
            <a:xfrm>
              <a:off x="1836360" y="2029320"/>
              <a:ext cx="6001920" cy="3128400"/>
              <a:chOff x="1836360" y="2029320"/>
              <a:chExt cx="6001920" cy="3128400"/>
            </a:xfrm>
          </p:grpSpPr>
          <p:sp>
            <p:nvSpPr>
              <p:cNvPr id="455" name=""/>
              <p:cNvSpPr/>
              <p:nvPr/>
            </p:nvSpPr>
            <p:spPr>
              <a:xfrm>
                <a:off x="1836360" y="4292640"/>
                <a:ext cx="14104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Colo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absorbid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369840" y="2216160"/>
                <a:ext cx="14684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Colo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observad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340000" y="3933720"/>
                <a:ext cx="1150920" cy="1224000"/>
              </a:xfrm>
              <a:custGeom>
                <a:avLst/>
                <a:gdLst>
                  <a:gd name="textAreaLeft" fmla="*/ 0 w 1150920"/>
                  <a:gd name="textAreaRight" fmla="*/ 1151280 w 1150920"/>
                  <a:gd name="textAreaTop" fmla="*/ 0 h 1224000"/>
                  <a:gd name="textAreaBottom" fmla="*/ 1224360 h 1224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856" y="17846"/>
                    </a:moveTo>
                    <a:arcTo wR="-9218" hR="-9218" stAng="7809056" swAng="-5635657"/>
                    <a:lnTo>
                      <a:pt x="2087" y="4418"/>
                    </a:lnTo>
                    <a:arcTo wR="10800" hR="10800" stAng="-8626600" swAng="5635657"/>
                    <a:lnTo>
                      <a:pt x="19505" y="481"/>
                    </a:lnTo>
                    <a:lnTo>
                      <a:pt x="19922" y="5401"/>
                    </a:lnTo>
                    <a:lnTo>
                      <a:pt x="15003" y="5818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rot="7963800">
                <a:off x="5811120" y="2261880"/>
                <a:ext cx="1150920" cy="1182600"/>
              </a:xfrm>
              <a:custGeom>
                <a:avLst/>
                <a:gdLst>
                  <a:gd name="textAreaLeft" fmla="*/ 0 w 1150920"/>
                  <a:gd name="textAreaRight" fmla="*/ 1151280 w 1150920"/>
                  <a:gd name="textAreaTop" fmla="*/ 0 h 1182600"/>
                  <a:gd name="textAreaBottom" fmla="*/ 1182960 h 1182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856" y="17846"/>
                    </a:moveTo>
                    <a:arcTo wR="-9218" hR="-9218" stAng="7809056" swAng="-4550096"/>
                    <a:lnTo>
                      <a:pt x="4500" y="2028"/>
                    </a:lnTo>
                    <a:arcTo wR="10800" hR="10800" stAng="-7541039" swAng="4550096"/>
                    <a:lnTo>
                      <a:pt x="19505" y="481"/>
                    </a:lnTo>
                    <a:lnTo>
                      <a:pt x="19922" y="5401"/>
                    </a:lnTo>
                    <a:lnTo>
                      <a:pt x="15003" y="5818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"/>
          <p:cNvGrpSpPr/>
          <p:nvPr/>
        </p:nvGrpSpPr>
        <p:grpSpPr>
          <a:xfrm>
            <a:off x="1117440" y="488880"/>
            <a:ext cx="6867720" cy="4961520"/>
            <a:chOff x="1117440" y="488880"/>
            <a:chExt cx="6867720" cy="4961520"/>
          </a:xfrm>
        </p:grpSpPr>
        <p:graphicFrame>
          <p:nvGraphicFramePr>
            <p:cNvPr id="460" name=""/>
            <p:cNvGraphicFramePr/>
            <p:nvPr/>
          </p:nvGraphicFramePr>
          <p:xfrm>
            <a:off x="1117440" y="2522520"/>
            <a:ext cx="6867720" cy="16383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6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117440" y="2522520"/>
                      <a:ext cx="6867720" cy="163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62" name=""/>
            <p:cNvSpPr/>
            <p:nvPr/>
          </p:nvSpPr>
          <p:spPr>
            <a:xfrm>
              <a:off x="1463760" y="488880"/>
              <a:ext cx="6176880" cy="703440"/>
            </a:xfrm>
            <a:prstGeom prst="rect">
              <a:avLst/>
            </a:prstGeom>
            <a:solidFill>
              <a:srgbClr val="ffd3c5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000" spc="-1" strike="noStrike">
                  <a:solidFill>
                    <a:srgbClr val="cc3300"/>
                  </a:solidFill>
                  <a:latin typeface="Arial"/>
                </a:rPr>
                <a:t>Serie espectroquímic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654200" y="4869000"/>
              <a:ext cx="5834160" cy="581400"/>
            </a:xfrm>
            <a:prstGeom prst="rect">
              <a:avLst/>
            </a:prstGeom>
            <a:solidFill>
              <a:srgbClr val="ffd3c5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3200" spc="-1" strike="noStrike">
                  <a:solidFill>
                    <a:srgbClr val="cc3300"/>
                  </a:solidFill>
                  <a:latin typeface="Arial"/>
                </a:rPr>
                <a:t>Aumenta la fuerza del camp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262240" y="2133720"/>
              <a:ext cx="44924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268360" y="4437000"/>
              <a:ext cx="44928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6" name=""/>
          <p:cNvGrpSpPr/>
          <p:nvPr/>
        </p:nvGrpSpPr>
        <p:grpSpPr>
          <a:xfrm>
            <a:off x="703440" y="482760"/>
            <a:ext cx="7689600" cy="5597640"/>
            <a:chOff x="703440" y="482760"/>
            <a:chExt cx="7689600" cy="5597640"/>
          </a:xfrm>
        </p:grpSpPr>
        <p:sp>
          <p:nvSpPr>
            <p:cNvPr id="467" name=""/>
            <p:cNvSpPr/>
            <p:nvPr/>
          </p:nvSpPr>
          <p:spPr>
            <a:xfrm>
              <a:off x="1819800" y="482760"/>
              <a:ext cx="5459760" cy="642600"/>
            </a:xfrm>
            <a:prstGeom prst="rect">
              <a:avLst/>
            </a:prstGeom>
            <a:solidFill>
              <a:srgbClr val="ffd3c5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3600" spc="-1" strike="noStrike">
                  <a:solidFill>
                    <a:srgbClr val="cc3300"/>
                  </a:solidFill>
                  <a:latin typeface="Arial"/>
                </a:rPr>
                <a:t>Propiedades del ligand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03440" y="1598760"/>
              <a:ext cx="7689600" cy="4481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Densidad de carg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A mayor densidad de carga, mayor separación del campo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Disponibilidad de pares libr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Un solo par electrónico distorsiona más que dos (un solo par se orienta mejor para formar el enlace)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Capacidad de formar uniones </a:t>
              </a:r>
              <a:r>
                <a:rPr b="1" lang="es-ES_tradnl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A mayor capacidad para formar uniones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, mayor separación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9" name=""/>
          <p:cNvGrpSpPr/>
          <p:nvPr/>
        </p:nvGrpSpPr>
        <p:grpSpPr>
          <a:xfrm>
            <a:off x="372960" y="476280"/>
            <a:ext cx="8340840" cy="4844880"/>
            <a:chOff x="372960" y="476280"/>
            <a:chExt cx="8340840" cy="4844880"/>
          </a:xfrm>
        </p:grpSpPr>
        <p:pic>
          <p:nvPicPr>
            <p:cNvPr id="470" name="" descr=""/>
            <p:cNvPicPr/>
            <p:nvPr/>
          </p:nvPicPr>
          <p:blipFill>
            <a:blip r:embed="rId2"/>
            <a:stretch/>
          </p:blipFill>
          <p:spPr>
            <a:xfrm>
              <a:off x="372960" y="1393920"/>
              <a:ext cx="8340840" cy="39272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71" name=""/>
            <p:cNvSpPr/>
            <p:nvPr/>
          </p:nvSpPr>
          <p:spPr>
            <a:xfrm>
              <a:off x="1463400" y="4869000"/>
              <a:ext cx="88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er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216240" y="4869000"/>
              <a:ext cx="106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iole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232240" y="4869000"/>
              <a:ext cx="121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marill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175520" y="4869000"/>
              <a:ext cx="128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marill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95880" y="476280"/>
              <a:ext cx="4114080" cy="642600"/>
            </a:xfrm>
            <a:prstGeom prst="rect">
              <a:avLst/>
            </a:prstGeom>
            <a:solidFill>
              <a:srgbClr val="ffd3c5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3600" spc="-1" strike="noStrike">
                  <a:solidFill>
                    <a:srgbClr val="cc3300"/>
                  </a:solidFill>
                  <a:latin typeface="Arial"/>
                </a:rPr>
                <a:t>Efecto del ligand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"/>
          <p:cNvGrpSpPr/>
          <p:nvPr/>
        </p:nvGrpSpPr>
        <p:grpSpPr>
          <a:xfrm>
            <a:off x="1200240" y="295200"/>
            <a:ext cx="6757920" cy="5829480"/>
            <a:chOff x="1200240" y="295200"/>
            <a:chExt cx="6757920" cy="5829480"/>
          </a:xfrm>
        </p:grpSpPr>
        <p:sp>
          <p:nvSpPr>
            <p:cNvPr id="477" name=""/>
            <p:cNvSpPr/>
            <p:nvPr/>
          </p:nvSpPr>
          <p:spPr>
            <a:xfrm>
              <a:off x="2203920" y="295200"/>
              <a:ext cx="4696200" cy="581400"/>
            </a:xfrm>
            <a:prstGeom prst="rect">
              <a:avLst/>
            </a:prstGeom>
            <a:solidFill>
              <a:srgbClr val="ffd3c5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cc3300"/>
                  </a:solidFill>
                  <a:latin typeface="Arial"/>
                </a:rPr>
                <a:t>Complejos tetraédrico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8" name="" descr=""/>
            <p:cNvPicPr/>
            <p:nvPr/>
          </p:nvPicPr>
          <p:blipFill>
            <a:blip r:embed="rId2"/>
            <a:stretch/>
          </p:blipFill>
          <p:spPr>
            <a:xfrm>
              <a:off x="1200240" y="1504800"/>
              <a:ext cx="6757920" cy="46198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"/>
          <p:cNvGrpSpPr/>
          <p:nvPr/>
        </p:nvGrpSpPr>
        <p:grpSpPr>
          <a:xfrm>
            <a:off x="703440" y="1022400"/>
            <a:ext cx="7704000" cy="4657680"/>
            <a:chOff x="703440" y="1022400"/>
            <a:chExt cx="7704000" cy="4657680"/>
          </a:xfrm>
        </p:grpSpPr>
        <p:pic>
          <p:nvPicPr>
            <p:cNvPr id="480" name="" descr=""/>
            <p:cNvPicPr/>
            <p:nvPr/>
          </p:nvPicPr>
          <p:blipFill>
            <a:blip r:embed="rId2"/>
            <a:srcRect l="0" t="10738" r="0" b="0"/>
            <a:stretch/>
          </p:blipFill>
          <p:spPr>
            <a:xfrm>
              <a:off x="703440" y="1022400"/>
              <a:ext cx="7704000" cy="4657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81" name=""/>
            <p:cNvSpPr/>
            <p:nvPr/>
          </p:nvSpPr>
          <p:spPr>
            <a:xfrm>
              <a:off x="1894320" y="2826000"/>
              <a:ext cx="122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Times New Roman"/>
                </a:rPr>
                <a:t>Espin baj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513320" y="2822760"/>
              <a:ext cx="116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Times New Roman"/>
                </a:rPr>
                <a:t>Espin al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550240" y="1492200"/>
              <a:ext cx="238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mplejos octaédric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747400" y="1482840"/>
              <a:ext cx="244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mplejos tetraédric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74720" y="1241640"/>
              <a:ext cx="133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Número d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lectrones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438800" y="1144800"/>
              <a:ext cx="159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nfigur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" name=""/>
          <p:cNvGrpSpPr/>
          <p:nvPr/>
        </p:nvGrpSpPr>
        <p:grpSpPr>
          <a:xfrm>
            <a:off x="495360" y="157320"/>
            <a:ext cx="8169120" cy="6530040"/>
            <a:chOff x="495360" y="157320"/>
            <a:chExt cx="8169120" cy="6530040"/>
          </a:xfrm>
        </p:grpSpPr>
        <p:sp>
          <p:nvSpPr>
            <p:cNvPr id="488" name=""/>
            <p:cNvSpPr/>
            <p:nvPr/>
          </p:nvSpPr>
          <p:spPr>
            <a:xfrm>
              <a:off x="1724760" y="157320"/>
              <a:ext cx="5688360" cy="642600"/>
            </a:xfrm>
            <a:prstGeom prst="rect">
              <a:avLst/>
            </a:prstGeom>
            <a:solidFill>
              <a:srgbClr val="ffd3c5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3600" spc="-1" strike="noStrike">
                  <a:solidFill>
                    <a:srgbClr val="cc3300"/>
                  </a:solidFill>
                  <a:latin typeface="Arial"/>
                </a:rPr>
                <a:t>Teoría del campo ligand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95360" y="1047600"/>
              <a:ext cx="8169120" cy="5639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800" spc="-1" strike="noStrike">
                  <a:solidFill>
                    <a:srgbClr val="000000"/>
                  </a:solidFill>
                  <a:latin typeface="Arial"/>
                </a:rPr>
                <a:t>La teoría del campo ligando sugiere que las interacciones entre el ion central y los ligandos se efectúan por enlaces parcialmente covalentes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Además de las consideraciones realizadas en la TCC incluye los enlaces metal-ligando sigma (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) y pi (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)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Esta teoría permite explicar la serie espectroquímica en función de considerar a los ligandos con sus orbitales y no como cargas puntuales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"/>
          <p:cNvGrpSpPr/>
          <p:nvPr/>
        </p:nvGrpSpPr>
        <p:grpSpPr>
          <a:xfrm>
            <a:off x="1373040" y="233280"/>
            <a:ext cx="6372720" cy="6220080"/>
            <a:chOff x="1373040" y="233280"/>
            <a:chExt cx="6372720" cy="6220080"/>
          </a:xfrm>
        </p:grpSpPr>
        <p:sp>
          <p:nvSpPr>
            <p:cNvPr id="491" name=""/>
            <p:cNvSpPr/>
            <p:nvPr/>
          </p:nvSpPr>
          <p:spPr>
            <a:xfrm>
              <a:off x="1373040" y="233280"/>
              <a:ext cx="6372720" cy="642600"/>
            </a:xfrm>
            <a:prstGeom prst="rect">
              <a:avLst/>
            </a:prstGeom>
            <a:solidFill>
              <a:srgbClr val="ffd3c5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3600" spc="-1" strike="noStrike">
                  <a:solidFill>
                    <a:srgbClr val="cc3300"/>
                  </a:solidFill>
                  <a:latin typeface="Arial"/>
                </a:rPr>
                <a:t>Teoría del campo ligando (II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2" name="" descr=""/>
            <p:cNvPicPr/>
            <p:nvPr/>
          </p:nvPicPr>
          <p:blipFill>
            <a:blip r:embed="rId2"/>
            <a:stretch/>
          </p:blipFill>
          <p:spPr>
            <a:xfrm>
              <a:off x="2062080" y="1154160"/>
              <a:ext cx="4967280" cy="5299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99960" y="663480"/>
            <a:ext cx="8321760" cy="4976280"/>
            <a:chOff x="399960" y="663480"/>
            <a:chExt cx="8321760" cy="4976280"/>
          </a:xfrm>
        </p:grpSpPr>
        <p:sp>
          <p:nvSpPr>
            <p:cNvPr id="53" name=""/>
            <p:cNvSpPr/>
            <p:nvPr/>
          </p:nvSpPr>
          <p:spPr>
            <a:xfrm>
              <a:off x="984240" y="663480"/>
              <a:ext cx="7146720" cy="703440"/>
            </a:xfrm>
            <a:prstGeom prst="rect">
              <a:avLst/>
            </a:prstGeom>
            <a:solidFill>
              <a:srgbClr val="ffd3c5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000" spc="-1" strike="noStrike">
                  <a:solidFill>
                    <a:srgbClr val="cc3300"/>
                  </a:solidFill>
                  <a:latin typeface="Arial"/>
                </a:rPr>
                <a:t>Teoría de enlace de valencia</a:t>
              </a:r>
              <a:r>
                <a:rPr b="1" lang="es-ES_tradnl" sz="3200" spc="-1" strike="noStrike">
                  <a:solidFill>
                    <a:srgbClr val="cc33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99960" y="2133720"/>
              <a:ext cx="8321760" cy="3506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Postula que los ligandos ceden sus electrones a un grupo de orbitales híbridos d</a:t>
              </a:r>
              <a:r>
                <a:rPr b="1" lang="es-ES_tradnl" sz="32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s-ES_tradnl" sz="32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 o sp</a:t>
              </a:r>
              <a:r>
                <a:rPr b="1" lang="es-ES_tradnl" sz="32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s-ES_tradnl" sz="32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 del ion central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Justifica las características magnéticas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No explica el color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06320" y="1917360"/>
            <a:ext cx="7702560" cy="2971800"/>
          </a:xfrm>
          <a:prstGeom prst="rect">
            <a:avLst/>
          </a:prstGeom>
          <a:solidFill>
            <a:srgbClr val="ffd8cf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Arial"/>
              </a:rPr>
              <a:t>Atkins P.W, Jones L. Química . 3</a:t>
            </a:r>
            <a:r>
              <a:rPr b="1" lang="es-ES_tradnl" sz="2800" spc="-1" strike="noStrike" baseline="30000">
                <a:solidFill>
                  <a:srgbClr val="cc3300"/>
                </a:solidFill>
                <a:latin typeface="Arial"/>
              </a:rPr>
              <a:t>ra</a:t>
            </a:r>
            <a:r>
              <a:rPr b="1" lang="es-ES_tradnl" sz="2800" spc="-1" strike="noStrike">
                <a:solidFill>
                  <a:srgbClr val="cc3300"/>
                </a:solidFill>
                <a:latin typeface="Arial"/>
              </a:rPr>
              <a:t> edición. Ed Omega. 199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cc3300"/>
                </a:solidFill>
                <a:latin typeface="Arial"/>
              </a:rPr>
              <a:t>Capítulo 2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Arial"/>
              </a:rPr>
              <a:t>Chang R. Química. Ed. MacGraw Hill.199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cc3300"/>
                </a:solidFill>
                <a:latin typeface="Arial"/>
              </a:rPr>
              <a:t>Capítulo 2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814680" y="5486400"/>
            <a:ext cx="7473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sultas: pevelson@ffyb.uba.ar (Pablo Evelso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936520" y="560520"/>
            <a:ext cx="3256200" cy="764280"/>
          </a:xfrm>
          <a:prstGeom prst="rect">
            <a:avLst/>
          </a:prstGeom>
          <a:solidFill>
            <a:srgbClr val="ffd8c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cc3300"/>
                </a:solidFill>
                <a:latin typeface="Arial"/>
              </a:rPr>
              <a:t>Bibliograf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243000" y="663480"/>
            <a:ext cx="8631000" cy="5418360"/>
            <a:chOff x="243000" y="663480"/>
            <a:chExt cx="8631000" cy="5418360"/>
          </a:xfrm>
        </p:grpSpPr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243000" y="2162160"/>
              <a:ext cx="8631000" cy="2490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7" name=""/>
            <p:cNvSpPr/>
            <p:nvPr/>
          </p:nvSpPr>
          <p:spPr>
            <a:xfrm>
              <a:off x="587520" y="663480"/>
              <a:ext cx="7910280" cy="703440"/>
            </a:xfrm>
            <a:prstGeom prst="rect">
              <a:avLst/>
            </a:prstGeom>
            <a:solidFill>
              <a:srgbClr val="ffd3c5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000" spc="-1" strike="noStrike">
                  <a:solidFill>
                    <a:srgbClr val="cc3300"/>
                  </a:solidFill>
                  <a:latin typeface="Arial"/>
                </a:rPr>
                <a:t>Teoría de enlace de valencia (II)</a:t>
              </a:r>
              <a:r>
                <a:rPr b="1" lang="es-ES_tradnl" sz="3200" spc="-1" strike="noStrike">
                  <a:solidFill>
                    <a:srgbClr val="cc33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70040" y="5256360"/>
              <a:ext cx="7561080" cy="825480"/>
            </a:xfrm>
            <a:prstGeom prst="rect">
              <a:avLst/>
            </a:prstGeom>
            <a:solidFill>
              <a:srgbClr val="ffd3c5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3300"/>
                  </a:solidFill>
                  <a:latin typeface="Arial"/>
                </a:rPr>
                <a:t>Formación de un enlace </a:t>
              </a:r>
              <a:r>
                <a:rPr b="1" i="1" lang="en-US" sz="24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</a:t>
              </a:r>
              <a:r>
                <a:rPr b="1" i="1" lang="en-US" sz="2400" spc="-1" strike="noStrike">
                  <a:solidFill>
                    <a:srgbClr val="cc3300"/>
                  </a:solidFill>
                  <a:latin typeface="Arial"/>
                </a:rPr>
                <a:t> a partir de los orbitales híbridos del metal y el ligando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291960" y="368280"/>
            <a:ext cx="8748720" cy="6120000"/>
            <a:chOff x="291960" y="368280"/>
            <a:chExt cx="8748720" cy="6120000"/>
          </a:xfrm>
        </p:grpSpPr>
        <p:sp>
          <p:nvSpPr>
            <p:cNvPr id="60" name=""/>
            <p:cNvSpPr/>
            <p:nvPr/>
          </p:nvSpPr>
          <p:spPr>
            <a:xfrm>
              <a:off x="291960" y="368280"/>
              <a:ext cx="8748720" cy="612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397800" y="457200"/>
              <a:ext cx="3118680" cy="1267200"/>
              <a:chOff x="397800" y="457200"/>
              <a:chExt cx="3118680" cy="1267200"/>
            </a:xfrm>
          </p:grpSpPr>
          <p:sp>
            <p:nvSpPr>
              <p:cNvPr id="62" name=""/>
              <p:cNvSpPr/>
              <p:nvPr/>
            </p:nvSpPr>
            <p:spPr>
              <a:xfrm>
                <a:off x="397800" y="457200"/>
                <a:ext cx="3118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200" spc="-1" strike="noStrike">
                    <a:solidFill>
                      <a:srgbClr val="000000"/>
                    </a:solidFill>
                    <a:latin typeface="Arial"/>
                  </a:rPr>
                  <a:t>Fe = [Ar] 4s</a:t>
                </a:r>
                <a:r>
                  <a:rPr b="0" lang="es-ES_tradnl" sz="32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ES_tradnl" sz="3200" spc="-1" strike="noStrike">
                    <a:solidFill>
                      <a:srgbClr val="000000"/>
                    </a:solidFill>
                    <a:latin typeface="Arial"/>
                  </a:rPr>
                  <a:t> 3d</a:t>
                </a:r>
                <a:r>
                  <a:rPr b="0" lang="es-ES_tradnl" sz="3200" spc="-1" strike="noStrike" baseline="30000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07520" y="1143000"/>
                <a:ext cx="2713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200" spc="-1" strike="noStrike">
                    <a:solidFill>
                      <a:srgbClr val="000000"/>
                    </a:solidFill>
                    <a:latin typeface="Arial"/>
                  </a:rPr>
                  <a:t>Fe</a:t>
                </a:r>
                <a:r>
                  <a:rPr b="0" lang="es-ES_tradnl" sz="3200" spc="-1" strike="noStrike" baseline="30000">
                    <a:solidFill>
                      <a:srgbClr val="000000"/>
                    </a:solidFill>
                    <a:latin typeface="Arial"/>
                  </a:rPr>
                  <a:t>3+</a:t>
                </a:r>
                <a:r>
                  <a:rPr b="0" lang="es-ES_tradnl" sz="3200" spc="-1" strike="noStrike">
                    <a:solidFill>
                      <a:srgbClr val="000000"/>
                    </a:solidFill>
                    <a:latin typeface="Arial"/>
                  </a:rPr>
                  <a:t> = [Ar] 3d</a:t>
                </a:r>
                <a:r>
                  <a:rPr b="0" lang="es-ES_tradnl" sz="3200" spc="-1" strike="noStrike" baseline="30000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399240" y="1700280"/>
              <a:ext cx="5307480" cy="1230480"/>
              <a:chOff x="399240" y="1700280"/>
              <a:chExt cx="5307480" cy="1230480"/>
            </a:xfrm>
          </p:grpSpPr>
          <p:sp>
            <p:nvSpPr>
              <p:cNvPr id="65" name=""/>
              <p:cNvSpPr/>
              <p:nvPr/>
            </p:nvSpPr>
            <p:spPr>
              <a:xfrm>
                <a:off x="399240" y="2297160"/>
                <a:ext cx="2018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200" spc="-1" strike="noStrike">
                    <a:solidFill>
                      <a:srgbClr val="000000"/>
                    </a:solidFill>
                    <a:latin typeface="Arial"/>
                  </a:rPr>
                  <a:t>Fe</a:t>
                </a:r>
                <a:r>
                  <a:rPr b="0" lang="es-ES_tradnl" sz="3200" spc="-1" strike="noStrike" baseline="30000">
                    <a:solidFill>
                      <a:srgbClr val="000000"/>
                    </a:solidFill>
                    <a:latin typeface="Arial"/>
                  </a:rPr>
                  <a:t>3+</a:t>
                </a:r>
                <a:r>
                  <a:rPr b="0" lang="es-ES_tradnl" sz="3200" spc="-1" strike="noStrike">
                    <a:solidFill>
                      <a:srgbClr val="000000"/>
                    </a:solidFill>
                    <a:latin typeface="Arial"/>
                  </a:rPr>
                  <a:t> = [Ar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362320" y="280836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422080" y="2305080"/>
                <a:ext cx="346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895480" y="28195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955600" y="2316240"/>
                <a:ext cx="346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429000" y="280836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533400" y="2349360"/>
                <a:ext cx="346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62520" y="28195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039920" y="2349360"/>
                <a:ext cx="346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495680" y="28195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4541400" y="2314440"/>
                <a:ext cx="346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181480" y="280044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362320" y="2190600"/>
                <a:ext cx="2590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186720" y="1747800"/>
                <a:ext cx="57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i="1" lang="es-ES_tradnl" sz="2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181480" y="219060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149800" y="1700280"/>
                <a:ext cx="556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i="1" lang="es-ES_tradnl" sz="2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401400" y="3352680"/>
              <a:ext cx="8456760" cy="1168920"/>
              <a:chOff x="401400" y="3352680"/>
              <a:chExt cx="8456760" cy="1168920"/>
            </a:xfrm>
          </p:grpSpPr>
          <p:sp>
            <p:nvSpPr>
              <p:cNvPr id="82" name=""/>
              <p:cNvSpPr/>
              <p:nvPr/>
            </p:nvSpPr>
            <p:spPr>
              <a:xfrm>
                <a:off x="401400" y="3890880"/>
                <a:ext cx="813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200" spc="-1" strike="noStrike">
                    <a:solidFill>
                      <a:srgbClr val="000000"/>
                    </a:solidFill>
                    <a:latin typeface="Arial"/>
                  </a:rPr>
                  <a:t>[Ar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390680" y="44323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450440" y="3929040"/>
                <a:ext cx="346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924200" y="44434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983960" y="3921120"/>
                <a:ext cx="346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" name=""/>
              <p:cNvGrpSpPr/>
              <p:nvPr/>
            </p:nvGrpSpPr>
            <p:grpSpPr>
              <a:xfrm>
                <a:off x="2419200" y="3929040"/>
                <a:ext cx="457200" cy="581400"/>
                <a:chOff x="2419200" y="3929040"/>
                <a:chExt cx="457200" cy="58140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2419200" y="443232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2479320" y="3929040"/>
                  <a:ext cx="3466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3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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" name=""/>
              <p:cNvSpPr/>
              <p:nvPr/>
            </p:nvSpPr>
            <p:spPr>
              <a:xfrm>
                <a:off x="2933640" y="44434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955600" y="3924360"/>
                <a:ext cx="346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" name=""/>
              <p:cNvGrpSpPr/>
              <p:nvPr/>
            </p:nvGrpSpPr>
            <p:grpSpPr>
              <a:xfrm>
                <a:off x="3448080" y="3940200"/>
                <a:ext cx="457200" cy="581400"/>
                <a:chOff x="3448080" y="3940200"/>
                <a:chExt cx="457200" cy="58140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3448080" y="444348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3507840" y="3940200"/>
                  <a:ext cx="3466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3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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" name=""/>
              <p:cNvSpPr/>
              <p:nvPr/>
            </p:nvSpPr>
            <p:spPr>
              <a:xfrm>
                <a:off x="4210200" y="44053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390680" y="3795840"/>
                <a:ext cx="2590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215080" y="3352680"/>
                <a:ext cx="57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i="1" lang="es-ES_tradnl" sz="2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210200" y="379584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119480" y="3352680"/>
                <a:ext cx="556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i="1" lang="es-ES_tradnl" sz="2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781520" y="44053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295960" y="44053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791320" y="44053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400800" y="44053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896160" y="44053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391520" y="44053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886880" y="44053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400960" y="44053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743360" y="3795840"/>
                <a:ext cx="1524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419880" y="3814920"/>
                <a:ext cx="2438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232960" y="3357720"/>
                <a:ext cx="57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i="1" lang="es-ES_tradnl" sz="2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309440" y="3357720"/>
                <a:ext cx="57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i="1" lang="es-ES_tradnl" sz="2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4067280" y="2351160"/>
              <a:ext cx="4424400" cy="2297160"/>
              <a:chOff x="4067280" y="2351160"/>
              <a:chExt cx="4424400" cy="2297160"/>
            </a:xfrm>
          </p:grpSpPr>
          <p:sp>
            <p:nvSpPr>
              <p:cNvPr id="113" name=""/>
              <p:cNvSpPr/>
              <p:nvPr/>
            </p:nvSpPr>
            <p:spPr>
              <a:xfrm>
                <a:off x="4067280" y="3352680"/>
                <a:ext cx="3352680" cy="129564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6039000" y="2666520"/>
                <a:ext cx="761760" cy="685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727680" y="2351160"/>
                <a:ext cx="1764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ff0000"/>
                    </a:solidFill>
                    <a:latin typeface="Arial"/>
                  </a:rPr>
                  <a:t>Hibridizan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401400" y="4991040"/>
              <a:ext cx="8456760" cy="1157760"/>
              <a:chOff x="401400" y="4991040"/>
              <a:chExt cx="8456760" cy="1157760"/>
            </a:xfrm>
          </p:grpSpPr>
          <p:sp>
            <p:nvSpPr>
              <p:cNvPr id="117" name=""/>
              <p:cNvSpPr/>
              <p:nvPr/>
            </p:nvSpPr>
            <p:spPr>
              <a:xfrm>
                <a:off x="401400" y="5529240"/>
                <a:ext cx="813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200" spc="-1" strike="noStrike">
                    <a:solidFill>
                      <a:srgbClr val="000000"/>
                    </a:solidFill>
                    <a:latin typeface="Arial"/>
                  </a:rPr>
                  <a:t>[Ar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390680" y="60706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450440" y="5567400"/>
                <a:ext cx="346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924200" y="606276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983960" y="5559480"/>
                <a:ext cx="346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19200" y="60706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479320" y="5567400"/>
                <a:ext cx="346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933640" y="606276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993760" y="5559480"/>
                <a:ext cx="346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448080" y="606276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507840" y="5559480"/>
                <a:ext cx="346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390680" y="5433840"/>
                <a:ext cx="2590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215080" y="4991040"/>
                <a:ext cx="57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i="1" lang="es-ES_tradnl" sz="2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040000" y="4991040"/>
                <a:ext cx="12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800" spc="-1" strike="noStrike">
                    <a:solidFill>
                      <a:srgbClr val="000000"/>
                    </a:solidFill>
                    <a:latin typeface="Arial"/>
                  </a:rPr>
                  <a:t>6 sp</a:t>
                </a:r>
                <a:r>
                  <a:rPr b="0" i="1" lang="es-ES_tradnl" sz="2800" spc="-1" strike="noStrike" baseline="30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i="1" lang="es-ES_tradnl" sz="2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r>
                  <a:rPr b="0" i="1" lang="es-ES_tradnl" sz="28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391520" y="60436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886880" y="60436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400960" y="60436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10200" y="60436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743360" y="60436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276880" y="60436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791320" y="60436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267600" y="60436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781680" y="60436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210200" y="5460840"/>
                <a:ext cx="297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334280" y="5442120"/>
                <a:ext cx="1523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756560" y="5018040"/>
                <a:ext cx="701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i="1" lang="es-ES_tradnl" sz="2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4572000" y="765000"/>
              <a:ext cx="4233960" cy="4597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0000"/>
                  </a:solidFill>
                  <a:latin typeface="Arial"/>
                </a:rPr>
                <a:t>Complejo de orbital extern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0" y="0"/>
            <a:ext cx="8991720" cy="6602760"/>
            <a:chOff x="0" y="0"/>
            <a:chExt cx="8991720" cy="6602760"/>
          </a:xfrm>
        </p:grpSpPr>
        <p:sp>
          <p:nvSpPr>
            <p:cNvPr id="145" name=""/>
            <p:cNvSpPr/>
            <p:nvPr/>
          </p:nvSpPr>
          <p:spPr>
            <a:xfrm>
              <a:off x="98280" y="347760"/>
              <a:ext cx="8893440" cy="6119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344160" y="3505320"/>
              <a:ext cx="8457120" cy="1171800"/>
              <a:chOff x="344160" y="3505320"/>
              <a:chExt cx="8457120" cy="1171800"/>
            </a:xfrm>
          </p:grpSpPr>
          <p:sp>
            <p:nvSpPr>
              <p:cNvPr id="147" name=""/>
              <p:cNvSpPr/>
              <p:nvPr/>
            </p:nvSpPr>
            <p:spPr>
              <a:xfrm>
                <a:off x="344160" y="4043520"/>
                <a:ext cx="813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200" spc="-1" strike="noStrike">
                    <a:solidFill>
                      <a:srgbClr val="000000"/>
                    </a:solidFill>
                    <a:latin typeface="Arial"/>
                  </a:rPr>
                  <a:t>[Ar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333440" y="458460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393560" y="4081320"/>
                <a:ext cx="346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866960" y="459576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869840" y="4095720"/>
                <a:ext cx="346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362320" y="458460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422080" y="4081320"/>
                <a:ext cx="346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876400" y="459576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936520" y="4095720"/>
                <a:ext cx="346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390840" y="459576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470040" y="4076640"/>
                <a:ext cx="346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152960" y="455760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333440" y="3948120"/>
                <a:ext cx="2590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157840" y="3505320"/>
                <a:ext cx="57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i="1" lang="es-ES_tradnl" sz="2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152960" y="39481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062600" y="3505320"/>
                <a:ext cx="556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i="1" lang="es-ES_tradnl" sz="2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724280" y="455760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238720" y="455760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734080" y="455760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343560" y="455760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838920" y="455760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334280" y="455760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829640" y="455760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344080" y="455760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686480" y="3948120"/>
                <a:ext cx="1523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362640" y="3967200"/>
                <a:ext cx="2438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175720" y="3510000"/>
                <a:ext cx="57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i="1" lang="es-ES_tradnl" sz="2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252200" y="3510000"/>
                <a:ext cx="57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i="1" lang="es-ES_tradnl" sz="2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2895480" y="2503440"/>
              <a:ext cx="4815000" cy="2297160"/>
              <a:chOff x="2895480" y="2503440"/>
              <a:chExt cx="4815000" cy="2297160"/>
            </a:xfrm>
          </p:grpSpPr>
          <p:sp>
            <p:nvSpPr>
              <p:cNvPr id="176" name=""/>
              <p:cNvSpPr/>
              <p:nvPr/>
            </p:nvSpPr>
            <p:spPr>
              <a:xfrm>
                <a:off x="2895480" y="3505320"/>
                <a:ext cx="3353040" cy="12952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>
                <a:off x="5200560" y="2819160"/>
                <a:ext cx="762120" cy="685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946480" y="2503440"/>
                <a:ext cx="1764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ff0000"/>
                    </a:solidFill>
                    <a:latin typeface="Arial"/>
                  </a:rPr>
                  <a:t>Hibridizan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397800" y="457200"/>
              <a:ext cx="5250240" cy="2440440"/>
              <a:chOff x="397800" y="457200"/>
              <a:chExt cx="5250240" cy="2440440"/>
            </a:xfrm>
          </p:grpSpPr>
          <p:sp>
            <p:nvSpPr>
              <p:cNvPr id="180" name=""/>
              <p:cNvSpPr/>
              <p:nvPr/>
            </p:nvSpPr>
            <p:spPr>
              <a:xfrm>
                <a:off x="397800" y="457200"/>
                <a:ext cx="3118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200" spc="-1" strike="noStrike">
                    <a:solidFill>
                      <a:srgbClr val="000000"/>
                    </a:solidFill>
                    <a:latin typeface="Arial"/>
                  </a:rPr>
                  <a:t>Fe = [Ar] 4s</a:t>
                </a:r>
                <a:r>
                  <a:rPr b="0" lang="es-ES_tradnl" sz="32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ES_tradnl" sz="3200" spc="-1" strike="noStrike">
                    <a:solidFill>
                      <a:srgbClr val="000000"/>
                    </a:solidFill>
                    <a:latin typeface="Arial"/>
                  </a:rPr>
                  <a:t> 3d</a:t>
                </a:r>
                <a:r>
                  <a:rPr b="0" lang="es-ES_tradnl" sz="3200" spc="-1" strike="noStrike" baseline="30000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07520" y="1143000"/>
                <a:ext cx="2713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200" spc="-1" strike="noStrike">
                    <a:solidFill>
                      <a:srgbClr val="000000"/>
                    </a:solidFill>
                    <a:latin typeface="Arial"/>
                  </a:rPr>
                  <a:t>Fe</a:t>
                </a:r>
                <a:r>
                  <a:rPr b="0" lang="es-ES_tradnl" sz="3200" spc="-1" strike="noStrike" baseline="30000">
                    <a:solidFill>
                      <a:srgbClr val="000000"/>
                    </a:solidFill>
                    <a:latin typeface="Arial"/>
                  </a:rPr>
                  <a:t>3+</a:t>
                </a:r>
                <a:r>
                  <a:rPr b="0" lang="es-ES_tradnl" sz="3200" spc="-1" strike="noStrike">
                    <a:solidFill>
                      <a:srgbClr val="000000"/>
                    </a:solidFill>
                    <a:latin typeface="Arial"/>
                  </a:rPr>
                  <a:t> = [Ar] 3d</a:t>
                </a:r>
                <a:r>
                  <a:rPr b="0" lang="es-ES_tradnl" sz="3200" spc="-1" strike="noStrike" baseline="30000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186720" y="1747800"/>
                <a:ext cx="57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i="1" lang="es-ES_tradnl" sz="2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3" name=""/>
              <p:cNvGrpSpPr/>
              <p:nvPr/>
            </p:nvGrpSpPr>
            <p:grpSpPr>
              <a:xfrm>
                <a:off x="399240" y="2190600"/>
                <a:ext cx="5239440" cy="707040"/>
                <a:chOff x="399240" y="2190600"/>
                <a:chExt cx="5239440" cy="70704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399240" y="2297160"/>
                  <a:ext cx="20188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3200" spc="-1" strike="noStrike">
                      <a:solidFill>
                        <a:srgbClr val="000000"/>
                      </a:solidFill>
                      <a:latin typeface="Arial"/>
                    </a:rPr>
                    <a:t>Fe</a:t>
                  </a:r>
                  <a:r>
                    <a:rPr b="0" lang="es-ES_tradnl" sz="3200" spc="-1" strike="noStrike" baseline="30000">
                      <a:solidFill>
                        <a:srgbClr val="000000"/>
                      </a:solidFill>
                      <a:latin typeface="Arial"/>
                    </a:rPr>
                    <a:t>3+</a:t>
                  </a:r>
                  <a:r>
                    <a:rPr b="0" lang="es-ES_tradnl" sz="3200" spc="-1" strike="noStrike">
                      <a:solidFill>
                        <a:srgbClr val="000000"/>
                      </a:solidFill>
                      <a:latin typeface="Arial"/>
                    </a:rPr>
                    <a:t> = [Ar]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5" name=""/>
                <p:cNvGrpSpPr/>
                <p:nvPr/>
              </p:nvGrpSpPr>
              <p:grpSpPr>
                <a:xfrm>
                  <a:off x="2362320" y="2305080"/>
                  <a:ext cx="457200" cy="581400"/>
                  <a:chOff x="2362320" y="2305080"/>
                  <a:chExt cx="457200" cy="58140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>
                    <a:off x="2362320" y="2808360"/>
                    <a:ext cx="4572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2422080" y="2305080"/>
                    <a:ext cx="34668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_tradnl" sz="3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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" name=""/>
                <p:cNvGrpSpPr/>
                <p:nvPr/>
              </p:nvGrpSpPr>
              <p:grpSpPr>
                <a:xfrm>
                  <a:off x="2895480" y="2316240"/>
                  <a:ext cx="457200" cy="581400"/>
                  <a:chOff x="2895480" y="2316240"/>
                  <a:chExt cx="457200" cy="58140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>
                    <a:off x="2895480" y="2819520"/>
                    <a:ext cx="4572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2955600" y="2316240"/>
                    <a:ext cx="34668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_tradnl" sz="3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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1" name=""/>
                <p:cNvSpPr/>
                <p:nvPr/>
              </p:nvSpPr>
              <p:spPr>
                <a:xfrm>
                  <a:off x="3429000" y="280836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3489120" y="2305080"/>
                  <a:ext cx="3466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3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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3962520" y="281952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022280" y="2316240"/>
                  <a:ext cx="3466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3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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4495680" y="281952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4555800" y="2316240"/>
                  <a:ext cx="3466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3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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5181480" y="280044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2362320" y="2190600"/>
                  <a:ext cx="2590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5181480" y="219060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"/>
              <p:cNvSpPr/>
              <p:nvPr/>
            </p:nvSpPr>
            <p:spPr>
              <a:xfrm>
                <a:off x="5091120" y="1747800"/>
                <a:ext cx="556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i="1" lang="es-ES_tradnl" sz="2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1037880" y="3159360"/>
              <a:ext cx="3444840" cy="3443400"/>
              <a:chOff x="1037880" y="3159360"/>
              <a:chExt cx="3444840" cy="344340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1037880" y="3159360"/>
                <a:ext cx="3444840" cy="3443400"/>
                <a:chOff x="1037880" y="3159360"/>
                <a:chExt cx="3444840" cy="3443400"/>
              </a:xfrm>
            </p:grpSpPr>
            <p:sp>
              <p:nvSpPr>
                <p:cNvPr id="203" name=""/>
                <p:cNvSpPr/>
                <p:nvPr/>
              </p:nvSpPr>
              <p:spPr>
                <a:xfrm rot="19186800">
                  <a:off x="1535040" y="3662280"/>
                  <a:ext cx="2450160" cy="2437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flipH="1">
                  <a:off x="1630080" y="3918240"/>
                  <a:ext cx="368280" cy="3272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2067480" y="3727800"/>
                <a:ext cx="1514160" cy="1545840"/>
                <a:chOff x="2067480" y="3727800"/>
                <a:chExt cx="1514160" cy="1545840"/>
              </a:xfrm>
            </p:grpSpPr>
            <p:sp>
              <p:nvSpPr>
                <p:cNvPr id="206" name=""/>
                <p:cNvSpPr/>
                <p:nvPr/>
              </p:nvSpPr>
              <p:spPr>
                <a:xfrm rot="19186800">
                  <a:off x="2348280" y="3891240"/>
                  <a:ext cx="952560" cy="121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flipH="1">
                  <a:off x="2233800" y="4033440"/>
                  <a:ext cx="187920" cy="1638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382320" y="5105520"/>
              <a:ext cx="8075880" cy="1143000"/>
              <a:chOff x="382320" y="5105520"/>
              <a:chExt cx="8075880" cy="1143000"/>
            </a:xfrm>
          </p:grpSpPr>
          <p:sp>
            <p:nvSpPr>
              <p:cNvPr id="209" name=""/>
              <p:cNvSpPr/>
              <p:nvPr/>
            </p:nvSpPr>
            <p:spPr>
              <a:xfrm>
                <a:off x="382320" y="5554800"/>
                <a:ext cx="813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200" spc="-1" strike="noStrike">
                    <a:solidFill>
                      <a:srgbClr val="000000"/>
                    </a:solidFill>
                    <a:latin typeface="Arial"/>
                  </a:rPr>
                  <a:t>[Ar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371600" y="611496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348200" y="5661000"/>
                <a:ext cx="46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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905120" y="610704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400480" y="611496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474640" y="5641920"/>
                <a:ext cx="325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914560" y="61261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429000" y="610704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830960" y="5138640"/>
                <a:ext cx="57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i="1" lang="es-ES_tradnl" sz="2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736800" y="5105520"/>
                <a:ext cx="1281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800" spc="-1" strike="noStrike">
                    <a:solidFill>
                      <a:srgbClr val="000000"/>
                    </a:solidFill>
                    <a:latin typeface="Arial"/>
                  </a:rPr>
                  <a:t>6 d</a:t>
                </a:r>
                <a:r>
                  <a:rPr b="0" i="1" lang="es-ES_tradnl" sz="28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i="1" lang="es-ES_tradnl" sz="2800" spc="-1" strike="noStrike">
                    <a:solidFill>
                      <a:srgbClr val="000000"/>
                    </a:solidFill>
                    <a:latin typeface="Arial"/>
                  </a:rPr>
                  <a:t>sp</a:t>
                </a:r>
                <a:r>
                  <a:rPr b="0" i="1" lang="es-ES_tradnl" sz="2800" spc="-1" strike="noStrike" baseline="30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953400" y="611496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467480" y="611496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8001000" y="611496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924360" y="610704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419720" y="610704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915080" y="611496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410080" y="611496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905440" y="610704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400800" y="610704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952720" y="5562720"/>
                <a:ext cx="297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962680" y="5562720"/>
                <a:ext cx="2419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842160" y="5138640"/>
                <a:ext cx="701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i="1" lang="es-ES_tradnl" sz="2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914560" y="5668920"/>
                <a:ext cx="8002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390840" y="5668920"/>
                <a:ext cx="8002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886200" y="5657760"/>
                <a:ext cx="8002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400640" y="5657760"/>
                <a:ext cx="7999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876920" y="5657760"/>
                <a:ext cx="7999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410080" y="5668920"/>
                <a:ext cx="8002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900800" y="5657760"/>
                <a:ext cx="46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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371600" y="5562720"/>
                <a:ext cx="1523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4576320" y="692280"/>
              <a:ext cx="4129560" cy="4597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0000"/>
                  </a:solidFill>
                  <a:latin typeface="Arial"/>
                </a:rPr>
                <a:t>Complejo de orbital inte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0920" y="260280"/>
              <a:ext cx="8642160" cy="626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0" y="0"/>
              <a:ext cx="8893080" cy="630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"/>
          <p:cNvGrpSpPr/>
          <p:nvPr/>
        </p:nvGrpSpPr>
        <p:grpSpPr>
          <a:xfrm>
            <a:off x="250920" y="762120"/>
            <a:ext cx="8642160" cy="5619600"/>
            <a:chOff x="250920" y="762120"/>
            <a:chExt cx="8642160" cy="5619600"/>
          </a:xfrm>
        </p:grpSpPr>
        <p:sp>
          <p:nvSpPr>
            <p:cNvPr id="243" name=""/>
            <p:cNvSpPr/>
            <p:nvPr/>
          </p:nvSpPr>
          <p:spPr>
            <a:xfrm>
              <a:off x="250920" y="765000"/>
              <a:ext cx="8642160" cy="5616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306000" y="762120"/>
              <a:ext cx="8471880" cy="5419440"/>
              <a:chOff x="306000" y="762120"/>
              <a:chExt cx="8471880" cy="5419440"/>
            </a:xfrm>
          </p:grpSpPr>
          <p:grpSp>
            <p:nvGrpSpPr>
              <p:cNvPr id="245" name=""/>
              <p:cNvGrpSpPr/>
              <p:nvPr/>
            </p:nvGrpSpPr>
            <p:grpSpPr>
              <a:xfrm>
                <a:off x="306000" y="1752480"/>
                <a:ext cx="8457120" cy="1157760"/>
                <a:chOff x="306000" y="1752480"/>
                <a:chExt cx="8457120" cy="115776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306000" y="2290680"/>
                  <a:ext cx="8132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3200" spc="-1" strike="noStrike">
                      <a:solidFill>
                        <a:srgbClr val="000000"/>
                      </a:solidFill>
                      <a:latin typeface="Arial"/>
                    </a:rPr>
                    <a:t>[Ar]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1295280" y="283212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355400" y="2328840"/>
                  <a:ext cx="3466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3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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828800" y="284328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888920" y="2320920"/>
                  <a:ext cx="3466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3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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2324160" y="283212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2383920" y="2328840"/>
                  <a:ext cx="3466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3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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2838600" y="284328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2898360" y="2320920"/>
                  <a:ext cx="3466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3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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3352680" y="284328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3412800" y="2320920"/>
                  <a:ext cx="3466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3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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1295280" y="2195640"/>
                  <a:ext cx="2590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2120040" y="1752480"/>
                  <a:ext cx="576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i="1" lang="es-ES_tradnl" sz="2800" spc="-1" strike="noStrike">
                      <a:solidFill>
                        <a:srgbClr val="000000"/>
                      </a:solidFill>
                      <a:latin typeface="Arial"/>
                    </a:rPr>
                    <a:t>d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44960" y="1752480"/>
                  <a:ext cx="12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_tradnl" sz="2800" spc="-1" strike="noStrike">
                      <a:solidFill>
                        <a:srgbClr val="000000"/>
                      </a:solidFill>
                      <a:latin typeface="Arial"/>
                    </a:rPr>
                    <a:t>6 sp</a:t>
                  </a:r>
                  <a:r>
                    <a:rPr b="0" i="1" lang="es-ES_tradnl" sz="2800" spc="-1" strike="noStrike" baseline="30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i="1" lang="es-ES_tradnl" sz="2800" spc="-1" strike="noStrike">
                      <a:solidFill>
                        <a:srgbClr val="000000"/>
                      </a:solidFill>
                      <a:latin typeface="Arial"/>
                    </a:rPr>
                    <a:t>d</a:t>
                  </a:r>
                  <a:r>
                    <a:rPr b="0" i="1" lang="es-ES_tradnl" sz="2800" spc="-1" strike="noStrike" baseline="30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7296120" y="280512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7791480" y="280512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8305920" y="280512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4114800" y="280512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4648320" y="280512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5181480" y="280512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5695920" y="280512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6172200" y="280512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6686640" y="280512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4114800" y="2222640"/>
                  <a:ext cx="2971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238880" y="2203560"/>
                  <a:ext cx="1524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7661160" y="1779480"/>
                  <a:ext cx="7016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8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r>
                    <a:rPr b="0" i="1" lang="es-ES_tradnl" sz="2800" spc="-1" strike="noStrike">
                      <a:solidFill>
                        <a:srgbClr val="000000"/>
                      </a:solidFill>
                      <a:latin typeface="Arial"/>
                    </a:rPr>
                    <a:t>d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076640" y="2405160"/>
                  <a:ext cx="80028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200" spc="-1" strike="noStrike">
                      <a:solidFill>
                        <a:srgbClr val="000000"/>
                      </a:solidFill>
                      <a:latin typeface="Arial"/>
                    </a:rPr>
                    <a:t>xx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4610160" y="2405160"/>
                  <a:ext cx="79992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200" spc="-1" strike="noStrike">
                      <a:solidFill>
                        <a:srgbClr val="000000"/>
                      </a:solidFill>
                      <a:latin typeface="Arial"/>
                    </a:rPr>
                    <a:t>xx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5143680" y="2394000"/>
                  <a:ext cx="79992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200" spc="-1" strike="noStrike">
                      <a:solidFill>
                        <a:srgbClr val="000000"/>
                      </a:solidFill>
                      <a:latin typeface="Arial"/>
                    </a:rPr>
                    <a:t>xx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5657760" y="2394000"/>
                  <a:ext cx="80028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200" spc="-1" strike="noStrike">
                      <a:solidFill>
                        <a:srgbClr val="000000"/>
                      </a:solidFill>
                      <a:latin typeface="Arial"/>
                    </a:rPr>
                    <a:t>xx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6134040" y="2394000"/>
                  <a:ext cx="80028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200" spc="-1" strike="noStrike">
                      <a:solidFill>
                        <a:srgbClr val="000000"/>
                      </a:solidFill>
                      <a:latin typeface="Arial"/>
                    </a:rPr>
                    <a:t>xx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6629400" y="2405160"/>
                  <a:ext cx="80028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200" spc="-1" strike="noStrike">
                      <a:solidFill>
                        <a:srgbClr val="000000"/>
                      </a:solidFill>
                      <a:latin typeface="Arial"/>
                    </a:rPr>
                    <a:t>xx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8" name=""/>
              <p:cNvSpPr/>
              <p:nvPr/>
            </p:nvSpPr>
            <p:spPr>
              <a:xfrm>
                <a:off x="474480" y="762120"/>
                <a:ext cx="23385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3200" spc="-1" strike="noStrike">
                    <a:solidFill>
                      <a:srgbClr val="000000"/>
                    </a:solidFill>
                    <a:latin typeface="Arial"/>
                  </a:rPr>
                  <a:t>[Fe(H</a:t>
                </a:r>
                <a:r>
                  <a:rPr b="1" lang="es-ES_tradnl" sz="3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s-ES_tradnl" sz="3200" spc="-1" strike="noStrike">
                    <a:solidFill>
                      <a:srgbClr val="000000"/>
                    </a:solidFill>
                    <a:latin typeface="Arial"/>
                  </a:rPr>
                  <a:t>O)</a:t>
                </a:r>
                <a:r>
                  <a:rPr b="1" lang="es-ES_tradnl" sz="3200" spc="-1" strike="noStrike" baseline="-25000">
                    <a:solidFill>
                      <a:srgbClr val="000000"/>
                    </a:solidFill>
                    <a:latin typeface="Arial"/>
                  </a:rPr>
                  <a:t>6</a:t>
                </a:r>
                <a:r>
                  <a:rPr b="1" lang="es-ES_tradnl" sz="32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r>
                  <a:rPr b="1" lang="es-ES_tradnl" sz="3200" spc="-1" strike="noStrike" baseline="30000">
                    <a:solidFill>
                      <a:srgbClr val="000000"/>
                    </a:solidFill>
                    <a:latin typeface="Arial"/>
                  </a:rPr>
                  <a:t>3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912040" y="762120"/>
                <a:ext cx="5850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Complejo fuertemente paramagnético.</a:t>
                </a:r>
                <a:r>
                  <a:rPr b="0" lang="es-ES_tradnl" sz="3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0" name=""/>
              <p:cNvGrpSpPr/>
              <p:nvPr/>
            </p:nvGrpSpPr>
            <p:grpSpPr>
              <a:xfrm>
                <a:off x="382320" y="5105520"/>
                <a:ext cx="8075880" cy="1076040"/>
                <a:chOff x="382320" y="5105520"/>
                <a:chExt cx="8075880" cy="107604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382320" y="5554800"/>
                  <a:ext cx="8132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3200" spc="-1" strike="noStrike">
                      <a:solidFill>
                        <a:srgbClr val="000000"/>
                      </a:solidFill>
                      <a:latin typeface="Arial"/>
                    </a:rPr>
                    <a:t>[Ar]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1371600" y="611496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1348200" y="5661000"/>
                  <a:ext cx="468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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1905120" y="610704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2400480" y="611496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2474640" y="5641920"/>
                  <a:ext cx="3254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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2914560" y="610704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3429000" y="610704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1830960" y="5138640"/>
                  <a:ext cx="576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i="1" lang="es-ES_tradnl" sz="2800" spc="-1" strike="noStrike">
                      <a:solidFill>
                        <a:srgbClr val="000000"/>
                      </a:solidFill>
                      <a:latin typeface="Arial"/>
                    </a:rPr>
                    <a:t>d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3736800" y="5105520"/>
                  <a:ext cx="12816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_tradnl" sz="2800" spc="-1" strike="noStrike">
                      <a:solidFill>
                        <a:srgbClr val="000000"/>
                      </a:solidFill>
                      <a:latin typeface="Arial"/>
                    </a:rPr>
                    <a:t>6 d</a:t>
                  </a:r>
                  <a:r>
                    <a:rPr b="0" i="1" lang="es-ES_tradnl" sz="2800" spc="-1" strike="noStrike" baseline="30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i="1" lang="es-ES_tradnl" sz="2800" spc="-1" strike="noStrike">
                      <a:solidFill>
                        <a:srgbClr val="000000"/>
                      </a:solidFill>
                      <a:latin typeface="Arial"/>
                    </a:rPr>
                    <a:t>sp</a:t>
                  </a:r>
                  <a:r>
                    <a:rPr b="0" i="1" lang="es-ES_tradnl" sz="2800" spc="-1" strike="noStrike" baseline="30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953400" y="611496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7467480" y="611496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8001000" y="611496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3924360" y="610704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4419720" y="610704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4915080" y="611496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5410080" y="611496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5905440" y="610704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400800" y="610704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2952720" y="5562720"/>
                  <a:ext cx="2971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962680" y="5562720"/>
                  <a:ext cx="2419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842160" y="5138640"/>
                  <a:ext cx="7016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8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r>
                    <a:rPr b="0" i="1" lang="es-ES_tradnl" sz="2800" spc="-1" strike="noStrike">
                      <a:solidFill>
                        <a:srgbClr val="000000"/>
                      </a:solidFill>
                      <a:latin typeface="Arial"/>
                    </a:rPr>
                    <a:t>d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2914560" y="5668920"/>
                  <a:ext cx="80028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200" spc="-1" strike="noStrike">
                      <a:solidFill>
                        <a:srgbClr val="000000"/>
                      </a:solidFill>
                      <a:latin typeface="Arial"/>
                    </a:rPr>
                    <a:t>xx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3390840" y="5668920"/>
                  <a:ext cx="80028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200" spc="-1" strike="noStrike">
                      <a:solidFill>
                        <a:srgbClr val="000000"/>
                      </a:solidFill>
                      <a:latin typeface="Arial"/>
                    </a:rPr>
                    <a:t>xx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3886200" y="5657760"/>
                  <a:ext cx="80028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200" spc="-1" strike="noStrike">
                      <a:solidFill>
                        <a:srgbClr val="000000"/>
                      </a:solidFill>
                      <a:latin typeface="Arial"/>
                    </a:rPr>
                    <a:t>xx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4400640" y="5657760"/>
                  <a:ext cx="79992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200" spc="-1" strike="noStrike">
                      <a:solidFill>
                        <a:srgbClr val="000000"/>
                      </a:solidFill>
                      <a:latin typeface="Arial"/>
                    </a:rPr>
                    <a:t>xx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4876920" y="5657760"/>
                  <a:ext cx="79992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200" spc="-1" strike="noStrike">
                      <a:solidFill>
                        <a:srgbClr val="000000"/>
                      </a:solidFill>
                      <a:latin typeface="Arial"/>
                    </a:rPr>
                    <a:t>xx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5410080" y="5668920"/>
                  <a:ext cx="80028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200" spc="-1" strike="noStrike">
                      <a:solidFill>
                        <a:srgbClr val="000000"/>
                      </a:solidFill>
                      <a:latin typeface="Arial"/>
                    </a:rPr>
                    <a:t>xx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1900800" y="5657760"/>
                  <a:ext cx="468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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1371600" y="5562720"/>
                  <a:ext cx="15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1" name=""/>
              <p:cNvSpPr/>
              <p:nvPr/>
            </p:nvSpPr>
            <p:spPr>
              <a:xfrm>
                <a:off x="511920" y="3992400"/>
                <a:ext cx="21254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3200" spc="-1" strike="noStrike">
                    <a:solidFill>
                      <a:srgbClr val="000000"/>
                    </a:solidFill>
                    <a:latin typeface="Arial"/>
                  </a:rPr>
                  <a:t>[Fe(CN)</a:t>
                </a:r>
                <a:r>
                  <a:rPr b="1" lang="es-ES_tradnl" sz="3200" spc="-1" strike="noStrike" baseline="-25000">
                    <a:solidFill>
                      <a:srgbClr val="000000"/>
                    </a:solidFill>
                    <a:latin typeface="Arial"/>
                  </a:rPr>
                  <a:t>6</a:t>
                </a:r>
                <a:r>
                  <a:rPr b="1" lang="es-ES_tradnl" sz="32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r>
                  <a:rPr b="1" lang="es-ES_tradnl" sz="3200" spc="-1" strike="noStrike" baseline="30000">
                    <a:solidFill>
                      <a:srgbClr val="000000"/>
                    </a:solidFill>
                    <a:latin typeface="Arial"/>
                  </a:rPr>
                  <a:t>3-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063600" y="3992400"/>
                <a:ext cx="5714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Complejo débilmente paramagnético.</a:t>
                </a:r>
                <a:r>
                  <a:rPr b="0" lang="es-ES_tradnl" sz="3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2916360" y="2400480"/>
              <a:ext cx="5077080" cy="3857400"/>
              <a:chOff x="2916360" y="2400480"/>
              <a:chExt cx="5077080" cy="3857400"/>
            </a:xfrm>
          </p:grpSpPr>
          <p:sp>
            <p:nvSpPr>
              <p:cNvPr id="314" name=""/>
              <p:cNvSpPr/>
              <p:nvPr/>
            </p:nvSpPr>
            <p:spPr>
              <a:xfrm>
                <a:off x="4140360" y="2400480"/>
                <a:ext cx="3095640" cy="61740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916360" y="5640480"/>
                <a:ext cx="3095640" cy="61740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 flipV="1">
                <a:off x="5435280" y="3716280"/>
                <a:ext cx="73080" cy="1944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5651640" y="2997360"/>
                <a:ext cx="288720" cy="431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925080" y="3390840"/>
                <a:ext cx="406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800" spc="-1" strike="noStrike">
                    <a:solidFill>
                      <a:srgbClr val="ff0000"/>
                    </a:solidFill>
                    <a:latin typeface="Arial"/>
                  </a:rPr>
                  <a:t>Pares de electrones de los ligand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"/>
          <p:cNvGrpSpPr/>
          <p:nvPr/>
        </p:nvGrpSpPr>
        <p:grpSpPr>
          <a:xfrm>
            <a:off x="304920" y="198360"/>
            <a:ext cx="8496360" cy="6494040"/>
            <a:chOff x="304920" y="198360"/>
            <a:chExt cx="8496360" cy="6494040"/>
          </a:xfrm>
        </p:grpSpPr>
        <p:sp>
          <p:nvSpPr>
            <p:cNvPr id="320" name=""/>
            <p:cNvSpPr/>
            <p:nvPr/>
          </p:nvSpPr>
          <p:spPr>
            <a:xfrm>
              <a:off x="304920" y="1052640"/>
              <a:ext cx="8496360" cy="563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AR" sz="2800" spc="-1" strike="noStrike">
                  <a:solidFill>
                    <a:srgbClr val="000000"/>
                  </a:solidFill>
                  <a:latin typeface="Arial"/>
                </a:rPr>
                <a:t>Asume que la unión metal-ligando es puramente iónica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AR" sz="2800" spc="-1" strike="noStrike">
                  <a:solidFill>
                    <a:srgbClr val="000000"/>
                  </a:solidFill>
                  <a:latin typeface="Arial"/>
                </a:rPr>
                <a:t>Trata a los átomos de ligando y metal como cargas puntuales no polarizables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AR" sz="2800" spc="-1" strike="noStrike">
                  <a:solidFill>
                    <a:srgbClr val="000000"/>
                  </a:solidFill>
                  <a:latin typeface="Arial"/>
                </a:rPr>
                <a:t>Propone que cuando se acercan los ligandos éstos crean un campo cristalino de repulsión sobre el átomo del metal que produce orbitales d degenerados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AR" sz="2800" spc="-1" strike="noStrike">
                  <a:solidFill>
                    <a:srgbClr val="000000"/>
                  </a:solidFill>
                  <a:latin typeface="Arial"/>
                </a:rPr>
                <a:t>La magnitud del campo cristalino determina la magnitud de las repulsiones electrostáticas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573920" y="198360"/>
              <a:ext cx="5970240" cy="642600"/>
            </a:xfrm>
            <a:prstGeom prst="rect">
              <a:avLst/>
            </a:prstGeom>
            <a:solidFill>
              <a:srgbClr val="ffd3c5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3600" spc="-1" strike="noStrike">
                  <a:solidFill>
                    <a:srgbClr val="cc3300"/>
                  </a:solidFill>
                  <a:latin typeface="Arial"/>
                </a:rPr>
                <a:t>Teoría de campo cristalin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"/>
          <p:cNvGrpSpPr/>
          <p:nvPr/>
        </p:nvGrpSpPr>
        <p:grpSpPr>
          <a:xfrm>
            <a:off x="685800" y="549360"/>
            <a:ext cx="7715160" cy="6081480"/>
            <a:chOff x="685800" y="549360"/>
            <a:chExt cx="7715160" cy="6081480"/>
          </a:xfrm>
        </p:grpSpPr>
        <p:pic>
          <p:nvPicPr>
            <p:cNvPr id="323" name="" descr=""/>
            <p:cNvPicPr/>
            <p:nvPr/>
          </p:nvPicPr>
          <p:blipFill>
            <a:blip r:embed="rId2"/>
            <a:srcRect l="0" t="0" r="66653" b="55241"/>
            <a:stretch/>
          </p:blipFill>
          <p:spPr>
            <a:xfrm>
              <a:off x="2509920" y="549360"/>
              <a:ext cx="4066920" cy="4975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grpSp>
          <p:nvGrpSpPr>
            <p:cNvPr id="324" name=""/>
            <p:cNvGrpSpPr/>
            <p:nvPr/>
          </p:nvGrpSpPr>
          <p:grpSpPr>
            <a:xfrm>
              <a:off x="2771640" y="965160"/>
              <a:ext cx="3341520" cy="4114800"/>
              <a:chOff x="2771640" y="965160"/>
              <a:chExt cx="3341520" cy="4114800"/>
            </a:xfrm>
          </p:grpSpPr>
          <p:sp>
            <p:nvSpPr>
              <p:cNvPr id="325" name=""/>
              <p:cNvSpPr/>
              <p:nvPr/>
            </p:nvSpPr>
            <p:spPr>
              <a:xfrm flipH="1">
                <a:off x="5249520" y="1935360"/>
                <a:ext cx="863640" cy="43164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700520" y="965160"/>
                <a:ext cx="0" cy="9367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2771640" y="2127240"/>
                <a:ext cx="720720" cy="2890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V="1">
                <a:off x="4686480" y="4359240"/>
                <a:ext cx="0" cy="7207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V="1">
                <a:off x="2979720" y="3822840"/>
                <a:ext cx="647640" cy="2872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 flipV="1">
                <a:off x="5364000" y="3855600"/>
                <a:ext cx="720720" cy="36036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1" name=""/>
            <p:cNvSpPr/>
            <p:nvPr/>
          </p:nvSpPr>
          <p:spPr>
            <a:xfrm>
              <a:off x="685800" y="5805360"/>
              <a:ext cx="7715160" cy="825480"/>
            </a:xfrm>
            <a:prstGeom prst="rect">
              <a:avLst/>
            </a:prstGeom>
            <a:solidFill>
              <a:srgbClr val="ffd3c5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cc3300"/>
                  </a:solidFill>
                  <a:latin typeface="Arial"/>
                </a:rPr>
                <a:t>La presencia del ligando produce una perturbación en los orbitales d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7T13:54:06Z</dcterms:created>
  <dc:creator>Usuario</dc:creator>
  <dc:description/>
  <dc:language>en-US</dc:language>
  <cp:lastModifiedBy>Romina Alonso B</cp:lastModifiedBy>
  <dcterms:modified xsi:type="dcterms:W3CDTF">2009-06-11T05:57:56Z</dcterms:modified>
  <cp:revision>28</cp:revision>
  <dc:subject/>
  <dc:title>Diapositiva 1</dc:title>
</cp:coreProperties>
</file>