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6A7B-1B4D-4E3A-A518-86AABEDB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0936-2780-45B9-A49B-19385F72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5D0F-2F0A-4C33-B7C4-13301EA9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85B9-E7D9-4908-BD2A-FC0E3E88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430-395C-4F47-A20A-13109D0C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FFD2-4665-48D4-AF08-58B51F24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FAF-1E91-4092-9383-1A09B368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A7F-73DA-493E-8527-E34D0772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CEC-5BB7-4C45-898F-45F08292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B44-DF49-4763-96D6-83BA5B5B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EBF-0A90-4FAB-9330-82EF0828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BCF-E5D1-491E-B547-D00091F9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E03F-328B-4E50-89B9-85FD9A6A8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00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eoría del Campo Cristal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0" y="1341360"/>
            <a:ext cx="2016000" cy="1727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19640" y="5373720"/>
            <a:ext cx="2879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bbe0e3"/>
                </a:solidFill>
                <a:latin typeface="Arial"/>
              </a:rPr>
              <a:t>MAURICIO MOREL ESCO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bbe0e3"/>
                </a:solidFill>
                <a:latin typeface="Arial"/>
              </a:rPr>
              <a:t>Licenciado en Química-Quí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bbe0e3"/>
                </a:solidFill>
                <a:latin typeface="Arial"/>
              </a:rPr>
              <a:t>Curso: Química Inorgánica I-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0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BF49-FBD0-47A5-B166-504AEC67AC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1280" y="1268280"/>
            <a:ext cx="345600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5764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4820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desdoblamiento_octaedrico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2755800" cy="2676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03640" y="1844640"/>
            <a:ext cx="695160" cy="5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s-E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3645000"/>
            <a:ext cx="53172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63640" y="4653000"/>
          <a:ext cx="1185840" cy="126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4653000"/>
                    <a:ext cx="118584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desdobalmiento_tetraedrico" descr=""/>
          <p:cNvPicPr/>
          <p:nvPr/>
        </p:nvPicPr>
        <p:blipFill>
          <a:blip r:embed="rId4"/>
          <a:stretch/>
        </p:blipFill>
        <p:spPr>
          <a:xfrm>
            <a:off x="5364000" y="1052640"/>
            <a:ext cx="2698920" cy="3095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956720" y="1700280"/>
            <a:ext cx="53172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56720" y="3716280"/>
            <a:ext cx="695160" cy="5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516720" y="4508640"/>
          <a:ext cx="1346040" cy="14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720" y="4508640"/>
                    <a:ext cx="134604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C167-C4DA-413B-90AF-45354C7152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95280" y="1219320"/>
            <a:ext cx="7086600" cy="53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76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desdoblamiento_plaano_cuadrado" descr=""/>
          <p:cNvPicPr/>
          <p:nvPr/>
        </p:nvPicPr>
        <p:blipFill>
          <a:blip r:embed="rId1"/>
          <a:stretch/>
        </p:blipFill>
        <p:spPr>
          <a:xfrm>
            <a:off x="4191120" y="2438280"/>
            <a:ext cx="3165480" cy="3353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133720" y="5334120"/>
            <a:ext cx="10666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3962520"/>
            <a:ext cx="99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533412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200400" y="396252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396252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124080" y="2819160"/>
            <a:ext cx="20574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962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9920" y="449568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41920" y="545004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xy, xz, 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89800" y="335268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0240" y="25146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ctaéd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59960" y="160020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lano-cuad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3657600"/>
            <a:ext cx="2590920" cy="251460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9BE-CD81-4C38-BABE-894D4F9116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43080" y="407880"/>
            <a:ext cx="66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Arial"/>
              </a:rPr>
              <a:t>Complejos de alto o bajo s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676520"/>
            <a:ext cx="8229600" cy="204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ara aparear un electrón se requiere </a:t>
            </a:r>
            <a:r>
              <a:rPr b="1" i="1" lang="es-ES_tradnl" sz="3200" spc="-1" strike="noStrike">
                <a:solidFill>
                  <a:srgbClr val="333399"/>
                </a:solidFill>
                <a:latin typeface="Arial"/>
              </a:rPr>
              <a:t>energía de apareamiento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i="1" lang="es-ES_tradnl" sz="32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para vencer la repulsión que existe entre los dos electrones que ocupan el mismo orb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880920" y="4165560"/>
            <a:ext cx="7344000" cy="2089080"/>
            <a:chOff x="880920" y="4165560"/>
            <a:chExt cx="7344000" cy="2089080"/>
          </a:xfrm>
        </p:grpSpPr>
        <p:sp>
          <p:nvSpPr>
            <p:cNvPr id="163" name=""/>
            <p:cNvSpPr/>
            <p:nvPr/>
          </p:nvSpPr>
          <p:spPr>
            <a:xfrm>
              <a:off x="880920" y="4165560"/>
              <a:ext cx="7344000" cy="2089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69800" y="4425840"/>
              <a:ext cx="621576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P &lt;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Campo fuerte o bajo sp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22440" y="5356080"/>
              <a:ext cx="592164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P &gt;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Campo débil o alto sp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615-9E9D-4449-87B6-4FBB9ADB7DAE}" type="slidenum">
              <a:t>12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295280"/>
            <a:ext cx="914400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64920" y="533520"/>
            <a:ext cx="65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ERGÍA DE ESTABILIZACIÓN PRODUC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R EL CA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0" r="0" b="17399"/>
          <a:stretch/>
        </p:blipFill>
        <p:spPr>
          <a:xfrm>
            <a:off x="5276880" y="1371600"/>
            <a:ext cx="3181320" cy="2895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0" t="0" r="0" b="15559"/>
          <a:stretch/>
        </p:blipFill>
        <p:spPr>
          <a:xfrm>
            <a:off x="685800" y="1371600"/>
            <a:ext cx="3166920" cy="2895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752480" y="2933640"/>
            <a:ext cx="221004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62640" y="2933640"/>
            <a:ext cx="221004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2952720"/>
            <a:ext cx="0" cy="9144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886200" y="152388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1880" y="2952720"/>
            <a:ext cx="0" cy="9144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8381880" y="152388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7640" y="2057400"/>
            <a:ext cx="11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+3/5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00120" y="3048120"/>
            <a:ext cx="11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-2/5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59320" y="3048120"/>
            <a:ext cx="11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-2/5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71920" y="2133720"/>
            <a:ext cx="11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+3/5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0120" y="4648320"/>
            <a:ext cx="4185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Ee= 3.(-2/5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o)+1.(3/5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o)=-3/5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CAMPO DÉB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CONFIGURACIÓN DE ALTO S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32280" y="4648320"/>
            <a:ext cx="414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Ee= 4.(-2/5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o)=-8/5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o (+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CAMPO INTEN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CONFIGURACIÓN DE BAJO S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83880" y="2332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d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48040" y="2362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d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A88B-5E46-4E56-98D7-CEC9B99369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26920" y="620640"/>
            <a:ext cx="8058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EL VALOR DEL DESDOBLAMIENTO ES ME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LA ENERGÍA DE APAREAMIENTO, SE SIGUE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DE AUF-BAU, D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ÁXIMO DESAPAREAMIEN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RESULTADO ES UN COMPLEJO DE ALTO SP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EL VALOR ES MAYOR, SE OCUPAN PRIMERO LOS NIVELES INFERIORES Y LUEGO LOS SUP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RESULTADO ES UN COMPLEJO DE BAJO SP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B58-4FE4-49DB-B6DF-C62FC12601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05400" y="907920"/>
            <a:ext cx="76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ES QUE AFECTAN AL DESDOB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19162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ERIE A LA PERTENECE EL METAL AL BAJAR EN UN GRUPO, AUMENTA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301140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EL ESTADO DE OXIDACIÓN DEL M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LUYE CUANDO LOS LIGANDOS SON DADORES. AL AUMENTAR EL E.O., AUMENTA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921200"/>
            <a:ext cx="77724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3. GEOMETRÍA DEL COMPL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Comic Sans MS"/>
              </a:rPr>
              <a:t>pc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&gt;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&gt;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9/4 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E2E-4FB8-4E86-AFF7-A5C88D9073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898640" y="4762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ATURALEZA DEL LIGA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2960" y="3789360"/>
            <a:ext cx="803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IE ESPECTROQUÍMICA  (DATOS EXPERIMENT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MENTA CON EL CARÁCTER ACEPTOR Y DISMINU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 EL D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19960" y="1235160"/>
            <a:ext cx="8729640" cy="2196720"/>
            <a:chOff x="219960" y="1235160"/>
            <a:chExt cx="8729640" cy="2196720"/>
          </a:xfrm>
        </p:grpSpPr>
        <p:sp>
          <p:nvSpPr>
            <p:cNvPr id="192" name=""/>
            <p:cNvSpPr/>
            <p:nvPr/>
          </p:nvSpPr>
          <p:spPr>
            <a:xfrm>
              <a:off x="263520" y="1235160"/>
              <a:ext cx="861048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9960" y="1495440"/>
              <a:ext cx="8729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Br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Cl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F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OH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C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2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H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O&lt;py&lt;NH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PPh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CN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C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3520" y="2454120"/>
              <a:ext cx="8534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54480" y="2454120"/>
              <a:ext cx="0" cy="609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64800" y="2606400"/>
              <a:ext cx="203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ADOR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ADOR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28880" y="2606400"/>
              <a:ext cx="238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ADOR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CEPTORE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61C-601C-41B0-8563-787CDC0024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2720" y="260280"/>
            <a:ext cx="8136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ribe el efecto del campo eléctrico de los ligandos sobre las energías de los orbitales de valencia de un ión metá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147760"/>
            <a:ext cx="424800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sume que la unión metal-ligando es puramente ión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rata a los átomos de ligando y metal como cargas puntuales no polariz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32360" y="1700280"/>
            <a:ext cx="4066920" cy="4975200"/>
            <a:chOff x="4932360" y="1700280"/>
            <a:chExt cx="4066920" cy="49752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rcRect l="0" t="0" r="66653" b="55241"/>
            <a:stretch/>
          </p:blipFill>
          <p:spPr>
            <a:xfrm>
              <a:off x="4932360" y="1700280"/>
              <a:ext cx="4066920" cy="4975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49" name=""/>
            <p:cNvGrpSpPr/>
            <p:nvPr/>
          </p:nvGrpSpPr>
          <p:grpSpPr>
            <a:xfrm>
              <a:off x="5194080" y="2116080"/>
              <a:ext cx="3341520" cy="4114800"/>
              <a:chOff x="5194080" y="2116080"/>
              <a:chExt cx="3341520" cy="4114800"/>
            </a:xfrm>
          </p:grpSpPr>
          <p:sp>
            <p:nvSpPr>
              <p:cNvPr id="50" name=""/>
              <p:cNvSpPr/>
              <p:nvPr/>
            </p:nvSpPr>
            <p:spPr>
              <a:xfrm flipH="1">
                <a:off x="7671960" y="3086280"/>
                <a:ext cx="863640" cy="431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122960" y="211608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194080" y="3278160"/>
                <a:ext cx="720720" cy="2890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7108920" y="5510160"/>
                <a:ext cx="0" cy="720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5402160" y="4973760"/>
                <a:ext cx="647640" cy="28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flipV="1">
                <a:off x="7786440" y="5006520"/>
                <a:ext cx="720720" cy="360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E2C-C464-40BF-B219-5A9595F840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260280"/>
            <a:ext cx="777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ropone que cuando se acercan los ligandos éstos crean un campo cristalino de repulsión sobre el átomo del metal que produce orbitales d degene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 magnitud del campo cristalino determina la magnitud de las repulsiones electrostá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5D1-0337-447D-8EBA-CFE935CAA2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24000" y="584280"/>
            <a:ext cx="8458200" cy="4287600"/>
            <a:chOff x="324000" y="584280"/>
            <a:chExt cx="8458200" cy="428760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324000" y="1928880"/>
              <a:ext cx="8458200" cy="294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9" name=""/>
            <p:cNvSpPr/>
            <p:nvPr/>
          </p:nvSpPr>
          <p:spPr>
            <a:xfrm>
              <a:off x="3030480" y="584280"/>
              <a:ext cx="304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0000cc"/>
                  </a:solidFill>
                  <a:latin typeface="Arial"/>
                </a:rPr>
                <a:t>Orbitales 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E85C-ACE7-45CA-91F6-EFC140B6FA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6040" y="1103400"/>
            <a:ext cx="8170920" cy="5854680"/>
            <a:chOff x="446040" y="1103400"/>
            <a:chExt cx="8170920" cy="5854680"/>
          </a:xfrm>
        </p:grpSpPr>
        <p:pic>
          <p:nvPicPr>
            <p:cNvPr id="62" name="" descr=""/>
            <p:cNvPicPr/>
            <p:nvPr/>
          </p:nvPicPr>
          <p:blipFill>
            <a:blip r:embed="rId1"/>
            <a:srcRect l="0" t="16069" r="0" b="0"/>
            <a:stretch/>
          </p:blipFill>
          <p:spPr>
            <a:xfrm>
              <a:off x="488880" y="1103400"/>
              <a:ext cx="8128080" cy="5116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3" name=""/>
            <p:cNvSpPr/>
            <p:nvPr/>
          </p:nvSpPr>
          <p:spPr>
            <a:xfrm>
              <a:off x="446040" y="65008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876-3AFF-47C8-982E-2F0C672021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0" y="836640"/>
            <a:ext cx="1393920" cy="1855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4741920" cy="69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o Cristalino Octaédr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8000" y="3224160"/>
            <a:ext cx="1942920" cy="2370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708360" y="4221000"/>
            <a:ext cx="1263600" cy="1660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219640" y="4221000"/>
            <a:ext cx="1373400" cy="1679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804000" y="4221000"/>
            <a:ext cx="1451160" cy="1703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98800" y="4429080"/>
            <a:ext cx="54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95680" y="4457880"/>
            <a:ext cx="890640" cy="14634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68760" y="5950080"/>
            <a:ext cx="123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4600" y="5934240"/>
            <a:ext cx="138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16880" y="5916600"/>
            <a:ext cx="145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695680" y="2768760"/>
            <a:ext cx="1820880" cy="1643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6300720" y="836640"/>
            <a:ext cx="1344600" cy="1868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14760" y="2766960"/>
            <a:ext cx="138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40520" y="2768760"/>
            <a:ext cx="138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92720" y="2708280"/>
            <a:ext cx="180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estabiliz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459640" y="2133720"/>
            <a:ext cx="6494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8360" y="5370480"/>
            <a:ext cx="649440" cy="581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6089760"/>
            <a:ext cx="180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abiliz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5805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orqué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4437000"/>
            <a:ext cx="583236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80360" y="343548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6000" y="2781360"/>
            <a:ext cx="0" cy="3168720"/>
          </a:xfrm>
          <a:prstGeom prst="line">
            <a:avLst/>
          </a:prstGeom>
          <a:ln w="507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208-E4EE-44C7-ACCD-C1AEB490353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4859280" y="2060640"/>
            <a:ext cx="2879640" cy="3600360"/>
            <a:chOff x="4859280" y="2060640"/>
            <a:chExt cx="2879640" cy="3600360"/>
          </a:xfrm>
        </p:grpSpPr>
        <p:sp>
          <p:nvSpPr>
            <p:cNvPr id="88" name=""/>
            <p:cNvSpPr/>
            <p:nvPr/>
          </p:nvSpPr>
          <p:spPr>
            <a:xfrm>
              <a:off x="4859280" y="2060640"/>
              <a:ext cx="2879640" cy="36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09920" y="4068720"/>
              <a:ext cx="86796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055920" y="2476440"/>
              <a:ext cx="411120" cy="1574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6072120" y="3222720"/>
              <a:ext cx="358200" cy="846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62400" y="4073400"/>
              <a:ext cx="302760" cy="971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2400" y="4056120"/>
              <a:ext cx="336240" cy="496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91080" y="5067360"/>
              <a:ext cx="17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41840" y="4576680"/>
              <a:ext cx="17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43280" y="3203640"/>
              <a:ext cx="17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76760" y="2460600"/>
              <a:ext cx="17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148000" y="3408480"/>
              <a:ext cx="86328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697440" y="5067360"/>
              <a:ext cx="17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82920" y="4991040"/>
              <a:ext cx="555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x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43520" y="4270320"/>
              <a:ext cx="4996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z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61160" y="2182680"/>
              <a:ext cx="746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x2-y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43520" y="2852640"/>
              <a:ext cx="510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x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00600" y="4991040"/>
              <a:ext cx="4996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y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68360" y="549360"/>
            <a:ext cx="81360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o Cristalino Plano Cuad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F99C-F673-40A1-98C1-CB2B37E20F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00000" y="549360"/>
            <a:ext cx="81360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o Cristalino Octaédrico con elongación tetragonal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8000" y="2492280"/>
            <a:ext cx="7128000" cy="2970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2997360"/>
            <a:ext cx="1511280" cy="208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236000" y="1700280"/>
            <a:ext cx="1180800" cy="4753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76720" y="2997360"/>
            <a:ext cx="1511280" cy="208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2637000"/>
            <a:ext cx="1511280" cy="273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D068-07A3-458E-A8A3-D276ED8988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5715000" cy="2724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991280" cy="6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o Cristalino Tetraedr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156360" y="1736640"/>
            <a:ext cx="2735280" cy="3384720"/>
            <a:chOff x="6156360" y="1736640"/>
            <a:chExt cx="2735280" cy="3384720"/>
          </a:xfrm>
        </p:grpSpPr>
        <p:sp>
          <p:nvSpPr>
            <p:cNvPr id="115" name=""/>
            <p:cNvSpPr/>
            <p:nvPr/>
          </p:nvSpPr>
          <p:spPr>
            <a:xfrm>
              <a:off x="6228000" y="1736640"/>
              <a:ext cx="2663640" cy="338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56360" y="3220920"/>
              <a:ext cx="909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061400" y="2274840"/>
              <a:ext cx="182520" cy="944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69320" y="3224160"/>
              <a:ext cx="296640" cy="1285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3360" y="2313000"/>
              <a:ext cx="18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6224760" y="2351160"/>
              <a:ext cx="74448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564680" y="453708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94960" y="4616280"/>
              <a:ext cx="74664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x2-y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36080" y="4616280"/>
              <a:ext cx="49968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z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17080" y="1784160"/>
              <a:ext cx="49968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x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8360" y="1787400"/>
              <a:ext cx="51048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x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93200" y="1805040"/>
              <a:ext cx="49968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y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12360" y="2313000"/>
              <a:ext cx="18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60000" y="2313000"/>
              <a:ext cx="18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52000" y="4545000"/>
              <a:ext cx="18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44000" y="4545000"/>
              <a:ext cx="18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0DD-6E52-44B3-8ECC-E7A2E4E7EF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21:00:30Z</dcterms:created>
  <dc:creator>FCFM</dc:creator>
  <dc:description/>
  <dc:language>en-US</dc:language>
  <cp:lastModifiedBy>FCFM</cp:lastModifiedBy>
  <dcterms:modified xsi:type="dcterms:W3CDTF">2009-06-12T18:03:17Z</dcterms:modified>
  <cp:revision>6</cp:revision>
  <dc:subject/>
  <dc:title>Diapositiva 1</dc:title>
</cp:coreProperties>
</file>