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EBC9-45F0-49F5-AAD1-1E25C9C7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573-A7CA-49FC-8626-1D118062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FE6C-C80D-4433-8198-6C401278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098-99A1-44B1-9086-90C112FC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7BED-2DC9-4BE4-9150-AF8A3B93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7617-0D58-4FF7-9B12-DC372CF7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069-555E-4997-A762-C3FE7B53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66D-6651-4F03-841C-8DD69F84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0CE-6171-4587-86A9-DD0E9D38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88A-09AD-44F3-B8E0-74E2DE2C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DF7-2E49-40B7-93C9-D2404EA5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5CA-7483-4049-8D6D-2B3785C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FCE-B538-4AB1-A1FE-F4671062EF44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200400"/>
            <a:ext cx="7121520" cy="82512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800" spc="-1" strike="noStrike">
                <a:solidFill>
                  <a:srgbClr val="cc3300"/>
                </a:solidFill>
                <a:latin typeface="Arial"/>
              </a:rPr>
              <a:t>Metales de transición I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0600" y="762120"/>
            <a:ext cx="4762800" cy="1557000"/>
          </a:xfrm>
          <a:prstGeom prst="rect">
            <a:avLst/>
          </a:prstGeom>
          <a:solidFill>
            <a:srgbClr val="ffd8c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Química General e Inorgánica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lase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15 de junio de 2005</a:t>
            </a:r>
            <a:br>
              <a:rPr sz="2400"/>
            </a:b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Dr. Pablo Eve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"/>
          <p:cNvGrpSpPr/>
          <p:nvPr/>
        </p:nvGrpSpPr>
        <p:grpSpPr>
          <a:xfrm>
            <a:off x="324000" y="584280"/>
            <a:ext cx="8458200" cy="4287600"/>
            <a:chOff x="324000" y="584280"/>
            <a:chExt cx="8458200" cy="4287600"/>
          </a:xfrm>
        </p:grpSpPr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324000" y="1928880"/>
              <a:ext cx="8458200" cy="2943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4" name=""/>
            <p:cNvSpPr/>
            <p:nvPr/>
          </p:nvSpPr>
          <p:spPr>
            <a:xfrm>
              <a:off x="3030480" y="584280"/>
              <a:ext cx="3043440" cy="642600"/>
            </a:xfrm>
            <a:prstGeom prst="rect">
              <a:avLst/>
            </a:prstGeom>
            <a:solidFill>
              <a:srgbClr val="ffd8c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Orbitales 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470520" y="669960"/>
            <a:ext cx="8272800" cy="5857200"/>
            <a:chOff x="470520" y="669960"/>
            <a:chExt cx="8272800" cy="5857200"/>
          </a:xfrm>
        </p:grpSpPr>
        <p:pic>
          <p:nvPicPr>
            <p:cNvPr id="336" name="" descr=""/>
            <p:cNvPicPr/>
            <p:nvPr/>
          </p:nvPicPr>
          <p:blipFill>
            <a:blip r:embed="rId2"/>
            <a:srcRect l="0" t="16069" r="0" b="0"/>
            <a:stretch/>
          </p:blipFill>
          <p:spPr>
            <a:xfrm>
              <a:off x="488880" y="669960"/>
              <a:ext cx="8128080" cy="5116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37" name=""/>
            <p:cNvSpPr/>
            <p:nvPr/>
          </p:nvSpPr>
          <p:spPr>
            <a:xfrm>
              <a:off x="470520" y="6067440"/>
              <a:ext cx="8272800" cy="45972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más afectados serán lo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dx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-y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y los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dz</a:t>
              </a:r>
              <a:r>
                <a:rPr b="1" i="1" lang="es-ES_tradnl" sz="2400" spc="-1" strike="noStrike" baseline="30000">
                  <a:solidFill>
                    <a:srgbClr val="cc3300"/>
                  </a:solidFill>
                  <a:latin typeface="Arial"/>
                </a:rPr>
                <a:t>2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276200" y="457200"/>
            <a:ext cx="6539040" cy="5959440"/>
            <a:chOff x="1276200" y="457200"/>
            <a:chExt cx="6539040" cy="5959440"/>
          </a:xfrm>
        </p:grpSpPr>
        <p:pic>
          <p:nvPicPr>
            <p:cNvPr id="339" name="" descr=""/>
            <p:cNvPicPr/>
            <p:nvPr/>
          </p:nvPicPr>
          <p:blipFill>
            <a:blip r:embed="rId2"/>
            <a:stretch/>
          </p:blipFill>
          <p:spPr>
            <a:xfrm>
              <a:off x="1276200" y="457200"/>
              <a:ext cx="6539040" cy="595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40" name=""/>
            <p:cNvGrpSpPr/>
            <p:nvPr/>
          </p:nvGrpSpPr>
          <p:grpSpPr>
            <a:xfrm>
              <a:off x="3578400" y="3049560"/>
              <a:ext cx="3009600" cy="3337920"/>
              <a:chOff x="3578400" y="3049560"/>
              <a:chExt cx="3009600" cy="3337920"/>
            </a:xfrm>
          </p:grpSpPr>
          <p:sp>
            <p:nvSpPr>
              <p:cNvPr id="341" name=""/>
              <p:cNvSpPr/>
              <p:nvPr/>
            </p:nvSpPr>
            <p:spPr>
              <a:xfrm>
                <a:off x="4743360" y="3049560"/>
                <a:ext cx="1844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e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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578400" y="5981760"/>
                <a:ext cx="1930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Orbitales t</a:t>
                </a:r>
                <a:r>
                  <a:rPr b="1" lang="es-ES_tradnl" sz="1800" spc="-1" strike="noStrike" baseline="-25000">
                    <a:solidFill>
                      <a:srgbClr val="ff0000"/>
                    </a:solidFill>
                    <a:latin typeface="Times New Roman"/>
                  </a:rPr>
                  <a:t>2g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Times New Roman"/>
                  </a:rPr>
                  <a:t> o d</a:t>
                </a:r>
                <a:r>
                  <a:rPr b="1" lang="es-ES_tradnl" sz="18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1403280" y="3587760"/>
              <a:ext cx="6195240" cy="2080800"/>
              <a:chOff x="1403280" y="3587760"/>
              <a:chExt cx="6195240" cy="208080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1403280" y="3587760"/>
                <a:ext cx="1803600" cy="2076120"/>
                <a:chOff x="1403280" y="3587760"/>
                <a:chExt cx="1803600" cy="2076120"/>
              </a:xfrm>
            </p:grpSpPr>
            <p:sp>
              <p:nvSpPr>
                <p:cNvPr id="345" name=""/>
                <p:cNvSpPr/>
                <p:nvPr/>
              </p:nvSpPr>
              <p:spPr>
                <a:xfrm flipH="1">
                  <a:off x="2738520" y="422748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29068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403280" y="429408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V="1">
                  <a:off x="228744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V="1">
                  <a:off x="1515960" y="486900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flipV="1">
                  <a:off x="2819520" y="492300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613320" y="3592440"/>
                <a:ext cx="1802520" cy="2076120"/>
                <a:chOff x="3613320" y="3592440"/>
                <a:chExt cx="1802520" cy="2076120"/>
              </a:xfrm>
            </p:grpSpPr>
            <p:sp>
              <p:nvSpPr>
                <p:cNvPr id="352" name=""/>
                <p:cNvSpPr/>
                <p:nvPr/>
              </p:nvSpPr>
              <p:spPr>
                <a:xfrm flipH="1">
                  <a:off x="4947840" y="423216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00360" y="359244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3613320" y="429876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4497120" y="527796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 flipV="1">
                  <a:off x="3725640" y="487368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 flipV="1">
                  <a:off x="5028840" y="492768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796000" y="3587760"/>
                <a:ext cx="1802520" cy="2076120"/>
                <a:chOff x="5796000" y="3587760"/>
                <a:chExt cx="1802520" cy="2076120"/>
              </a:xfrm>
            </p:grpSpPr>
            <p:sp>
              <p:nvSpPr>
                <p:cNvPr id="359" name=""/>
                <p:cNvSpPr/>
                <p:nvPr/>
              </p:nvSpPr>
              <p:spPr>
                <a:xfrm flipH="1">
                  <a:off x="7130520" y="42274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683040" y="35877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796000" y="42940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6679800" y="52732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5908320" y="48690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7211520" y="49230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5" name=""/>
            <p:cNvGrpSpPr/>
            <p:nvPr/>
          </p:nvGrpSpPr>
          <p:grpSpPr>
            <a:xfrm>
              <a:off x="1400040" y="746280"/>
              <a:ext cx="6195240" cy="2080800"/>
              <a:chOff x="1400040" y="746280"/>
              <a:chExt cx="6195240" cy="2080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1400040" y="746280"/>
                <a:ext cx="1803600" cy="2076120"/>
                <a:chOff x="1400040" y="746280"/>
                <a:chExt cx="1803600" cy="2076120"/>
              </a:xfrm>
            </p:grpSpPr>
            <p:sp>
              <p:nvSpPr>
                <p:cNvPr id="367" name=""/>
                <p:cNvSpPr/>
                <p:nvPr/>
              </p:nvSpPr>
              <p:spPr>
                <a:xfrm flipH="1">
                  <a:off x="2735280" y="1386000"/>
                  <a:ext cx="46512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28744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400040" y="1452600"/>
                  <a:ext cx="38916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228420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1512720" y="2027520"/>
                  <a:ext cx="34776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H="1" flipV="1">
                  <a:off x="2816280" y="2081520"/>
                  <a:ext cx="38736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610080" y="750960"/>
                <a:ext cx="1802520" cy="2076120"/>
                <a:chOff x="3610080" y="750960"/>
                <a:chExt cx="1802520" cy="2076120"/>
              </a:xfrm>
            </p:grpSpPr>
            <p:sp>
              <p:nvSpPr>
                <p:cNvPr id="374" name=""/>
                <p:cNvSpPr/>
                <p:nvPr/>
              </p:nvSpPr>
              <p:spPr>
                <a:xfrm flipH="1">
                  <a:off x="4944600" y="139068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97120" y="75096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610080" y="145728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4493880" y="243648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V="1">
                  <a:off x="3722400" y="203220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 flipV="1">
                  <a:off x="5025600" y="208620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792760" y="746280"/>
                <a:ext cx="1802520" cy="2076120"/>
                <a:chOff x="5792760" y="746280"/>
                <a:chExt cx="1802520" cy="2076120"/>
              </a:xfrm>
            </p:grpSpPr>
            <p:sp>
              <p:nvSpPr>
                <p:cNvPr id="381" name=""/>
                <p:cNvSpPr/>
                <p:nvPr/>
              </p:nvSpPr>
              <p:spPr>
                <a:xfrm flipH="1">
                  <a:off x="7127280" y="1386000"/>
                  <a:ext cx="464760" cy="235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6679800" y="746280"/>
                  <a:ext cx="0" cy="507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92760" y="1452600"/>
                  <a:ext cx="388800" cy="15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6676560" y="2431800"/>
                  <a:ext cx="0" cy="390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905080" y="2027520"/>
                  <a:ext cx="347400" cy="156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 flipV="1">
                  <a:off x="7208280" y="2081520"/>
                  <a:ext cx="387000" cy="195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514440" y="1197000"/>
            <a:ext cx="8069040" cy="5045400"/>
            <a:chOff x="514440" y="1197000"/>
            <a:chExt cx="8069040" cy="5045400"/>
          </a:xfrm>
        </p:grpSpPr>
        <p:sp>
          <p:nvSpPr>
            <p:cNvPr id="388" name=""/>
            <p:cNvSpPr/>
            <p:nvPr/>
          </p:nvSpPr>
          <p:spPr>
            <a:xfrm>
              <a:off x="514440" y="5000760"/>
              <a:ext cx="8069040" cy="12416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Se denomina 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i="1" lang="es-ES_tradnl" sz="2400" spc="-1" strike="noStrike" baseline="-25000">
                  <a:solidFill>
                    <a:srgbClr val="cc3300"/>
                  </a:solidFill>
                  <a:latin typeface="Arial"/>
                </a:rPr>
                <a:t>o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 a la energía del campo cristalino. Es la energía asociada a la separación de niveles y es proporcional a la fuerza del campo cristalin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915840" y="1197000"/>
              <a:ext cx="7439040" cy="3456000"/>
              <a:chOff x="915840" y="1197000"/>
              <a:chExt cx="7439040" cy="3456000"/>
            </a:xfrm>
          </p:grpSpPr>
          <p:grpSp>
            <p:nvGrpSpPr>
              <p:cNvPr id="390" name=""/>
              <p:cNvGrpSpPr/>
              <p:nvPr/>
            </p:nvGrpSpPr>
            <p:grpSpPr>
              <a:xfrm>
                <a:off x="915840" y="1197000"/>
                <a:ext cx="7272360" cy="3456000"/>
                <a:chOff x="915840" y="1197000"/>
                <a:chExt cx="7272360" cy="3456000"/>
              </a:xfrm>
            </p:grpSpPr>
            <p:pic>
              <p:nvPicPr>
                <p:cNvPr id="391" name="" descr=""/>
                <p:cNvPicPr/>
                <p:nvPr/>
              </p:nvPicPr>
              <p:blipFill>
                <a:blip r:embed="rId2"/>
                <a:srcRect l="0" t="22724" r="9018" b="11063"/>
                <a:stretch/>
              </p:blipFill>
              <p:spPr>
                <a:xfrm>
                  <a:off x="915840" y="1197000"/>
                  <a:ext cx="7272360" cy="345600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92" name=""/>
                <p:cNvSpPr/>
                <p:nvPr/>
              </p:nvSpPr>
              <p:spPr>
                <a:xfrm rot="16200000">
                  <a:off x="698400" y="2810160"/>
                  <a:ext cx="924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Energí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745320" y="2492280"/>
                <a:ext cx="5234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800" spc="-1" strike="noStrike" baseline="-25000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246800" y="1484280"/>
                <a:ext cx="59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AR" sz="2400" spc="-1" strike="noStrike">
                    <a:solidFill>
                      <a:srgbClr val="ff0000"/>
                    </a:solidFill>
                    <a:latin typeface="Arial"/>
                  </a:rPr>
                  <a:t>e</a:t>
                </a:r>
                <a:r>
                  <a:rPr b="1" i="1" lang="es-AR" sz="2400" spc="-1" strike="noStrike" baseline="-25000">
                    <a:solidFill>
                      <a:srgbClr val="ff0000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84920" y="3567240"/>
                <a:ext cx="669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r>
                  <a:rPr b="1" i="1" lang="en-US" sz="2400" spc="-1" strike="noStrike" baseline="-25000">
                    <a:solidFill>
                      <a:srgbClr val="ff0000"/>
                    </a:solidFill>
                    <a:latin typeface="Arial"/>
                  </a:rPr>
                  <a:t>2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457200" y="407880"/>
            <a:ext cx="8229600" cy="5846760"/>
            <a:chOff x="457200" y="407880"/>
            <a:chExt cx="8229600" cy="5846760"/>
          </a:xfrm>
        </p:grpSpPr>
        <p:sp>
          <p:nvSpPr>
            <p:cNvPr id="397" name=""/>
            <p:cNvSpPr/>
            <p:nvPr/>
          </p:nvSpPr>
          <p:spPr>
            <a:xfrm>
              <a:off x="1249200" y="407880"/>
              <a:ext cx="6651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Complejos de alto o bajo spi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" y="1676520"/>
              <a:ext cx="8229600" cy="2043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ara aparear un electrón se requiere 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energía de apareamiento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 (</a:t>
              </a: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1" lang="es-ES_tradnl" sz="32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para vencer la repulsión que existe entre los dos electrones que ocupan el mismo orbital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880920" y="4165560"/>
              <a:ext cx="7344000" cy="2089080"/>
              <a:chOff x="880920" y="4165560"/>
              <a:chExt cx="7344000" cy="2089080"/>
            </a:xfrm>
          </p:grpSpPr>
          <p:sp>
            <p:nvSpPr>
              <p:cNvPr id="400" name=""/>
              <p:cNvSpPr/>
              <p:nvPr/>
            </p:nvSpPr>
            <p:spPr>
              <a:xfrm>
                <a:off x="880920" y="4165560"/>
                <a:ext cx="7344000" cy="2089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369800" y="4425840"/>
                <a:ext cx="621576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l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fuerte o baj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22440" y="5356080"/>
                <a:ext cx="592164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P &gt; </a:t>
                </a:r>
                <a:r>
                  <a:rPr b="1" lang="es-ES_tradnl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 Campo débil o alto spi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2"/>
          <a:srcRect l="0" t="24892" r="0" b="9886"/>
          <a:stretch/>
        </p:blipFill>
        <p:spPr>
          <a:xfrm>
            <a:off x="488880" y="1420920"/>
            <a:ext cx="8128080" cy="39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533520" y="399960"/>
            <a:ext cx="7824600" cy="5943600"/>
            <a:chOff x="533520" y="399960"/>
            <a:chExt cx="7824600" cy="5943600"/>
          </a:xfrm>
        </p:grpSpPr>
        <p:pic>
          <p:nvPicPr>
            <p:cNvPr id="405" name="" descr=""/>
            <p:cNvPicPr/>
            <p:nvPr/>
          </p:nvPicPr>
          <p:blipFill>
            <a:blip r:embed="rId2"/>
            <a:stretch/>
          </p:blipFill>
          <p:spPr>
            <a:xfrm>
              <a:off x="533520" y="399960"/>
              <a:ext cx="3504960" cy="2484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6" name="" descr=""/>
            <p:cNvPicPr/>
            <p:nvPr/>
          </p:nvPicPr>
          <p:blipFill>
            <a:blip r:embed="rId3"/>
            <a:stretch/>
          </p:blipFill>
          <p:spPr>
            <a:xfrm>
              <a:off x="4876920" y="2190600"/>
              <a:ext cx="3481200" cy="2462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07" name="" descr=""/>
            <p:cNvPicPr/>
            <p:nvPr/>
          </p:nvPicPr>
          <p:blipFill>
            <a:blip r:embed="rId4"/>
            <a:stretch/>
          </p:blipFill>
          <p:spPr>
            <a:xfrm>
              <a:off x="533520" y="3886200"/>
              <a:ext cx="3481200" cy="2457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08" name=""/>
            <p:cNvSpPr/>
            <p:nvPr/>
          </p:nvSpPr>
          <p:spPr>
            <a:xfrm>
              <a:off x="1676520" y="5867280"/>
              <a:ext cx="457200" cy="38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95880" y="4038480"/>
              <a:ext cx="457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6520" y="2362320"/>
              <a:ext cx="5331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468360" y="333360"/>
            <a:ext cx="8429400" cy="6167520"/>
            <a:chOff x="468360" y="333360"/>
            <a:chExt cx="8429400" cy="6167520"/>
          </a:xfrm>
        </p:grpSpPr>
        <p:grpSp>
          <p:nvGrpSpPr>
            <p:cNvPr id="412" name=""/>
            <p:cNvGrpSpPr/>
            <p:nvPr/>
          </p:nvGrpSpPr>
          <p:grpSpPr>
            <a:xfrm>
              <a:off x="4859280" y="3645000"/>
              <a:ext cx="4038480" cy="2855880"/>
              <a:chOff x="4859280" y="3645000"/>
              <a:chExt cx="4038480" cy="2855880"/>
            </a:xfrm>
          </p:grpSpPr>
          <p:pic>
            <p:nvPicPr>
              <p:cNvPr id="41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9280" y="3645000"/>
                <a:ext cx="4038480" cy="28558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6102000" y="5908680"/>
                <a:ext cx="792360" cy="43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68360" y="333360"/>
              <a:ext cx="3809880" cy="2825640"/>
              <a:chOff x="468360" y="333360"/>
              <a:chExt cx="3809880" cy="2825640"/>
            </a:xfrm>
          </p:grpSpPr>
          <p:pic>
            <p:nvPicPr>
              <p:cNvPr id="4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360" y="333360"/>
                <a:ext cx="3809880" cy="2825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87440" y="2549520"/>
                <a:ext cx="792000" cy="50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"/>
          <p:cNvGrpSpPr/>
          <p:nvPr/>
        </p:nvGrpSpPr>
        <p:grpSpPr>
          <a:xfrm>
            <a:off x="468360" y="476280"/>
            <a:ext cx="8294760" cy="5931000"/>
            <a:chOff x="468360" y="476280"/>
            <a:chExt cx="8294760" cy="5931000"/>
          </a:xfrm>
        </p:grpSpPr>
        <p:pic>
          <p:nvPicPr>
            <p:cNvPr id="419" name="" descr=""/>
            <p:cNvPicPr/>
            <p:nvPr/>
          </p:nvPicPr>
          <p:blipFill>
            <a:blip r:embed="rId2"/>
            <a:stretch/>
          </p:blipFill>
          <p:spPr>
            <a:xfrm>
              <a:off x="468360" y="476280"/>
              <a:ext cx="3672000" cy="27320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20" name="" descr=""/>
            <p:cNvPicPr/>
            <p:nvPr/>
          </p:nvPicPr>
          <p:blipFill>
            <a:blip r:embed="rId3"/>
            <a:stretch/>
          </p:blipFill>
          <p:spPr>
            <a:xfrm>
              <a:off x="4876920" y="3657600"/>
              <a:ext cx="3886200" cy="2749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21" name=""/>
            <p:cNvSpPr/>
            <p:nvPr/>
          </p:nvSpPr>
          <p:spPr>
            <a:xfrm>
              <a:off x="6095880" y="5791320"/>
              <a:ext cx="6858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67000" y="2590920"/>
              <a:ext cx="6094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290520" y="260280"/>
            <a:ext cx="8523360" cy="6337440"/>
            <a:chOff x="290520" y="260280"/>
            <a:chExt cx="8523360" cy="6337440"/>
          </a:xfrm>
        </p:grpSpPr>
        <p:sp>
          <p:nvSpPr>
            <p:cNvPr id="424" name=""/>
            <p:cNvSpPr/>
            <p:nvPr/>
          </p:nvSpPr>
          <p:spPr>
            <a:xfrm>
              <a:off x="290520" y="260280"/>
              <a:ext cx="8523360" cy="52056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cc3300"/>
                  </a:solidFill>
                  <a:latin typeface="Arial"/>
                </a:rPr>
                <a:t>Energía de estabilización del campo cristali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395280" y="981000"/>
              <a:ext cx="8353440" cy="5616720"/>
              <a:chOff x="395280" y="981000"/>
              <a:chExt cx="8353440" cy="5616720"/>
            </a:xfrm>
          </p:grpSpPr>
          <p:sp>
            <p:nvSpPr>
              <p:cNvPr id="426" name=""/>
              <p:cNvSpPr/>
              <p:nvPr/>
            </p:nvSpPr>
            <p:spPr>
              <a:xfrm>
                <a:off x="395280" y="981000"/>
                <a:ext cx="8353440" cy="561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977760" y="4680000"/>
                <a:ext cx="7129440" cy="174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Se asigna un valor de 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estabilización) a cada electrón t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2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y una variación de energía de 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 (desestabilización) a cada electrón e</a:t>
                </a:r>
                <a:r>
                  <a:rPr b="1" lang="es-ES_tradnl" sz="2200" spc="-1" strike="noStrike" baseline="-25000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. La suma de las energías de todos los electrones es la EECC.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468360" y="1197000"/>
                <a:ext cx="7439040" cy="3456000"/>
                <a:chOff x="468360" y="1197000"/>
                <a:chExt cx="7439040" cy="3456000"/>
              </a:xfrm>
            </p:grpSpPr>
            <p:grpSp>
              <p:nvGrpSpPr>
                <p:cNvPr id="429" name=""/>
                <p:cNvGrpSpPr/>
                <p:nvPr/>
              </p:nvGrpSpPr>
              <p:grpSpPr>
                <a:xfrm>
                  <a:off x="468360" y="1197000"/>
                  <a:ext cx="7272360" cy="3456000"/>
                  <a:chOff x="468360" y="1197000"/>
                  <a:chExt cx="7272360" cy="3456000"/>
                </a:xfrm>
              </p:grpSpPr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rcRect l="0" t="22724" r="9018" b="11063"/>
                  <a:stretch/>
                </p:blipFill>
                <p:spPr>
                  <a:xfrm>
                    <a:off x="468360" y="1197000"/>
                    <a:ext cx="7272360" cy="345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  <p:sp>
                <p:nvSpPr>
                  <p:cNvPr id="431" name=""/>
                  <p:cNvSpPr/>
                  <p:nvPr/>
                </p:nvSpPr>
                <p:spPr>
                  <a:xfrm rot="16200000">
                    <a:off x="250920" y="2810160"/>
                    <a:ext cx="924480" cy="337320"/>
                  </a:xfrm>
                  <a:prstGeom prst="rect">
                    <a:avLst/>
                  </a:prstGeom>
                  <a:noFill/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Energía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2" name=""/>
                <p:cNvSpPr/>
                <p:nvPr/>
              </p:nvSpPr>
              <p:spPr>
                <a:xfrm>
                  <a:off x="6304320" y="2492280"/>
                  <a:ext cx="523440" cy="5796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2800" spc="-1" strike="noStrike" baseline="-25000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799320" y="1484280"/>
                  <a:ext cx="59688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s-AR" sz="24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r>
                    <a:rPr b="1" i="1" lang="es-AR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37440" y="3567240"/>
                  <a:ext cx="669960" cy="51012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r>
                    <a:rPr b="1" i="1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2g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7687440" y="3597120"/>
                <a:ext cx="833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-2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03600" y="1562040"/>
                <a:ext cx="902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000000"/>
                    </a:solidFill>
                    <a:latin typeface="Arial"/>
                  </a:rPr>
                  <a:t>+3/5</a:t>
                </a:r>
                <a:r>
                  <a:rPr b="1" lang="es-ES_tradnl" sz="2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163520"/>
            <a:ext cx="8470800" cy="53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8880" y="236520"/>
            <a:ext cx="8249760" cy="6122160"/>
            <a:chOff x="398880" y="236520"/>
            <a:chExt cx="8249760" cy="6122160"/>
          </a:xfrm>
        </p:grpSpPr>
        <p:sp>
          <p:nvSpPr>
            <p:cNvPr id="45" name=""/>
            <p:cNvSpPr/>
            <p:nvPr/>
          </p:nvSpPr>
          <p:spPr>
            <a:xfrm>
              <a:off x="618480" y="236520"/>
              <a:ext cx="78494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s de formación de complejo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9240" y="1192320"/>
              <a:ext cx="591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9240" y="2743200"/>
              <a:ext cx="5468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cristali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98880" y="4354560"/>
              <a:ext cx="5107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333399"/>
                  </a:solidFill>
                  <a:latin typeface="Arial"/>
                </a:rPr>
                <a:t>Teoría de campo ligan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52600" y="1766880"/>
              <a:ext cx="7980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5360" y="3352680"/>
              <a:ext cx="8153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La unión entre el ligando y el ion metálico es electrostática (unión iónica)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4984920"/>
              <a:ext cx="80978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l enlace entre el ligando y el ion metálico es parcialmente iónico. Posee algunas carterísticas de enlace covalent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615960" y="339840"/>
            <a:ext cx="7872480" cy="6103080"/>
            <a:chOff x="615960" y="339840"/>
            <a:chExt cx="7872480" cy="6103080"/>
          </a:xfrm>
        </p:grpSpPr>
        <p:sp>
          <p:nvSpPr>
            <p:cNvPr id="438" name=""/>
            <p:cNvSpPr/>
            <p:nvPr/>
          </p:nvSpPr>
          <p:spPr>
            <a:xfrm>
              <a:off x="3799440" y="339840"/>
              <a:ext cx="150516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5960" y="1414440"/>
              <a:ext cx="7872480" cy="2044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Los electron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t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del complejo pueden ser excitados a uno de los orbitales </a:t>
              </a: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e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 si este absorbe un fotón de energía igual a</a:t>
              </a:r>
              <a:r>
                <a:rPr b="0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cc3300"/>
                  </a:solidFill>
                  <a:latin typeface="Arial"/>
                </a:rPr>
                <a:t>. Por lo tanto puede usarse la longitud de onda absorbida para determinar el desdoblamiento del campo cristalino por un ligand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1162080" y="3813120"/>
              <a:ext cx="6797520" cy="2629800"/>
              <a:chOff x="1162080" y="3813120"/>
              <a:chExt cx="6797520" cy="262980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3009960" y="3813120"/>
                <a:ext cx="3124080" cy="1371600"/>
                <a:chOff x="3009960" y="3813120"/>
                <a:chExt cx="3124080" cy="13716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3009960" y="3813120"/>
                  <a:ext cx="3124080" cy="1371600"/>
                </a:xfrm>
                <a:prstGeom prst="rect">
                  <a:avLst/>
                </a:prstGeom>
                <a:solidFill>
                  <a:srgbClr val="ffd3c5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300120" y="3976920"/>
                  <a:ext cx="26510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=  h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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= h c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219640" y="4498920"/>
                  <a:ext cx="60912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197320" y="4586400"/>
                  <a:ext cx="6300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3200" spc="-1" strike="noStrike">
                      <a:solidFill>
                        <a:srgbClr val="ffff00"/>
                      </a:solidFill>
                      <a:latin typeface="Arial"/>
                    </a:rPr>
                    <a:t> 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Symbol"/>
                      <a:ea typeface="Symbol"/>
                    </a:rPr>
                    <a:t></a:t>
                  </a:r>
                  <a:r>
                    <a:rPr b="1" lang="es-ES_tradnl" sz="3200" spc="-1" strike="noStrike">
                      <a:solidFill>
                        <a:srgbClr val="cc3300"/>
                      </a:solidFill>
                      <a:latin typeface="Arial"/>
                    </a:rPr>
                    <a:t> 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"/>
              <p:cNvSpPr/>
              <p:nvPr/>
            </p:nvSpPr>
            <p:spPr>
              <a:xfrm>
                <a:off x="1162080" y="5495760"/>
                <a:ext cx="6797520" cy="947160"/>
              </a:xfrm>
              <a:prstGeom prst="rect">
                <a:avLst/>
              </a:prstGeom>
              <a:solidFill>
                <a:srgbClr val="ffd3c5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A mayor 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Symbol"/>
                    <a:ea typeface="Symbol"/>
                  </a:rPr>
                  <a:t></a:t>
                </a:r>
                <a:r>
                  <a:rPr b="1" lang="es-ES_tradnl" sz="2400" spc="-1" strike="noStrike">
                    <a:solidFill>
                      <a:srgbClr val="cc3300"/>
                    </a:solidFill>
                    <a:latin typeface="Arial"/>
                  </a:rPr>
                  <a:t> deberán absorber radiación de alta energía y baja longitud de onda</a:t>
                </a:r>
                <a:r>
                  <a:rPr b="1" lang="es-ES_tradnl" sz="3200" spc="-1" strike="noStrike">
                    <a:solidFill>
                      <a:srgbClr val="cc3300"/>
                    </a:solidFill>
                    <a:latin typeface="Arial"/>
                  </a:rPr>
                  <a:t>.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985680" y="282600"/>
            <a:ext cx="7129800" cy="6194520"/>
            <a:chOff x="985680" y="282600"/>
            <a:chExt cx="7129800" cy="6194520"/>
          </a:xfrm>
        </p:grpSpPr>
        <p:pic>
          <p:nvPicPr>
            <p:cNvPr id="448" name="" descr=""/>
            <p:cNvPicPr/>
            <p:nvPr/>
          </p:nvPicPr>
          <p:blipFill>
            <a:blip r:embed="rId2"/>
            <a:srcRect l="6582" t="13388" r="5705" b="0"/>
            <a:stretch/>
          </p:blipFill>
          <p:spPr>
            <a:xfrm>
              <a:off x="985680" y="1197000"/>
              <a:ext cx="7129800" cy="5280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49" name=""/>
            <p:cNvSpPr/>
            <p:nvPr/>
          </p:nvSpPr>
          <p:spPr>
            <a:xfrm>
              <a:off x="1529640" y="2046240"/>
              <a:ext cx="1056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Luz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000000"/>
                  </a:solidFill>
                  <a:latin typeface="Arial"/>
                </a:rPr>
                <a:t>510 n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09200" y="282600"/>
              <a:ext cx="2268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101600" y="282600"/>
            <a:ext cx="6912000" cy="6060960"/>
            <a:chOff x="1101600" y="282600"/>
            <a:chExt cx="6912000" cy="60609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rcRect l="3047" t="18101" r="11914" b="0"/>
            <a:stretch/>
          </p:blipFill>
          <p:spPr>
            <a:xfrm>
              <a:off x="1101600" y="1351080"/>
              <a:ext cx="6912000" cy="4992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53" name=""/>
            <p:cNvSpPr/>
            <p:nvPr/>
          </p:nvSpPr>
          <p:spPr>
            <a:xfrm>
              <a:off x="3219480" y="282600"/>
              <a:ext cx="265284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Color (III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1836360" y="2029320"/>
              <a:ext cx="6001920" cy="3128400"/>
              <a:chOff x="1836360" y="2029320"/>
              <a:chExt cx="6001920" cy="3128400"/>
            </a:xfrm>
          </p:grpSpPr>
          <p:sp>
            <p:nvSpPr>
              <p:cNvPr id="455" name=""/>
              <p:cNvSpPr/>
              <p:nvPr/>
            </p:nvSpPr>
            <p:spPr>
              <a:xfrm>
                <a:off x="1836360" y="4292640"/>
                <a:ext cx="141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bsorbi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369840" y="2216160"/>
                <a:ext cx="146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Col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observad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340000" y="3933720"/>
                <a:ext cx="1150920" cy="12240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224000"/>
                  <a:gd name="textAreaBottom" fmla="*/ 1224360 h 12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5635657"/>
                    <a:lnTo>
                      <a:pt x="2087" y="4418"/>
                    </a:lnTo>
                    <a:arcTo wR="10800" hR="10800" stAng="-8626600" swAng="5635657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rot="7963800">
                <a:off x="5811120" y="2261880"/>
                <a:ext cx="1150920" cy="1182600"/>
              </a:xfrm>
              <a:custGeom>
                <a:avLst/>
                <a:gdLst>
                  <a:gd name="textAreaLeft" fmla="*/ 0 w 1150920"/>
                  <a:gd name="textAreaRight" fmla="*/ 1151280 w 1150920"/>
                  <a:gd name="textAreaTop" fmla="*/ 0 h 1182600"/>
                  <a:gd name="textAreaBottom" fmla="*/ 1182960 h 1182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856" y="17846"/>
                    </a:moveTo>
                    <a:arcTo wR="-9218" hR="-9218" stAng="7809056" swAng="-4550096"/>
                    <a:lnTo>
                      <a:pt x="4500" y="2028"/>
                    </a:lnTo>
                    <a:arcTo wR="10800" hR="10800" stAng="-7541039" swAng="4550096"/>
                    <a:lnTo>
                      <a:pt x="19505" y="481"/>
                    </a:lnTo>
                    <a:lnTo>
                      <a:pt x="19922" y="5401"/>
                    </a:lnTo>
                    <a:lnTo>
                      <a:pt x="15003" y="5818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117440" y="488880"/>
            <a:ext cx="6867720" cy="4961520"/>
            <a:chOff x="1117440" y="488880"/>
            <a:chExt cx="6867720" cy="4961520"/>
          </a:xfrm>
        </p:grpSpPr>
        <p:graphicFrame>
          <p:nvGraphicFramePr>
            <p:cNvPr id="460" name=""/>
            <p:cNvGraphicFramePr/>
            <p:nvPr/>
          </p:nvGraphicFramePr>
          <p:xfrm>
            <a:off x="1117440" y="2522520"/>
            <a:ext cx="6867720" cy="16383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7440" y="2522520"/>
                      <a:ext cx="6867720" cy="163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2" name=""/>
            <p:cNvSpPr/>
            <p:nvPr/>
          </p:nvSpPr>
          <p:spPr>
            <a:xfrm>
              <a:off x="1463760" y="488880"/>
              <a:ext cx="61768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Serie espectroquímic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54200" y="4869000"/>
              <a:ext cx="5834160" cy="5814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200" spc="-1" strike="noStrike">
                  <a:solidFill>
                    <a:srgbClr val="cc3300"/>
                  </a:solidFill>
                  <a:latin typeface="Arial"/>
                </a:rPr>
                <a:t>Aumenta la fuerza del camp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62240" y="2133720"/>
              <a:ext cx="44924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68360" y="4437000"/>
              <a:ext cx="4492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703440" y="482760"/>
            <a:ext cx="7689600" cy="5597640"/>
            <a:chOff x="703440" y="482760"/>
            <a:chExt cx="7689600" cy="5597640"/>
          </a:xfrm>
        </p:grpSpPr>
        <p:sp>
          <p:nvSpPr>
            <p:cNvPr id="467" name=""/>
            <p:cNvSpPr/>
            <p:nvPr/>
          </p:nvSpPr>
          <p:spPr>
            <a:xfrm>
              <a:off x="1819800" y="482760"/>
              <a:ext cx="54597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Propiedades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03440" y="1598760"/>
              <a:ext cx="7689600" cy="448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ensidad de carg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densidad de carga, mayor separación del camp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isponibilidad de pares libr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Un solo par electrónico distorsiona más que dos (un solo par se orienta mejor para formar el enlace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Capacidad de formar uniones 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A mayor capacidad para formar uniones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, mayor separ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372960" y="476280"/>
            <a:ext cx="8340840" cy="4844880"/>
            <a:chOff x="372960" y="476280"/>
            <a:chExt cx="8340840" cy="4844880"/>
          </a:xfrm>
        </p:grpSpPr>
        <p:pic>
          <p:nvPicPr>
            <p:cNvPr id="470" name="" descr=""/>
            <p:cNvPicPr/>
            <p:nvPr/>
          </p:nvPicPr>
          <p:blipFill>
            <a:blip r:embed="rId2"/>
            <a:stretch/>
          </p:blipFill>
          <p:spPr>
            <a:xfrm>
              <a:off x="372960" y="1393920"/>
              <a:ext cx="8340840" cy="392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71" name=""/>
            <p:cNvSpPr/>
            <p:nvPr/>
          </p:nvSpPr>
          <p:spPr>
            <a:xfrm>
              <a:off x="1463400" y="486900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r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16240" y="486900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iol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32240" y="4869000"/>
              <a:ext cx="121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75520" y="486900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mari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95880" y="476280"/>
              <a:ext cx="411408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Efecto del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1200240" y="295200"/>
            <a:ext cx="6757920" cy="5829480"/>
            <a:chOff x="1200240" y="295200"/>
            <a:chExt cx="6757920" cy="5829480"/>
          </a:xfrm>
        </p:grpSpPr>
        <p:sp>
          <p:nvSpPr>
            <p:cNvPr id="477" name=""/>
            <p:cNvSpPr/>
            <p:nvPr/>
          </p:nvSpPr>
          <p:spPr>
            <a:xfrm>
              <a:off x="2203920" y="295200"/>
              <a:ext cx="4696200" cy="581400"/>
            </a:xfrm>
            <a:prstGeom prst="rect">
              <a:avLst/>
            </a:prstGeom>
            <a:solidFill>
              <a:srgbClr val="ffd3c5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3300"/>
                  </a:solidFill>
                  <a:latin typeface="Arial"/>
                </a:rPr>
                <a:t>Complejos tetraédrico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8" name="" descr=""/>
            <p:cNvPicPr/>
            <p:nvPr/>
          </p:nvPicPr>
          <p:blipFill>
            <a:blip r:embed="rId2"/>
            <a:stretch/>
          </p:blipFill>
          <p:spPr>
            <a:xfrm>
              <a:off x="1200240" y="1504800"/>
              <a:ext cx="6757920" cy="4619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703440" y="1022400"/>
            <a:ext cx="7704000" cy="4657680"/>
            <a:chOff x="703440" y="1022400"/>
            <a:chExt cx="7704000" cy="4657680"/>
          </a:xfrm>
        </p:grpSpPr>
        <p:pic>
          <p:nvPicPr>
            <p:cNvPr id="480" name="" descr=""/>
            <p:cNvPicPr/>
            <p:nvPr/>
          </p:nvPicPr>
          <p:blipFill>
            <a:blip r:embed="rId2"/>
            <a:srcRect l="0" t="10738" r="0" b="0"/>
            <a:stretch/>
          </p:blipFill>
          <p:spPr>
            <a:xfrm>
              <a:off x="703440" y="1022400"/>
              <a:ext cx="7704000" cy="46576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481" name=""/>
            <p:cNvSpPr/>
            <p:nvPr/>
          </p:nvSpPr>
          <p:spPr>
            <a:xfrm>
              <a:off x="1894320" y="2826000"/>
              <a:ext cx="122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13320" y="2822760"/>
              <a:ext cx="116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800" spc="-1" strike="noStrike">
                  <a:solidFill>
                    <a:srgbClr val="000000"/>
                  </a:solidFill>
                  <a:latin typeface="Times New Roman"/>
                </a:rPr>
                <a:t>Espin al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0240" y="1492200"/>
              <a:ext cx="238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oct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747400" y="14828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lejos tetraédr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74720" y="1241640"/>
              <a:ext cx="133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lectrones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8800" y="114480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figu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495360" y="157320"/>
            <a:ext cx="8169120" cy="6530040"/>
            <a:chOff x="495360" y="157320"/>
            <a:chExt cx="8169120" cy="6530040"/>
          </a:xfrm>
        </p:grpSpPr>
        <p:sp>
          <p:nvSpPr>
            <p:cNvPr id="488" name=""/>
            <p:cNvSpPr/>
            <p:nvPr/>
          </p:nvSpPr>
          <p:spPr>
            <a:xfrm>
              <a:off x="1724760" y="157320"/>
              <a:ext cx="568836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5360" y="1047600"/>
              <a:ext cx="8169120" cy="563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800" spc="-1" strike="noStrike">
                  <a:solidFill>
                    <a:srgbClr val="000000"/>
                  </a:solidFill>
                  <a:latin typeface="Arial"/>
                </a:rPr>
                <a:t>La teoría del campo ligando sugiere que las interacciones entre el ion central y los ligandos se efectúan por enlaces parcialmente covalent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Además de las consideraciones realizadas en la TCC incluye los enlaces metal-ligando sigma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 y pi (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)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Esta teoría permite explicar la serie espectroquímica en función de considerar a los ligandos con sus orbitales y no como cargas puntua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"/>
          <p:cNvGrpSpPr/>
          <p:nvPr/>
        </p:nvGrpSpPr>
        <p:grpSpPr>
          <a:xfrm>
            <a:off x="1373040" y="233280"/>
            <a:ext cx="6372720" cy="6220080"/>
            <a:chOff x="1373040" y="233280"/>
            <a:chExt cx="6372720" cy="6220080"/>
          </a:xfrm>
        </p:grpSpPr>
        <p:sp>
          <p:nvSpPr>
            <p:cNvPr id="491" name=""/>
            <p:cNvSpPr/>
            <p:nvPr/>
          </p:nvSpPr>
          <p:spPr>
            <a:xfrm>
              <a:off x="1373040" y="233280"/>
              <a:ext cx="637272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l campo ligando (II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" descr=""/>
            <p:cNvPicPr/>
            <p:nvPr/>
          </p:nvPicPr>
          <p:blipFill>
            <a:blip r:embed="rId2"/>
            <a:stretch/>
          </p:blipFill>
          <p:spPr>
            <a:xfrm>
              <a:off x="2062080" y="1154160"/>
              <a:ext cx="4967280" cy="5299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99960" y="663480"/>
            <a:ext cx="8321760" cy="4976280"/>
            <a:chOff x="399960" y="663480"/>
            <a:chExt cx="8321760" cy="4976280"/>
          </a:xfrm>
        </p:grpSpPr>
        <p:sp>
          <p:nvSpPr>
            <p:cNvPr id="53" name=""/>
            <p:cNvSpPr/>
            <p:nvPr/>
          </p:nvSpPr>
          <p:spPr>
            <a:xfrm>
              <a:off x="984240" y="663480"/>
              <a:ext cx="714672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9960" y="2133720"/>
              <a:ext cx="8321760" cy="3506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Postula que los ligandos ceden sus electrones a un grupo de orbitales híbridos 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o sp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3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 del ion central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Justifica las características magnéticas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Arial"/>
                </a:rPr>
                <a:t>No explica el color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6320" y="1917360"/>
            <a:ext cx="7702560" cy="297180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Atkins P.W, Jones L. Química . 3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Arial"/>
              </a:rPr>
              <a:t>ra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edición. Ed Omega.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hang R. Química. Ed. MacGraw Hill.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apítulo 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4680" y="5486400"/>
            <a:ext cx="7473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ultas: pevelson@ffyb.uba.ar (Pablo Evels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36520" y="560520"/>
            <a:ext cx="3256200" cy="764280"/>
          </a:xfrm>
          <a:prstGeom prst="rect">
            <a:avLst/>
          </a:prstGeom>
          <a:solidFill>
            <a:srgbClr val="ffd8c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cc3300"/>
                </a:solidFill>
                <a:latin typeface="Arial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243000" y="663480"/>
            <a:ext cx="8631000" cy="5418360"/>
            <a:chOff x="243000" y="663480"/>
            <a:chExt cx="8631000" cy="541836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243000" y="2162160"/>
              <a:ext cx="8631000" cy="249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7" name=""/>
            <p:cNvSpPr/>
            <p:nvPr/>
          </p:nvSpPr>
          <p:spPr>
            <a:xfrm>
              <a:off x="587520" y="663480"/>
              <a:ext cx="7910280" cy="70344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4000" spc="-1" strike="noStrike">
                  <a:solidFill>
                    <a:srgbClr val="cc3300"/>
                  </a:solidFill>
                  <a:latin typeface="Arial"/>
                </a:rPr>
                <a:t>Teoría de enlace de valencia (II)</a:t>
              </a:r>
              <a:r>
                <a:rPr b="1" lang="es-ES_tradnl" sz="32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70040" y="5256360"/>
              <a:ext cx="756108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Formación de un enlace 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Symbol"/>
                  <a:ea typeface="Symbol"/>
                </a:rPr>
                <a:t></a:t>
              </a:r>
              <a:r>
                <a:rPr b="1" i="1" lang="en-US" sz="2400" spc="-1" strike="noStrike">
                  <a:solidFill>
                    <a:srgbClr val="cc3300"/>
                  </a:solidFill>
                  <a:latin typeface="Arial"/>
                </a:rPr>
                <a:t> a partir de los orbitales híbridos del metal y el ligando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91960" y="368280"/>
            <a:ext cx="8748720" cy="6120000"/>
            <a:chOff x="291960" y="368280"/>
            <a:chExt cx="8748720" cy="6120000"/>
          </a:xfrm>
        </p:grpSpPr>
        <p:sp>
          <p:nvSpPr>
            <p:cNvPr id="60" name=""/>
            <p:cNvSpPr/>
            <p:nvPr/>
          </p:nvSpPr>
          <p:spPr>
            <a:xfrm>
              <a:off x="291960" y="368280"/>
              <a:ext cx="8748720" cy="612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397800" y="457200"/>
              <a:ext cx="3118680" cy="1267200"/>
              <a:chOff x="397800" y="457200"/>
              <a:chExt cx="3118680" cy="1267200"/>
            </a:xfrm>
          </p:grpSpPr>
          <p:sp>
            <p:nvSpPr>
              <p:cNvPr id="62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399240" y="1700280"/>
              <a:ext cx="5307480" cy="1230480"/>
              <a:chOff x="399240" y="1700280"/>
              <a:chExt cx="5307480" cy="1230480"/>
            </a:xfrm>
          </p:grpSpPr>
          <p:sp>
            <p:nvSpPr>
              <p:cNvPr id="65" name=""/>
              <p:cNvSpPr/>
              <p:nvPr/>
            </p:nvSpPr>
            <p:spPr>
              <a:xfrm>
                <a:off x="399240" y="2297160"/>
                <a:ext cx="2018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36232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422080" y="23050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954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955600" y="23162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429000" y="28083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3340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6252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9920" y="2349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95680" y="28195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41400" y="23144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814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362320" y="2190600"/>
                <a:ext cx="2590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181480" y="2190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149800" y="17002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401400" y="3352680"/>
              <a:ext cx="8456760" cy="1168920"/>
              <a:chOff x="401400" y="3352680"/>
              <a:chExt cx="8456760" cy="1168920"/>
            </a:xfrm>
          </p:grpSpPr>
          <p:sp>
            <p:nvSpPr>
              <p:cNvPr id="82" name=""/>
              <p:cNvSpPr/>
              <p:nvPr/>
            </p:nvSpPr>
            <p:spPr>
              <a:xfrm>
                <a:off x="401400" y="389088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390680" y="4432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50440" y="39290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3960" y="39211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2419200" y="3929040"/>
                <a:ext cx="457200" cy="581400"/>
                <a:chOff x="2419200" y="3929040"/>
                <a:chExt cx="457200" cy="581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2419200" y="44323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479320" y="39290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"/>
              <p:cNvSpPr/>
              <p:nvPr/>
            </p:nvSpPr>
            <p:spPr>
              <a:xfrm>
                <a:off x="2933640" y="4443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955600" y="392436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448080" y="3940200"/>
                <a:ext cx="457200" cy="581400"/>
                <a:chOff x="3448080" y="3940200"/>
                <a:chExt cx="457200" cy="5814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448080" y="44434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7840" y="394020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2102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390680" y="3795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215080" y="335268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10200" y="37958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119480" y="335268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8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95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7913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40080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961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9152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88688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400960" y="44053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43360" y="3795840"/>
                <a:ext cx="152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9880" y="3814920"/>
                <a:ext cx="2438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3296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09440" y="33577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4067280" y="2351160"/>
              <a:ext cx="4424400" cy="2297160"/>
              <a:chOff x="4067280" y="2351160"/>
              <a:chExt cx="4424400" cy="2297160"/>
            </a:xfrm>
          </p:grpSpPr>
          <p:sp>
            <p:nvSpPr>
              <p:cNvPr id="113" name=""/>
              <p:cNvSpPr/>
              <p:nvPr/>
            </p:nvSpPr>
            <p:spPr>
              <a:xfrm>
                <a:off x="4067280" y="3352680"/>
                <a:ext cx="3352680" cy="129564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6039000" y="2666520"/>
                <a:ext cx="76176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27680" y="235116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01400" y="4991040"/>
              <a:ext cx="8456760" cy="1157760"/>
              <a:chOff x="401400" y="4991040"/>
              <a:chExt cx="8456760" cy="1157760"/>
            </a:xfrm>
          </p:grpSpPr>
          <p:sp>
            <p:nvSpPr>
              <p:cNvPr id="117" name=""/>
              <p:cNvSpPr/>
              <p:nvPr/>
            </p:nvSpPr>
            <p:spPr>
              <a:xfrm>
                <a:off x="401400" y="552924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9068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5044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2420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39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19200" y="607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79320" y="556740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3364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9376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8080" y="6062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07840" y="555948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90680" y="543384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215080" y="49910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040000" y="499104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3915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8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009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102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4336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2768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9132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6760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81680" y="6043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10200" y="546084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34280" y="5442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756560" y="50180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4572000" y="765000"/>
              <a:ext cx="42339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ex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0"/>
            <a:ext cx="8991720" cy="6602760"/>
            <a:chOff x="0" y="0"/>
            <a:chExt cx="8991720" cy="6602760"/>
          </a:xfrm>
        </p:grpSpPr>
        <p:sp>
          <p:nvSpPr>
            <p:cNvPr id="145" name=""/>
            <p:cNvSpPr/>
            <p:nvPr/>
          </p:nvSpPr>
          <p:spPr>
            <a:xfrm>
              <a:off x="98280" y="347760"/>
              <a:ext cx="8893440" cy="6119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344160" y="3505320"/>
              <a:ext cx="8457120" cy="1171800"/>
              <a:chOff x="344160" y="3505320"/>
              <a:chExt cx="8457120" cy="1171800"/>
            </a:xfrm>
          </p:grpSpPr>
          <p:sp>
            <p:nvSpPr>
              <p:cNvPr id="147" name=""/>
              <p:cNvSpPr/>
              <p:nvPr/>
            </p:nvSpPr>
            <p:spPr>
              <a:xfrm>
                <a:off x="344160" y="404352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33344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39356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6696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6984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362320" y="4584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22080" y="40813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87640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36520" y="409572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90840" y="45957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70040" y="4076640"/>
                <a:ext cx="34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529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333440" y="3948120"/>
                <a:ext cx="259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157840" y="350532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52960" y="39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062600" y="350532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2387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3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34356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83892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3342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82964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344080" y="45576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686480" y="39481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362640" y="3967200"/>
                <a:ext cx="243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7572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252200" y="35100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2895480" y="2503440"/>
              <a:ext cx="4815000" cy="2297160"/>
              <a:chOff x="2895480" y="2503440"/>
              <a:chExt cx="4815000" cy="2297160"/>
            </a:xfrm>
          </p:grpSpPr>
          <p:sp>
            <p:nvSpPr>
              <p:cNvPr id="176" name=""/>
              <p:cNvSpPr/>
              <p:nvPr/>
            </p:nvSpPr>
            <p:spPr>
              <a:xfrm>
                <a:off x="2895480" y="3505320"/>
                <a:ext cx="3353040" cy="12952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5200560" y="2819160"/>
                <a:ext cx="762120" cy="685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46480" y="2503440"/>
                <a:ext cx="176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0000"/>
                    </a:solidFill>
                    <a:latin typeface="Arial"/>
                  </a:rPr>
                  <a:t>Hibridiz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97800" y="457200"/>
              <a:ext cx="5250240" cy="2440440"/>
              <a:chOff x="397800" y="457200"/>
              <a:chExt cx="5250240" cy="2440440"/>
            </a:xfrm>
          </p:grpSpPr>
          <p:sp>
            <p:nvSpPr>
              <p:cNvPr id="180" name=""/>
              <p:cNvSpPr/>
              <p:nvPr/>
            </p:nvSpPr>
            <p:spPr>
              <a:xfrm>
                <a:off x="397800" y="457200"/>
                <a:ext cx="3118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 = [Ar] 4s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7520" y="1143000"/>
                <a:ext cx="2713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Fe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= [Ar] 3d</a:t>
                </a:r>
                <a:r>
                  <a:rPr b="0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186720" y="174780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399240" y="2190600"/>
                <a:ext cx="5239440" cy="707040"/>
                <a:chOff x="399240" y="2190600"/>
                <a:chExt cx="5239440" cy="7070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99240" y="2297160"/>
                  <a:ext cx="20188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Fe</a:t>
                  </a:r>
                  <a:r>
                    <a:rPr b="0" lang="es-ES_tradnl" sz="3200" spc="-1" strike="noStrike" baseline="30000">
                      <a:solidFill>
                        <a:srgbClr val="000000"/>
                      </a:solidFill>
                      <a:latin typeface="Arial"/>
                    </a:rPr>
                    <a:t>3+</a:t>
                  </a: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 = 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2362320" y="2305080"/>
                  <a:ext cx="457200" cy="581400"/>
                  <a:chOff x="2362320" y="2305080"/>
                  <a:chExt cx="457200" cy="5814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2362320" y="280836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2422080" y="230508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2895480" y="2316240"/>
                  <a:ext cx="457200" cy="581400"/>
                  <a:chOff x="2895480" y="2316240"/>
                  <a:chExt cx="457200" cy="5814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>
                    <a:off x="2895480" y="2819520"/>
                    <a:ext cx="457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2955600" y="2316240"/>
                    <a:ext cx="34668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3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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3429000" y="28083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489120" y="230508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6252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02228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95680" y="28195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55800" y="23162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181480" y="28004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62320" y="2190600"/>
                  <a:ext cx="2590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81480" y="2190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5091120" y="1747800"/>
                <a:ext cx="55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1037880" y="3159360"/>
              <a:ext cx="3444840" cy="3443400"/>
              <a:chOff x="1037880" y="3159360"/>
              <a:chExt cx="3444840" cy="34434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037880" y="3159360"/>
                <a:ext cx="3444840" cy="3443400"/>
                <a:chOff x="1037880" y="3159360"/>
                <a:chExt cx="3444840" cy="3443400"/>
              </a:xfrm>
            </p:grpSpPr>
            <p:sp>
              <p:nvSpPr>
                <p:cNvPr id="203" name=""/>
                <p:cNvSpPr/>
                <p:nvPr/>
              </p:nvSpPr>
              <p:spPr>
                <a:xfrm rot="19186800">
                  <a:off x="1535040" y="3662280"/>
                  <a:ext cx="2450160" cy="2437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1630080" y="3918240"/>
                  <a:ext cx="368280" cy="3272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67480" y="3727800"/>
                <a:ext cx="1514160" cy="1545840"/>
                <a:chOff x="2067480" y="3727800"/>
                <a:chExt cx="1514160" cy="1545840"/>
              </a:xfrm>
            </p:grpSpPr>
            <p:sp>
              <p:nvSpPr>
                <p:cNvPr id="206" name=""/>
                <p:cNvSpPr/>
                <p:nvPr/>
              </p:nvSpPr>
              <p:spPr>
                <a:xfrm rot="19186800">
                  <a:off x="2348280" y="3891240"/>
                  <a:ext cx="952560" cy="1218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2233800" y="4033440"/>
                  <a:ext cx="187920" cy="1638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382320" y="5105520"/>
              <a:ext cx="8075880" cy="1143000"/>
              <a:chOff x="382320" y="5105520"/>
              <a:chExt cx="8075880" cy="1143000"/>
            </a:xfrm>
          </p:grpSpPr>
          <p:sp>
            <p:nvSpPr>
              <p:cNvPr id="209" name=""/>
              <p:cNvSpPr/>
              <p:nvPr/>
            </p:nvSpPr>
            <p:spPr>
              <a:xfrm>
                <a:off x="382320" y="5554800"/>
                <a:ext cx="813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[Ar]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3716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48200" y="566100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051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400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4640" y="5641920"/>
                <a:ext cx="325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914560" y="6126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4290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830960" y="5138640"/>
                <a:ext cx="5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36800" y="5105520"/>
                <a:ext cx="128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6 d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sp</a:t>
                </a:r>
                <a:r>
                  <a:rPr b="0" i="1" lang="es-ES_tradnl" sz="2800" spc="-1" strike="noStrike" baseline="3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74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00100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92436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41972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915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10080" y="611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90544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00800" y="61070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952720" y="5562720"/>
                <a:ext cx="297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962680" y="5562720"/>
                <a:ext cx="241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842160" y="5138640"/>
                <a:ext cx="70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s-ES_tradnl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91456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886200" y="565776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0064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76920" y="5657760"/>
                <a:ext cx="7999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410080" y="5668920"/>
                <a:ext cx="80028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00800" y="5657760"/>
                <a:ext cx="46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5562720"/>
                <a:ext cx="1523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4576320" y="692280"/>
              <a:ext cx="4129560" cy="4597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Arial"/>
                </a:rPr>
                <a:t>Complejo de orbital int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0920" y="260280"/>
              <a:ext cx="8642160" cy="626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0" y="0"/>
              <a:ext cx="8893080" cy="630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250920" y="762120"/>
            <a:ext cx="8642160" cy="5619600"/>
            <a:chOff x="250920" y="762120"/>
            <a:chExt cx="8642160" cy="5619600"/>
          </a:xfrm>
        </p:grpSpPr>
        <p:sp>
          <p:nvSpPr>
            <p:cNvPr id="243" name=""/>
            <p:cNvSpPr/>
            <p:nvPr/>
          </p:nvSpPr>
          <p:spPr>
            <a:xfrm>
              <a:off x="250920" y="765000"/>
              <a:ext cx="8642160" cy="561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306000" y="762120"/>
              <a:ext cx="8471880" cy="5419440"/>
              <a:chOff x="306000" y="762120"/>
              <a:chExt cx="8471880" cy="54194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306000" y="1752480"/>
                <a:ext cx="8457120" cy="1157760"/>
                <a:chOff x="306000" y="1752480"/>
                <a:chExt cx="8457120" cy="1157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06000" y="229068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29528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35540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8288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88892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24160" y="2832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383920" y="232884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3860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9836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352680" y="284328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412800" y="2320920"/>
                  <a:ext cx="3466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295280" y="2195640"/>
                  <a:ext cx="259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120040" y="175248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44960" y="1752480"/>
                  <a:ext cx="1281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2961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79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30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1148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46483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8148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9592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7220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686640" y="280512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14800" y="222264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238880" y="2203560"/>
                  <a:ext cx="1524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7661160" y="177948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07664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610160" y="24051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143680" y="239400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65776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134040" y="239400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629400" y="24051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474480" y="762120"/>
                <a:ext cx="233856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H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O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912040" y="762120"/>
                <a:ext cx="5850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fuerte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82320" y="5105520"/>
                <a:ext cx="8075880" cy="1076040"/>
                <a:chOff x="382320" y="5105520"/>
                <a:chExt cx="8075880" cy="10760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82320" y="5554800"/>
                  <a:ext cx="8132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3200" spc="-1" strike="noStrike">
                      <a:solidFill>
                        <a:srgbClr val="000000"/>
                      </a:solidFill>
                      <a:latin typeface="Arial"/>
                    </a:rPr>
                    <a:t>[Ar]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3716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48200" y="566100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9051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400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474640" y="5641920"/>
                  <a:ext cx="325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9145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4290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830960" y="5138640"/>
                  <a:ext cx="576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736800" y="5105520"/>
                  <a:ext cx="1281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6 d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sp</a:t>
                  </a:r>
                  <a:r>
                    <a:rPr b="0" i="1" lang="es-ES_tradnl" sz="2800" spc="-1" strike="noStrike" baseline="30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9534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4674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0100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92436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1972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915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410080" y="611496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90544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400800" y="6107040"/>
                  <a:ext cx="457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952720" y="5562720"/>
                  <a:ext cx="2971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962680" y="5562720"/>
                  <a:ext cx="2419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842160" y="5138640"/>
                  <a:ext cx="70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i="1" lang="es-ES_tradnl" sz="2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456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339084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86200" y="565776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0064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876920" y="5657760"/>
                  <a:ext cx="79992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410080" y="5668920"/>
                  <a:ext cx="8002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200" spc="-1" strike="noStrike">
                      <a:solidFill>
                        <a:srgbClr val="000000"/>
                      </a:solidFill>
                      <a:latin typeface="Arial"/>
                    </a:rPr>
                    <a:t>xx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00800" y="5657760"/>
                  <a:ext cx="46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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371600" y="5562720"/>
                  <a:ext cx="15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11920" y="3992400"/>
                <a:ext cx="212544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[Fe(CN)</a:t>
                </a:r>
                <a:r>
                  <a:rPr b="1" lang="es-ES_tradnl" sz="3200" spc="-1" strike="noStrike" baseline="-25000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es-ES_tradnl" sz="32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r>
                  <a:rPr b="1" lang="es-ES_tradnl" sz="3200" spc="-1" strike="noStrike" baseline="30000">
                    <a:solidFill>
                      <a:srgbClr val="000000"/>
                    </a:solidFill>
                    <a:latin typeface="Arial"/>
                  </a:rPr>
                  <a:t>3-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63600" y="3992400"/>
                <a:ext cx="5714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Complejo débilmente paramagnético.</a:t>
                </a:r>
                <a:r>
                  <a:rPr b="0" lang="es-ES_tradnl" sz="3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2916360" y="2400480"/>
              <a:ext cx="5077080" cy="3857400"/>
              <a:chOff x="2916360" y="2400480"/>
              <a:chExt cx="5077080" cy="3857400"/>
            </a:xfrm>
          </p:grpSpPr>
          <p:sp>
            <p:nvSpPr>
              <p:cNvPr id="314" name=""/>
              <p:cNvSpPr/>
              <p:nvPr/>
            </p:nvSpPr>
            <p:spPr>
              <a:xfrm>
                <a:off x="4140360" y="240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16360" y="5640480"/>
                <a:ext cx="3095640" cy="61740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5435280" y="3716280"/>
                <a:ext cx="73080" cy="1944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5651640" y="2997360"/>
                <a:ext cx="288720" cy="431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925080" y="3390840"/>
                <a:ext cx="40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AR" sz="1800" spc="-1" strike="noStrike">
                    <a:solidFill>
                      <a:srgbClr val="ff0000"/>
                    </a:solidFill>
                    <a:latin typeface="Arial"/>
                  </a:rPr>
                  <a:t>Pares de electrones de los ligand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304920" y="198360"/>
            <a:ext cx="8496360" cy="6494040"/>
            <a:chOff x="304920" y="198360"/>
            <a:chExt cx="8496360" cy="6494040"/>
          </a:xfrm>
        </p:grpSpPr>
        <p:sp>
          <p:nvSpPr>
            <p:cNvPr id="320" name=""/>
            <p:cNvSpPr/>
            <p:nvPr/>
          </p:nvSpPr>
          <p:spPr>
            <a:xfrm>
              <a:off x="304920" y="1052640"/>
              <a:ext cx="8496360" cy="56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Asume que la unión metal-ligando es puramente iónica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Trata a los átomos de ligando y metal como cargas puntuales no polarizabl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Propone que cuando se acercan los ligandos éstos crean un campo cristalino de repulsión sobre el átomo del metal que produce orbitales d degenerado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AR" sz="2800" spc="-1" strike="noStrike">
                  <a:solidFill>
                    <a:srgbClr val="000000"/>
                  </a:solidFill>
                  <a:latin typeface="Arial"/>
                </a:rPr>
                <a:t>La magnitud del campo cristalino determina la magnitud de las repulsiones electrostática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73920" y="198360"/>
              <a:ext cx="5970240" cy="64260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3600" spc="-1" strike="noStrike">
                  <a:solidFill>
                    <a:srgbClr val="cc3300"/>
                  </a:solidFill>
                  <a:latin typeface="Arial"/>
                </a:rPr>
                <a:t>Teoría de campo cristalin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685800" y="549360"/>
            <a:ext cx="7715160" cy="6081480"/>
            <a:chOff x="685800" y="549360"/>
            <a:chExt cx="7715160" cy="6081480"/>
          </a:xfrm>
        </p:grpSpPr>
        <p:pic>
          <p:nvPicPr>
            <p:cNvPr id="323" name="" descr=""/>
            <p:cNvPicPr/>
            <p:nvPr/>
          </p:nvPicPr>
          <p:blipFill>
            <a:blip r:embed="rId2"/>
            <a:srcRect l="0" t="0" r="66653" b="55241"/>
            <a:stretch/>
          </p:blipFill>
          <p:spPr>
            <a:xfrm>
              <a:off x="2509920" y="549360"/>
              <a:ext cx="4066920" cy="4975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324" name=""/>
            <p:cNvGrpSpPr/>
            <p:nvPr/>
          </p:nvGrpSpPr>
          <p:grpSpPr>
            <a:xfrm>
              <a:off x="2771640" y="965160"/>
              <a:ext cx="3341520" cy="4114800"/>
              <a:chOff x="2771640" y="965160"/>
              <a:chExt cx="3341520" cy="4114800"/>
            </a:xfrm>
          </p:grpSpPr>
          <p:sp>
            <p:nvSpPr>
              <p:cNvPr id="325" name=""/>
              <p:cNvSpPr/>
              <p:nvPr/>
            </p:nvSpPr>
            <p:spPr>
              <a:xfrm flipH="1">
                <a:off x="5249520" y="1935360"/>
                <a:ext cx="863640" cy="4316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00520" y="965160"/>
                <a:ext cx="0" cy="936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71640" y="2127240"/>
                <a:ext cx="720720" cy="2890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686480" y="4359240"/>
                <a:ext cx="0" cy="720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2979720" y="3822840"/>
                <a:ext cx="647640" cy="28728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5364000" y="3855600"/>
                <a:ext cx="720720" cy="36036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85800" y="5805360"/>
              <a:ext cx="7715160" cy="825480"/>
            </a:xfrm>
            <a:prstGeom prst="rect">
              <a:avLst/>
            </a:prstGeom>
            <a:solidFill>
              <a:srgbClr val="ffd3c5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cc3300"/>
                  </a:solidFill>
                  <a:latin typeface="Arial"/>
                </a:rPr>
                <a:t>La presencia del ligando produce una perturbación en los orbitale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7T13:54:06Z</dcterms:created>
  <dc:creator>Usuario</dc:creator>
  <dc:description/>
  <dc:language>en-US</dc:language>
  <cp:lastModifiedBy>Romina Alonso B</cp:lastModifiedBy>
  <dcterms:modified xsi:type="dcterms:W3CDTF">2009-06-11T05:57:56Z</dcterms:modified>
  <cp:revision>28</cp:revision>
  <dc:subject/>
  <dc:title>Diapositiva 1</dc:title>
</cp:coreProperties>
</file>