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A1D-3CA7-4966-9AF7-12BFBB8F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994-3EAA-4043-90E4-26530A8F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93A-506C-42D0-80E4-C9086630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AA0-FBB0-4C96-83BE-EA541E6D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353-A936-464E-87B0-EF2B4A59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9E4-7DE5-42E8-9D8C-07C9418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327-0EE3-44BE-BD09-7F174873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D23-A51A-4C93-8255-649F8C4F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BB4-7B78-44A5-802A-F3FA2C01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50C-6E3A-4A0E-9D24-3F89A5F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CA0-3532-4D7D-8B53-E0EF39A2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557-F584-4DBF-AFA8-55800D69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31E0-E815-4F93-A870-5162944C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ía del Campo Cristal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2016000" cy="172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5373720"/>
            <a:ext cx="2879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MAURICIO MOREL ESCO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Licenciado en Química-Quí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Curso: Química Inorgánica I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0F6-2800-410B-8267-B4B610BD84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1268280"/>
            <a:ext cx="345600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764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820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desdoblamiento_octaedrico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755800" cy="2676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844640"/>
            <a:ext cx="695160" cy="5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645000"/>
            <a:ext cx="5317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63640" y="4653000"/>
          <a:ext cx="1185840" cy="12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653000"/>
                    <a:ext cx="118584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desdobalmiento_tetraedrico" descr=""/>
          <p:cNvPicPr/>
          <p:nvPr/>
        </p:nvPicPr>
        <p:blipFill>
          <a:blip r:embed="rId4"/>
          <a:stretch/>
        </p:blipFill>
        <p:spPr>
          <a:xfrm>
            <a:off x="5364000" y="1052640"/>
            <a:ext cx="269892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956720" y="1700280"/>
            <a:ext cx="5317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3716280"/>
            <a:ext cx="695160" cy="5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516720" y="4508640"/>
          <a:ext cx="1346040" cy="14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4508640"/>
                    <a:ext cx="134604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750-19DC-449B-8815-7F9C9062A0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1219320"/>
            <a:ext cx="708660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76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desdoblamiento_plaano_cuadrado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3165480" cy="335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33720" y="5334120"/>
            <a:ext cx="1066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3962520"/>
            <a:ext cx="99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3341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0400" y="396252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396252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124080" y="281916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9920" y="449568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41920" y="5450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y, xz, 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89800" y="335268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0240" y="25146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ctaéd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9960" y="160020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lano-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3657600"/>
            <a:ext cx="2590920" cy="25146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FC6-F4DE-427F-9F33-02FB7045FB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43080" y="40788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Complejos de alto o bajo s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8229600" cy="204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a aparear un electrón se requiere </a:t>
            </a:r>
            <a:r>
              <a:rPr b="1" i="1" lang="es-ES_tradnl" sz="3200" spc="-1" strike="noStrike">
                <a:solidFill>
                  <a:srgbClr val="333399"/>
                </a:solidFill>
                <a:latin typeface="Arial"/>
              </a:rPr>
              <a:t>energía de apareamiento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i="1" lang="es-ES_tradnl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para vencer la repulsión que existe entre los dos electrones que ocupan el mismo orb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80920" y="4165560"/>
            <a:ext cx="7344000" cy="2089080"/>
            <a:chOff x="880920" y="4165560"/>
            <a:chExt cx="7344000" cy="2089080"/>
          </a:xfrm>
        </p:grpSpPr>
        <p:sp>
          <p:nvSpPr>
            <p:cNvPr id="163" name=""/>
            <p:cNvSpPr/>
            <p:nvPr/>
          </p:nvSpPr>
          <p:spPr>
            <a:xfrm>
              <a:off x="880920" y="4165560"/>
              <a:ext cx="7344000" cy="208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69800" y="4425840"/>
              <a:ext cx="62157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 &lt;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Campo fuerte o bajo sp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22440" y="5356080"/>
              <a:ext cx="592164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 &gt;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Campo débil o alto sp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F7F-3930-43EA-A450-1F6E71E37856}" type="slidenum">
              <a:t>12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95280"/>
            <a:ext cx="9144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64920" y="53352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ERGÍA DE ESTABILIZACIÓN PRODU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 EL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0" b="17399"/>
          <a:stretch/>
        </p:blipFill>
        <p:spPr>
          <a:xfrm>
            <a:off x="5276880" y="1371600"/>
            <a:ext cx="3181320" cy="2895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0" t="0" r="0" b="15559"/>
          <a:stretch/>
        </p:blipFill>
        <p:spPr>
          <a:xfrm>
            <a:off x="685800" y="1371600"/>
            <a:ext cx="3166920" cy="2895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52480" y="2933640"/>
            <a:ext cx="22100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2933640"/>
            <a:ext cx="22100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2952720"/>
            <a:ext cx="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86200" y="15238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1880" y="2952720"/>
            <a:ext cx="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381880" y="15238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7640" y="205740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3/5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0120" y="3048120"/>
            <a:ext cx="11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2/5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59320" y="3048120"/>
            <a:ext cx="11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2/5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71920" y="213372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3/5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0120" y="4648320"/>
            <a:ext cx="418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Ee= 3.(-2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+1.(3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=-3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AMPO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ONFIGURACIÓN DE ALTO 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2280" y="4648320"/>
            <a:ext cx="414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Ee= 4.(-2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=-8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 (+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AMPO INTE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ONFIGURACIÓN DE BAJO 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83880" y="2332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8040" y="236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881-397F-4414-AF2B-AD3243FE9F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620640"/>
            <a:ext cx="8058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VALOR DEL DESDOBLAMIENTO ES M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LA ENERGÍA DE APAREAMIENTO, SE SIGUE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DE AUF-BAU,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ÁXIMO DESAPAREAMIEN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SULTADO ES UN COMPLEJO DE ALTO SP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VALOR ES MAYOR, SE OCUPAN PRIMERO LOS NIVELES INFERIORES Y LUEGO LOS SUP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SULTADO ES UN COMPLEJO DE BAJO SP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CD7-E9D1-472A-9331-93E4FA50FC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5400" y="90792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ES QUE AFECTAN AL DESDOB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916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RIE A LA PERTENECE EL METAL AL BAJAR EN UN GRUPO, AUMENTA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0114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L ESTADO DE OXIDACIÓN DEL 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UYE CUANDO LOS LIGANDOS SON DADORES. AL AUMENTAR EL E.O., AUMENTA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921200"/>
            <a:ext cx="7772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. GEOMETRÍA DEL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pc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9/4 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986-D576-41D3-8133-DCF1FF308B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898640" y="476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TURALEZA DEL LIG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2960" y="3789360"/>
            <a:ext cx="80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IE ESPECTROQUÍMICA  (DATOS EXPERI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MENTA CON EL CARÁCTER ACEPTOR Y DISMINU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E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9960" y="1235160"/>
            <a:ext cx="8729640" cy="2196720"/>
            <a:chOff x="219960" y="1235160"/>
            <a:chExt cx="8729640" cy="2196720"/>
          </a:xfrm>
        </p:grpSpPr>
        <p:sp>
          <p:nvSpPr>
            <p:cNvPr id="192" name=""/>
            <p:cNvSpPr/>
            <p:nvPr/>
          </p:nvSpPr>
          <p:spPr>
            <a:xfrm>
              <a:off x="263520" y="1235160"/>
              <a:ext cx="861048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960" y="1495440"/>
              <a:ext cx="872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Br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l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F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OH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2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O&lt;py&lt;N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PP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N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520" y="2454120"/>
              <a:ext cx="8534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54480" y="2454120"/>
              <a:ext cx="0" cy="60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64800" y="2606400"/>
              <a:ext cx="203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28880" y="2606400"/>
              <a:ext cx="238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CEPTOR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6E3-87CC-4A2C-B690-508067D932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720" y="260280"/>
            <a:ext cx="8136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be el efecto del campo eléctrico de los ligandos sobre las energías de los orbitales de valencia de un ión metá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147760"/>
            <a:ext cx="42480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sume que la unión metal-ligando es puramente ió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ata a los átomos de ligando y metal como cargas puntuales no polariz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32360" y="1700280"/>
            <a:ext cx="4066920" cy="4975200"/>
            <a:chOff x="4932360" y="1700280"/>
            <a:chExt cx="4066920" cy="49752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rcRect l="0" t="0" r="66653" b="55241"/>
            <a:stretch/>
          </p:blipFill>
          <p:spPr>
            <a:xfrm>
              <a:off x="4932360" y="1700280"/>
              <a:ext cx="4066920" cy="497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5194080" y="2116080"/>
              <a:ext cx="3341520" cy="4114800"/>
              <a:chOff x="5194080" y="2116080"/>
              <a:chExt cx="3341520" cy="411480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7671960" y="3086280"/>
                <a:ext cx="863640" cy="431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122960" y="211608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94080" y="3278160"/>
                <a:ext cx="720720" cy="289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7108920" y="5510160"/>
                <a:ext cx="0" cy="720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5402160" y="4973760"/>
                <a:ext cx="647640" cy="2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786440" y="5006520"/>
                <a:ext cx="720720" cy="360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3FD-EAFE-41AB-B765-E8657A9BCA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26028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pone que cuando se acercan los ligandos éstos crean un campo cristalino de repulsión sobre el átomo del metal que produce orbitales d dege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magnitud del campo cristalino determina la magnitud de las repulsiones electrost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BFC-B2EF-4E04-A198-5144087EC6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24000" y="584280"/>
            <a:ext cx="8458200" cy="4287600"/>
            <a:chOff x="324000" y="584280"/>
            <a:chExt cx="8458200" cy="42876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24000" y="1928880"/>
              <a:ext cx="8458200" cy="29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030480" y="584280"/>
              <a:ext cx="304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0000cc"/>
                  </a:solidFill>
                  <a:latin typeface="Arial"/>
                </a:rPr>
                <a:t>Orbitales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4B2-435D-41F2-B542-14C57B9E85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6040" y="1103400"/>
            <a:ext cx="8170920" cy="5854680"/>
            <a:chOff x="446040" y="1103400"/>
            <a:chExt cx="8170920" cy="58546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0" t="16069" r="0" b="0"/>
            <a:stretch/>
          </p:blipFill>
          <p:spPr>
            <a:xfrm>
              <a:off x="488880" y="1103400"/>
              <a:ext cx="8128080" cy="5116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" name=""/>
            <p:cNvSpPr/>
            <p:nvPr/>
          </p:nvSpPr>
          <p:spPr>
            <a:xfrm>
              <a:off x="446040" y="6500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3A6-514A-4954-B8D6-8648F512B3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836640"/>
            <a:ext cx="1393920" cy="1855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741920" cy="69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Octaédr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8000" y="3224160"/>
            <a:ext cx="1942920" cy="2370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1263600" cy="166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1373400" cy="16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04000" y="4221000"/>
            <a:ext cx="1451160" cy="170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98800" y="442908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95680" y="4457880"/>
            <a:ext cx="890640" cy="1463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68760" y="5950080"/>
            <a:ext cx="123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4600" y="593424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16880" y="5916600"/>
            <a:ext cx="145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695680" y="2768760"/>
            <a:ext cx="1820880" cy="1643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300720" y="836640"/>
            <a:ext cx="1344600" cy="186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14760" y="2766960"/>
            <a:ext cx="138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40520" y="276876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2708280"/>
            <a:ext cx="180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2133720"/>
            <a:ext cx="6494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5370480"/>
            <a:ext cx="64944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6089760"/>
            <a:ext cx="180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805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or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4437000"/>
            <a:ext cx="583236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80360" y="34354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2781360"/>
            <a:ext cx="0" cy="316872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3C6-76FB-419C-B52A-ADAE0230C0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859280" y="2060640"/>
            <a:ext cx="2879640" cy="3600360"/>
            <a:chOff x="4859280" y="2060640"/>
            <a:chExt cx="2879640" cy="3600360"/>
          </a:xfrm>
        </p:grpSpPr>
        <p:sp>
          <p:nvSpPr>
            <p:cNvPr id="88" name=""/>
            <p:cNvSpPr/>
            <p:nvPr/>
          </p:nvSpPr>
          <p:spPr>
            <a:xfrm>
              <a:off x="4859280" y="2060640"/>
              <a:ext cx="2879640" cy="36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09920" y="4068720"/>
              <a:ext cx="867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055920" y="2476440"/>
              <a:ext cx="411120" cy="1574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072120" y="3222720"/>
              <a:ext cx="35820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62400" y="4073400"/>
              <a:ext cx="302760" cy="971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2400" y="4056120"/>
              <a:ext cx="336240" cy="49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91080" y="506736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41840" y="457668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280" y="320364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6760" y="246060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148000" y="3408480"/>
              <a:ext cx="86328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697440" y="506736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82920" y="4991040"/>
              <a:ext cx="555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43520" y="4270320"/>
              <a:ext cx="4996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61160" y="2182680"/>
              <a:ext cx="746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2-y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43520" y="2852640"/>
              <a:ext cx="510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00600" y="4991040"/>
              <a:ext cx="4996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68360" y="549360"/>
            <a:ext cx="8136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Plano Cuad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A20-1C4E-484E-9C0D-72F3A4885E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549360"/>
            <a:ext cx="8136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Octaédrico con elongación tetragona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000" y="2492280"/>
            <a:ext cx="7128000" cy="297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2997360"/>
            <a:ext cx="1511280" cy="20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236000" y="1700280"/>
            <a:ext cx="118080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2997360"/>
            <a:ext cx="1511280" cy="20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2637000"/>
            <a:ext cx="1511280" cy="27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02C-58A3-4354-84D2-45F5AD89BB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571500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91280" cy="6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Tetraedr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156360" y="1736640"/>
            <a:ext cx="2735280" cy="3384720"/>
            <a:chOff x="6156360" y="1736640"/>
            <a:chExt cx="2735280" cy="3384720"/>
          </a:xfrm>
        </p:grpSpPr>
        <p:sp>
          <p:nvSpPr>
            <p:cNvPr id="115" name=""/>
            <p:cNvSpPr/>
            <p:nvPr/>
          </p:nvSpPr>
          <p:spPr>
            <a:xfrm>
              <a:off x="6228000" y="1736640"/>
              <a:ext cx="2663640" cy="338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6360" y="3220920"/>
              <a:ext cx="90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61400" y="2274840"/>
              <a:ext cx="182520" cy="944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69320" y="3224160"/>
              <a:ext cx="296640" cy="128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336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6224760" y="2351160"/>
              <a:ext cx="74448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64680" y="4537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94960" y="4616280"/>
              <a:ext cx="7466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2-y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36080" y="461628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17080" y="178416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8360" y="1787400"/>
              <a:ext cx="5104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3200" y="180504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1236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6000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52000" y="4545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4000" y="4545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68C-AACC-4F71-9E74-0314726E9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1:00:30Z</dcterms:created>
  <dc:creator>FCFM</dc:creator>
  <dc:description/>
  <dc:language>en-US</dc:language>
  <cp:lastModifiedBy>FCFM</cp:lastModifiedBy>
  <dcterms:modified xsi:type="dcterms:W3CDTF">2009-06-12T18:03:17Z</dcterms:modified>
  <cp:revision>6</cp:revision>
  <dc:subject/>
  <dc:title>Diapositiva 1</dc:title>
</cp:coreProperties>
</file>