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761-4CA6-4FC9-954D-AF1EE237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820-399C-49A8-B0F9-A4A670A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DD4-77A7-43EB-9D56-88B383D9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36D-7627-4B1D-A5D5-FB188FAC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1FB-324C-4E48-8356-20F099D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EB4-6B5A-42D0-8A68-5B7110E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46B-E935-4F8D-8DC1-61A1FF64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739-992B-4CE6-A2E3-30E4524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ECB-E10E-4C29-928B-AF5DCA60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AB7-C729-46B9-AA9B-4C3223E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A0F-46AD-41CC-8761-703ADDE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530-9FC1-450D-93CE-F33A5D7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5DB-552B-4162-A57C-C2FCA932932A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200400"/>
            <a:ext cx="7121520" cy="82512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Arial"/>
              </a:rPr>
              <a:t>Metales de transición 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0600" y="762120"/>
            <a:ext cx="4762800" cy="155700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Química General e Inorgánica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lase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15 de junio de 2005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Dr. Pablo Ev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solidFill>
              <a:srgbClr val="ffd8c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470520" y="669960"/>
            <a:ext cx="8272800" cy="5857200"/>
            <a:chOff x="470520" y="669960"/>
            <a:chExt cx="8272800" cy="5857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0" t="16069" r="0" b="0"/>
            <a:stretch/>
          </p:blipFill>
          <p:spPr>
            <a:xfrm>
              <a:off x="488880" y="66996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7" name=""/>
            <p:cNvSpPr/>
            <p:nvPr/>
          </p:nvSpPr>
          <p:spPr>
            <a:xfrm>
              <a:off x="470520" y="6067440"/>
              <a:ext cx="8272800" cy="45972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más afectados serán lo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x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-y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y los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dz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276200" y="457200"/>
            <a:ext cx="6539040" cy="5959440"/>
            <a:chOff x="1276200" y="457200"/>
            <a:chExt cx="6539040" cy="59594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276200" y="457200"/>
              <a:ext cx="6539040" cy="595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3578400" y="3049560"/>
              <a:ext cx="3009600" cy="3337920"/>
              <a:chOff x="3578400" y="3049560"/>
              <a:chExt cx="3009600" cy="333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4743360" y="3049560"/>
                <a:ext cx="1844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e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78400" y="5981760"/>
                <a:ext cx="1930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t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03280" y="3587760"/>
              <a:ext cx="6195240" cy="2080800"/>
              <a:chOff x="1403280" y="3587760"/>
              <a:chExt cx="6195240" cy="20808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403280" y="3587760"/>
                <a:ext cx="1803600" cy="2076120"/>
                <a:chOff x="1403280" y="3587760"/>
                <a:chExt cx="1803600" cy="207612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2738520" y="422748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9068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03280" y="429408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28744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515960" y="486900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2819520" y="492300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613320" y="3592440"/>
                <a:ext cx="1802520" cy="2076120"/>
                <a:chOff x="3613320" y="3592440"/>
                <a:chExt cx="1802520" cy="207612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947840" y="423216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00360" y="359244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13320" y="429876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4497120" y="527796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3725640" y="487368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5028840" y="492768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796000" y="3587760"/>
                <a:ext cx="1802520" cy="2076120"/>
                <a:chOff x="5796000" y="3587760"/>
                <a:chExt cx="1802520" cy="207612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7130520" y="42274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304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796000" y="42940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667980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5908320" y="48690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7211520" y="49230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1400040" y="746280"/>
              <a:ext cx="6195240" cy="2080800"/>
              <a:chOff x="1400040" y="746280"/>
              <a:chExt cx="6195240" cy="2080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400040" y="746280"/>
                <a:ext cx="1803600" cy="2076120"/>
                <a:chOff x="1400040" y="746280"/>
                <a:chExt cx="1803600" cy="207612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2735280" y="138600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28744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400040" y="145260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228420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512720" y="202752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2816280" y="208152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10080" y="750960"/>
                <a:ext cx="1802520" cy="2076120"/>
                <a:chOff x="3610080" y="750960"/>
                <a:chExt cx="1802520" cy="207612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4944600" y="13906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97120" y="7509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10080" y="14572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493880" y="24364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722400" y="20322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>
                  <a:off x="5025600" y="20862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92760" y="746280"/>
                <a:ext cx="1802520" cy="2076120"/>
                <a:chOff x="5792760" y="746280"/>
                <a:chExt cx="1802520" cy="207612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127280" y="138600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7980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92760" y="145260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667656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905080" y="202752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7208280" y="208152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514440" y="1197000"/>
            <a:ext cx="8069040" cy="5045400"/>
            <a:chOff x="514440" y="1197000"/>
            <a:chExt cx="8069040" cy="5045400"/>
          </a:xfrm>
        </p:grpSpPr>
        <p:sp>
          <p:nvSpPr>
            <p:cNvPr id="388" name=""/>
            <p:cNvSpPr/>
            <p:nvPr/>
          </p:nvSpPr>
          <p:spPr>
            <a:xfrm>
              <a:off x="514440" y="5000760"/>
              <a:ext cx="8069040" cy="12416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Se denomina 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2400" spc="-1" strike="noStrike" baseline="-25000">
                  <a:solidFill>
                    <a:srgbClr val="cc3300"/>
                  </a:solidFill>
                  <a:latin typeface="Arial"/>
                </a:rPr>
                <a:t>o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a la energía del campo cristalino. Es la energía asociada a la separación de niveles y es proporcional a la fuerza del campo cristali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915840" y="1197000"/>
              <a:ext cx="7439040" cy="3456000"/>
              <a:chOff x="915840" y="1197000"/>
              <a:chExt cx="7439040" cy="34560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915840" y="1197000"/>
                <a:ext cx="7272360" cy="3456000"/>
                <a:chOff x="915840" y="1197000"/>
                <a:chExt cx="7272360" cy="3456000"/>
              </a:xfrm>
            </p:grpSpPr>
            <p:pic>
              <p:nvPicPr>
                <p:cNvPr id="391" name="" descr=""/>
                <p:cNvPicPr/>
                <p:nvPr/>
              </p:nvPicPr>
              <p:blipFill>
                <a:blip r:embed="rId2"/>
                <a:srcRect l="0" t="22724" r="9018" b="11063"/>
                <a:stretch/>
              </p:blipFill>
              <p:spPr>
                <a:xfrm>
                  <a:off x="915840" y="1197000"/>
                  <a:ext cx="7272360" cy="34560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 rot="16200000">
                  <a:off x="698400" y="2810160"/>
                  <a:ext cx="924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nergí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45320" y="2492280"/>
                <a:ext cx="523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6800" y="1484280"/>
                <a:ext cx="59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24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r>
                  <a:rPr b="1" i="1" lang="es-AR" sz="2400" spc="-1" strike="noStrike" baseline="-25000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84920" y="3567240"/>
                <a:ext cx="66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457200" y="407880"/>
            <a:ext cx="8229600" cy="5846760"/>
            <a:chOff x="457200" y="407880"/>
            <a:chExt cx="8229600" cy="5846760"/>
          </a:xfrm>
        </p:grpSpPr>
        <p:sp>
          <p:nvSpPr>
            <p:cNvPr id="397" name=""/>
            <p:cNvSpPr/>
            <p:nvPr/>
          </p:nvSpPr>
          <p:spPr>
            <a:xfrm>
              <a:off x="1249200" y="407880"/>
              <a:ext cx="6651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Complejos de alto o bajo spi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" y="1676520"/>
              <a:ext cx="8229600" cy="204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ara aparear un electrón se requiere 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energía de apareamiento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 (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para vencer la repulsión que existe entre los dos electrones que ocupan el mismo orbital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80920" y="4165560"/>
              <a:ext cx="7344000" cy="2089080"/>
              <a:chOff x="880920" y="4165560"/>
              <a:chExt cx="7344000" cy="2089080"/>
            </a:xfrm>
          </p:grpSpPr>
          <p:sp>
            <p:nvSpPr>
              <p:cNvPr id="400" name=""/>
              <p:cNvSpPr/>
              <p:nvPr/>
            </p:nvSpPr>
            <p:spPr>
              <a:xfrm>
                <a:off x="880920" y="4165560"/>
                <a:ext cx="7344000" cy="20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69800" y="4425840"/>
                <a:ext cx="621576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l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fuerte o baj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22440" y="5356080"/>
                <a:ext cx="592164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g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débil o alt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0" t="24892" r="0" b="9886"/>
          <a:stretch/>
        </p:blipFill>
        <p:spPr>
          <a:xfrm>
            <a:off x="488880" y="1420920"/>
            <a:ext cx="81280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33520" y="399960"/>
            <a:ext cx="7824600" cy="5943600"/>
            <a:chOff x="533520" y="399960"/>
            <a:chExt cx="7824600" cy="594360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533520" y="399960"/>
              <a:ext cx="3504960" cy="24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4876920" y="2190600"/>
              <a:ext cx="3481200" cy="246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533520" y="3886200"/>
              <a:ext cx="3481200" cy="24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8" name=""/>
            <p:cNvSpPr/>
            <p:nvPr/>
          </p:nvSpPr>
          <p:spPr>
            <a:xfrm>
              <a:off x="1676520" y="58672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5880" y="403848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2362320"/>
              <a:ext cx="5331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68360" y="333360"/>
            <a:ext cx="8429400" cy="6167520"/>
            <a:chOff x="468360" y="333360"/>
            <a:chExt cx="8429400" cy="6167520"/>
          </a:xfrm>
        </p:grpSpPr>
        <p:grpSp>
          <p:nvGrpSpPr>
            <p:cNvPr id="412" name=""/>
            <p:cNvGrpSpPr/>
            <p:nvPr/>
          </p:nvGrpSpPr>
          <p:grpSpPr>
            <a:xfrm>
              <a:off x="4859280" y="3645000"/>
              <a:ext cx="4038480" cy="2855880"/>
              <a:chOff x="4859280" y="3645000"/>
              <a:chExt cx="4038480" cy="28558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9280" y="3645000"/>
                <a:ext cx="4038480" cy="2855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02000" y="5908680"/>
                <a:ext cx="792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68360" y="333360"/>
              <a:ext cx="3809880" cy="2825640"/>
              <a:chOff x="468360" y="333360"/>
              <a:chExt cx="3809880" cy="282564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333360"/>
                <a:ext cx="3809880" cy="282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87440" y="2549520"/>
                <a:ext cx="7920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68360" y="476280"/>
            <a:ext cx="8294760" cy="5931000"/>
            <a:chOff x="468360" y="476280"/>
            <a:chExt cx="8294760" cy="593100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672000" cy="273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657600"/>
              <a:ext cx="3886200" cy="274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1" name=""/>
            <p:cNvSpPr/>
            <p:nvPr/>
          </p:nvSpPr>
          <p:spPr>
            <a:xfrm>
              <a:off x="6095880" y="57913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67000" y="259092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90520" y="260280"/>
            <a:ext cx="8523360" cy="6337440"/>
            <a:chOff x="290520" y="260280"/>
            <a:chExt cx="8523360" cy="6337440"/>
          </a:xfrm>
        </p:grpSpPr>
        <p:sp>
          <p:nvSpPr>
            <p:cNvPr id="424" name=""/>
            <p:cNvSpPr/>
            <p:nvPr/>
          </p:nvSpPr>
          <p:spPr>
            <a:xfrm>
              <a:off x="290520" y="260280"/>
              <a:ext cx="8523360" cy="52056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cc3300"/>
                  </a:solidFill>
                  <a:latin typeface="Arial"/>
                </a:rPr>
                <a:t>Energía de estabilización del campo cristal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95280" y="981000"/>
              <a:ext cx="8353440" cy="5616720"/>
              <a:chOff x="395280" y="981000"/>
              <a:chExt cx="8353440" cy="561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395280" y="981000"/>
                <a:ext cx="8353440" cy="561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77760" y="4680000"/>
                <a:ext cx="7129440" cy="174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Se asigna un valor de 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estabilización) a cada electrón t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2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y una variación de energía de 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desestabilización) a cada electrón e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. La suma de las energías de todos los electrones es la EECC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68360" y="1197000"/>
                <a:ext cx="7439040" cy="3456000"/>
                <a:chOff x="468360" y="1197000"/>
                <a:chExt cx="7439040" cy="345600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468360" y="1197000"/>
                  <a:ext cx="7272360" cy="3456000"/>
                  <a:chOff x="468360" y="1197000"/>
                  <a:chExt cx="7272360" cy="3456000"/>
                </a:xfrm>
              </p:grpSpPr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rcRect l="0" t="22724" r="9018" b="11063"/>
                  <a:stretch/>
                </p:blipFill>
                <p:spPr>
                  <a:xfrm>
                    <a:off x="468360" y="1197000"/>
                    <a:ext cx="7272360" cy="345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250920" y="2810160"/>
                    <a:ext cx="9244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nerg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6304320" y="2492280"/>
                  <a:ext cx="523440" cy="5796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99320" y="1484280"/>
                  <a:ext cx="59688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37440" y="3567240"/>
                  <a:ext cx="66996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687440" y="3597120"/>
                <a:ext cx="833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03600" y="1562040"/>
                <a:ext cx="90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63520"/>
            <a:ext cx="847080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8880" y="236520"/>
            <a:ext cx="8249760" cy="6122160"/>
            <a:chOff x="398880" y="236520"/>
            <a:chExt cx="8249760" cy="6122160"/>
          </a:xfrm>
        </p:grpSpPr>
        <p:sp>
          <p:nvSpPr>
            <p:cNvPr id="45" name=""/>
            <p:cNvSpPr/>
            <p:nvPr/>
          </p:nvSpPr>
          <p:spPr>
            <a:xfrm>
              <a:off x="618480" y="236520"/>
              <a:ext cx="78494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s de formación de complej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9240" y="1192320"/>
              <a:ext cx="591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9240" y="2743200"/>
              <a:ext cx="54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cristali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8880" y="4354560"/>
              <a:ext cx="510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liga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2600" y="1766880"/>
              <a:ext cx="798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60" y="3352680"/>
              <a:ext cx="815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a unión entre el ligando y el ion metálico es electrostática (unión iónica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4984920"/>
              <a:ext cx="8097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parcialmente iónico. Posee algunas carterísticas de enlace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15960" y="339840"/>
            <a:ext cx="7872480" cy="6103080"/>
            <a:chOff x="615960" y="339840"/>
            <a:chExt cx="7872480" cy="6103080"/>
          </a:xfrm>
        </p:grpSpPr>
        <p:sp>
          <p:nvSpPr>
            <p:cNvPr id="438" name=""/>
            <p:cNvSpPr/>
            <p:nvPr/>
          </p:nvSpPr>
          <p:spPr>
            <a:xfrm>
              <a:off x="3799440" y="339840"/>
              <a:ext cx="150516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1414440"/>
              <a:ext cx="7872480" cy="2044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electron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t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del complejo pueden ser excitados a uno de 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e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si este absorbe un fotón de energía igual a</a:t>
              </a:r>
              <a:r>
                <a:rPr b="0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 Por lo tanto puede usarse la longitud de onda absorbida para determinar el desdoblamiento del campo cristalino por un ligand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162080" y="3813120"/>
              <a:ext cx="6797520" cy="2629800"/>
              <a:chOff x="1162080" y="3813120"/>
              <a:chExt cx="6797520" cy="26298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009960" y="3813120"/>
                <a:ext cx="3124080" cy="1371600"/>
                <a:chOff x="3009960" y="3813120"/>
                <a:chExt cx="3124080" cy="1371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009960" y="3813120"/>
                  <a:ext cx="3124080" cy="1371600"/>
                </a:xfrm>
                <a:prstGeom prst="rect">
                  <a:avLst/>
                </a:prstGeom>
                <a:solidFill>
                  <a:srgbClr val="ffd3c5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300120" y="3976920"/>
                  <a:ext cx="2651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=  h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= h 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19640" y="4498920"/>
                  <a:ext cx="60912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97320" y="4586400"/>
                  <a:ext cx="63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ffff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1162080" y="5495760"/>
                <a:ext cx="6797520" cy="947160"/>
              </a:xfrm>
              <a:prstGeom prst="rect">
                <a:avLst/>
              </a:prstGeom>
              <a:solidFill>
                <a:srgbClr val="ffd3c5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A mayor 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 deberán absorber radiación de alta energía y baja longitud de onda</a:t>
                </a:r>
                <a:r>
                  <a:rPr b="1" lang="es-ES_tradnl" sz="3200" spc="-1" strike="noStrike">
                    <a:solidFill>
                      <a:srgbClr val="cc3300"/>
                    </a:solidFill>
                    <a:latin typeface="Arial"/>
                  </a:rPr>
                  <a:t>.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985680" y="282600"/>
            <a:ext cx="7129800" cy="6194520"/>
            <a:chOff x="985680" y="282600"/>
            <a:chExt cx="7129800" cy="619452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6582" t="13388" r="5705" b="0"/>
            <a:stretch/>
          </p:blipFill>
          <p:spPr>
            <a:xfrm>
              <a:off x="985680" y="1197000"/>
              <a:ext cx="7129800" cy="528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9" name=""/>
            <p:cNvSpPr/>
            <p:nvPr/>
          </p:nvSpPr>
          <p:spPr>
            <a:xfrm>
              <a:off x="1529640" y="2046240"/>
              <a:ext cx="105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Luz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51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09200" y="282600"/>
              <a:ext cx="2268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101600" y="282600"/>
            <a:ext cx="6912000" cy="6060960"/>
            <a:chOff x="1101600" y="282600"/>
            <a:chExt cx="6912000" cy="60609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rcRect l="3047" t="18101" r="11914" b="0"/>
            <a:stretch/>
          </p:blipFill>
          <p:spPr>
            <a:xfrm>
              <a:off x="1101600" y="1351080"/>
              <a:ext cx="6912000" cy="499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3" name=""/>
            <p:cNvSpPr/>
            <p:nvPr/>
          </p:nvSpPr>
          <p:spPr>
            <a:xfrm>
              <a:off x="3219480" y="282600"/>
              <a:ext cx="265284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360" y="2029320"/>
              <a:ext cx="6001920" cy="3128400"/>
              <a:chOff x="1836360" y="2029320"/>
              <a:chExt cx="6001920" cy="3128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360" y="4292640"/>
                <a:ext cx="141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sorbi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9840" y="2216160"/>
                <a:ext cx="146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observ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0000" y="3933720"/>
                <a:ext cx="1150920" cy="1224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224000"/>
                  <a:gd name="textAreaBottom" fmla="*/ 122436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5635657"/>
                    <a:lnTo>
                      <a:pt x="2087" y="4418"/>
                    </a:lnTo>
                    <a:arcTo wR="10800" hR="10800" stAng="-8626600" swAng="5635657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963800">
                <a:off x="5811120" y="2261880"/>
                <a:ext cx="1150920" cy="11826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182600"/>
                  <a:gd name="textAreaBottom" fmla="*/ 1182960 h 118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4550096"/>
                    <a:lnTo>
                      <a:pt x="4500" y="2028"/>
                    </a:lnTo>
                    <a:arcTo wR="10800" hR="10800" stAng="-7541039" swAng="4550096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117440" y="488880"/>
            <a:ext cx="6867720" cy="4961520"/>
            <a:chOff x="1117440" y="488880"/>
            <a:chExt cx="6867720" cy="4961520"/>
          </a:xfrm>
        </p:grpSpPr>
        <p:graphicFrame>
          <p:nvGraphicFramePr>
            <p:cNvPr id="460" name=""/>
            <p:cNvGraphicFramePr/>
            <p:nvPr/>
          </p:nvGraphicFramePr>
          <p:xfrm>
            <a:off x="1117440" y="2522520"/>
            <a:ext cx="686772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7440" y="2522520"/>
                      <a:ext cx="686772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463760" y="488880"/>
              <a:ext cx="61768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Serie espectroquímic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54200" y="4869000"/>
              <a:ext cx="5834160" cy="5814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cc3300"/>
                  </a:solidFill>
                  <a:latin typeface="Arial"/>
                </a:rPr>
                <a:t>Aumenta la fuerza del cam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62240" y="2133720"/>
              <a:ext cx="4492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68360" y="4437000"/>
              <a:ext cx="449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703440" y="482760"/>
            <a:ext cx="7689600" cy="5597640"/>
            <a:chOff x="703440" y="482760"/>
            <a:chExt cx="7689600" cy="5597640"/>
          </a:xfrm>
        </p:grpSpPr>
        <p:sp>
          <p:nvSpPr>
            <p:cNvPr id="467" name=""/>
            <p:cNvSpPr/>
            <p:nvPr/>
          </p:nvSpPr>
          <p:spPr>
            <a:xfrm>
              <a:off x="1819800" y="482760"/>
              <a:ext cx="54597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Propiedades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440" y="1598760"/>
              <a:ext cx="7689600" cy="448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ensidad de carg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densidad de carga, mayor separación del camp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isponibilidad de pares lib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Un solo par electrónico distorsiona más que dos (un solo par se orienta mejor para formar el enlace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Capacidad de formar uniones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capacidad para formar unione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, mayor separ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372960" y="476280"/>
            <a:ext cx="8340840" cy="4844880"/>
            <a:chOff x="372960" y="476280"/>
            <a:chExt cx="8340840" cy="484488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372960" y="1393920"/>
              <a:ext cx="8340840" cy="392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"/>
            <p:cNvSpPr/>
            <p:nvPr/>
          </p:nvSpPr>
          <p:spPr>
            <a:xfrm>
              <a:off x="1463400" y="48690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16240" y="486900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ol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2240" y="486900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5520" y="48690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5880" y="476280"/>
              <a:ext cx="411408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Efecto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200240" y="295200"/>
            <a:ext cx="6757920" cy="5829480"/>
            <a:chOff x="1200240" y="295200"/>
            <a:chExt cx="6757920" cy="5829480"/>
          </a:xfrm>
        </p:grpSpPr>
        <p:sp>
          <p:nvSpPr>
            <p:cNvPr id="477" name=""/>
            <p:cNvSpPr/>
            <p:nvPr/>
          </p:nvSpPr>
          <p:spPr>
            <a:xfrm>
              <a:off x="2203920" y="295200"/>
              <a:ext cx="4696200" cy="581400"/>
            </a:xfrm>
            <a:prstGeom prst="rect">
              <a:avLst/>
            </a:prstGeom>
            <a:solidFill>
              <a:srgbClr val="ffd3c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3300"/>
                  </a:solidFill>
                  <a:latin typeface="Arial"/>
                </a:rPr>
                <a:t>Complejos tetraédri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00240" y="1504800"/>
              <a:ext cx="6757920" cy="461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703440" y="1022400"/>
            <a:ext cx="7704000" cy="4657680"/>
            <a:chOff x="703440" y="1022400"/>
            <a:chExt cx="7704000" cy="4657680"/>
          </a:xfrm>
        </p:grpSpPr>
        <p:pic>
          <p:nvPicPr>
            <p:cNvPr id="480" name="" descr=""/>
            <p:cNvPicPr/>
            <p:nvPr/>
          </p:nvPicPr>
          <p:blipFill>
            <a:blip r:embed="rId2"/>
            <a:srcRect l="0" t="10738" r="0" b="0"/>
            <a:stretch/>
          </p:blipFill>
          <p:spPr>
            <a:xfrm>
              <a:off x="703440" y="1022400"/>
              <a:ext cx="7704000" cy="4657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81" name=""/>
            <p:cNvSpPr/>
            <p:nvPr/>
          </p:nvSpPr>
          <p:spPr>
            <a:xfrm>
              <a:off x="1894320" y="282600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13320" y="28227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0240" y="149220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oct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47400" y="14828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tetr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720" y="1241640"/>
              <a:ext cx="13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lectrone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8800" y="11448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95360" y="157320"/>
            <a:ext cx="8169120" cy="6530040"/>
            <a:chOff x="495360" y="157320"/>
            <a:chExt cx="8169120" cy="6530040"/>
          </a:xfrm>
        </p:grpSpPr>
        <p:sp>
          <p:nvSpPr>
            <p:cNvPr id="488" name=""/>
            <p:cNvSpPr/>
            <p:nvPr/>
          </p:nvSpPr>
          <p:spPr>
            <a:xfrm>
              <a:off x="1724760" y="157320"/>
              <a:ext cx="56883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360" y="1047600"/>
              <a:ext cx="8169120" cy="56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La teoría del campo ligando sugiere que las interacciones entre el ion central y los ligandos se efectúan por enlaces parcialmente covalent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demás de las consideraciones realizadas en la TCC incluye los enlaces metal-ligando sigma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 y pi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sta teoría permite explicar la serie espectroquímica en función de considerar a los ligandos con sus orbitales y no como cargas puntua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373040" y="233280"/>
            <a:ext cx="6372720" cy="6220080"/>
            <a:chOff x="1373040" y="233280"/>
            <a:chExt cx="6372720" cy="6220080"/>
          </a:xfrm>
        </p:grpSpPr>
        <p:sp>
          <p:nvSpPr>
            <p:cNvPr id="491" name=""/>
            <p:cNvSpPr/>
            <p:nvPr/>
          </p:nvSpPr>
          <p:spPr>
            <a:xfrm>
              <a:off x="1373040" y="233280"/>
              <a:ext cx="6372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 (II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2062080" y="1154160"/>
              <a:ext cx="4967280" cy="529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99960" y="663480"/>
            <a:ext cx="8321760" cy="4976280"/>
            <a:chOff x="399960" y="663480"/>
            <a:chExt cx="8321760" cy="4976280"/>
          </a:xfrm>
        </p:grpSpPr>
        <p:sp>
          <p:nvSpPr>
            <p:cNvPr id="53" name=""/>
            <p:cNvSpPr/>
            <p:nvPr/>
          </p:nvSpPr>
          <p:spPr>
            <a:xfrm>
              <a:off x="984240" y="663480"/>
              <a:ext cx="7146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9960" y="2133720"/>
              <a:ext cx="8321760" cy="350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ostula que los ligandos ceden sus electrones a un grupo de orbitales híbridos 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o 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del ion central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Justifica las características magnética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o explica el colo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6320" y="1917360"/>
            <a:ext cx="7702560" cy="297180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Atkins P.W, Jones L. Química . 3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Arial"/>
              </a:rPr>
              <a:t>ra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edición. Ed Omega.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hang R. Química. Ed. MacGraw Hill.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4680" y="5486400"/>
            <a:ext cx="747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ltas: pevelson@ffyb.uba.ar (Pablo Evels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36520" y="560520"/>
            <a:ext cx="3256200" cy="76428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cc33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43000" y="663480"/>
            <a:ext cx="8631000" cy="5418360"/>
            <a:chOff x="243000" y="663480"/>
            <a:chExt cx="8631000" cy="5418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43000" y="2162160"/>
              <a:ext cx="8631000" cy="249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" name=""/>
            <p:cNvSpPr/>
            <p:nvPr/>
          </p:nvSpPr>
          <p:spPr>
            <a:xfrm>
              <a:off x="587520" y="663480"/>
              <a:ext cx="79102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 (II)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040" y="5256360"/>
              <a:ext cx="756108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Formación de un enlace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 a partir de los orbitales híbridos del metal y el ligando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1960" y="368280"/>
            <a:ext cx="8748720" cy="6120000"/>
            <a:chOff x="291960" y="368280"/>
            <a:chExt cx="8748720" cy="6120000"/>
          </a:xfrm>
        </p:grpSpPr>
        <p:sp>
          <p:nvSpPr>
            <p:cNvPr id="60" name=""/>
            <p:cNvSpPr/>
            <p:nvPr/>
          </p:nvSpPr>
          <p:spPr>
            <a:xfrm>
              <a:off x="291960" y="368280"/>
              <a:ext cx="8748720" cy="61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97800" y="457200"/>
              <a:ext cx="3118680" cy="1267200"/>
              <a:chOff x="397800" y="457200"/>
              <a:chExt cx="3118680" cy="1267200"/>
            </a:xfrm>
          </p:grpSpPr>
          <p:sp>
            <p:nvSpPr>
              <p:cNvPr id="62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99240" y="1700280"/>
              <a:ext cx="5307480" cy="1230480"/>
              <a:chOff x="399240" y="1700280"/>
              <a:chExt cx="5307480" cy="1230480"/>
            </a:xfrm>
          </p:grpSpPr>
          <p:sp>
            <p:nvSpPr>
              <p:cNvPr id="65" name=""/>
              <p:cNvSpPr/>
              <p:nvPr/>
            </p:nvSpPr>
            <p:spPr>
              <a:xfrm>
                <a:off x="399240" y="2297160"/>
                <a:ext cx="201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232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22080" y="23050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55600" y="23162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2900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3340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252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992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56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41400" y="23144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814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62320" y="219060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81480" y="219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49800" y="17002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01400" y="3352680"/>
              <a:ext cx="8456760" cy="1168920"/>
              <a:chOff x="401400" y="3352680"/>
              <a:chExt cx="8456760" cy="1168920"/>
            </a:xfrm>
          </p:grpSpPr>
          <p:sp>
            <p:nvSpPr>
              <p:cNvPr id="82" name=""/>
              <p:cNvSpPr/>
              <p:nvPr/>
            </p:nvSpPr>
            <p:spPr>
              <a:xfrm>
                <a:off x="401400" y="389088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90680" y="4432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50440" y="39290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3960" y="39211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419200" y="3929040"/>
                <a:ext cx="457200" cy="581400"/>
                <a:chOff x="2419200" y="3929040"/>
                <a:chExt cx="457200" cy="581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419200" y="44323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79320" y="39290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293364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55600" y="3924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448080" y="3940200"/>
                <a:ext cx="457200" cy="581400"/>
                <a:chOff x="3448080" y="3940200"/>
                <a:chExt cx="457200" cy="581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48080" y="44434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7840" y="394020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102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0680" y="3795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15080" y="335268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0200" y="37958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33526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8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95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008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961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9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8688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00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3360" y="379584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9880" y="381492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3296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0944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7280" y="2351160"/>
              <a:ext cx="4424400" cy="2297160"/>
              <a:chOff x="4067280" y="2351160"/>
              <a:chExt cx="4424400" cy="229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067280" y="3352680"/>
                <a:ext cx="3352680" cy="12956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039000" y="2666520"/>
                <a:ext cx="76176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27680" y="235116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01400" y="4991040"/>
              <a:ext cx="8456760" cy="1157760"/>
              <a:chOff x="401400" y="4991040"/>
              <a:chExt cx="8456760" cy="1157760"/>
            </a:xfrm>
          </p:grpSpPr>
          <p:sp>
            <p:nvSpPr>
              <p:cNvPr id="117" name=""/>
              <p:cNvSpPr/>
              <p:nvPr/>
            </p:nvSpPr>
            <p:spPr>
              <a:xfrm>
                <a:off x="401400" y="552924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9068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044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420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1920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7932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364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937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808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784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90680" y="5433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5080" y="49910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40000" y="499104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15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8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009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102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33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7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913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676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10200" y="546084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34280" y="5442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56560" y="50180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572000" y="765000"/>
              <a:ext cx="42339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ex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991720" cy="6602760"/>
            <a:chOff x="0" y="0"/>
            <a:chExt cx="8991720" cy="6602760"/>
          </a:xfrm>
        </p:grpSpPr>
        <p:sp>
          <p:nvSpPr>
            <p:cNvPr id="145" name=""/>
            <p:cNvSpPr/>
            <p:nvPr/>
          </p:nvSpPr>
          <p:spPr>
            <a:xfrm>
              <a:off x="98280" y="347760"/>
              <a:ext cx="8893440" cy="611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4160" y="3505320"/>
              <a:ext cx="8457120" cy="1171800"/>
              <a:chOff x="344160" y="3505320"/>
              <a:chExt cx="8457120" cy="117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44160" y="404352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3344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9356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696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984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7640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3652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084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70040" y="40766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29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33440" y="394812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57840" y="35053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52960" y="39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62600" y="350532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387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435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89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2964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4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86480" y="3948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2640" y="3967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7572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5220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895480" y="2503440"/>
              <a:ext cx="4815000" cy="2297160"/>
              <a:chOff x="2895480" y="2503440"/>
              <a:chExt cx="4815000" cy="229716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3505320"/>
                <a:ext cx="3353040" cy="12952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00560" y="2819160"/>
                <a:ext cx="76212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6480" y="250344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97800" y="457200"/>
              <a:ext cx="5250240" cy="2440440"/>
              <a:chOff x="397800" y="457200"/>
              <a:chExt cx="5250240" cy="24404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99240" y="2190600"/>
                <a:ext cx="5239440" cy="707040"/>
                <a:chOff x="399240" y="2190600"/>
                <a:chExt cx="5239440" cy="7070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99240" y="2297160"/>
                  <a:ext cx="2018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r>
                    <a:rPr b="0" lang="es-ES_tradnl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3+</a:t>
                  </a: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 = 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362320" y="2305080"/>
                  <a:ext cx="457200" cy="581400"/>
                  <a:chOff x="2362320" y="2305080"/>
                  <a:chExt cx="457200" cy="5814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362320" y="280836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422080" y="230508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2895480" y="2316240"/>
                  <a:ext cx="457200" cy="581400"/>
                  <a:chOff x="2895480" y="2316240"/>
                  <a:chExt cx="457200" cy="581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895480" y="281952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955600" y="231624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3429000" y="28083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489120" y="230508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6252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2228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9568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5580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81480" y="28004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2190600"/>
                  <a:ext cx="259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81480" y="2190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5091120" y="174780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037880" y="3159360"/>
              <a:ext cx="3444840" cy="3443400"/>
              <a:chOff x="1037880" y="3159360"/>
              <a:chExt cx="3444840" cy="34434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037880" y="3159360"/>
                <a:ext cx="3444840" cy="3443400"/>
                <a:chOff x="1037880" y="3159360"/>
                <a:chExt cx="3444840" cy="3443400"/>
              </a:xfrm>
            </p:grpSpPr>
            <p:sp>
              <p:nvSpPr>
                <p:cNvPr id="203" name=""/>
                <p:cNvSpPr/>
                <p:nvPr/>
              </p:nvSpPr>
              <p:spPr>
                <a:xfrm rot="19186800">
                  <a:off x="1535040" y="3662280"/>
                  <a:ext cx="2450160" cy="243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630080" y="3918240"/>
                  <a:ext cx="368280" cy="327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67480" y="3727800"/>
                <a:ext cx="1514160" cy="1545840"/>
                <a:chOff x="2067480" y="3727800"/>
                <a:chExt cx="1514160" cy="1545840"/>
              </a:xfrm>
            </p:grpSpPr>
            <p:sp>
              <p:nvSpPr>
                <p:cNvPr id="206" name=""/>
                <p:cNvSpPr/>
                <p:nvPr/>
              </p:nvSpPr>
              <p:spPr>
                <a:xfrm rot="19186800">
                  <a:off x="2348280" y="3891240"/>
                  <a:ext cx="9525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2233800" y="4033440"/>
                  <a:ext cx="187920" cy="16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82320" y="5105520"/>
              <a:ext cx="8075880" cy="1143000"/>
              <a:chOff x="382320" y="5105520"/>
              <a:chExt cx="8075880" cy="1143000"/>
            </a:xfrm>
          </p:grpSpPr>
          <p:sp>
            <p:nvSpPr>
              <p:cNvPr id="209" name=""/>
              <p:cNvSpPr/>
              <p:nvPr/>
            </p:nvSpPr>
            <p:spPr>
              <a:xfrm>
                <a:off x="382320" y="555480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16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48200" y="566100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00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4640" y="5641920"/>
                <a:ext cx="3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14560" y="6126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90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30960" y="51386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6800" y="5105520"/>
                <a:ext cx="12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010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2436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197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5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10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544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08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2720" y="556272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62680" y="556272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42160" y="51386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1456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86200" y="565776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0064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92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1008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00800" y="565776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55627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576320" y="692280"/>
              <a:ext cx="41295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0920" y="260280"/>
              <a:ext cx="8642160" cy="62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0"/>
              <a:ext cx="8893080" cy="63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50920" y="762120"/>
            <a:ext cx="8642160" cy="5619600"/>
            <a:chOff x="250920" y="762120"/>
            <a:chExt cx="8642160" cy="5619600"/>
          </a:xfrm>
        </p:grpSpPr>
        <p:sp>
          <p:nvSpPr>
            <p:cNvPr id="243" name=""/>
            <p:cNvSpPr/>
            <p:nvPr/>
          </p:nvSpPr>
          <p:spPr>
            <a:xfrm>
              <a:off x="250920" y="765000"/>
              <a:ext cx="8642160" cy="561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06000" y="762120"/>
              <a:ext cx="8471880" cy="5419440"/>
              <a:chOff x="306000" y="762120"/>
              <a:chExt cx="8471880" cy="5419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06000" y="1752480"/>
                <a:ext cx="8457120" cy="1157760"/>
                <a:chOff x="306000" y="1752480"/>
                <a:chExt cx="8457120" cy="1157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06000" y="229068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9528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5540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288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8892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416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8392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386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9836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5268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1280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95280" y="2195640"/>
                  <a:ext cx="259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120040" y="175248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44960" y="1752480"/>
                  <a:ext cx="12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961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9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0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148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83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8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9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722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8664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14800" y="222264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38880" y="2203560"/>
                  <a:ext cx="152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61160" y="177948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664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10160" y="24051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43680" y="239400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776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3404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2940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74480" y="762120"/>
                <a:ext cx="233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H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12040" y="762120"/>
                <a:ext cx="585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fuerte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82320" y="5105520"/>
                <a:ext cx="8075880" cy="1076040"/>
                <a:chOff x="382320" y="5105520"/>
                <a:chExt cx="8075880" cy="107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82320" y="555480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716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8200" y="566100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9051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00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74640" y="5641920"/>
                  <a:ext cx="325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45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290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830960" y="513864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6800" y="5105520"/>
                  <a:ext cx="128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534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67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010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243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197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915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0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544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008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952720" y="556272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62680" y="5562720"/>
                  <a:ext cx="241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513864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456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9084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86200" y="56577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0064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7692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08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00800" y="565776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71600" y="556272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11920" y="3992400"/>
                <a:ext cx="2125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CN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63600" y="3992400"/>
                <a:ext cx="57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débil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916360" y="2400480"/>
              <a:ext cx="5077080" cy="3857400"/>
              <a:chOff x="2916360" y="2400480"/>
              <a:chExt cx="5077080" cy="3857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40360" y="240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6360" y="564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435280" y="3716280"/>
                <a:ext cx="7308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651640" y="2997360"/>
                <a:ext cx="288720" cy="431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25080" y="3390840"/>
                <a:ext cx="40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Pares de electrones de los ligan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04920" y="198360"/>
            <a:ext cx="8496360" cy="6494040"/>
            <a:chOff x="304920" y="198360"/>
            <a:chExt cx="8496360" cy="6494040"/>
          </a:xfrm>
        </p:grpSpPr>
        <p:sp>
          <p:nvSpPr>
            <p:cNvPr id="320" name=""/>
            <p:cNvSpPr/>
            <p:nvPr/>
          </p:nvSpPr>
          <p:spPr>
            <a:xfrm>
              <a:off x="304920" y="1052640"/>
              <a:ext cx="8496360" cy="56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Asume que la unión metal-ligando es puramente ióni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Trata a los átomos de ligando y metal como cargas puntuales no polarizab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Propone que cuando se acercan los ligandos éstos crean un campo cristalino de repulsión sobre el átomo del metal que produce orbitales d degenerado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La magnitud del campo cristalino determina la magnitud de las repulsiones electrostática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73920" y="198360"/>
              <a:ext cx="59702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 campo cristalin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85800" y="549360"/>
            <a:ext cx="7715160" cy="6081480"/>
            <a:chOff x="685800" y="549360"/>
            <a:chExt cx="7715160" cy="608148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rcRect l="0" t="0" r="66653" b="55241"/>
            <a:stretch/>
          </p:blipFill>
          <p:spPr>
            <a:xfrm>
              <a:off x="2509920" y="54936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24" name=""/>
            <p:cNvGrpSpPr/>
            <p:nvPr/>
          </p:nvGrpSpPr>
          <p:grpSpPr>
            <a:xfrm>
              <a:off x="2771640" y="965160"/>
              <a:ext cx="3341520" cy="4114800"/>
              <a:chOff x="2771640" y="965160"/>
              <a:chExt cx="3341520" cy="4114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5249520" y="193536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00520" y="96516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71640" y="212724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686480" y="435924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979720" y="382284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5364000" y="385560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800" y="5805360"/>
              <a:ext cx="771516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La presencia del ligando produce una perturbación en los orbitale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3:54:06Z</dcterms:created>
  <dc:creator>Usuario</dc:creator>
  <dc:description/>
  <dc:language>en-US</dc:language>
  <cp:lastModifiedBy>Romina Alonso B</cp:lastModifiedBy>
  <dcterms:modified xsi:type="dcterms:W3CDTF">2009-06-11T05:57:56Z</dcterms:modified>
  <cp:revision>28</cp:revision>
  <dc:subject/>
  <dc:title>Diapositiva 1</dc:title>
</cp:coreProperties>
</file>