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1B3-FE34-451B-8E25-68A94D413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FA7-DB74-4AA0-A050-D6A983A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A3CD-F054-43EB-9BC0-7AD6A647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8578-7B3B-479D-9F7E-F1381BF0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FFE7-DC94-45E4-BC99-340021A89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F7F6-D05C-42BC-9EE3-5C5E7434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16AD5-0B8E-4030-9BD5-CEB647C7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BEF6-8524-4971-A6CB-43952D3D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4987-9429-4C4C-A5A8-E0554C40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28E5-62AF-4F3A-862D-EDF56826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257A-B112-439F-B640-4F3F0188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3E5-0A27-42C0-B3A9-3998435D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40777-BFE3-4A63-BC59-456F6992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1F21-3805-404C-AD42-C13F2908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39CF-D15A-4CBB-975E-313C28D6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AA0B-4DA9-4C9C-B4EB-DF2E73160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1837-CA74-4851-A173-2F7A81B9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E9D-B7F9-4ABB-8115-64CAEC0D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63-D156-4A2C-AB59-B233A814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59FD-E1C7-467B-B092-EA912897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251E-3381-4773-96D3-345B9B6B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6DD3-F2F9-4BAC-9063-C1460B71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A68F-9449-4B90-BE52-2242D402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F44C-CF8F-4425-8CE5-A57C3144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06D9-8862-4DAD-A3DA-9ECBF3889ACF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FF83-2817-426E-BA74-448296CEBFB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756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ME56A –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18960" y="3886200"/>
            <a:ext cx="75438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Engranajes Rectos y Helicoidales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istencia AG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flexión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Para la picad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51200" y="2562120"/>
                <a:ext cx="309240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424240" y="4435560"/>
                <a:ext cx="3608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per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psi</m:t>
                        </m:r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Z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724280" y="5486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3581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1828800"/>
            <a:ext cx="1676520" cy="304920"/>
          </a:xfrm>
          <a:prstGeom prst="borderCallout1">
            <a:avLst>
              <a:gd name="adj1" fmla="val 18750"/>
              <a:gd name="adj2" fmla="val -8333"/>
              <a:gd name="adj3" fmla="val 312500"/>
              <a:gd name="adj4" fmla="val -7149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15200" y="31240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31481"/>
              <a:gd name="adj4" fmla="val -111356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fiabil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5715000"/>
            <a:ext cx="1524240" cy="343080"/>
          </a:xfrm>
          <a:prstGeom prst="borderCallout1">
            <a:avLst>
              <a:gd name="adj1" fmla="val 18750"/>
              <a:gd name="adj2" fmla="val -8333"/>
              <a:gd name="adj3" fmla="val -142592"/>
              <a:gd name="adj4" fmla="val 14958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Temperatur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4114800"/>
            <a:ext cx="990360" cy="343080"/>
          </a:xfrm>
          <a:prstGeom prst="borderCallout1">
            <a:avLst>
              <a:gd name="adj1" fmla="val 18750"/>
              <a:gd name="adj2" fmla="val -8333"/>
              <a:gd name="adj3" fmla="val 166666"/>
              <a:gd name="adj4" fmla="val -8445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urez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4114800"/>
            <a:ext cx="1676160" cy="304920"/>
          </a:xfrm>
          <a:prstGeom prst="borderCallout1">
            <a:avLst>
              <a:gd name="adj1" fmla="val 18750"/>
              <a:gd name="adj2" fmla="val -8333"/>
              <a:gd name="adj3" fmla="val 197916"/>
              <a:gd name="adj4" fmla="val 1158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iclos de V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283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5240" y="1981080"/>
            <a:ext cx="636084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4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acero Nitru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671688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lores de S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815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de Segur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os factores de seguridad para cada caso quedan entonces como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590920" y="3124080"/>
                <a:ext cx="2847960" cy="312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σ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erm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E56A - Diseño de Elementos de Máqui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292929"/>
                </a:solidFill>
                <a:latin typeface="Arial"/>
              </a:rPr>
              <a:t>Engranajes Cónicos y </a:t>
            </a:r>
            <a:br>
              <a:rPr sz="3200"/>
            </a:br>
            <a:r>
              <a:rPr b="0" lang="es-CL" sz="3200" spc="-1" strike="noStrike">
                <a:solidFill>
                  <a:srgbClr val="292929"/>
                </a:solidFill>
                <a:latin typeface="Arial"/>
              </a:rPr>
              <a:t>Tornillo Sinfi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granajes Cónicos Recto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29"/>
                </a:solidFill>
                <a:latin typeface="Arial"/>
              </a:rPr>
              <a:t>Se utilizan cuando se debe cambiar de ángulo la dirección de la potencia a transmiti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29"/>
                </a:solidFill>
                <a:latin typeface="Arial"/>
              </a:rPr>
              <a:t>Operan como dos conos en contac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29"/>
                </a:solidFill>
                <a:latin typeface="Arial"/>
              </a:rPr>
              <a:t>Uso común: Cambio de dirección en 90°, aunque otros ángulos son utilizados tambié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29"/>
                </a:solidFill>
                <a:latin typeface="Arial"/>
              </a:rPr>
              <a:t>Utilizados cuando el ruido no es un factor importante y son de costo baj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292929"/>
                </a:solidFill>
                <a:latin typeface="Arial"/>
              </a:rPr>
              <a:t>Nomenclatura equivalente a engranajes recto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40384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granajes Cónico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476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92929"/>
                </a:solidFill>
                <a:latin typeface="Arial"/>
              </a:rPr>
              <a:t>Uso similar a cónicos rectos, pero se utilizan en situaciones de mayor velocidad de rotación y donde el ruido si es un factor importante a considera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708440" y="2351160"/>
            <a:ext cx="3902040" cy="35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granajes Sinfín-Cor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59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92929"/>
                </a:solidFill>
                <a:latin typeface="Arial"/>
              </a:rPr>
              <a:t>Gran capacidad de reducción de la velocidad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92929"/>
                </a:solidFill>
                <a:latin typeface="Arial"/>
              </a:rPr>
              <a:t>Transmisión por deslizamiento puro, no rodadura pur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292929"/>
                </a:solidFill>
                <a:latin typeface="Arial"/>
              </a:rPr>
              <a:t>Eficiencia menor de transmisión por efectos de roce en deslizamiento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851360" y="2057400"/>
            <a:ext cx="3759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5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menclatura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835280" y="2709720"/>
                <a:ext cx="3897360" cy="32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te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Paso Diametra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m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Módulo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mπ</m:t>
                        </m:r>
                        <m:r>
                          <m:rPr>
                            <m:lit/>
                            <m:nor/>
                          </m:rPr>
                          <m:t xml:space="preserve">     Paso Circula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p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Relación de Velocidad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1592280"/>
            <a:ext cx="4267080" cy="397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912720" y="2133720"/>
            <a:ext cx="11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26560" y="187020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27640" y="24033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024680" y="33940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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119800" y="3130560"/>
            <a:ext cx="5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118720" y="366408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0" y="167652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28954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104240" y="4619520"/>
            <a:ext cx="7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`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016840" y="4384800"/>
            <a:ext cx="876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2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r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21760" y="476568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934320" y="4114800"/>
            <a:ext cx="76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66040" y="4575240"/>
            <a:ext cx="610596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: ángulo de paso piñ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: ángulo de paso rue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número de dientes piñ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número de dientes rue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` : número virtual de dientes (aprox Tredgold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p : paso circular en el extremo mayor de die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077320" y="2362320"/>
            <a:ext cx="4572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3657600"/>
            <a:ext cx="5335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24680" y="4876920"/>
            <a:ext cx="9907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324840" cy="51562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granajes Cónicos Rec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797080" y="2133720"/>
            <a:ext cx="765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324400" y="2813040"/>
            <a:ext cx="264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6320" y="1295280"/>
            <a:ext cx="4309920" cy="37864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705720" y="1905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3160" y="2286000"/>
            <a:ext cx="59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med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29400" y="23623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2767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- Fuerz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2362320"/>
            <a:ext cx="8384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34840" y="4210200"/>
            <a:ext cx="651132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T : par torso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componente tangencial de la fuerza de contac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componente radial de la fuerza de contac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componente axial de la fuerza de contact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med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radio de paso en el punto medio deldien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buClr>
                <a:srgbClr val="292929"/>
              </a:buClr>
              <a:buFont typeface="Symbol" charset="2"/>
              <a:buChar char="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: ángulo de pres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: ángulo de pas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62120" y="2359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2054160"/>
            <a:ext cx="91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55480" y="2517840"/>
            <a:ext cx="93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2587680"/>
            <a:ext cx="914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3429000"/>
            <a:ext cx="289584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carga transmitid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P : paso diametr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. de velocidad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F : ancho de cara (flexió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J : factor 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81280" y="219384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196524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181480" y="249876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34120" y="2422440"/>
            <a:ext cx="9903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32200" y="196524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292929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2041560"/>
            <a:ext cx="12193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34320" y="220968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724280" y="3352680"/>
            <a:ext cx="403884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P :coeficiente elást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v :factor de 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I : factor geométrico (durabilidad de superficie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or de seguridad de los engranaj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0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or de 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or de 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n : factor de seguridad convenc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- Esfuerz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781680" cy="5473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– Factor Geométrico J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7848720" cy="2967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– Coeficiente Elástico c</a:t>
            </a:r>
            <a:r>
              <a:rPr b="0" lang="es-CL" sz="3600" spc="-1" strike="noStrike" baseline="-25000">
                <a:solidFill>
                  <a:srgbClr val="292929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705720" cy="4800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– Factor Geométrico 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8600" y="197496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49840" y="19810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3440" y="174636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53440" y="220968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377120" y="2209680"/>
            <a:ext cx="914400" cy="64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54240" y="190512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91440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085920" y="197496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Rectos –  Resiste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Engranajes Cónicos Espi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87600" y="1981080"/>
            <a:ext cx="45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164120" cy="3419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683040" y="1994040"/>
            <a:ext cx="619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4380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34440" y="2146320"/>
            <a:ext cx="49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me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516800" y="2149560"/>
            <a:ext cx="5335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73600" y="2603520"/>
            <a:ext cx="34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Espiral derecha giro horario y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espiral izquierda giro anti-horari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44720" y="363528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1720" y="34066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25840" y="3789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77040" y="3790800"/>
            <a:ext cx="5331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38280" y="3595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43640" y="450864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481720" y="42800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25840" y="46623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77040" y="4664160"/>
            <a:ext cx="5331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38280" y="44686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5334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Espiral derecha giro horario y espiral izquierda giro anti-horario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746240" y="6135840"/>
            <a:ext cx="64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583240" y="590724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27360" y="62895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78560" y="6291360"/>
            <a:ext cx="5331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39800" y="6095880"/>
            <a:ext cx="2759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+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09600" y="609588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47680" y="586728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91800" y="62499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6251400"/>
            <a:ext cx="5335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04240" y="6056280"/>
            <a:ext cx="268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(ta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-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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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Engranajes Cónicos Espirales - Fuerz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ás dientes es llamado corona o rueda. Subíndice G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ngranaje con menos dientes es llamado piñón. Subíndice P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869080" y="2895480"/>
            <a:ext cx="6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53080" y="2666880"/>
            <a:ext cx="129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320040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 J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553080" y="3124080"/>
            <a:ext cx="7621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867280" y="434340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- 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72400" y="4114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467480" y="4648320"/>
            <a:ext cx="144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 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620120" y="4572000"/>
            <a:ext cx="9903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18200" y="4114800"/>
            <a:ext cx="586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292929"/>
                </a:solidFill>
                <a:latin typeface="Symbol"/>
                <a:ea typeface="Symbol"/>
              </a:rPr>
              <a:t>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4191120"/>
            <a:ext cx="12193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5486400"/>
            <a:ext cx="2819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0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m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5257800" cy="4113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292929"/>
                </a:solidFill>
                <a:latin typeface="Arial"/>
              </a:rPr>
              <a:t>Engranajes Cónicos Espirales - Esfuerzo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48160" cy="43848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292929"/>
                </a:solidFill>
                <a:latin typeface="Arial"/>
              </a:rPr>
              <a:t>Engranajes Cónicos Espirales – Factor Geométrico 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095880" cy="444816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292929"/>
                </a:solidFill>
                <a:latin typeface="Arial"/>
              </a:rPr>
              <a:t>Engranajes Cónicos Espirales – Factor Geométrico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819520" y="1905120"/>
            <a:ext cx="2819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e =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a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487920" y="259704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391520" y="23623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L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282564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·C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2825640"/>
            <a:ext cx="914400" cy="648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8392320" y="2521080"/>
            <a:ext cx="45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2698920"/>
            <a:ext cx="6553080" cy="415908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5657400" y="3733920"/>
            <a:ext cx="2991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C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0.4 · H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B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– 10 Kps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292929"/>
                </a:solidFill>
                <a:latin typeface="Arial"/>
              </a:rPr>
              <a:t>Engranajes Cónicos Espirales – Resistenci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Tornillo Sinfín - Coro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2825640" y="1981080"/>
            <a:ext cx="3907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181480" cy="48988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725800" y="1752480"/>
            <a:ext cx="74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81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3.0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181480" y="3352680"/>
            <a:ext cx="8384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335280" y="2971800"/>
            <a:ext cx="110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292929"/>
                </a:solidFill>
                <a:uFillTx/>
                <a:latin typeface="Times New Roman"/>
              </a:rPr>
              <a:t>&lt;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 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 u="sng">
                <a:solidFill>
                  <a:srgbClr val="292929"/>
                </a:solidFill>
                <a:uFillTx/>
                <a:latin typeface="Times New Roman"/>
              </a:rPr>
              <a:t>&lt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5238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553080" y="1981080"/>
            <a:ext cx="8384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2895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 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0.87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01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1.7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67480" y="3352680"/>
            <a:ext cx="8384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80360" y="3886200"/>
            <a:ext cx="141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L = 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1160" y="464184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29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53080" y="4876920"/>
            <a:ext cx="838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553080" y="4876920"/>
            <a:ext cx="6098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82480" y="5486400"/>
            <a:ext cx="263628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diámetro paso coro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diámetro paso tornil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Nº dientes coro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Nº entradas tornil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098760" y="5486400"/>
            <a:ext cx="283752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paso circular transvers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C : distancia entre centro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L : av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Tornillo Sinfín – Corona - Defini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229600" cy="21765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292929"/>
                </a:solidFill>
                <a:latin typeface="Arial"/>
              </a:rPr>
              <a:t>Sinfín Corona: Ángulos de presión de avance y alturas de die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5867280" cy="3465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13800" y="5334120"/>
            <a:ext cx="231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20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34680" y="5791320"/>
            <a:ext cx="164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 sen </a:t>
            </a:r>
            <a:r>
              <a:rPr b="0" i="1" lang="es-ES_tradnl" sz="20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23880" y="6248520"/>
            <a:ext cx="2309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z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 cos </a:t>
            </a:r>
            <a:r>
              <a:rPr b="0" i="1" lang="es-ES_tradnl" sz="20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0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651360" y="259704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69720" y="3124080"/>
            <a:ext cx="191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669720" y="3657600"/>
            <a:ext cx="190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-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56440" y="4251240"/>
            <a:ext cx="4458240" cy="27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 : fuerza resultan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30000">
                <a:solidFill>
                  <a:srgbClr val="292929"/>
                </a:solidFill>
                <a:latin typeface="Times New Roman"/>
              </a:rPr>
              <a:t>i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 componentes ortogonales (x,y,z)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t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tangencial en el tornil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r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radial en el tornil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Wa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axial en el tornillo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tangencial en la cor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r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radial en la cor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000" spc="-1" strike="noStrike" baseline="-25000">
                <a:solidFill>
                  <a:srgbClr val="292929"/>
                </a:solidFill>
                <a:latin typeface="Times New Roman"/>
              </a:rPr>
              <a:t>Ga</a:t>
            </a:r>
            <a:r>
              <a:rPr b="0" i="1" lang="es-ES_tradnl" sz="2000" spc="-1" strike="noStrike">
                <a:solidFill>
                  <a:srgbClr val="292929"/>
                </a:solidFill>
                <a:latin typeface="Times New Roman"/>
              </a:rPr>
              <a:t> :componente axial en la coron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37520" y="1752480"/>
            <a:ext cx="90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onsiderando que el contacto se hace por deslizamiento y no rodadura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451240" y="2666880"/>
            <a:ext cx="4200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60600" y="3124080"/>
            <a:ext cx="193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 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50160" y="3581280"/>
            <a:ext cx="419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z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 (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16160" y="4565520"/>
            <a:ext cx="1630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W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10800" y="4267080"/>
            <a:ext cx="86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816360" y="480060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62520" y="4800600"/>
            <a:ext cx="266688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315880" y="5867280"/>
            <a:ext cx="1421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45680" y="5562720"/>
            <a:ext cx="289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044960" y="6095880"/>
            <a:ext cx="2871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se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-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038480" y="6095880"/>
            <a:ext cx="266724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Análisis de fuerz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66880" y="236232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46880" y="2133720"/>
            <a:ext cx="22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(sin fricció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2590920"/>
            <a:ext cx="266688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747240" y="2590920"/>
            <a:ext cx="2379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(con fricción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66880" y="3429000"/>
            <a:ext cx="6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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41120" y="3193920"/>
            <a:ext cx="2050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-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tan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657600" y="3657600"/>
            <a:ext cx="213372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64800" y="3657600"/>
            <a:ext cx="213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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+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t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71280" y="441972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elocidades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23880" y="4343400"/>
            <a:ext cx="609840" cy="213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295280" y="50292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40384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5410080"/>
            <a:ext cx="1904760" cy="0"/>
          </a:xfrm>
          <a:prstGeom prst="line">
            <a:avLst/>
          </a:prstGeom>
          <a:ln w="93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523880" y="44956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324480"/>
            <a:ext cx="6098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5410080"/>
            <a:ext cx="1371600" cy="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5410080"/>
            <a:ext cx="0" cy="68580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" y="5409720"/>
            <a:ext cx="1371600" cy="685800"/>
          </a:xfrm>
          <a:prstGeom prst="line">
            <a:avLst/>
          </a:prstGeom>
          <a:ln w="38160">
            <a:solidFill>
              <a:srgbClr val="99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3520" y="4952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5486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14400" y="5334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781680" y="3962520"/>
            <a:ext cx="1981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+ 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086600" y="480060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924680" y="44956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773120" y="495288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029200"/>
            <a:ext cx="60948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14400" y="5638680"/>
            <a:ext cx="346500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velocidad relativ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veloc. en línea de paso tornil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veloc. en línea de paso coro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Rend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6246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1676520" y="2071800"/>
            <a:ext cx="6019560" cy="432900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Rendi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685800" y="2133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=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23880" y="18288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388520" y="2292480"/>
            <a:ext cx="1023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y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447920" y="2362320"/>
            <a:ext cx="9144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2160" y="2209680"/>
            <a:ext cx="181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p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cos </a:t>
            </a:r>
            <a:r>
              <a:rPr b="0" i="1" lang="es-ES_tradnl" sz="2400" spc="-1" strike="noStrike">
                <a:solidFill>
                  <a:srgbClr val="292929"/>
                </a:solidFill>
                <a:latin typeface="Symbol"/>
                <a:ea typeface="Symbol"/>
              </a:rPr>
              <a:t>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410080" y="2209680"/>
            <a:ext cx="321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=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i="1" lang="es-ES_tradnl" sz="2400" spc="-1" strike="noStrike" baseline="30000">
                <a:solidFill>
                  <a:srgbClr val="292929"/>
                </a:solidFill>
                <a:latin typeface="Times New Roman"/>
              </a:rPr>
              <a:t>0.8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F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m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K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3124080"/>
            <a:ext cx="6400800" cy="36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 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: esfuerzo flexió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carga transmitida admisibl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paso circular norm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p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x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paso circular ax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 ancho de cara coron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y : factor de 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Symbol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: ángulo de av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. corrección tamaño y mater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m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. corrección relación de velocidad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K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fact. de 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1800" spc="-1" strike="noStrike" baseline="-25000">
                <a:solidFill>
                  <a:srgbClr val="292929"/>
                </a:solidFill>
                <a:latin typeface="Times New Roman"/>
              </a:rPr>
              <a:t>e</a:t>
            </a:r>
            <a:r>
              <a:rPr b="0" i="1" lang="es-ES_tradnl" sz="1800" spc="-1" strike="noStrike">
                <a:solidFill>
                  <a:srgbClr val="292929"/>
                </a:solidFill>
                <a:latin typeface="Times New Roman"/>
              </a:rPr>
              <a:t> :ancho efectivo de cara: menor valor entre ancho de cara rueda y 2/3 diámetro paso tornill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Esfuerz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310360" cy="21542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609480" y="3908520"/>
            <a:ext cx="8001000" cy="2949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-76320" y="2209680"/>
            <a:ext cx="6172200" cy="3676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5715000" y="3006720"/>
            <a:ext cx="3505320" cy="240336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Fact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514600" y="2666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H =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505320" y="2895480"/>
            <a:ext cx="160020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92440" y="2895480"/>
            <a:ext cx="1595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126000 m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38680" y="2438280"/>
            <a:ext cx="1524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2895480"/>
            <a:ext cx="990360" cy="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40480" y="289548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33000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676520" y="3962520"/>
            <a:ext cx="6400800" cy="29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H  : potencia nominal de entrada, HP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t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carga transmitida admisibl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d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diámetro paso coron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velocidad tornillo, rpm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m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 relación de transmisión 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G 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/ N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W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f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fuerza de fricció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292929"/>
                </a:solidFill>
                <a:latin typeface="Times New Roman"/>
              </a:rPr>
              <a:t>S</a:t>
            </a:r>
            <a:r>
              <a:rPr b="0" i="1" lang="es-ES_tradnl" sz="2400" spc="-1" strike="noStrike">
                <a:solidFill>
                  <a:srgbClr val="292929"/>
                </a:solidFill>
                <a:latin typeface="Times New Roman"/>
              </a:rPr>
              <a:t> :velocidad de deslizamiento en tornillo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292929"/>
                </a:solidFill>
                <a:latin typeface="Arial"/>
              </a:rPr>
              <a:t>Sinfín Corona: Po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61840" y="1752480"/>
                <a:ext cx="3878280" cy="441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Úti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60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mm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 en unidades inglesa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3000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bf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  <m:r>
                          <m:rPr>
                            <m:lit/>
                            <m:nor/>
                          </m:rPr>
                          <m:t xml:space="preserve">/m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rpm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81480" y="1828800"/>
                <a:ext cx="3164040" cy="32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laciones Generales: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V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Tω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5105520" y="1828800"/>
            <a:ext cx="3276360" cy="3352680"/>
          </a:xfrm>
          <a:prstGeom prst="rect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ga Transmit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35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Ejemplo: Engranaje conectado a un motor de 2.5[kW] a 1750[rpm], diámetro de paso d=50[mm]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447920" y="3657600"/>
                <a:ext cx="67053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H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000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π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50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6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kN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granajes Helicoid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4254480" cy="4495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121360" y="2209680"/>
                <a:ext cx="3778200" cy="309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presión</m:t>
                        </m:r>
                      </m:e>
                      <m:e>
                        <m:r>
                          <m:t xml:space="preserve">ψ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ángulo de hélic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uaciones de esfuerzo A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96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92929"/>
                </a:solidFill>
                <a:latin typeface="Arial"/>
              </a:rPr>
              <a:t>Dos ecuaciones fundamenta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el esfuerzo flexionante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Para la resistencia a la picadura (contacto), </a:t>
            </a:r>
            <a:r>
              <a:rPr b="0" lang="es-ES" sz="2800" spc="-1" strike="noStrike">
                <a:solidFill>
                  <a:srgbClr val="292929"/>
                </a:solidFill>
                <a:latin typeface="Symbol"/>
                <a:ea typeface="Symbol"/>
              </a:rPr>
              <a:t></a:t>
            </a:r>
            <a:r>
              <a:rPr b="0" lang="es-ES" sz="2800" spc="-1" strike="noStrike" baseline="-25000">
                <a:solidFill>
                  <a:srgbClr val="292929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828800" y="312408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>
                          <m:t xml:space="preserve">F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r>
                          <m:t xml:space="preserve">J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905120" y="5105520"/>
                <a:ext cx="510372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I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jo con las Dim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80880" y="1905120"/>
                <a:ext cx="66294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J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276720" y="3352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505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lbf][1/in]/[in]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457200" y="3981600"/>
                <a:ext cx="64771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F</m:t>
                                </m:r>
                              </m:den>
                            </m:f>
                          </m:e>
                        </m:rad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f>
                              <m:num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809880" y="5181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Adimension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5627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[psi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([lbf/in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])</a:t>
            </a:r>
            <a:r>
              <a:rPr b="0" lang="es-ES" sz="1800" spc="-1" strike="noStrike" baseline="30000">
                <a:solidFill>
                  <a:srgbClr val="292929"/>
                </a:solidFill>
                <a:latin typeface="Arial"/>
              </a:rPr>
              <a:t>1/2</a:t>
            </a: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=[psi]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1523880"/>
            <a:ext cx="1447560" cy="419400"/>
          </a:xfrm>
          <a:prstGeom prst="borderCallout1">
            <a:avLst>
              <a:gd name="adj1" fmla="val 18750"/>
              <a:gd name="adj2" fmla="val -8333"/>
              <a:gd name="adj3" fmla="val 227652"/>
              <a:gd name="adj4" fmla="val 12237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Sobre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1486080"/>
            <a:ext cx="1295280" cy="342720"/>
          </a:xfrm>
          <a:prstGeom prst="borderCallout1">
            <a:avLst>
              <a:gd name="adj1" fmla="val 18750"/>
              <a:gd name="adj2" fmla="val -8333"/>
              <a:gd name="adj3" fmla="val 300000"/>
              <a:gd name="adj4" fmla="val -1176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Velocida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467160"/>
            <a:ext cx="914400" cy="342720"/>
          </a:xfrm>
          <a:prstGeom prst="borderCallout1">
            <a:avLst>
              <a:gd name="adj1" fmla="val 18750"/>
              <a:gd name="adj2" fmla="val -8333"/>
              <a:gd name="adj3" fmla="val -144444"/>
              <a:gd name="adj4" fmla="val -58333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Form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29400" y="1562040"/>
            <a:ext cx="1447920" cy="609840"/>
          </a:xfrm>
          <a:prstGeom prst="borderCallout1">
            <a:avLst>
              <a:gd name="adj1" fmla="val 18750"/>
              <a:gd name="adj2" fmla="val -8333"/>
              <a:gd name="adj3" fmla="val 81250"/>
              <a:gd name="adj4" fmla="val -2631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Espesor de Ar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3505320"/>
            <a:ext cx="1523880" cy="342720"/>
          </a:xfrm>
          <a:prstGeom prst="borderCallout1">
            <a:avLst>
              <a:gd name="adj1" fmla="val 18750"/>
              <a:gd name="adj2" fmla="val -8333"/>
              <a:gd name="adj3" fmla="val -111111"/>
              <a:gd name="adj4" fmla="val -30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705720" y="5638680"/>
            <a:ext cx="1523880" cy="343080"/>
          </a:xfrm>
          <a:prstGeom prst="borderCallout1">
            <a:avLst>
              <a:gd name="adj1" fmla="val 18750"/>
              <a:gd name="adj2" fmla="val -8333"/>
              <a:gd name="adj3" fmla="val -136111"/>
              <a:gd name="adj4" fmla="val -21564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Geométrico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6095880"/>
            <a:ext cx="1524240" cy="609840"/>
          </a:xfrm>
          <a:prstGeom prst="borderCallout1">
            <a:avLst>
              <a:gd name="adj1" fmla="val 18750"/>
              <a:gd name="adj2" fmla="val -8333"/>
              <a:gd name="adj3" fmla="val -199740"/>
              <a:gd name="adj4" fmla="val -14481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4038480"/>
            <a:ext cx="1371600" cy="609840"/>
          </a:xfrm>
          <a:prstGeom prst="borderCallout1">
            <a:avLst>
              <a:gd name="adj1" fmla="val 18750"/>
              <a:gd name="adj2" fmla="val -8333"/>
              <a:gd name="adj3" fmla="val 52083"/>
              <a:gd name="adj4" fmla="val -46759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292929"/>
                </a:solidFill>
                <a:latin typeface="Arial"/>
              </a:rPr>
              <a:t>Condición Superficia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5T22:41:44Z</dcterms:created>
  <dc:creator>Felipe Figueroa G.</dc:creator>
  <dc:description/>
  <dc:language>en-US</dc:language>
  <cp:lastModifiedBy>laboratorio</cp:lastModifiedBy>
  <dcterms:modified xsi:type="dcterms:W3CDTF">2009-05-13T18:30:36Z</dcterms:modified>
  <cp:revision>22</cp:revision>
  <dc:subject/>
  <dc:title>ME56A – Diseño de Elementos de Máquinas</dc:title>
</cp:coreProperties>
</file>