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70AFC-232F-4DD4-939E-4A80069C0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1344-0D43-4FB4-8BEA-53E9A572B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65BB0-F1FB-4A26-9E7B-C97BCDEE4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22077-217E-49AC-B9CB-B830E2A89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CAB3B-4457-46C1-B169-4C9A1E627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91E59-0F37-494D-B306-271ACE441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16B17-B73C-478C-B9B4-37D8E0249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F3CAB-6AB1-430D-B6B5-0E44E7F35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B4365-21DE-4D92-9280-8B89BD17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BFA8D-3DE3-46AA-A7C2-553E6CDD3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EF55E-C704-4B58-871B-56D68673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E932B-6978-4C56-96EF-6B66A34BA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2BCC0-BC3B-4DFD-9785-A2AFFE57A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7D006-3261-434B-9101-0C531C15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B1B3B-1C44-41CA-B7A2-5CDEAE4AF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9BC46-FE11-40E3-AABC-317340280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69821-5D13-4309-8099-1E3D33B6D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CEAFE-C554-472F-A302-2BEC26BD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8E1A4-E5E9-40AF-955F-386966439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4236A-18FB-4AB4-A485-F0E319813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3D2F1-E1C8-4B84-A30E-017C0794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0620-B6C4-4948-80EB-F932D079C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24429-D99E-4277-9AD8-E320BAA8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B771-B42C-42DC-A73B-0ED4E3447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2827-5652-4E1A-8BE1-EC182EA8BD2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4EF5-CFB3-4A51-864F-457F2FA502B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Darren Ledermann</cp:lastModifiedBy>
  <dcterms:modified xsi:type="dcterms:W3CDTF">2006-03-20T00:04:22Z</dcterms:modified>
  <cp:revision>19</cp:revision>
  <dc:subject/>
  <dc:title>ME56A – Diseño de Elementos de Máquinas</dc:title>
</cp:coreProperties>
</file>