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FB8-F3F9-4F6F-8767-75D5112C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DCB-CC76-4081-B578-A6BF5E23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324-3879-47F8-8340-493A6033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B46-6703-491D-A5BB-B55D2464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4929-31CA-4BE6-AF24-A98BAE1D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34A3-84CD-4274-AF90-8B8D498D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7DDD-3D4C-4492-8F43-8C42F186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7AE0-35BE-4219-B4C9-B4FF74E1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CBD-EBAA-4592-A0AF-B5F60C09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0410-AF30-44BB-83E9-F13E063A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BDE7-1E5C-4722-B49F-D32B687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1B4-DA41-414E-8E76-9BEE6C0E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D791-BDE7-45E5-A880-D26EC565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8C68-A98F-4694-B058-21F49727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697E-BDCC-4580-9D37-8E752DB5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726B-B3A1-45FF-9029-D7E1FF84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ABA0-0C4C-488E-8563-8AD4054E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FFE-D79C-41AD-ABCA-BB257110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165-1DF5-431F-9983-94183588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F19-76B7-43F6-B5CB-D414E1FF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C1D-1F39-4CED-9A9C-3CC85426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DCC-4A0D-42E0-ACA6-33846223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3E3-64F8-48AD-B12C-312F8F58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791-A509-4FE5-B43C-365CB468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15ED-2863-49EA-BF71-98C6813B0D7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EEAC-7B80-44C8-87A1-2888317EDCA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234936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e4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uxiliar Nº5: Aceros, Diagramas TTT y transformación martens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240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Propiedades mecanic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or que es mas duro el acero templado?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86756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fecto del % de 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352760" cy="62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3025800"/>
            <a:ext cx="37450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Efecto de elementos alean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6327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venid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cero templado extremadamente duro, pero frági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Revenido: calentar a temperatura “moderada” (300-600 º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Los atomos de carbono difunden y forman pequeños precipitados (Fe3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Menor distorcion de la 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Mejora en la ductilidad con leve perdida de du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venid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39859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jercic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98100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Describir la microestructura y las transformaciones obtenidas con cada tratamiento, describir cualitativamente las propiedades mecanicas obtenid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596088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Soluc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98100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urva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24360" y="404640"/>
            <a:ext cx="5024520" cy="385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68360" y="1413000"/>
            <a:ext cx="3529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nfria rapidamente, evitando la transformacion perlitica, a Ms (250 Cº) se comienza a formar martensita, hasta llegar bajo M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4581360"/>
            <a:ext cx="5832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obtiene 100% martensita, muy dura y fragi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2374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Soluc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98100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urva b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24360" y="404640"/>
            <a:ext cx="5024520" cy="3857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68360" y="1413000"/>
            <a:ext cx="3529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nfria rapidamente, evitando la transformacion perlitica, a Ms (250 Cº) se comienza a formar martensita, hasta llegar bajo a temperatura amb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4360" y="508464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obtiene mas de un 50% de martensita, el resto es austenita retenida. ¿Qué sucede si sigo enfri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ureza y fragilidad elevad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Soluc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98100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urva c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4089600" cy="3600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413000"/>
            <a:ext cx="43196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mantiene a aprox 300 Cº, durante unos 500 s, produciendose la transformacion a Bainita (50/50), luego se enfria rapidamente hasta T ambiente, con lo que parte de la austenita se transforma en martensita, y el resto es reten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522936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obtiene un 50% de bainita, y un 50% de martensita + austenita reten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Soluc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98100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urva 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4089600" cy="360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68360" y="1413000"/>
            <a:ext cx="43196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mantiene a aprox 300 Cº, durante unos 500 s, produciendose la transformacion a Bainita (50/50), luego se enfria rapidamente hasta bajo Mf, luego toda la austenita se convierte en martens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9640" y="522936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obtiene un 50% de bainita, y un 50% de martens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Microestructuras de Acero al equilibri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ro p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348000" y="1197000"/>
            <a:ext cx="55436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Soluc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98100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urva 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4089600" cy="3600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8360" y="1413000"/>
            <a:ext cx="43196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mantiene a aprox 300 Cº durante suficiente tiempo para la transformacion a bainita, obteniendose 100% de e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2449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Soluc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98100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urva f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4089600" cy="3600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68360" y="1413000"/>
            <a:ext cx="43196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mantiene a aprox 680 Cº hasta obtener 50% austenita 50% perlita fina, luego se enfria rapidamente hasta T ambiente, con lo que parte (mas de 50%) de la austenita se transforma en martens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icroestructur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705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Otro ejemp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205000"/>
            <a:ext cx="835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4781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Acero eutecto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633708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Acero Hipoeutecto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56880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Acero Hipereutecto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132000" y="1125360"/>
            <a:ext cx="54738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Garamond"/>
              </a:rPr>
              <a:t>Transformaciones difusivas y displaciv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Átomos se mueven distancias menores a las ató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040" indent="-272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Átomos se mueven rompiendo y creando en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040" indent="-272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Átomos se mueven en transformación militar, uno tras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040" indent="-272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elocidad de transformación depende de las vibraciones de la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040" indent="-272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ntidad de transformación depende sólo de l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2040" indent="-272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cambia la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tent Placeholder 7"/>
          <p:cNvSpPr/>
          <p:nvPr/>
        </p:nvSpPr>
        <p:spPr>
          <a:xfrm>
            <a:off x="395280" y="1557360"/>
            <a:ext cx="4022640" cy="467352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2040" indent="-272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Átomos se mueven grandes distanci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72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Átomos se mueven por activación térmica, sitio a sit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72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Átomos saltan al az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72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Velocidad de transformación depende de la temperatura, no ocurre bajo 0,3 T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72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Cantidad de transformación (volumen) depende de la temperatura y del tiemp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72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Permite el cambio de composicion de alguna fase (en sistemas aleado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72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197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ifusiv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isplac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Transformacion martensitica en hier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002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locidad de enfriamiento de 10^-5 Cº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654372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Transformación martensitica en acer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002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locidad de enfriamiento de 200 Cº/s para evitar la “no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067280" y="2276640"/>
            <a:ext cx="4895640" cy="3786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360" y="2205000"/>
            <a:ext cx="35272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que tasa de enfriamiento y a que temperatura debo enfriar para obtener 100% martensita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Transformación martensitica en acer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3917880" y="1052640"/>
            <a:ext cx="5226120" cy="5591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ffffff"/>
                </a:solidFill>
                <a:uFillTx/>
                <a:latin typeface="Arial"/>
              </a:rPr>
              <a:t>Línea I</a:t>
            </a: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: No hay transformación perlítica, pasa directo a martensi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ffffff"/>
                </a:solidFill>
                <a:uFillTx/>
                <a:latin typeface="Arial"/>
              </a:rPr>
              <a:t>Línea II</a:t>
            </a: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: Transformación incompleta de perlita, la fracción de austenita que queda se transforma en martensi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ffffff"/>
                </a:solidFill>
                <a:uFillTx/>
                <a:latin typeface="Arial"/>
              </a:rPr>
              <a:t>Línea III</a:t>
            </a: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:  Acero Perlít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02:22:14Z</dcterms:created>
  <dc:creator>.</dc:creator>
  <dc:description/>
  <dc:language>en-US</dc:language>
  <cp:lastModifiedBy>WinuE</cp:lastModifiedBy>
  <dcterms:modified xsi:type="dcterms:W3CDTF">2009-05-08T02:09:20Z</dcterms:modified>
  <cp:revision>32</cp:revision>
  <dc:subject/>
  <dc:title>Diapositiva 1</dc:title>
</cp:coreProperties>
</file>