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A99A-2E11-47B8-BF30-C56F6205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1258E-0D87-4025-8CEB-2CE3BC4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FEB5-EB8F-4A73-8A02-0601F5F7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E2A9-DC2E-4F6D-970F-DA8C773A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53DA-7383-423F-AA69-11D0D8FB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1751-734D-40BA-B6C8-C53A0A5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C11-E404-45BF-9B77-54D764D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2F85-A255-4622-98FB-F46A5C5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A5EB-B063-4390-B498-87F59B9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576-911D-4A71-AAFA-5652910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CBB-D239-484B-9EA3-A276BEE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2EFA-B348-4A01-B5C0-4359905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DEC-2545-495A-A9BC-AD6A1405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801-06D2-4140-A159-765AA86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CCE7-13FE-40AF-9D48-351EF9C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D01-ADDE-49D6-9BA2-36F4F891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3208-8D81-4BF5-B7D8-3C7591A5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B3B5-E387-4E74-B5ED-BA79685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AA14-2939-49CF-9D65-4AF4ACF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F502-914C-4741-8F53-500FD18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A638-F3A9-482B-A13A-BEC47737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8FE6-6084-468D-8A75-A16D33C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3294-BE20-417C-8513-9C8DCD3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37DE-770B-4733-9412-2CB95D2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9A6-DDD5-44F2-A2CD-C9A98F692B5D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C3B-5874-4B14-8B21-65F36C7140EA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uxiliar Nº4: casos de estudio en transformaciones de f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5444640"/>
            <a:ext cx="60195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Me42b Metalurgia mecán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356400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heocasting: Fundición a temperatura de saturación + agi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ndritas se rompen generando nuevos núcleos de soli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ción de agentes nucle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75280" y="1628640"/>
            <a:ext cx="4968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idificación de mono cris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blema: evitar generación de núcl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9600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lice monocrista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abes de turb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24360" y="3213000"/>
            <a:ext cx="45370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les amorf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martensitica del acer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 metae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n cambio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ble a otros meta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611880" cy="2492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: azuf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se funde azufre y se lo enfría lentamente se obtiene un material frágil y quebrad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se lo enfría rápidamente se obtiene una sustancia “gomos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zufre amorfo (A alta temperatura forma cadenas largas, “polimeriz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ón a met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la pol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icultad de detener la crist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quieren velocidades de enfriamiento de 10^10 ºC/s para lograr un metal puro amor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de ale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eaciones con muchos elementos cristalizan formando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ción de compuestos requiere que los átomos lleguen desde el liquido en cierto or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ceso de cristalización es mas l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6165720"/>
            <a:ext cx="180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390920" cy="4991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eaciones amo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62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velocidades del orden de 10^5 ºC/s se puede obtener Fe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mor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7138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ías nublados: humedad suficiente pero sin lluvia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be = suspensión de un gran numero de gotas muy pequeñ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aen bajo efecto de la grav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tables (no cre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luv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a temperatura es baja las gotas se conge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úcleos estables de hielo, crecen congelando el vapor a su alrededor hasta que ca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rriten al caer =&gt; llu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: nucleación de las partículas de hi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minación = agente nucle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246480"/>
            <a:ext cx="8964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860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duro de pla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istal hexag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=0.458 c=0.7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ielo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=0.452 nm c=0.736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uen nucle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695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1080"/>
            <a:ext cx="44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copos generados arriba se rompen, creando nuevos núcl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354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eudomonas syrin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cteria presente en algun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e sustancia altamente nucle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e: las hojas congelan incluso con pequeños subenfria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diciones de grano f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dición típ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58834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diciones de grano f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blema: nucleación heterogénea en la paredes y homogénea al c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isotrop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r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54291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2:22:14Z</dcterms:created>
  <dc:creator>.</dc:creator>
  <dc:description/>
  <dc:language>en-US</dc:language>
  <cp:lastModifiedBy>WinuE</cp:lastModifiedBy>
  <dcterms:modified xsi:type="dcterms:W3CDTF">2009-04-24T02:26:49Z</dcterms:modified>
  <cp:revision>30</cp:revision>
  <dc:subject/>
  <dc:title>Diapositiva 1</dc:title>
</cp:coreProperties>
</file>