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7B72C9-D442-4920-836C-5D79E60A635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2046F0-0B41-4842-BAD9-1EF12366F68D}" type="slidenum">
              <a:rPr b="0" i="1" lang="es-ES_tradnl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B80-BA37-41E8-8548-256B7728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135-588E-4659-8847-F2BB9724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DD3-8B2A-4BF9-A8E6-CF5EB5B1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36E-26D3-4073-86B4-52E9DCEF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BE0F-E1B1-448D-9090-E54DFAF8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B4AF-AA0E-466A-8A26-0FCA11C1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0067-7AAD-4208-AB47-4BCD2838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1920-F376-42DC-9AD1-29482ABD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81F8-C7DD-49F3-940F-9D0C7863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3CFB-D05B-43DA-81B9-D520EA12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2602-D55F-4BF3-90E0-3F160D2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C81-F7C3-4836-84DA-E333227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ADBB-65A0-4E76-B6DB-64D4B777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F841-BB25-490B-8C05-D7F06C5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D00B-8AA8-4AE2-A573-9AF8B6B3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5FC2-E00D-4EB1-9CE2-AA9250C5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BD4F-67DD-40A9-A2CA-5192EE6E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A96-1B7B-4F47-AEE7-C94FD184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964-BBC2-4C18-9EA9-AF74FF55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535-A1A9-4172-8251-523A3FE2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220-D464-4BF3-8A72-C988E58F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CBA-C70E-4CA6-B9E4-D8F5FB8E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9F1-67D9-4AF5-B556-4A0EF483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0CD-42B6-4D4D-8E86-9AFD18E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C4CF-7A56-41F1-82E7-40744161E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7309-59BC-4C6E-B157-78DA84A2D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400" spc="-1" strike="noStrike">
                <a:solidFill>
                  <a:srgbClr val="ccffff"/>
                </a:solidFill>
                <a:latin typeface="Times New Roman"/>
              </a:rPr>
              <a:t>Finanzas Corporativas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ccffff"/>
                </a:solidFill>
                <a:latin typeface="Times New Roman"/>
              </a:rPr>
              <a:t>MBA-FT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ccffff"/>
                </a:solidFill>
                <a:latin typeface="Times New Roman"/>
              </a:rPr>
              <a:t> Valoración de Empres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Carlos Maquiei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Notas de Clases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Valor de La Empres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Tiene dos componente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ecff"/>
                </a:solidFill>
                <a:latin typeface="Tahoma"/>
              </a:rPr>
              <a:t>Valor de los Activos Actuales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: corresponde al valor presente de los flujos de caja esperados que generan los activos que actualmente posee la firma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ecff"/>
                </a:solidFill>
                <a:latin typeface="Tahoma"/>
              </a:rPr>
              <a:t>VAN de Oportunidades de Inversión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: valor actual neto de las oportunidades de crecimiento futuro de la empresa, es decir, nuevos proyectos de inversión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Modelos con Crecimien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763640" y="1700280"/>
          <a:ext cx="537552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763640" y="1700280"/>
                    <a:ext cx="537552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1295280" y="4842000"/>
            <a:ext cx="68137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Donde: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K: tasa de retención de flujos de caja para crecimiento, VT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 Valor Terminal de la Empresa en n, FCB corresponde al flujo de caja de la empresas antes de realizar nueva inversió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3"/>
          <p:cNvGraphicFramePr/>
          <p:nvPr/>
        </p:nvGraphicFramePr>
        <p:xfrm>
          <a:off x="3060720" y="2808360"/>
          <a:ext cx="317484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3060720" y="2808360"/>
                    <a:ext cx="317484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18288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Supuestos de Valor Termina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90720" y="1752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Crecimiento Constante Infinit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5" name="Object 9"/>
          <p:cNvGraphicFramePr/>
          <p:nvPr/>
        </p:nvGraphicFramePr>
        <p:xfrm>
          <a:off x="3390840" y="4894200"/>
          <a:ext cx="266724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3390840" y="4894200"/>
                    <a:ext cx="2667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10"/>
          <p:cNvSpPr/>
          <p:nvPr/>
        </p:nvSpPr>
        <p:spPr>
          <a:xfrm>
            <a:off x="1066680" y="40384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Sin Crecimient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76080" indent="-259920">
              <a:lnSpc>
                <a:spcPct val="15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onsideraciones Práctic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40040" indent="-207720">
              <a:spcBef>
                <a:spcPts val="550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Tahoma"/>
              </a:rPr>
              <a:t>La empresa opera en un 100% de eficiencia.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lvl="2" marL="1040040" indent="-207720">
              <a:spcBef>
                <a:spcPts val="550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Tahoma"/>
              </a:rPr>
              <a:t>Estos modelos suponen que no existen activos prescindibles (otros activos fijos y patentes).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lvl="2" marL="1040040" indent="-207720">
              <a:spcBef>
                <a:spcPts val="550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Tahoma"/>
              </a:rPr>
              <a:t>Los flujos permanentes de las empresas no sólo vienen de lo Operacional (ej. resultado en empresas relacionadas).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lvl="2" marL="1040040" indent="-207720">
              <a:spcBef>
                <a:spcPts val="550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Tahoma"/>
              </a:rPr>
              <a:t>La valoración de firmas que no transan sus acciones es más compleja.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lvl="2" marL="1040040" indent="-207720">
              <a:spcBef>
                <a:spcPts val="550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Tahoma"/>
              </a:rPr>
              <a:t>En firmas del sector financiero (bancos, instituciones financieras, empresas de leasing y cia. de seguros) se requiere obtener el valor presente del flujo de caja de los accionistas.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Tahoma"/>
              </a:rPr>
              <a:t>No toma en cuenta la capacidad que tiene la firma de hacer frente a los pagos de la deuda en cada momento del tiempo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856880"/>
            <a:ext cx="855828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SO: INVERTON</a:t>
            </a:r>
            <a:br>
              <a:rPr sz="4400"/>
            </a:b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Flujos de Caja y Financiamient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mponentes del Valor de Activ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ecff"/>
                </a:solidFill>
                <a:latin typeface="Tahoma"/>
              </a:rPr>
              <a:t>Valor de Activos Actuales</a:t>
            </a: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: incluye los flujos de filiales que pertenecen a la definición estratégica del negoci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ecff"/>
                </a:solidFill>
                <a:latin typeface="Tahoma"/>
              </a:rPr>
              <a:t>Valor de liquidación de activos prescindibl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ecff"/>
                </a:solidFill>
                <a:latin typeface="Tahoma"/>
              </a:rPr>
              <a:t>VAN de oportunidades de inversión </a:t>
            </a: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:incluye sólo proyectos que para agregar valor requieren poseer la empresa, pertenecen a su definición estratégic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Elementos Fundamentales para Valor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ecff"/>
                </a:solidFill>
                <a:latin typeface="Tahoma"/>
              </a:rPr>
              <a:t>Flujos de caja esperados de los Activos Actuales. Valor Terminal de los Activos.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ecff"/>
                </a:solidFill>
                <a:latin typeface="Tahoma"/>
              </a:rPr>
              <a:t>Activos Prescindibles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ecff"/>
                </a:solidFill>
                <a:latin typeface="Tahoma"/>
              </a:rPr>
              <a:t>Política de Inversión (oportunidades de crecimiento)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ecff"/>
                </a:solidFill>
                <a:latin typeface="Tahoma"/>
              </a:rPr>
              <a:t>Tasa de Costo de Capital (normalmente usaremos CCPP con base en CAPM)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lujo de Caja Libre o Flujo de Caja de los Activ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Book Antiqua"/>
              </a:rPr>
              <a:t>Ingresos de explotació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Book Antiqua"/>
              </a:rPr>
              <a:t>-</a:t>
            </a:r>
            <a:r>
              <a:rPr b="0" lang="es-ES_tradnl" sz="24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ccecff"/>
                </a:solidFill>
                <a:latin typeface="Book Antiqua"/>
              </a:rPr>
              <a:t>Costos de explotació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Book Antiqua"/>
              </a:rPr>
              <a:t>-</a:t>
            </a:r>
            <a:r>
              <a:rPr b="0" lang="es-ES_tradnl" sz="24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ccecff"/>
                </a:solidFill>
                <a:latin typeface="Book Antiqua"/>
              </a:rPr>
              <a:t>Gastos de administración y venta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Book Antiqua"/>
              </a:rPr>
              <a:t>=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RESULTADO OPERACIONAL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+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Ingresos financieros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+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Utilidad en inversión de empresas relacionadas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+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Otros ingresos fuera de la explotación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Gastos financieros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Otros egresos fuera de la explotación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/+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Diferencia de cambi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/+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Corrección monetaria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=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1" lang="es-ES_tradnl" sz="2200" spc="-1" strike="noStrike">
                <a:solidFill>
                  <a:srgbClr val="ccecff"/>
                </a:solidFill>
                <a:latin typeface="Book Antiqua"/>
              </a:rPr>
              <a:t>RESULTADO ANTES DE IMPUEST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8001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 Impuesto a la renta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=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1" lang="es-ES_tradnl" sz="2200" spc="-1" strike="noStrike">
                <a:solidFill>
                  <a:srgbClr val="ccecff"/>
                </a:solidFill>
                <a:latin typeface="Book Antiqua"/>
              </a:rPr>
              <a:t>UTILIDAD (PERDIDA) DEL EJERCICI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ecff"/>
                </a:solidFill>
                <a:latin typeface="Book Antiqua"/>
              </a:rPr>
              <a:t>AJUSTES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 (Movimientos contables que no corresponden a flujos de caja y resultado no operacional)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+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Depreciación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    Ingresos financieros después de impuestos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+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Gastos financieros después de impuestos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+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Otros egresos fuera de la explotación después de impuest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Otros ingresos fuera de la explotación después de impuest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+/-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Diferencia de cambi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+/-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Corrección monetaria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=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1" lang="es-ES_tradnl" sz="2200" spc="-1" strike="noStrike">
                <a:solidFill>
                  <a:srgbClr val="ccecff"/>
                </a:solidFill>
                <a:latin typeface="Book Antiqua"/>
              </a:rPr>
              <a:t>FLUJO  DE  CAJA  BRUTO  PERMANENTE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ecff"/>
                </a:solidFill>
                <a:latin typeface="Book Antiqua"/>
              </a:rPr>
              <a:t>INVERSIONES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Inversión de reposición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Inversión en capital físic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-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Aumentos (disminuciones) de capital de trabaj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=</a:t>
            </a:r>
            <a:r>
              <a:rPr b="0" lang="es-ES_tradnl" sz="2200" spc="-1" strike="noStrike">
                <a:solidFill>
                  <a:srgbClr val="ccecff"/>
                </a:solidFill>
                <a:latin typeface="Book Antiqua"/>
              </a:rPr>
              <a:t>	</a:t>
            </a:r>
            <a:r>
              <a:rPr b="1" lang="es-ES_tradnl" sz="2200" spc="-1" strike="noStrike">
                <a:solidFill>
                  <a:srgbClr val="ccecff"/>
                </a:solidFill>
                <a:latin typeface="Book Antiqua"/>
              </a:rPr>
              <a:t>FLUJO  DE  CAJA   LIBRE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Valor del Patrimon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Valor del Patrimonio = Valor de Activos - Valor de Deuda que paga intere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Valor del Patrimonio: Equivale al valor presente del flujo de caja de accionistas descontados a la tasa de costo patrimonial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étodos de Valor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Flujos de Caja Descontad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Relativa, Comparables (múltiplos): p/ut, EBITDA*N, etc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Enfoque Contingente: Opciones reales y futur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Aplicación a una Empresa Producti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ccecff"/>
                </a:solidFill>
                <a:latin typeface="Tahoma"/>
              </a:rPr>
              <a:t>Caso: MADERA</a:t>
            </a:r>
            <a:endParaRPr b="0" lang="en-US" sz="37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Valor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Valor Activos de Madera = V. Madera 1 + VAN Madera 2 (nuevo proyecto)+V. Bosques y Terrenos+V. Activos Prescindibl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V. Patrimonio de Madera= V. Activos de Madera - V. Deud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44" name="Object 7"/>
          <p:cNvGraphicFramePr/>
          <p:nvPr/>
        </p:nvGraphicFramePr>
        <p:xfrm>
          <a:off x="762120" y="762120"/>
          <a:ext cx="7848360" cy="55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84836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so Madera</a:t>
            </a:r>
            <a:br>
              <a:rPr sz="4400"/>
            </a:b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Supuest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e encuentra al 100% de capacidad instalada (40.000 m</a:t>
            </a:r>
            <a:r>
              <a:rPr b="0" lang="es-ES_tradnl" sz="2800" spc="-1" strike="noStrike" baseline="30000">
                <a:solidFill>
                  <a:srgbClr val="ccecff"/>
                </a:solidFill>
                <a:latin typeface="Tahoma"/>
              </a:rPr>
              <a:t>3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), último año es 38.000 m</a:t>
            </a:r>
            <a:r>
              <a:rPr b="0" lang="es-ES_tradnl" sz="2800" spc="-1" strike="noStrike" baseline="30000">
                <a:solidFill>
                  <a:srgbClr val="ccecff"/>
                </a:solidFill>
                <a:latin typeface="Tahoma"/>
              </a:rPr>
              <a:t>3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ambio en la mezcla de productos. Se privilegia línea SUPERCOR. Otros se mantiene al nivel del 5%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No hay cambio en precios reales de SUPERCOR Y SUPERTEC. Se mantienen al nivel del 94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s ventas de otros son 15% de las ventas total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304920" y="1371600"/>
          <a:ext cx="861048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6104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51" name="Object 6"/>
          <p:cNvGraphicFramePr/>
          <p:nvPr/>
        </p:nvGraphicFramePr>
        <p:xfrm>
          <a:off x="457200" y="1447920"/>
          <a:ext cx="838188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3818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762120" y="1447920"/>
          <a:ext cx="777240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772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Costos de Explotación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Creciente competencia en mercado de insumo y trabajo por lo que se esperan disminuciones, pero en forma conservadora se suponen constantes al nivel del 94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Los de OTROS decrecen desde 25,78% (95), 24,39% (96) y 23% (97en adelante) como proporción del costo de explotació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Gastos de Administración y Venta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Al comienzo el esfuerzo de ventas fue mayor por la introducción de los productos al mercado, por lo que se espera disminución a 14% (95), 13%(96) y (12%) en adelan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Depreciación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Nivel del 94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990720" y="1828800"/>
          <a:ext cx="753588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358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838080" y="1295280"/>
          <a:ext cx="731520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3152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¿Qué es Valoración Relativa o Comparables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El valor de un activo es comparado con los valores considerados por el mercado como activos similares o comparables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Requisitos para aplicar el método,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identificar activos comparables y obtener el valor de mercado de ello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convertir los valores de mercado en valores estandarizados. Esto lleva a obtener múltiplo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comparar el valor estandarizado o el múltiplo aplicado a los activos comparables, controlando por diferencias que podría afectar el múltiplo de la empres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Recordar que dos firmas son comparables en la medida que tengan riesgo similar, tasas de crecimiento parecidas y características de flujo de caj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Object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Otros ingresos no operacionale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Nivel del 94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Corrección Monetaria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romedio del 93 y 94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Inversión de Reposición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50% de la depreciació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Variación de Capital de Trabajo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La mezcla no produce cambios important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Impuesto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Régimen especial: 18.75%  (95), 30% (96 y 97), 37,5%(98 en adelante). Industria y comercio es 3 por mil de las ventas a partir del 2003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533520" y="671400"/>
          <a:ext cx="807696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71400"/>
                    <a:ext cx="807696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652320" y="457200"/>
          <a:ext cx="7958160" cy="58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457200"/>
                    <a:ext cx="795816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609480" y="457200"/>
          <a:ext cx="792504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92504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so Madera</a:t>
            </a:r>
            <a:br>
              <a:rPr sz="4400"/>
            </a:b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Costo de Capit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Estructura de Endeudamien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B/P es 25%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Tres tipos de deuda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deuda bancaria de corto a Prime+1% (9.5%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deuda con BID Libor +6.7% (13.55%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otras deudas de corto a 2% nominal mensual (26.82%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Inflación esperada 17%, revaluación real de 5% en tipo de cambi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(1+R)=(1+Rusa)(1+Devr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Tasas reales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deuda bancaria Prime        4%   (9.2%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deuda con BID Libor       7.9%   (88%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deuda corto plazo          8.4%    (2.8%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romedio ponderado es  7.6% (costo de deud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ecff"/>
                </a:solidFill>
                <a:latin typeface="Tahoma"/>
              </a:rPr>
              <a:t>Costo patrimonial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La empresa transa sus acciones hace poco tiempo por lo cual no hay suficientes datos para obtener el beta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Se utiliza como referencia Maderitas (M) con 90% de presencia en el período Enero 92 a Dic. 94. Se obtiene un beta de 1.40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La estructura de endeudamiento económica (M) promedio de los últimos 5 años es de 10% y la tasa de impuesto a las empresas es de 15%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Cálculo de Costo Patrimoni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Beta patrimonial sin deuda de Mad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1.40/(1+.85*.1) = 1.29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Beta patrimonial con deuda de Mad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1.29*(1+0.625*.25) = 1.49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osto patrimonial de Mad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0.20 = 0.075 + 0.085*1.49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1828800" y="5410080"/>
                <a:ext cx="3581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]</m:t>
                    </m:r>
                    <m:sSub>
                      <m:e>
                        <m:r>
                          <m:t xml:space="preserve">xβ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2351160" y="1143000"/>
                <a:ext cx="3298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sup>
                    </m:sSubSup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Costo de Capital Promedio Ponderado de Mad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0.17 = 0.076*0.625*0.2 + 0.20*0.80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981080" y="3657600"/>
                <a:ext cx="4724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so Mad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Valoració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Valores Estandariza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Tahoma"/>
              </a:rPr>
              <a:t>Multiplos de Ganancia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Precio de la acción/Utilidad (PE)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Valor/EBIT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Valor/EBITDA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Valor/Flujo de Caja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Tahoma"/>
              </a:rPr>
              <a:t>Múltiplos de Valor Libro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Precio acción/valor libro de la acción (PV)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Valor de Mercado/ Valor Libro de Activo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Valor de Mercado/Costo de Reemplazo (Tobin’s Q)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Tahoma"/>
              </a:rPr>
              <a:t>Venta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Precio de la acción/Ventas por Acción (PV)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ahoma"/>
              </a:rPr>
              <a:t>Value/Sal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Tahoma"/>
              </a:rPr>
              <a:t>Variable de industria Específica</a:t>
            </a:r>
            <a:r>
              <a:rPr b="0" lang="es-ES" sz="2000" spc="-1" strike="noStrike">
                <a:solidFill>
                  <a:srgbClr val="ccecff"/>
                </a:solidFill>
                <a:latin typeface="Tahoma"/>
              </a:rPr>
              <a:t> (Precio /kwh, Precio por tonelada de cobre, etc.....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86" name="Object 5"/>
          <p:cNvGraphicFramePr/>
          <p:nvPr/>
        </p:nvGraphicFramePr>
        <p:xfrm>
          <a:off x="685800" y="1103400"/>
          <a:ext cx="7467480" cy="37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03400"/>
                    <a:ext cx="74674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914400" y="1143000"/>
          <a:ext cx="7543800" cy="48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54380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Sensibiliz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Madera 1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Tasa de Descuen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304920" y="1093680"/>
            <a:ext cx="8448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3"/>
          <p:cNvGraphicFramePr/>
          <p:nvPr/>
        </p:nvGraphicFramePr>
        <p:xfrm>
          <a:off x="609480" y="517680"/>
          <a:ext cx="7848720" cy="5878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17680"/>
                    <a:ext cx="784872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elación Precio util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recio de la acción y la utilidad por acción (p/u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Variables: div/u (actual),  k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p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(costo patrimonial) y  g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div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(tasa de crecimiento del dividend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ecff"/>
                </a:solidFill>
                <a:uFillTx/>
                <a:latin typeface="Tahoma"/>
              </a:rPr>
              <a:t>Firmas Establ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36800" y="4659480"/>
                <a:ext cx="31654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Multiplicar la razón de pago de dividendos por los siguientes múltiplos para obtener p/u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457200" y="2133720"/>
          <a:ext cx="7975440" cy="285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797544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4"/>
          <p:cNvSpPr/>
          <p:nvPr/>
        </p:nvSpPr>
        <p:spPr>
          <a:xfrm>
            <a:off x="533520" y="57150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Con lo anterior se obtiene la relación precio utilidad para la firma que nos interesa. Luego se multiplica la utilidad por este valor para obtener el precio estimado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La empresa X tiene una ganancia por acción de $15,0 en 1999, la tasa de pago de dividendos es de 65%. La tasa de crecimiento esperado de los dividendos es de 2%. El beta patrimonial de X es 1,60. Suponga rf es 3% y premio por riesgo de mercado es de 8,1%. Determine el precio estimado de la acción.</a:t>
            </a: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66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Solución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k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p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= 3% + 8,1%*1,60 = 15,96%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Múltiplo es 7,3. Entonces el precio estimado es  $71,18(7,3*0,65*15 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ccffff"/>
                </a:solidFill>
                <a:latin typeface="Tahoma"/>
              </a:rPr>
              <a:t>Enfoque </a:t>
            </a:r>
            <a:br>
              <a:rPr sz="4800"/>
            </a:br>
            <a:r>
              <a:rPr b="0" lang="es-ES_tradnl" sz="4800" spc="-1" strike="noStrike">
                <a:solidFill>
                  <a:srgbClr val="ccffff"/>
                </a:solidFill>
                <a:latin typeface="Tahoma"/>
              </a:rPr>
              <a:t>Flujos de Caja Descontado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lujos de Caja Descontados </a:t>
            </a: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[M&amp;M(1961)]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2195640" y="2292480"/>
          <a:ext cx="46465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195640" y="2292480"/>
                    <a:ext cx="46465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6"/>
          <p:cNvSpPr/>
          <p:nvPr/>
        </p:nvSpPr>
        <p:spPr>
          <a:xfrm>
            <a:off x="1012680" y="5334120"/>
            <a:ext cx="6988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Donde: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o</a:t>
            </a: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: valor actual de la empresa hoy,  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ON</a:t>
            </a: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: Ingreso Operacional Neto,   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:  monto invertido en nuevos proyectos, 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ko</a:t>
            </a: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: costo de capital,   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k*:</a:t>
            </a: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 rentabilidad media de los proyectos nuevos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16:58:28Z</dcterms:created>
  <dc:creator>Depto. Administración</dc:creator>
  <dc:description/>
  <cp:keywords/>
  <dc:language>en-US</dc:language>
  <cp:lastModifiedBy>carlos.maquieira</cp:lastModifiedBy>
  <cp:lastPrinted>2001-11-27T20:34:15Z</cp:lastPrinted>
  <dcterms:modified xsi:type="dcterms:W3CDTF">2009-04-22T18:04:06Z</dcterms:modified>
  <cp:revision>67</cp:revision>
  <dc:subject/>
  <dc:title>Modelo de dos períodos</dc:title>
</cp:coreProperties>
</file>