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DB4-BBF1-4A63-B5ED-4E689A14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A59-DE0C-48CA-AE75-8B3B7CFC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C72-9265-45F7-B6B5-AAF81A0F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D48-62D4-4DC6-86E0-0990762A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D6E-1320-4D32-A654-4671A48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8AC-E7A2-483E-9B8A-CEE8F22C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847-E9E6-4E6D-8606-0EEAADF7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8F4-4C73-48AD-BC62-A75AADB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0CD-74AD-400A-BD5F-E7589715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1F8-A283-4DF3-9048-028E63D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DCF-ECB9-4C88-8580-0532C44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3EF-10CF-45F6-B100-CEBF763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E7F4-CA72-43E7-87B3-8C488081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23520" y="2103480"/>
            <a:ext cx="78217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Valoración de Empre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8920" y="414972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ván Alvarez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informe contable que permite conocer como se 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erado el resultad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utilidades o pérdidas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durante el ejerc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resumen de los ingresos y gastos 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mpla los resultados del giro (operacionales), los distintos al giro (no operacionales, incluyendo financieros) e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resultados no repartidos como dividendos, van aumentando el Patrimonio de la empresa (Utilidades Reten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6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8580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do de Flujo de Efectiv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 Flujo de Ca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alla flujos de caj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fect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dos por la empresa durante un cierto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identifican flujos de ca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aldo neto de flujo de efectivo debe corresponder entonces a la variación de la Caja del período y registrada en e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1030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5734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de efectiv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ujo Neto Originado por Actividad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000" y="380880"/>
            <a:ext cx="8389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jetivos del 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ender los fundamentos de valoriz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visar los elementos necesarios para valorizar u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ente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corpor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licar metodología en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visar situa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os de capi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ujo Neto Originado por Actividad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de efectiv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ujo Neto Originado por Actividad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iliación entre flujo neto originado y el resultado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lizar los estados financieros de una empr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xaminarlos desde el punto de vista de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ón económica y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ituación Financie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ces de Liqu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ces de Liqu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de Liquidez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st Acido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Indices de Endeudamiento o solv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lo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r el valor de una empresa es un objetivo muy importante en la toma de decisiones financiera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quisic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s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ones bursát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s de expa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Indices de Endeu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ón de Endeudamiento 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ón Deuda/Patrimonio 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bertura de Interes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Indices de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E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1699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A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Indices de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Indices de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A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tación de existencias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sto de vent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cias en días =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Existencias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ntarios al Análisis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nálisis financiero consiste en la comparación de índices o razones calculadas a partir de los estados financi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lor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0344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fine como la diferencia entre el activo y el pasivo de una empresa; es decir, el patrimonio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debilidad de este método radica en que el valor en libros de los activos fijos no reflejen su valor de mercado (terrenos, edificios, maquinarias y equipos varios). Lo mismo es aplicable a los rubros de inventarios y cuentas por cob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ariación del método del valor contable consiste en realizar ajustes a los activos y pasivos a valor de mercado para obtener un patrimonio neto ajustad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39760" y="6477120"/>
            <a:ext cx="281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so de Co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14240" y="378000"/>
            <a:ext cx="83962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905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 los recursos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osee la empresa a una moment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además las fuentes de financiamiento de estos ac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o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iv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o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mon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 los recursos 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posee la empresa a una moment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estra además las fuentes de financiamiento de estos ac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os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s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os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rimon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acidad de la Empresa para Generar Utilidades en un determinado Perí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42920" y="1600200"/>
          <a:ext cx="6913800" cy="400212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.</a:t>
                      </a: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8101080" y="220500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7664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32680" y="1341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680" y="1341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7" descr=""/>
          <p:cNvPicPr/>
          <p:nvPr/>
        </p:nvPicPr>
        <p:blipFill>
          <a:blip r:embed="rId1"/>
          <a:stretch/>
        </p:blipFill>
        <p:spPr>
          <a:xfrm>
            <a:off x="1332000" y="306360"/>
            <a:ext cx="65926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29:55Z</dcterms:created>
  <dc:creator>IALVAREZ</dc:creator>
  <dc:description/>
  <dc:language>en-US</dc:language>
  <cp:lastModifiedBy>Ivan Alvarez Valdes</cp:lastModifiedBy>
  <dcterms:modified xsi:type="dcterms:W3CDTF">2009-03-20T02:21:08Z</dcterms:modified>
  <cp:revision>14</cp:revision>
  <dc:subject/>
  <dc:title>Diapositiva 1</dc:title>
</cp:coreProperties>
</file>