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D355-BA73-438C-8ACC-9B5D3708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E8F-1508-47A7-BDA3-70F69F6B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55E-2649-4C96-9EED-99939A7D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C97-30B5-4901-8CE7-3BD6D960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D87D-C656-4729-8DB3-6C739F98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A3F8-227B-46C6-9F99-C4A6EEE6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60FE-B6E8-4B19-BCEA-72B5D2D8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9E9-F535-4BD1-91ED-FA347E17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BCE-9847-4517-BBBE-E6EF1F60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8C06-7C00-4EC0-9960-0D9A222D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402-F337-4334-BE45-32D3987F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B25-D80B-487A-ADAE-31CBC78B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34D3-0692-4530-A34C-D5E30B839F43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11 Imagen" descr="dii.jpg"/>
          <p:cNvPicPr/>
          <p:nvPr/>
        </p:nvPicPr>
        <p:blipFill>
          <a:blip r:embed="rId1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164600" y="2124000"/>
            <a:ext cx="718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se Aux. Arquitectura Tecnológica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valuación Económic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7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0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2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3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59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Modelo de Cap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Dat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Distribució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Proces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742400" y="61128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quitectura Tecn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2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5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7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8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74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1742400" y="61128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quitectura Tecn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7"/>
          <p:cNvGraphicFramePr/>
          <p:nvPr/>
        </p:nvGraphicFramePr>
        <p:xfrm>
          <a:off x="1835280" y="1125360"/>
          <a:ext cx="5881680" cy="4878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35280" y="1125360"/>
                    <a:ext cx="5881680" cy="48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9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3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4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91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inear la estrategia de negocios y la 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ficación de Costos-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aluación Técnico-Operacional-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Riesgos en el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1743480" y="611280"/>
            <a:ext cx="50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todología de Evalu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4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8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9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5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06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rdware: redes, equip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ftware: paquetes, desarrollo, mantenció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stalaciones: centro de datos, ope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urso Humano: entrenamiento, asignacion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stión y Administ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cios Extern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741320" y="611280"/>
            <a:ext cx="39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9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3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4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20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1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reación de Val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joramiento de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ducción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ducción del Uso de 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1742400" y="611280"/>
            <a:ext cx="45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 de Benef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24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25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28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29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30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31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33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Para vuestro Proy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Proponer Modelo de C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En relación a la 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Identifique los co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Identifique los benef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9-06-18T16:29:25Z</dcterms:modified>
  <cp:revision>77</cp:revision>
  <dc:subject/>
  <dc:title>Diapositiva 1</dc:title>
</cp:coreProperties>
</file>