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4C6-A485-4E32-8389-0CB6601B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97B-A087-4AB5-8C59-EE76642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038-7D95-46EC-8296-A9DBB42C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1D0-48BA-47A5-8ADA-6BEFDE9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CEC-4D33-4F50-9BCD-1D3C5585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273-E965-48F0-BA95-C4F9E520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4DF-C4A0-41C6-8B8C-83C31CFF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65E-76D6-4E37-9F01-4EEE856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05D-87E0-464A-9667-20BBE95E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9BE-4992-4108-B18F-B651CCD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253-2D33-41D1-9F89-D5A604F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886-12C2-4BF0-88DD-67AEECD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6CC-6774-4ACA-8E68-87321B0D336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1 Imagen" descr="dii.jpg"/>
          <p:cNvPicPr/>
          <p:nvPr/>
        </p:nvPicPr>
        <p:blipFill>
          <a:blip r:embed="rId1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164600" y="2124000"/>
            <a:ext cx="71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 Aux. Arquitectura Tecnológ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0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Modelo de Cap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a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oc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5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4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1835280" y="1125360"/>
          <a:ext cx="5881680" cy="487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5280" y="1125360"/>
                    <a:ext cx="58816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inear la estrategia de negocios y la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ostos-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Técnico-Operacional-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 en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743480" y="61128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8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9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6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: redes, equip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: paquetes, desarrollo, manten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alaciones: centro de datos,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Humano: entrenamiento, asignaci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stión y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41320" y="6112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eación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miento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l Uso de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742400" y="61128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2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2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2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ara vuestro 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roponer Modelo de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 relación a la 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6-18T16:29:25Z</dcterms:modified>
  <cp:revision>77</cp:revision>
  <dc:subject/>
  <dc:title>Diapositiva 1</dc:title>
</cp:coreProperties>
</file>