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900-CA87-4CE0-9462-17D36C74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6DE-53F9-4118-97AD-4504481A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443-20C7-4395-993B-1F3A32B9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857-6470-40AB-96BA-EF654710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B76-CF3A-49E3-A42D-77092FCD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B28-65C7-4ADA-A28C-75449B97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892-4B36-42DF-BBA4-4D11C476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1B39-65F2-4363-BAA3-B69362B1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73F-745D-44A7-87E5-7634BD97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11E-741D-417E-BCF2-BCDCE863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3EF-F358-446D-9514-59947419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AC0-E726-41DE-BCC8-90EAEC86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FCE8-A1DF-4DDB-990F-182CBF3889C0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11 Imagen" descr="dii.jpg"/>
          <p:cNvPicPr/>
          <p:nvPr/>
        </p:nvPicPr>
        <p:blipFill>
          <a:blip r:embed="rId1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164600" y="2124000"/>
            <a:ext cx="718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se Aux. Arquitectura Tecnológica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valuación Económ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7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0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2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3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59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Modelo de Cap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Dat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Distribu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oce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742400" y="61128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quitectura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2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5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7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8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4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1742400" y="61128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quitectura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7"/>
          <p:cNvGraphicFramePr/>
          <p:nvPr/>
        </p:nvGraphicFramePr>
        <p:xfrm>
          <a:off x="1835280" y="1125360"/>
          <a:ext cx="5881680" cy="4878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35280" y="1125360"/>
                    <a:ext cx="5881680" cy="48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3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4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1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inear la estrategia de negocios y la 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ficación de Costos-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aluación Técnico-Operacional-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Riesgos en el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1743480" y="611280"/>
            <a:ext cx="50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todología de 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4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8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9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06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rdware: redes, equip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ftware: paquetes, desarrollo, mantenció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alaciones: centro de datos, ope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 Humano: entrenamiento, asignacion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stión y Administ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741320" y="611280"/>
            <a:ext cx="39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4 Conector recto" descr=""/>
          <p:cNvPicPr/>
          <p:nvPr/>
        </p:nvPicPr>
        <p:blipFill>
          <a:blip r:embed="rId1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1 Rectángulo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2 Rectángulo" descr=""/>
          <p:cNvPicPr/>
          <p:nvPr/>
        </p:nvPicPr>
        <p:blipFill>
          <a:blip r:embed="rId3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3" name="13 Rectángulo" descr=""/>
          <p:cNvPicPr/>
          <p:nvPr/>
        </p:nvPicPr>
        <p:blipFill>
          <a:blip r:embed="rId4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4" name="14 Rectángulo" descr=""/>
          <p:cNvPicPr/>
          <p:nvPr/>
        </p:nvPicPr>
        <p:blipFill>
          <a:blip r:embed="rId5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5 Rectángulo" descr=""/>
          <p:cNvPicPr/>
          <p:nvPr/>
        </p:nvPicPr>
        <p:blipFill>
          <a:blip r:embed="rId6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6 Rectángulo" descr=""/>
          <p:cNvPicPr/>
          <p:nvPr/>
        </p:nvPicPr>
        <p:blipFill>
          <a:blip r:embed="rId7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7 Rectángulo" descr=""/>
          <p:cNvPicPr/>
          <p:nvPr/>
        </p:nvPicPr>
        <p:blipFill>
          <a:blip r:embed="rId8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8 Rectángulo" descr=""/>
          <p:cNvPicPr/>
          <p:nvPr/>
        </p:nvPicPr>
        <p:blipFill>
          <a:blip r:embed="rId9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19 Rectángulo" descr=""/>
          <p:cNvPicPr/>
          <p:nvPr/>
        </p:nvPicPr>
        <p:blipFill>
          <a:blip r:embed="rId10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20" name="20 Rectángulo" descr=""/>
          <p:cNvPicPr/>
          <p:nvPr/>
        </p:nvPicPr>
        <p:blipFill>
          <a:blip r:embed="rId11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1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reación de Va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joramiento de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ucción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ucción del Uso de 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742400" y="611280"/>
            <a:ext cx="45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 de 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2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2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2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2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3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Para vuestro Proy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Proponer Modelo de C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En relación a la 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Identifique los co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Identifique los 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9-06-18T16:29:25Z</dcterms:modified>
  <cp:revision>77</cp:revision>
  <dc:subject/>
  <dc:title>Diapositiva 1</dc:title>
</cp:coreProperties>
</file>