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C7D-696B-4839-B63A-29563C0D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E44-B02F-4895-986E-1CBAB3D0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B34-2F0C-467A-96DD-60AEB077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BCE-8B05-4683-AA99-4977ACE3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23E-3D25-4FA8-8D4B-41528C35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5AC-04C5-443F-BD1B-B4B84D89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9D2-4EB4-4E9E-87BF-F78008AD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CF6-9229-4FB8-A79C-032C6279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D30-6F15-4AF6-B6C7-E1A4E3AA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0F5-1EC2-4A20-B9C2-708281BC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462-4274-4487-BFA4-0F101B6E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DB0-BCE5-49CE-ACE1-A0B2BAA3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6274-FB6A-44D3-B487-8794B45FD86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1 Imagen" descr="dii.jpg"/>
          <p:cNvPicPr/>
          <p:nvPr/>
        </p:nvPicPr>
        <p:blipFill>
          <a:blip r:embed="rId1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164600" y="2124000"/>
            <a:ext cx="71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se Aux. Arquitectura Tecnológic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7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0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Modelo de Cap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a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istribu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oc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2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5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7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4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7"/>
          <p:cNvGraphicFramePr/>
          <p:nvPr/>
        </p:nvGraphicFramePr>
        <p:xfrm>
          <a:off x="1835280" y="1125360"/>
          <a:ext cx="5881680" cy="487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35280" y="1125360"/>
                    <a:ext cx="5881680" cy="48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inear la estrategia de negocios y la 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ción de Costos-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aluación Técnico-Operacional-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Riesgos en 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743480" y="61128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8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9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6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rdware: redes, equip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ftware: paquetes, desarrollo, mantenció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alaciones: centro de datos,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 Humano: entrenamiento, asignacion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stión y Administ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741320" y="611280"/>
            <a:ext cx="39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eación de Va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miento d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l Uso de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742400" y="611280"/>
            <a:ext cx="45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2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2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2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2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3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ara vuestro Proy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roponer Modelo de C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En relación a la 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c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6-18T16:29:25Z</dcterms:modified>
  <cp:revision>77</cp:revision>
  <dc:subject/>
  <dc:title>Diapositiva 1</dc:title>
</cp:coreProperties>
</file>