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FEB-DA79-49EC-BBAA-46ACA4C1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FD8-8DDF-4DBB-BB0E-5F5D9514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956-1FBD-4716-AF1A-9AC7778E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3AA-179A-44E8-8B04-19B35679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BE1-8F49-42C9-A46F-061ECCA4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7AB-53F4-46EB-9B28-C520A4A0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9CE-6074-4230-8F3E-EE184681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4F8-48D0-42BC-BD92-B4DF8A64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BD3-6746-4B1C-9EE3-83F0A02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4E8-D5AB-4110-8B3D-2B9630A6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88A-83BA-4C36-93FB-B1852F93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01F-7725-4D42-A8A7-6161C4ED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F9CB-5315-44D7-8FB8-9B1905DAF4F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1 Imagen" descr="dii.jpg"/>
          <p:cNvPicPr/>
          <p:nvPr/>
        </p:nvPicPr>
        <p:blipFill>
          <a:blip r:embed="rId1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164600" y="2124000"/>
            <a:ext cx="71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se Aux. Arquitectura Tecnológic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0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Modelo de Cap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a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istrib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oc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5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7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4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7"/>
          <p:cNvGraphicFramePr/>
          <p:nvPr/>
        </p:nvGraphicFramePr>
        <p:xfrm>
          <a:off x="1835280" y="1125360"/>
          <a:ext cx="5881680" cy="487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35280" y="1125360"/>
                    <a:ext cx="588168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inear la estrategia de negocios y la 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ción de Costos-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aluación Técnico-Operacional-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Riesgos en 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743480" y="61128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8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9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6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rdware: redes, equip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ftware: paquetes, desarrollo, mantenció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alaciones: centro de datos,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 Humano: entrenamiento, asignacio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stión y Administ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741320" y="61128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eación de Va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miento d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l Uso de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742400" y="611280"/>
            <a:ext cx="45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2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2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2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3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ara vuestro Proy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roponer Modelo de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 relación a la 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6-18T16:29:25Z</dcterms:modified>
  <cp:revision>77</cp:revision>
  <dc:subject/>
  <dc:title>Diapositiva 1</dc:title>
</cp:coreProperties>
</file>