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6C75-9B13-43DA-9AFA-4F3BC7D6E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B7D1-F713-47B9-9068-46160704183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75A65-81E0-477E-829D-8BA7BE10E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91F2-1DBF-4375-928A-BC0457D19C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B4598-E438-42D6-BE1B-78D611DDF7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B83B-92D0-4F7D-9CA7-4BBE6672160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EE7CF-92FC-4B38-A670-A6F61BCC49C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DD63C-02E5-4CBF-BF8A-0F35DF8BA8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4F8A-9226-4990-9083-F24D84A1E95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1B18-C902-4537-A6DC-0FEEA18EC7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3EA8-5A31-4029-B9B9-DDE21982861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B7533-04CC-4D85-A0C2-54B79B88A6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F634-9567-4F0A-B768-FD28AB414E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5C130-1CE7-499E-8F8D-603656EBF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37C2-8590-4B5F-85BB-91B393FED94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AAB52-95C2-43DF-85C6-3F28784E736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9A40-F4B3-48F0-8C62-3FC550CBB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62E9-154A-4D74-A59B-A5EEABC4C0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723E-DBEA-46BD-A303-007631C727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3B2E8-9126-4E2A-9631-ABF42EC53C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29A-9DF5-42BC-B9EA-96B9F93A43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EDED-E0C1-41B4-B230-F918A5084A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9002-874F-45D2-BE05-8717E87F52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D5B6-03C5-474E-A518-7D57E124B4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BB5D-628D-4A98-B664-D5E8A23FA8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A7BB-547F-4429-A02E-F3862D5F315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5AEBD-1094-4E33-9A78-B12F396D183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4AEE-B904-4F13-ABC5-2EE20BE2B7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53A6-7893-4753-A673-40C25196D3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C70B-45FD-4F7D-ABB8-6F3F4462D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EE15-2791-403E-AAF8-5ABA4B4355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7BB2-ED9B-4650-92DA-53E23C9D83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0A88-700E-4A70-B6EE-D9A4B2DC16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F3943-70B5-4B27-A760-AA92A1A39BB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DF4-6EFB-4CF1-95B0-A005A44251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284-D4B3-4C3A-BD66-FAE2ABC4DC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7FA-7202-4A0A-BBFD-82E44B50F7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94B1-4B24-4DD3-B2A2-11310E04DC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FBC-10CA-4286-8787-60FCAEC71AF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4B8-F861-4A0B-B1BE-7137FE2194A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C333-0FDF-4870-B892-B936195AE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F19D-6123-49F9-9024-2E3C52F135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D8B-50AF-4EBF-AD2B-DEF562DF41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F50-50C1-403D-9072-24A3E77E36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BFC-A6C3-46DD-BDEA-DF41AABDD3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03D-46FD-418E-B4CC-4D607961B9E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003-6CB1-4EB4-A584-EB09F289E0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F1119-DE7A-4957-8859-0B49980D27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1AE4C-5EA3-48DF-9487-54C9AB2D988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2C7DB-02F8-4A4C-A3A2-D55A030B04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08689-8917-4725-AD57-40C76A978B3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5F2E8-5CD3-4A6F-B13D-032806470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407C-22DD-4C2E-BF00-703B481790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041120" y="25524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6478B-AB7C-4EAD-A072-329C566B1BC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8F0C7-78EC-4623-8A4F-88381419119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9DB06-E0AB-40E6-851C-A449CA39F5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729E5-53BA-4373-8BF1-630F29FE9B9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41120" y="5754600"/>
            <a:ext cx="1092204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909AA-6B7F-4137-BF5C-444D1F1D9B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637680" y="5754600"/>
            <a:ext cx="532980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110C2-5FD2-4540-8466-2C796CF18B8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411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73364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426520" y="5754600"/>
            <a:ext cx="3516480" cy="272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D437B-D27F-4D30-8185-6961AB06F4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"/>
          <p:cNvSpPr/>
          <p:nvPr/>
        </p:nvSpPr>
        <p:spPr>
          <a:xfrm>
            <a:off x="489024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E23D-F77F-4360-A4F3-5CE7AD3E3795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5" name=""/>
          <p:cNvSpPr/>
          <p:nvPr/>
        </p:nvSpPr>
        <p:spPr>
          <a:xfrm>
            <a:off x="4896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5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B2F3-6654-4E06-8452-FEDEEE56695A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36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6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0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0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1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2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3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422000" y="8113680"/>
            <a:ext cx="10845720" cy="750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3" name=""/>
          <p:cNvSpPr/>
          <p:nvPr/>
        </p:nvSpPr>
        <p:spPr>
          <a:xfrm>
            <a:off x="27720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4" name=""/>
          <p:cNvSpPr/>
          <p:nvPr/>
        </p:nvSpPr>
        <p:spPr>
          <a:xfrm>
            <a:off x="5256360" y="8902800"/>
            <a:ext cx="0" cy="5983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5" name=""/>
          <p:cNvSpPr/>
          <p:nvPr/>
        </p:nvSpPr>
        <p:spPr>
          <a:xfrm>
            <a:off x="27720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1422000" y="7097760"/>
            <a:ext cx="10845720" cy="1030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4" name=""/>
          <p:cNvSpPr/>
          <p:nvPr/>
        </p:nvSpPr>
        <p:spPr>
          <a:xfrm>
            <a:off x="27720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67920" y="8369280"/>
            <a:ext cx="10845720" cy="65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3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spcBef>
                <a:spcPts val="1151"/>
              </a:spcBef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017440"/>
            <a:ext cx="5333760" cy="2873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41480" y="4876920"/>
            <a:ext cx="5333760" cy="2859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6480" indent="-3348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632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18680" indent="-33120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041120" y="14745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5840" indent="-38700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2860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4240" indent="-38268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Num" idx="2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3C0F-8A9D-4413-9C5B-0C5DB9FB950F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0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Num" idx="3"/>
          </p:nvPr>
        </p:nvSpPr>
        <p:spPr>
          <a:xfrm>
            <a:off x="12436560" y="9480600"/>
            <a:ext cx="311040" cy="317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3AAE-B046-4012-B78A-396B9BE2BB0A}" type="slidenum">
              <a:rPr b="1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41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42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ldNum" idx="4"/>
          </p:nvPr>
        </p:nvSpPr>
        <p:spPr>
          <a:xfrm>
            <a:off x="12436560" y="948708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C016-61DD-4003-97D1-3F4189A8CB95}" type="slidenum">
              <a:rPr b="0" lang="en-US" sz="1400" spc="-1" strike="noStrike">
                <a:solidFill>
                  <a:srgbClr val="000000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elvetica Neue Bold Condensed"/>
            </a:endParaRPr>
          </a:p>
        </p:txBody>
      </p:sp>
      <p:sp>
        <p:nvSpPr>
          <p:cNvPr id="282" name=""/>
          <p:cNvSpPr/>
          <p:nvPr/>
        </p:nvSpPr>
        <p:spPr>
          <a:xfrm>
            <a:off x="4890600" y="9532440"/>
            <a:ext cx="322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CAPITULO 10 - ANÁLISIS DE SISTEMAS 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83" name=""/>
          <p:cNvSpPr/>
          <p:nvPr/>
        </p:nvSpPr>
        <p:spPr>
          <a:xfrm>
            <a:off x="49320" y="9546840"/>
            <a:ext cx="22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Helvetica Neue Bold Condensed"/>
              </a:rPr>
              <a:t>IN55A-01 PRIMAVERA 2008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82600" y="279360"/>
            <a:ext cx="12445920" cy="922176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28880" y="3225960"/>
            <a:ext cx="1131552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ase Auxiliar</a:t>
            </a:r>
            <a:br>
              <a:rPr sz="7800"/>
            </a:b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nálisis y Diseño de Software</a:t>
            </a:r>
            <a:r>
              <a:rPr b="0" lang="en-US" sz="2500" spc="-1" strike="noStrike">
                <a:solidFill>
                  <a:srgbClr val="4a7594"/>
                </a:solidFill>
                <a:latin typeface="Helvetica Neue Light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22000" y="7594200"/>
            <a:ext cx="1054116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3000"/>
          </a:bodyPr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Sistemas de Información Administrativos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partamento de Ingeniería Industrial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Universidad de Chile 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  <a:p>
            <a:pPr>
              <a:spcBef>
                <a:spcPts val="3200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46461"/>
                </a:solidFill>
                <a:latin typeface="Helvetica Neue"/>
              </a:rPr>
              <a:t>derechos reservados ©</a:t>
            </a:r>
            <a:endParaRPr b="0" lang="en-US" sz="13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6ED7-8C68-45CD-B29E-60768C1F0F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Actor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040" y="2768400"/>
            <a:ext cx="1116180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Un CU esta íntimamente relacionado con un actor que se encuentra utilizando el </a:t>
            </a: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sistema informático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uede ser una Persona (identificada por su rol), otro sistema informático u Organización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2AD7-719E-4782-AAD4-C4FAF7ED75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29760" y="255240"/>
            <a:ext cx="1235556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Metodología: </a:t>
            </a:r>
            <a:br>
              <a:rPr sz="6400"/>
            </a:b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Buscar Actores y sus funcione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8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o primero es reconocer a todos los actores que están involucrados en el sistema.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to debería estar claro desde las fases de analisis de la situación actual y en el rediseñ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400"/>
              </a:spcBef>
              <a:buSzPct val="174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461"/>
                </a:solidFill>
                <a:latin typeface="Helvetica Neue"/>
              </a:rPr>
              <a:t>Luego sus funciones básicas, ejemplo PDV:</a:t>
            </a:r>
            <a:endParaRPr b="0" lang="en-US" sz="3300" spc="-1" strike="noStrike">
              <a:solidFill>
                <a:srgbClr val="646461"/>
              </a:solidFill>
              <a:latin typeface="Helvetica Neue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351160" y="5805360"/>
          <a:ext cx="8291520" cy="3454560"/>
        </p:xfrm>
        <a:graphic>
          <a:graphicData uri="http://schemas.openxmlformats.org/drawingml/2006/table">
            <a:tbl>
              <a:tblPr/>
              <a:tblGrid>
                <a:gridCol w="1535040"/>
                <a:gridCol w="6756480"/>
              </a:tblGrid>
              <a:tr h="8510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ajer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Registra Productos, Cobra por lo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Entrega el cambio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8e9297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li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ompra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Paga los Producto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Gerente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ici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Cierra las operacione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908f95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Adm. de Sistemas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8e9297"/>
                      </a:solidFill>
                    </a:lnL>
                    <a:lnR w="12240">
                      <a:solidFill>
                        <a:srgbClr val="908f95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667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Helvetica Neue"/>
                        </a:rPr>
                        <a:t>Incorpora, actualiza, borra usuarios del sistema</a:t>
                      </a:r>
                      <a:endParaRPr b="0" lang="en-US" sz="2400" spc="-1" strike="noStrike">
                        <a:solidFill>
                          <a:srgbClr val="4a7594"/>
                        </a:solidFill>
                        <a:latin typeface="Helvetica Neue Bold Condensed"/>
                      </a:endParaRPr>
                    </a:p>
                  </a:txBody>
                  <a:tcPr anchor="ctr" marL="50760" marR="50760">
                    <a:lnL w="12240">
                      <a:solidFill>
                        <a:srgbClr val="908f95"/>
                      </a:solidFill>
                    </a:lnL>
                    <a:lnR w="12240">
                      <a:solidFill>
                        <a:srgbClr val="8e9297"/>
                      </a:solidFill>
                    </a:lnR>
                    <a:lnT w="12240">
                      <a:solidFill>
                        <a:srgbClr val="908f95"/>
                      </a:solidFill>
                    </a:lnT>
                    <a:lnB w="12240">
                      <a:solidFill>
                        <a:srgbClr val="8e92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A43D-00A2-45A4-A31F-32FC8E0259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Escenari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41120" y="2158560"/>
            <a:ext cx="10922040" cy="692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escenarios son la escénica de los casos de uso. Corresponden a una secuencia especifica de acciones e interacciones entre los actores y el sistema que se esta estudiand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5F24-600D-47B1-B776-A6741575DF3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 de caso de Uso alto nivel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46461"/>
                </a:solidFill>
                <a:latin typeface="Helvetica Neue"/>
              </a:rPr>
              <a:t>Caso de uso: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 Comprar producto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Actores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Cliente, cajer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Tipo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Primario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Descripción: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Un Cliente llega a la caja registradora con los artículos que va a comprar. El Cajero registra los artículos y cobra el importe. Al terminar la operación, el Cliente se marcha con los productos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20B3-A4D0-4845-9D2E-8E5FAAAFC19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UML para modelar Casos de Uso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24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lementos Básicos del Diagrama de CU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4319640" y="4368960"/>
            <a:ext cx="5611680" cy="2844720"/>
            <a:chOff x="4319640" y="4368960"/>
            <a:chExt cx="5611680" cy="2844720"/>
          </a:xfrm>
        </p:grpSpPr>
        <p:pic>
          <p:nvPicPr>
            <p:cNvPr id="767" name="" descr=""/>
            <p:cNvPicPr/>
            <p:nvPr/>
          </p:nvPicPr>
          <p:blipFill>
            <a:blip r:embed="rId2"/>
            <a:stretch/>
          </p:blipFill>
          <p:spPr>
            <a:xfrm>
              <a:off x="4319640" y="4368960"/>
              <a:ext cx="561168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214040" y="5199120"/>
              <a:ext cx="1588320" cy="10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JUGAR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4a7594"/>
                  </a:solidFill>
                  <a:latin typeface="Helvetica Neue Bold Condensed"/>
                </a:rPr>
                <a:t>BINARIO</a:t>
              </a:r>
              <a:endParaRPr b="0" lang="en-US" sz="21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1690560" y="4619880"/>
            <a:ext cx="17031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ACTORES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(ROLES)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0" name=""/>
          <p:cNvSpPr/>
          <p:nvPr/>
        </p:nvSpPr>
        <p:spPr>
          <a:xfrm>
            <a:off x="6272280" y="7738920"/>
            <a:ext cx="26938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LIMITE DEL SISTEMA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1" name=""/>
          <p:cNvSpPr/>
          <p:nvPr/>
        </p:nvSpPr>
        <p:spPr>
          <a:xfrm>
            <a:off x="6055920" y="3292560"/>
            <a:ext cx="313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a7594"/>
                </a:solidFill>
                <a:latin typeface="Helvetica Neue Bold Condensed"/>
              </a:rPr>
              <a:t>NOMBRE DEL CU</a:t>
            </a:r>
            <a:endParaRPr b="0" lang="en-US" sz="3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3492360" y="5156280"/>
            <a:ext cx="1105200" cy="4572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7658280" y="3822840"/>
            <a:ext cx="203040" cy="125712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7784640" y="7164360"/>
            <a:ext cx="165240" cy="633600"/>
          </a:xfrm>
          <a:prstGeom prst="line">
            <a:avLst/>
          </a:prstGeom>
          <a:ln w="76320">
            <a:solidFill>
              <a:srgbClr val="908f9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3CCA-BCE4-4BA7-B3ED-03D31D8732F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0160" y="255600"/>
            <a:ext cx="12409560" cy="13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Los diag. de CU del sistema quedarían...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201600" y="1611360"/>
            <a:ext cx="5243400" cy="36576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854680" y="1474920"/>
            <a:ext cx="6870600" cy="285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ompr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El cliente debe ser capaz de comprar los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 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n Cliente llega a la caja registradora con los artículos que va a comprar. El Cajero registra los artículos y luego informa al cliente el total de la compr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720240" y="2147400"/>
            <a:ext cx="2171880" cy="36684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9" name=""/>
          <p:cNvSpPr/>
          <p:nvPr/>
        </p:nvSpPr>
        <p:spPr>
          <a:xfrm>
            <a:off x="4354560" y="4597560"/>
            <a:ext cx="8432640" cy="3352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aso de Us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agar Productos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Códig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2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Actore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Cajero, Cliente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Propósit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ermitir al cliente elegir el medio de pago de la compra, pagar los artículos, y entregar el vuelto si fuera necesario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Tipo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Primari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Referencias Cruzadas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UC1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elvetica Neue"/>
              </a:rPr>
              <a:t>Descripción:</a:t>
            </a:r>
            <a:r>
              <a:rPr b="0" lang="en-US" sz="1800" spc="-1" strike="noStrike">
                <a:solidFill>
                  <a:srgbClr val="ffffff"/>
                </a:solidFill>
                <a:latin typeface="Helvetica Neue"/>
              </a:rPr>
              <a:t> Después de que se a efectuado la compra de los artículos (UC1) el cajero pregunta al cliente el medio de pago (efectivo, cheque o tarjeta de crédito). Si el cliente paga en efectivo, el cajero ingresa la cantidad pagada por el cliente y calcula el vuelto. El cajero termina la venta y emite la boleta.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"/>
          <p:cNvSpPr/>
          <p:nvPr/>
        </p:nvSpPr>
        <p:spPr>
          <a:xfrm>
            <a:off x="3570120" y="4102200"/>
            <a:ext cx="733680" cy="1523880"/>
          </a:xfrm>
          <a:prstGeom prst="line">
            <a:avLst/>
          </a:prstGeom>
          <a:ln w="76320">
            <a:solidFill>
              <a:srgbClr val="908f95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"/>
          <p:cNvSpPr/>
          <p:nvPr/>
        </p:nvSpPr>
        <p:spPr>
          <a:xfrm>
            <a:off x="685800" y="5429160"/>
            <a:ext cx="25401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Diagrama de Secuencia de Sistemas (DSS)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¿Qué es un DSS?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uestra, por un lado, los actores y por otro, el sistema y sus interaccione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utiliza UML para los diagrama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3549-1AE6-4F12-A4CD-49B7C8139C5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5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318960" y="2693880"/>
            <a:ext cx="7339320" cy="62611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914400" y="1587600"/>
            <a:ext cx="109234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Escenario Principal de Éxito.</a:t>
            </a:r>
            <a:endParaRPr b="0" lang="en-US" sz="3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861320" y="3530520"/>
            <a:ext cx="4789080" cy="5462280"/>
            <a:chOff x="7861320" y="3530520"/>
            <a:chExt cx="4789080" cy="5462280"/>
          </a:xfrm>
        </p:grpSpPr>
        <p:sp>
          <p:nvSpPr>
            <p:cNvPr id="789" name=""/>
            <p:cNvSpPr/>
            <p:nvPr/>
          </p:nvSpPr>
          <p:spPr>
            <a:xfrm>
              <a:off x="7861320" y="3530520"/>
              <a:ext cx="4789080" cy="5462280"/>
            </a:xfrm>
            <a:prstGeom prst="rect">
              <a:avLst/>
            </a:prstGeom>
            <a:gradFill rotWithShape="0">
              <a:gsLst>
                <a:gs pos="0">
                  <a:srgbClr val="8ea4b2"/>
                </a:gs>
                <a:gs pos="100000">
                  <a:srgbClr val="ccecff"/>
                </a:gs>
              </a:gsLst>
              <a:lin ang="13500000"/>
            </a:gradFill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861320" y="3779640"/>
              <a:ext cx="4754160" cy="49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cenario principal de Éxito (Flujo básico):</a:t>
              </a:r>
              <a:endParaRPr b="0" lang="en-US" sz="24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1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liente llega a un terminal de PDV con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tículos y/o servicios que desea comprar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icia una nueva venta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3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introduce el identificador del artícul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Arial"/>
                  <a:ea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sistema registra la línea de la venta y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senta la descripción del articulo, precio y 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ma parcial. El precio se calcula de acuerdo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un conjunto de reglas de precio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9900"/>
                  </a:solidFill>
                  <a:latin typeface="Wingdings"/>
                  <a:ea typeface="Wingdings"/>
                </a:rPr>
                <a:t>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 cajero repite los pasos 3 y 4 hasta que se indique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..........................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BE5B-09E5-4634-93E1-9FB74E6B983D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255600"/>
            <a:ext cx="10922040" cy="1433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onde estamos..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6" name=""/>
          <p:cNvSpPr/>
          <p:nvPr/>
        </p:nvSpPr>
        <p:spPr>
          <a:xfrm>
            <a:off x="1181160" y="1650960"/>
            <a:ext cx="4392720" cy="2286000"/>
          </a:xfrm>
          <a:prstGeom prst="roundRect">
            <a:avLst>
              <a:gd name="adj" fmla="val 8333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0. Definir el Proyect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Objetivo General &amp; Específic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o ambient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Recursos con disponibl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ntera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el alcance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arta Gantt del Proyect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quipo y Responsabilidad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"/>
          <p:cNvSpPr/>
          <p:nvPr/>
        </p:nvSpPr>
        <p:spPr>
          <a:xfrm>
            <a:off x="1181160" y="4624560"/>
            <a:ext cx="4392720" cy="2106360"/>
          </a:xfrm>
          <a:prstGeom prst="roundRect">
            <a:avLst>
              <a:gd name="adj" fmla="val 9032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1. Analisis de la Situación Actual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do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Validar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edir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Generar un diagnóstico de la situación actual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"/>
          <p:cNvSpPr/>
          <p:nvPr/>
        </p:nvSpPr>
        <p:spPr>
          <a:xfrm>
            <a:off x="1181160" y="7367760"/>
            <a:ext cx="4392720" cy="1660320"/>
          </a:xfrm>
          <a:prstGeom prst="roundRect">
            <a:avLst>
              <a:gd name="adj" fmla="val 11449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3. (Re)Diseñar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tablecer la(s) direcciones de cambi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l (re)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valuación d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leccionar las tecnologías habilitant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etallar y Probar el rediseñ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"/>
          <p:cNvSpPr/>
          <p:nvPr/>
        </p:nvSpPr>
        <p:spPr>
          <a:xfrm>
            <a:off x="7164360" y="2133720"/>
            <a:ext cx="4392720" cy="1842840"/>
          </a:xfrm>
          <a:prstGeom prst="roundRect">
            <a:avLst>
              <a:gd name="adj" fmla="val 10343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Helvetica Neue"/>
              </a:rPr>
              <a:t>4. Analisis y Diseño Software de apoyo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Especificación de los requerimientos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Analisis de requerimient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Diseño del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Modelamiento de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0" name=""/>
          <p:cNvSpPr/>
          <p:nvPr/>
        </p:nvSpPr>
        <p:spPr>
          <a:xfrm>
            <a:off x="7164360" y="4648320"/>
            <a:ext cx="4392720" cy="925560"/>
          </a:xfrm>
          <a:prstGeom prst="roundRect">
            <a:avLst>
              <a:gd name="adj" fmla="val 20546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5. Desarrollo de Softwar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1" name=""/>
          <p:cNvSpPr/>
          <p:nvPr/>
        </p:nvSpPr>
        <p:spPr>
          <a:xfrm>
            <a:off x="7164360" y="7848720"/>
            <a:ext cx="4392720" cy="1371600"/>
          </a:xfrm>
          <a:prstGeom prst="roundRect">
            <a:avLst>
              <a:gd name="adj" fmla="val 13889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7. Implantación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Proceso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Implantación del Software desarrollado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uebas de ambos y correccio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2" name=""/>
          <p:cNvSpPr/>
          <p:nvPr/>
        </p:nvSpPr>
        <p:spPr>
          <a:xfrm flipH="1" rot="16200000">
            <a:off x="9036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3" name=""/>
          <p:cNvSpPr/>
          <p:nvPr/>
        </p:nvSpPr>
        <p:spPr>
          <a:xfrm flipH="1" rot="16200000">
            <a:off x="2394720" y="38552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4" name=""/>
          <p:cNvSpPr/>
          <p:nvPr/>
        </p:nvSpPr>
        <p:spPr>
          <a:xfrm flipH="1" rot="16200000">
            <a:off x="3053520" y="6598440"/>
            <a:ext cx="64800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35" name=""/>
          <p:cNvSpPr/>
          <p:nvPr/>
        </p:nvSpPr>
        <p:spPr>
          <a:xfrm flipH="1" rot="16200000">
            <a:off x="9036000" y="5441760"/>
            <a:ext cx="64908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73880" y="3468600"/>
            <a:ext cx="1575720" cy="4621320"/>
            <a:chOff x="5573880" y="3468600"/>
            <a:chExt cx="1575720" cy="4621320"/>
          </a:xfrm>
        </p:grpSpPr>
        <p:sp>
          <p:nvSpPr>
            <p:cNvPr id="737" name=""/>
            <p:cNvSpPr/>
            <p:nvPr/>
          </p:nvSpPr>
          <p:spPr>
            <a:xfrm flipH="1" flipV="1">
              <a:off x="6393600" y="3525480"/>
              <a:ext cx="756000" cy="576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06560" y="3468600"/>
              <a:ext cx="0" cy="462132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8020080"/>
              <a:ext cx="845280" cy="0"/>
            </a:xfrm>
            <a:prstGeom prst="line">
              <a:avLst/>
            </a:prstGeom>
            <a:ln w="114480">
              <a:solidFill>
                <a:srgbClr val="908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40" name=""/>
          <p:cNvSpPr/>
          <p:nvPr/>
        </p:nvSpPr>
        <p:spPr>
          <a:xfrm rot="16200000">
            <a:off x="3727800" y="3856680"/>
            <a:ext cx="648000" cy="887400"/>
          </a:xfrm>
          <a:prstGeom prst="rightArrow">
            <a:avLst>
              <a:gd name="adj1" fmla="val 20000"/>
              <a:gd name="adj2" fmla="val 490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1" name=""/>
          <p:cNvSpPr/>
          <p:nvPr/>
        </p:nvSpPr>
        <p:spPr>
          <a:xfrm>
            <a:off x="7164360" y="6183360"/>
            <a:ext cx="4392720" cy="1030320"/>
          </a:xfrm>
          <a:prstGeom prst="roundRect">
            <a:avLst>
              <a:gd name="adj" fmla="val 18519"/>
            </a:avLst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6. Pruebas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Proceso y Software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"/>
          <p:cNvSpPr/>
          <p:nvPr/>
        </p:nvSpPr>
        <p:spPr>
          <a:xfrm flipH="1" rot="16200000">
            <a:off x="9036000" y="7078680"/>
            <a:ext cx="649440" cy="890640"/>
          </a:xfrm>
          <a:prstGeom prst="rightArrow">
            <a:avLst>
              <a:gd name="adj1" fmla="val 20000"/>
              <a:gd name="adj2" fmla="val 49023"/>
            </a:avLst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505C-9469-4076-AC78-C96684CA836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Trabajo en Clase Aux.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Caso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3200"/>
              </a:spcBef>
              <a:buSzPct val="174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Diagramas de Secuenci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91A2-3BA7-41E1-A206-5B59A5609AC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9000" y="279000"/>
            <a:ext cx="1275084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Pasos a seguir en Análisis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41120" y="1740960"/>
            <a:ext cx="10922040" cy="775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gunas de las tareas a realizarse en la etapa de análisis son las siguiente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requerimientos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casos esenciales de uso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Casos de uso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Crear diagrama de casos de uso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pecificar escenarios.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rear y perfeccionar el modelo conceptual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1800"/>
              </a:spcBef>
              <a:buClr>
                <a:srgbClr val="646461"/>
              </a:buClr>
              <a:buSzPct val="99000"/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efinir los diagramas de secuencia de alto nivel del sistema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B5DF-BCDE-4C0D-9CA5-C005474A001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72840" y="3556080"/>
            <a:ext cx="11645640" cy="3797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Requerimientos Funcionales de Software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Requerimientos de SW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041120" y="2452680"/>
            <a:ext cx="10922040" cy="66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01400" indent="-40140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a meta principal en esta etapa es identificar y documentar lo que en realidad se necesita, para realizar el software de apoyo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01400" indent="-401400">
              <a:spcBef>
                <a:spcPts val="3200"/>
              </a:spcBef>
              <a:buSzPct val="1748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 recomienda aquí definir al menos los siguientes puntos: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Panorama general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Metas del sistema (alineadas con las metas del rediseño)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Funciones del sistema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14680" indent="-401400"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Atributos de calidad del sistema</a:t>
            </a:r>
            <a:br>
              <a:rPr sz="3000"/>
            </a:b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66B5-7CAB-4AEE-86DC-22EB1296F6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41120" y="255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aso de estudio: el punto de vent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6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	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upongamos como caso de estudio el sistema de una terminal de punto de venta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Esta terminal es un sistema automatizado con el que se registran las ventas y se realizan los pagos. Por lo general este tipo de sistemas comprenden hardware (un computador y un lector de código barras) y software (el sistema que se ejecuta en la terminal). Suponga que se nos ha contratado para crear este software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F8E0-31FA-4A61-80BE-B42D1A8F83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165240"/>
            <a:ext cx="10922040" cy="13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Ejemplo: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"/>
          <p:cNvSpPr/>
          <p:nvPr/>
        </p:nvSpPr>
        <p:spPr>
          <a:xfrm>
            <a:off x="2006640" y="1276200"/>
            <a:ext cx="8991720" cy="84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Panorama general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ste proyecto tiene por objeto crear un sistema de terminal para el punto de venta que se utilizará en las ventas al menude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Metas</a:t>
            </a:r>
            <a:br>
              <a:rPr sz="1700"/>
            </a:b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En términos generales, la meta es una mayor automatización del pago en las cajas registradoras, y dar soporte a servicios más rápidos, más baratos y mejores. Más concretamente, la meta incluye: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Pago rápido de los cliente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Análisis rápido y exacto de las venta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· Control automático del inventario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</a:rPr>
              <a:t>Funciones del sistema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funciones del sistema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lo que éste deberá de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hacer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. Hay que identificar estas funciones y listarlas en grupos lógic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Para verificar que X es en verdad una función del sistema, la siguiente frase deberá tener sentido: "El sistema deberá hacer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X". Por ejemplo: "el sistema deberá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autorizar pagos a crédito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"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funciones pueden clasificarse en tres categorías: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, ocultas y superfluas. 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evidente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deben realizarse, y el usuario debe saber que se han realizado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 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ocult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también deben realizarse, y puede que no sean visibles para el usuario. Muchas de estas funciones se omiten (erróneamente) durante el proceso de obtención de requerimientos.</a:t>
            </a: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Las</a:t>
            </a:r>
            <a:r>
              <a:rPr b="0" i="1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uperfluas</a:t>
            </a:r>
            <a:r>
              <a:rPr b="0" lang="en-US" sz="1700" spc="-1" strike="noStrike">
                <a:solidFill>
                  <a:srgbClr val="4a7594"/>
                </a:solidFill>
                <a:latin typeface="Arial"/>
                <a:ea typeface="Arial"/>
              </a:rPr>
              <a:t> son opcionales, y su inclusión no repercute significativamente en el costo ni en otras funciones.</a:t>
            </a:r>
            <a:br>
              <a:rPr sz="1700"/>
            </a:b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3506-BE24-466C-9D18-14612C70C43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22000" y="3569760"/>
            <a:ext cx="10541160" cy="262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Fase de Análisis:</a:t>
            </a:r>
            <a:br>
              <a:rPr sz="7500"/>
            </a:br>
            <a:r>
              <a:rPr b="0" lang="en-US" sz="7500" spc="-1" strike="noStrike">
                <a:solidFill>
                  <a:srgbClr val="d5d4d6"/>
                </a:solidFill>
                <a:latin typeface="Helvetica Neue Bold Condensed"/>
              </a:rPr>
              <a:t>Casos de Uso del Sistema</a:t>
            </a:r>
            <a:endParaRPr b="0" lang="en-US" sz="75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90520" y="255240"/>
            <a:ext cx="12423600" cy="1547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Definición de Casos de Uso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41120" y="2084400"/>
            <a:ext cx="10922040" cy="716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3200"/>
              </a:spcBef>
              <a:buSzPct val="174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Los casos de uso sirven para encontrar y capturar los requerimientos (especialmente los funcionales)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1"/>
                </a:solidFill>
                <a:latin typeface="Helvetica Neue"/>
              </a:rPr>
              <a:t>Son descripciones narrativas en lenguaje natural de los procesos en un formato estructurado de prosa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51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Son denominados por un VERBO. Ejemplo: “Comprar producto”.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C403-24EB-48EA-82DA-D01694FD49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nn</cp:lastModifiedBy>
  <dcterms:modified xsi:type="dcterms:W3CDTF">2009-05-06T02:38:22Z</dcterms:modified>
  <cp:revision>11</cp:revision>
  <dc:subject/>
  <dc:title>Capitulo 10 Analisis de Sistemas Basado en : “UML y PATRONES”, Craig Larman, 1Ed y 2 Ed. </dc:title>
</cp:coreProperties>
</file>