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3AD6-7501-43FE-8A1B-9C32A7376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08D0-20A3-49E0-BAB3-77AAAD0DADC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B6625-84F4-49D8-BB52-8209D1768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E3ED-E701-4D92-8C8A-CCEA880362C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C8DAB-6E23-4806-8F94-C7EDAB36F4A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8C7C2-C704-4F37-BD0B-0D546AE62FD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39386-4D76-4D70-8754-CEC6F2153DD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65E91-17F3-49A7-9473-9358203E5D4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9FFBC-99FD-4E8A-ADEE-6DF9907B847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1070A-2862-4317-A145-78F0897A15F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9314B-2A5B-4E0E-A9AE-1298600943F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30738-86A6-4FA6-8790-E9A8B09FF77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2FC1D-6E17-46C1-A94C-63AE4A4719F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9B2C1-DC9E-46F6-B957-5295E0666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2C0C-2F03-4DCF-BDC7-BD7C2D81621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A9BC5-B7BF-4A18-9E5C-8A97B24578A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A80C-4220-4337-ADD8-5F76A760F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2810-49A2-46CD-9416-655E98E2DF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DB78-AD55-45A1-8B70-4DA1D5C90E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4B4C-39D6-45D2-859C-F021B8F6FB9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CFDB-0804-4B7F-B42C-6D888DED29F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40661-3DEA-42D9-BE14-F475EB3D0F2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B0429-ED8A-4755-85BC-7458F5C033B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EE5D2-0961-4C83-8F16-31C829F70B8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3BFB7-F0AC-4248-AAD4-2BE57303181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E1B6D-6119-405D-90D7-57433CCBEC4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C6E9-040D-4018-AB01-03F91835689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4D05C-C3E7-4CD5-854E-C2384AC3B6E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02611-D88C-4754-9140-C71822D1B6F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4D89-27E0-4906-A23E-A441D87EE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7FDC-735D-4F88-8ADF-3CDFD447B99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3D77D-4A84-4CD8-835A-9B9FCB1C13F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45D69-72B6-4C84-8D9D-954E4D569FC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DFAD-693C-4E49-8046-7D844FE5CD6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732-1B86-4BC6-B807-01DAE64E333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490-5CF2-425C-9804-B8758E3BCCF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3784-20BF-457E-A19F-8CB16840CFC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91B-69C3-4F0F-AB47-D4543145317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497-6BE5-4D6F-9802-A025143FCBB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E2F-05AC-4512-BFFE-2D0664D2075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B5A-91FF-4A50-93B2-930BD5882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DDBD-220B-4158-AF84-E7C10E09475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DCE-409D-4385-B769-A8BEAD43289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C1F-327B-4384-BA95-D2EE30B7EBC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85E-DE21-4D23-8745-78E901D706B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F1B-97B1-49FF-9D2E-C9B42EB2910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05C-32ED-4905-A27E-6CB97228FA9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FE9C7-4419-4DD0-BDBF-32A5CF02196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F29D8-DFB4-41AE-8828-1A0E58DCB10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1DDF1-EBCB-4FAE-8B9A-05349CF8D56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275E6-3776-4C10-A740-71E7D55D6A2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39A89-358C-4870-B60C-70427BAAD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A5B7-14E2-4A0F-B57D-33BED348604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7AF2D-F481-4AE5-B5E7-403E57F9159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B5171-C49D-452F-ABD3-783211E0337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49D70-B08D-45CF-8204-ED75A33FB13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69F6A-A784-4F24-A0B7-769F765616F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3BFF4-580A-45E6-9618-C1F54D624EA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E0CE1-01B4-4295-B7E9-6145145E904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40DC1-349D-48BB-A1F4-5A44A7A5A1B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5840" indent="-3870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2860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424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"/>
          <p:cNvSpPr/>
          <p:nvPr/>
        </p:nvSpPr>
        <p:spPr>
          <a:xfrm>
            <a:off x="489024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5161-3D8B-468C-9A75-85F2C1C4FD16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5" name=""/>
          <p:cNvSpPr/>
          <p:nvPr/>
        </p:nvSpPr>
        <p:spPr>
          <a:xfrm>
            <a:off x="4896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5840" indent="-3870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2860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424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5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2EA9-9D11-47AA-8A4A-6BC29784ECC0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362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63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6480" indent="-3348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632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1868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4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8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2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6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1422000" y="8113680"/>
            <a:ext cx="10845720" cy="7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0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1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2" name=""/>
          <p:cNvSpPr/>
          <p:nvPr/>
        </p:nvSpPr>
        <p:spPr>
          <a:xfrm>
            <a:off x="5256360" y="8902800"/>
            <a:ext cx="0" cy="59832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3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1422000" y="7097760"/>
            <a:ext cx="10845720" cy="10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422000" y="8113680"/>
            <a:ext cx="10845720" cy="7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42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3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4" name=""/>
          <p:cNvSpPr/>
          <p:nvPr/>
        </p:nvSpPr>
        <p:spPr>
          <a:xfrm>
            <a:off x="5256360" y="8902800"/>
            <a:ext cx="0" cy="59832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5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1422000" y="7097760"/>
            <a:ext cx="10845720" cy="10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84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2000" y="3569760"/>
            <a:ext cx="10541160" cy="26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spcBef>
                <a:spcPts val="1151"/>
              </a:spcBef>
              <a:buClr>
                <a:srgbClr val="4a7594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spcBef>
                <a:spcPts val="1151"/>
              </a:spcBef>
              <a:buClr>
                <a:srgbClr val="4a7594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629040" y="2768400"/>
            <a:ext cx="533412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6480" indent="-3348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632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1868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480" y="2017440"/>
            <a:ext cx="5333760" cy="2873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41480" y="4876920"/>
            <a:ext cx="5333760" cy="285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5000"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6480" indent="-3348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632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1868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041120" y="1474560"/>
            <a:ext cx="1092204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5840" indent="-38700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28600" indent="-38268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4240" indent="-38268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47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47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61BA-7A3B-49E2-8D9E-6375BE1117C3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201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02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Num" idx="3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1ECD-7680-4C8D-A1E8-8959D68F0C18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241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42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Num" idx="4"/>
          </p:nvPr>
        </p:nvSpPr>
        <p:spPr>
          <a:xfrm>
            <a:off x="12436560" y="9487080"/>
            <a:ext cx="311040" cy="3045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01DE-4A69-4706-8569-A03B9656E174}" type="slidenum">
              <a:rPr b="0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282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83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28880" y="3225960"/>
            <a:ext cx="1131552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ase Auxiliar</a:t>
            </a:r>
            <a:br>
              <a:rPr sz="7800"/>
            </a:b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Análisis y Diseño de Software</a:t>
            </a:r>
            <a:r>
              <a:rPr b="0" lang="en-US" sz="2500" spc="-1" strike="noStrike">
                <a:solidFill>
                  <a:srgbClr val="4a7594"/>
                </a:solidFill>
                <a:latin typeface="Helvetica Neue Light"/>
              </a:rPr>
              <a:t>.</a:t>
            </a:r>
            <a:br>
              <a:rPr sz="2500"/>
            </a:br>
            <a:endParaRPr b="0" lang="en-US" sz="25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422000" y="7594200"/>
            <a:ext cx="105411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3000"/>
          </a:bodyPr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Sistemas de Información Administrativos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Departamento de Ingeniería Industrial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Universidad de Chile 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46461"/>
                </a:solidFill>
                <a:latin typeface="Helvetica Neue"/>
              </a:rPr>
              <a:t>derechos reservados ©</a:t>
            </a:r>
            <a:endParaRPr b="0" lang="en-US" sz="13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AC25-8D20-4736-869C-05BEC8616C6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efinición de Actor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914040" y="2768400"/>
            <a:ext cx="11161800" cy="641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Un CU esta íntimamente relacionado con un actor que se encuentra utilizando el </a:t>
            </a:r>
            <a:r>
              <a:rPr b="1" lang="en-US" sz="3600" spc="-1" strike="noStrike">
                <a:solidFill>
                  <a:srgbClr val="646461"/>
                </a:solidFill>
                <a:latin typeface="Helvetica Neue"/>
              </a:rPr>
              <a:t>sistema informático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Actor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Puede ser una Persona (identificada por su rol), otro sistema informático u Organización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B402-F66E-434F-94FF-ADE38A6CA1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29760" y="255240"/>
            <a:ext cx="123555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a7594"/>
                </a:solidFill>
                <a:latin typeface="Helvetica Neue Light"/>
              </a:rPr>
              <a:t>Metodología: </a:t>
            </a:r>
            <a:br>
              <a:rPr sz="6400"/>
            </a:br>
            <a:r>
              <a:rPr b="0" lang="en-US" sz="6400" spc="-1" strike="noStrike">
                <a:solidFill>
                  <a:srgbClr val="4a7594"/>
                </a:solidFill>
                <a:latin typeface="Helvetica Neue Light"/>
              </a:rPr>
              <a:t>Buscar Actores y sus funciones</a:t>
            </a:r>
            <a:endParaRPr b="0" lang="en-US" sz="6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8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461"/>
                </a:solidFill>
                <a:latin typeface="Helvetica Neue"/>
              </a:rPr>
              <a:t>Lo primero es reconocer a todos los actores que están involucrados en el sistema.</a:t>
            </a:r>
            <a:endParaRPr b="0" lang="en-US" sz="33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to debería estar claro desde las fases de analisis de la situación actual y en el rediseño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400"/>
              </a:spcBef>
              <a:buSzPct val="174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461"/>
                </a:solidFill>
                <a:latin typeface="Helvetica Neue"/>
              </a:rPr>
              <a:t>Luego sus funciones básicas, ejemplo PDV:</a:t>
            </a:r>
            <a:endParaRPr b="0" lang="en-US" sz="3300" spc="-1" strike="noStrike">
              <a:solidFill>
                <a:srgbClr val="646461"/>
              </a:solidFill>
              <a:latin typeface="Helvetica Neue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2351160" y="5805360"/>
          <a:ext cx="8291520" cy="3454560"/>
        </p:xfrm>
        <a:graphic>
          <a:graphicData uri="http://schemas.openxmlformats.org/drawingml/2006/table">
            <a:tbl>
              <a:tblPr/>
              <a:tblGrid>
                <a:gridCol w="1535040"/>
                <a:gridCol w="6756480"/>
              </a:tblGrid>
              <a:tr h="8510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ajero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Registra Productos, Cobra por lo producto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Entrega el cambio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liente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ompra Producto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Paga los Producto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Gerente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Inicia las operacione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ierra las operacione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Adm. de Sistema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Incorpora, actualiza, borra usuarios del sistema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67A0-2998-4CF0-87F4-882E6DF1EC3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efinición de Escenario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41120" y="2158560"/>
            <a:ext cx="10922040" cy="692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os escenarios son la escénica de los casos de uso. Corresponden a una secuencia especifica de acciones e interacciones entre los actores y el sistema que se esta estudiando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E3FE-F991-43AE-82F4-A5FE4BCF9E3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Ejemplo de caso de Uso alto nivel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461"/>
                </a:solidFill>
                <a:latin typeface="Helvetica Neue"/>
              </a:rPr>
              <a:t>Caso de uso: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 Comprar producto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Actores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Cliente, cajero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Tipo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Primario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Descripción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Un Cliente llega a la caja registradora con los artículos que va a comprar. El Cajero registra los artículos y cobra el importe. Al terminar la operación, el Cliente se marcha con los productos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4E13-171B-46DD-A3E8-320284FEC6A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22000" y="3569760"/>
            <a:ext cx="10541160" cy="26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UML para modelar Casos de Uso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90160" y="255600"/>
            <a:ext cx="12409560" cy="24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Elementos Básicos del Diagrama de CU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4319640" y="4368960"/>
            <a:ext cx="5611680" cy="2844720"/>
            <a:chOff x="4319640" y="4368960"/>
            <a:chExt cx="5611680" cy="2844720"/>
          </a:xfrm>
        </p:grpSpPr>
        <p:pic>
          <p:nvPicPr>
            <p:cNvPr id="767" name="" descr=""/>
            <p:cNvPicPr/>
            <p:nvPr/>
          </p:nvPicPr>
          <p:blipFill>
            <a:blip r:embed="rId2"/>
            <a:stretch/>
          </p:blipFill>
          <p:spPr>
            <a:xfrm>
              <a:off x="4319640" y="4368960"/>
              <a:ext cx="561168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7214040" y="5199120"/>
              <a:ext cx="1588320" cy="105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4a7594"/>
                  </a:solidFill>
                  <a:latin typeface="Helvetica Neue Bold Condensed"/>
                </a:rPr>
                <a:t>JUGAR</a:t>
              </a:r>
              <a:endParaRPr b="0" lang="en-US" sz="21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4a7594"/>
                  </a:solidFill>
                  <a:latin typeface="Helvetica Neue Bold Condensed"/>
                </a:rPr>
                <a:t>BINARIO</a:t>
              </a:r>
              <a:endParaRPr b="0" lang="en-US" sz="21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1690560" y="4619880"/>
            <a:ext cx="17031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ACTORES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(ROLES)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0" name=""/>
          <p:cNvSpPr/>
          <p:nvPr/>
        </p:nvSpPr>
        <p:spPr>
          <a:xfrm>
            <a:off x="6272280" y="7738920"/>
            <a:ext cx="26938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LIMITE DEL SISTEMA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1" name=""/>
          <p:cNvSpPr/>
          <p:nvPr/>
        </p:nvSpPr>
        <p:spPr>
          <a:xfrm>
            <a:off x="6055920" y="3292560"/>
            <a:ext cx="313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NOMBRE DEL CU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3492360" y="5156280"/>
            <a:ext cx="1105200" cy="457200"/>
          </a:xfrm>
          <a:prstGeom prst="line">
            <a:avLst/>
          </a:prstGeom>
          <a:ln w="76320">
            <a:solidFill>
              <a:srgbClr val="908f9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7658280" y="3822840"/>
            <a:ext cx="203040" cy="1257120"/>
          </a:xfrm>
          <a:prstGeom prst="line">
            <a:avLst/>
          </a:prstGeom>
          <a:ln w="76320">
            <a:solidFill>
              <a:srgbClr val="908f95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7784640" y="7164360"/>
            <a:ext cx="165240" cy="633600"/>
          </a:xfrm>
          <a:prstGeom prst="line">
            <a:avLst/>
          </a:prstGeom>
          <a:ln w="76320">
            <a:solidFill>
              <a:srgbClr val="908f95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BA11-86E4-42AB-994A-0468EE2962C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0160" y="255600"/>
            <a:ext cx="12409560" cy="13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Los diag. de CU del sistema quedarían...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201600" y="1611360"/>
            <a:ext cx="5243400" cy="36576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5854680" y="1474920"/>
            <a:ext cx="6870600" cy="285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aso de Us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Comprar Productos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ódig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C1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Actores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Cajero, Cliente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Propósit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El cliente debe ser capaz de comprar los productos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Tip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rimari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Referencias Cruzadas: 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UC2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Descripción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n Cliente llega a la caja registradora con los artículos que va a comprar. El Cajero registra los artículos y luego informa al cliente el total de la compra.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720240" y="2147400"/>
            <a:ext cx="2171880" cy="366840"/>
          </a:xfrm>
          <a:prstGeom prst="line">
            <a:avLst/>
          </a:prstGeom>
          <a:ln w="76320">
            <a:solidFill>
              <a:srgbClr val="908f95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9" name=""/>
          <p:cNvSpPr/>
          <p:nvPr/>
        </p:nvSpPr>
        <p:spPr>
          <a:xfrm>
            <a:off x="4354560" y="4597560"/>
            <a:ext cx="8432640" cy="3352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aso de Us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agar Productos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ódig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C2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Actores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Cajero, Cliente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Propósit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ermitir al cliente elegir el medio de pago de la compra, pagar los artículos, y entregar el vuelto si fuera necesario.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Tip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rimari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Referencias Cruzadas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C1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Descripción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Después de que se a efectuado la compra de los artículos (UC1) el cajero pregunta al cliente el medio de pago (efectivo, cheque o tarjeta de crédito). Si el cliente paga en efectivo, el cajero ingresa la cantidad pagada por el cliente y calcula el vuelto. El cajero termina la venta y emite la boleta.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0" name=""/>
          <p:cNvSpPr/>
          <p:nvPr/>
        </p:nvSpPr>
        <p:spPr>
          <a:xfrm>
            <a:off x="3570120" y="4102200"/>
            <a:ext cx="733680" cy="1523880"/>
          </a:xfrm>
          <a:prstGeom prst="line">
            <a:avLst/>
          </a:prstGeom>
          <a:ln w="76320">
            <a:solidFill>
              <a:srgbClr val="908f95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1" name=""/>
          <p:cNvSpPr/>
          <p:nvPr/>
        </p:nvSpPr>
        <p:spPr>
          <a:xfrm>
            <a:off x="685800" y="5429160"/>
            <a:ext cx="25401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422000" y="3569760"/>
            <a:ext cx="10541160" cy="26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Diagrama de Secuencia de Sistemas (DSS)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¿Qué es un DSS?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Muestra, por un lado, los actores y por otro, el sistema y sus interacciones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3200"/>
              </a:spcBef>
              <a:buSzPct val="1748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 utiliza UML para los diagrama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6339-EEF8-4424-86EC-5690E8F9C02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041120" y="255600"/>
            <a:ext cx="10922040" cy="1535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Ejemplo: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318960" y="2693880"/>
            <a:ext cx="7339320" cy="62611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914400" y="1587600"/>
            <a:ext cx="109234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748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Escenario Principal de Éxito.</a:t>
            </a:r>
            <a:endParaRPr b="0" lang="en-US" sz="3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861320" y="3530520"/>
            <a:ext cx="4789080" cy="5462280"/>
            <a:chOff x="7861320" y="3530520"/>
            <a:chExt cx="4789080" cy="5462280"/>
          </a:xfrm>
        </p:grpSpPr>
        <p:sp>
          <p:nvSpPr>
            <p:cNvPr id="789" name=""/>
            <p:cNvSpPr/>
            <p:nvPr/>
          </p:nvSpPr>
          <p:spPr>
            <a:xfrm>
              <a:off x="7861320" y="3530520"/>
              <a:ext cx="4789080" cy="5462280"/>
            </a:xfrm>
            <a:prstGeom prst="rect">
              <a:avLst/>
            </a:prstGeom>
            <a:gradFill rotWithShape="0">
              <a:gsLst>
                <a:gs pos="0">
                  <a:srgbClr val="8ea4b2"/>
                </a:gs>
                <a:gs pos="100000">
                  <a:srgbClr val="ccecff"/>
                </a:gs>
              </a:gsLst>
              <a:lin ang="13500000"/>
            </a:gradFill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61320" y="3779640"/>
              <a:ext cx="4754160" cy="49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cenario principal de Éxito (Flujo básico):</a:t>
              </a:r>
              <a:endParaRPr b="0" lang="en-US" sz="24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Arial"/>
                </a:rPr>
                <a:t>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cliente llega a un terminal de PDV con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tículos y/o servicios que desea comprar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Arial"/>
                </a:rPr>
                <a:t>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cajero inicia una nueva venta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Arial"/>
                </a:rPr>
                <a:t>3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cajero introduce el identificador del artículo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Arial"/>
                </a:rPr>
                <a:t>4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sistema registra la línea de la venta y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senta la descripción del articulo, precio y 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a parcial. El precio se calcula de acuerdo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un conjunto de reglas de precios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Wingdings"/>
                  <a:ea typeface="Wingdings"/>
                </a:rPr>
                <a:t>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cajero repite los pasos 3 y 4 hasta que se indique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.........................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..........................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7BE4-5EA0-49C6-B5F8-B9C638CE9262}" type="slidenum">
              <a:t>1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041120" y="255600"/>
            <a:ext cx="10922040" cy="143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onde estamos...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6" name=""/>
          <p:cNvSpPr/>
          <p:nvPr/>
        </p:nvSpPr>
        <p:spPr>
          <a:xfrm>
            <a:off x="1181160" y="1650960"/>
            <a:ext cx="4392720" cy="2286000"/>
          </a:xfrm>
          <a:prstGeom prst="roundRect">
            <a:avLst>
              <a:gd name="adj" fmla="val 8333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0. Definir el Proyecto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Objetivo General &amp; Específic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edio ambiente del proyect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Recursos con disponibl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Interaccio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tablecer el alcance del proyect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Carta Gantt del Proyect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quipo y Responsabilidad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7" name=""/>
          <p:cNvSpPr/>
          <p:nvPr/>
        </p:nvSpPr>
        <p:spPr>
          <a:xfrm>
            <a:off x="1181160" y="4624560"/>
            <a:ext cx="4392720" cy="2106360"/>
          </a:xfrm>
          <a:prstGeom prst="roundRect">
            <a:avLst>
              <a:gd name="adj" fmla="val 9032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1. Analisis de la Situación Actual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tado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odelar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Validar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edir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Generar un diagnóstico de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8" name=""/>
          <p:cNvSpPr/>
          <p:nvPr/>
        </p:nvSpPr>
        <p:spPr>
          <a:xfrm>
            <a:off x="1181160" y="7367760"/>
            <a:ext cx="4392720" cy="1660320"/>
          </a:xfrm>
          <a:prstGeom prst="roundRect">
            <a:avLst>
              <a:gd name="adj" fmla="val 11449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3. (Re)Diseñar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tablecer la(s) direcciones de cambi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odelamiento del (re)diseñ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valuación del rediseñ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Seleccionar las tecnologías habilitant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Detallar y Probar el rediseñ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9" name=""/>
          <p:cNvSpPr/>
          <p:nvPr/>
        </p:nvSpPr>
        <p:spPr>
          <a:xfrm>
            <a:off x="7164360" y="2133720"/>
            <a:ext cx="4392720" cy="1842840"/>
          </a:xfrm>
          <a:prstGeom prst="roundRect">
            <a:avLst>
              <a:gd name="adj" fmla="val 10343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Helvetica Neue"/>
              </a:rPr>
              <a:t>4. Analisis y Diseño Software de apoyo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pecificación de los requerimientos del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Analisis de requerimient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Diseño del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odelamiento de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0" name=""/>
          <p:cNvSpPr/>
          <p:nvPr/>
        </p:nvSpPr>
        <p:spPr>
          <a:xfrm>
            <a:off x="7164360" y="4648320"/>
            <a:ext cx="4392720" cy="925560"/>
          </a:xfrm>
          <a:prstGeom prst="roundRect">
            <a:avLst>
              <a:gd name="adj" fmla="val 20546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5. Desarrollo de Software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1" name=""/>
          <p:cNvSpPr/>
          <p:nvPr/>
        </p:nvSpPr>
        <p:spPr>
          <a:xfrm>
            <a:off x="7164360" y="7848720"/>
            <a:ext cx="4392720" cy="1371600"/>
          </a:xfrm>
          <a:prstGeom prst="roundRect">
            <a:avLst>
              <a:gd name="adj" fmla="val 13889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7. Implantación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Implantación del Proceso desarrollad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Implantación del Software desarrollad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Pruebas de ambos y correccio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2" name=""/>
          <p:cNvSpPr/>
          <p:nvPr/>
        </p:nvSpPr>
        <p:spPr>
          <a:xfrm flipH="1" rot="16200000">
            <a:off x="9036720" y="3855240"/>
            <a:ext cx="64800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3" name=""/>
          <p:cNvSpPr/>
          <p:nvPr/>
        </p:nvSpPr>
        <p:spPr>
          <a:xfrm flipH="1" rot="16200000">
            <a:off x="2394720" y="3855240"/>
            <a:ext cx="64800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4" name=""/>
          <p:cNvSpPr/>
          <p:nvPr/>
        </p:nvSpPr>
        <p:spPr>
          <a:xfrm flipH="1" rot="16200000">
            <a:off x="3053520" y="6598440"/>
            <a:ext cx="64800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5" name=""/>
          <p:cNvSpPr/>
          <p:nvPr/>
        </p:nvSpPr>
        <p:spPr>
          <a:xfrm flipH="1" rot="16200000">
            <a:off x="9036000" y="5441760"/>
            <a:ext cx="64908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5573880" y="3468600"/>
            <a:ext cx="1575720" cy="4621320"/>
            <a:chOff x="5573880" y="3468600"/>
            <a:chExt cx="1575720" cy="4621320"/>
          </a:xfrm>
        </p:grpSpPr>
        <p:sp>
          <p:nvSpPr>
            <p:cNvPr id="737" name=""/>
            <p:cNvSpPr/>
            <p:nvPr/>
          </p:nvSpPr>
          <p:spPr>
            <a:xfrm flipH="1" flipV="1">
              <a:off x="6393600" y="3525480"/>
              <a:ext cx="756000" cy="5760"/>
            </a:xfrm>
            <a:prstGeom prst="line">
              <a:avLst/>
            </a:prstGeom>
            <a:ln w="114480">
              <a:solidFill>
                <a:srgbClr val="908f95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06560" y="3468600"/>
              <a:ext cx="0" cy="4621320"/>
            </a:xfrm>
            <a:prstGeom prst="line">
              <a:avLst/>
            </a:prstGeom>
            <a:ln w="11448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73880" y="8020080"/>
              <a:ext cx="845280" cy="0"/>
            </a:xfrm>
            <a:prstGeom prst="line">
              <a:avLst/>
            </a:prstGeom>
            <a:ln w="11448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40" name=""/>
          <p:cNvSpPr/>
          <p:nvPr/>
        </p:nvSpPr>
        <p:spPr>
          <a:xfrm rot="16200000">
            <a:off x="3727800" y="3856680"/>
            <a:ext cx="648000" cy="887400"/>
          </a:xfrm>
          <a:prstGeom prst="rightArrow">
            <a:avLst>
              <a:gd name="adj1" fmla="val 20000"/>
              <a:gd name="adj2" fmla="val 490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1" name=""/>
          <p:cNvSpPr/>
          <p:nvPr/>
        </p:nvSpPr>
        <p:spPr>
          <a:xfrm>
            <a:off x="7164360" y="6183360"/>
            <a:ext cx="4392720" cy="1030320"/>
          </a:xfrm>
          <a:prstGeom prst="roundRect">
            <a:avLst>
              <a:gd name="adj" fmla="val 18519"/>
            </a:avLst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6. Pruebas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Proceso y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2" name=""/>
          <p:cNvSpPr/>
          <p:nvPr/>
        </p:nvSpPr>
        <p:spPr>
          <a:xfrm flipH="1" rot="16200000">
            <a:off x="9036000" y="7078680"/>
            <a:ext cx="64944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F514-FC98-4746-A82A-8E929030061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Trabajo en Clase Aux.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Requerimientos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3200"/>
              </a:spcBef>
              <a:buSzPct val="1748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Casos de Uso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3200"/>
              </a:spcBef>
              <a:buSzPct val="17480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Diagramas de Secuencia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FB1F-DFC1-47A7-99F7-82F61673062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79000" y="279000"/>
            <a:ext cx="1275084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Pasos a seguir en Análisi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41120" y="1740960"/>
            <a:ext cx="10922040" cy="775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lgunas de las tareas a realizarse en la etapa de análisis son las siguientes: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los requerimientos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los casos esenciales de uso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rear y perfeccionar Casos de uso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Crear diagrama de casos de uso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Especificar escenarios. 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rear y perfeccionar el modelo conceptual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los diagramas de secuencia de alto nivel del sistema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32A5-FFCA-44F3-AB7D-C37655220C4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72840" y="3556080"/>
            <a:ext cx="11645640" cy="379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Fase de Análisis:</a:t>
            </a:r>
            <a:br>
              <a:rPr sz="7500"/>
            </a:b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Requerimientos Funcionales de Software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Requerimientos de SW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041120" y="2452680"/>
            <a:ext cx="10922040" cy="666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01400" indent="-40140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a meta principal en esta etapa es identificar y documentar lo que en realidad se necesita, para realizar el software de apoyo.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01400" indent="-401400">
              <a:spcBef>
                <a:spcPts val="3200"/>
              </a:spcBef>
              <a:buSzPct val="1748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 recomienda aquí definir al menos los siguientes puntos: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14680" indent="-40140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Panorama general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14680" indent="-401400"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Metas del sistema (alineadas con las metas del rediseño)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14680" indent="-401400"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Funciones del sistema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14680" indent="-401400"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Atributos de calidad del sistema</a:t>
            </a:r>
            <a:br>
              <a:rPr sz="3000"/>
            </a:b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3B59-6425-40B0-962C-0C5FB00DD9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aso de estudio: el punto de venta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	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upongamos como caso de estudio el sistema de una terminal de punto de venta.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Esta terminal es un sistema automatizado con el que se registran las ventas y se realizan los pagos. Por lo general este tipo de sistemas comprenden hardware (un computador y un lector de código barras) y software (el sistema que se ejecuta en la terminal). Suponga que se nos ha contratado para crear este software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C418-115C-411C-A069-EC5F7063379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1120" y="165240"/>
            <a:ext cx="1092204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Ejemplo: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1" name=""/>
          <p:cNvSpPr/>
          <p:nvPr/>
        </p:nvSpPr>
        <p:spPr>
          <a:xfrm>
            <a:off x="2006640" y="1276200"/>
            <a:ext cx="8991720" cy="84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Panorama general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Este proyecto tiene por objeto crear un sistema de terminal para el punto de venta que se utilizará en las ventas al menudeo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Metas</a:t>
            </a:r>
            <a:br>
              <a:rPr sz="1700"/>
            </a:b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En términos generales, la meta es una mayor automatización del pago en las cajas registradoras, y dar soporte a servicios más rápidos, más baratos y mejores. Más concretamente, la meta incluye:</a:t>
            </a:r>
            <a:br>
              <a:rPr sz="1700"/>
            </a:b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· Pago rápido de los clientes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· Análisis rápido y exacto de las ventas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· Control automático del inventario. 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Funciones del sistema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Las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funciones del sistema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son lo que éste deberá de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hacer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. Hay que identificar estas funciones y listarlas en grupos lógicos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Para verificar que X es en verdad una función del sistema, la siguiente frase deberá tener sentido: "El sistema deberá hacer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X". Por ejemplo: "el sistema deberá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autorizar pagos a crédito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"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Las funciones pueden clasificarse en tres categorías: 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evidentes, ocultas y superfluas. 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Las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evidentes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deben realizarse, y el usuario debe saber que se han realizado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Las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ocultas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también deben realizarse, y puede que no sean visibles para el usuario. Muchas de estas funciones se omiten (erróneamente) durante el proceso de obtención de requerimientos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Las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superfluas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son opcionales, y su inclusión no repercute significativamente en el costo ni en otras funciones.</a:t>
            </a:r>
            <a:br>
              <a:rPr sz="1700"/>
            </a:b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DD0F-BCF2-4FEA-88A5-19172C779F3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422000" y="3569760"/>
            <a:ext cx="10541160" cy="26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Fase de Análisis:</a:t>
            </a:r>
            <a:br>
              <a:rPr sz="7500"/>
            </a:b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Casos de Uso del Sistema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90520" y="255240"/>
            <a:ext cx="12423600" cy="15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efinición de Casos de Uso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041120" y="2084400"/>
            <a:ext cx="10922040" cy="716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os casos de uso sirven para encontrar y capturar los requerimientos (especialmente los funcionales)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51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Son descripciones narrativas en lenguaje natural de los procesos en un formato estructurado de prosa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51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Son denominados por un VERBO. Ejemplo: “Comprar producto”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1BA8C-3E0E-4BFA-8732-8C58A3105AE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 nn</cp:lastModifiedBy>
  <dcterms:modified xsi:type="dcterms:W3CDTF">2009-05-06T02:38:22Z</dcterms:modified>
  <cp:revision>11</cp:revision>
  <dc:subject/>
  <dc:title>Capitulo 10 Analisis de Sistemas Basado en : “UML y PATRONES”, Craig Larman, 1Ed y 2 Ed. </dc:title>
</cp:coreProperties>
</file>