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6FA4-1FED-468C-9EBF-FF327B625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F34D-3509-4340-97EA-230813E6B7E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15CF9-87DE-4123-987F-17D2A4302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A89E-DC1E-4373-BE93-008BCFB3D77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23EB1-3BA9-4658-8D8D-022A5F086E1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60F9D-2640-4F2B-84A2-21CA3C8C5E3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91E4E-4DDA-4050-BB05-F6B8C10070C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37F2F-637F-476E-BE08-6BB88F87668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2AC0A-2ABA-4F13-9117-711E605B7D0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4D31E-CA54-496C-9EA7-D12B94CF515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2A783-98A2-4A17-B5CB-AC9FF33E97F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E3755-639E-441E-8B7E-C75406E94E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6449C-50D4-4D8F-A3D0-A05E840877A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D4D66-55E0-467E-AAE5-6E3F43E08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DE5A-B87F-4C92-9A97-0403AE64718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38E7B-F419-4742-BB69-F72FBD1F4B4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59EC-BF82-4A20-B840-9EA1C4DF8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A250-B6FE-42E8-AE78-3555BCA3EB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6F11-6BC4-4950-9ED4-8248D12771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32F3-7C79-475E-8B7F-5C9E03EECB9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0B19-8606-4DE1-B93C-9B480863EDD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906C-AEC7-43D6-AC38-425F035F6A2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16D6-83F7-411B-AA0B-CC02B0BD815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0B1C-D109-48AF-B56A-03FDD73E48E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E6541-3CDC-4B1B-9A9E-8F87C4AAB8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FF65-C162-41D6-8264-4CC3FD8BB5E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B7D4B-E7A5-4EC8-9B66-1AEDA6FC16C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FC6E-A8AE-4C46-B1B2-CD5E45A24CF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9827-434F-4E24-A46D-0CE048C7110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A898-B399-4FEA-AEFB-56D24C981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8F98-3B43-4B2A-A3A8-CD8A25AEC4A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D3B2-97A3-4D14-A120-9443702BE24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D334-6774-4A2B-A911-4A4701E21F2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A7D0-3FC1-44EA-8AEE-E2D63391E59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06A-FD74-482E-80A7-91381C31A06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77F-7B56-403E-8920-EF912C4B7C9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4EF-12A3-49DB-92A8-A54AE636449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EA7-566F-4679-964F-EF7DCAA30C7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A51-A07B-4398-905A-2CDE7970B59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324-0419-428C-A16B-F7F389E3D3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40A-317A-4A55-97FF-4B22499FF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80F7-8A3F-4712-AAAB-858606251DF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65F-76D8-498F-9981-6C954067E59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D6A-BC85-4469-8FDD-0389D496999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C8C-F5D6-4CB9-8391-9B04AABB0CE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FFC-CF80-4A9A-92E8-D9BDE6F238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B01-B6CD-4971-8167-54C6FE24035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C507E-0AA5-44E1-85F0-913615D2E12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14229-BEE1-4EC6-B1D0-06C7776E941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98BF5-1299-447F-B95A-161DC466DA8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30236-3386-47C9-B2DE-11AD9DCB9A8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A5ADD-CE4F-4EF0-B596-DF667F5F5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2EA5-4E88-4D7D-927E-FC65B97E75E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AF8E4-0453-4999-B830-A484BCE423E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7194D-38C6-4E64-8C97-1DE44E1FE32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6B4B2-78BD-4084-BC59-71F4F1087F1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1A45F-95D9-4D2E-8094-3DB71FB7A5F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D0285-3238-435C-B4E8-709F4A9A39F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08836-32B1-46E4-97C1-0704BD2DEA3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75E84-D2FB-4EBE-B675-0B89F96BC91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"/>
          <p:cNvSpPr/>
          <p:nvPr/>
        </p:nvSpPr>
        <p:spPr>
          <a:xfrm>
            <a:off x="489024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C039-71F0-4340-958A-01C5E487FD44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5" name=""/>
          <p:cNvSpPr/>
          <p:nvPr/>
        </p:nvSpPr>
        <p:spPr>
          <a:xfrm>
            <a:off x="4896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5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1830-846F-4BAE-A6D2-6043D4D5D4A3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362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63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4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8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2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6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1422000" y="8113680"/>
            <a:ext cx="10845720" cy="7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1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2" name=""/>
          <p:cNvSpPr/>
          <p:nvPr/>
        </p:nvSpPr>
        <p:spPr>
          <a:xfrm>
            <a:off x="5256360" y="8902800"/>
            <a:ext cx="0" cy="5983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3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1422000" y="7097760"/>
            <a:ext cx="10845720" cy="10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422000" y="8113680"/>
            <a:ext cx="10845720" cy="7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42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3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4" name=""/>
          <p:cNvSpPr/>
          <p:nvPr/>
        </p:nvSpPr>
        <p:spPr>
          <a:xfrm>
            <a:off x="5256360" y="8902800"/>
            <a:ext cx="0" cy="5983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5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1422000" y="7097760"/>
            <a:ext cx="10845720" cy="10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84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spcBef>
                <a:spcPts val="1151"/>
              </a:spcBef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spcBef>
                <a:spcPts val="1151"/>
              </a:spcBef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017440"/>
            <a:ext cx="5333760" cy="2873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41480" y="4876920"/>
            <a:ext cx="5333760" cy="285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041120" y="14745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4A1E-1F90-4C26-BF04-2A51F60448C7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01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02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Num" idx="3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8174-953E-40FD-8A1F-2FF30288BE60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41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42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Num" idx="4"/>
          </p:nvPr>
        </p:nvSpPr>
        <p:spPr>
          <a:xfrm>
            <a:off x="12436560" y="948708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1BBC-DF07-4A2F-9D0A-8DB7636593B9}" type="slidenum">
              <a:rPr b="0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82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83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28880" y="3225960"/>
            <a:ext cx="1131552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ase Auxiliar</a:t>
            </a:r>
            <a:br>
              <a:rPr sz="7800"/>
            </a:b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Análisis y Diseño de Software</a:t>
            </a:r>
            <a:r>
              <a:rPr b="0" lang="en-US" sz="2500" spc="-1" strike="noStrike">
                <a:solidFill>
                  <a:srgbClr val="4a7594"/>
                </a:solidFill>
                <a:latin typeface="Helvetica Neue Light"/>
              </a:rPr>
              <a:t>.</a:t>
            </a:r>
            <a:br>
              <a:rPr sz="2500"/>
            </a:br>
            <a:endParaRPr b="0" lang="en-US" sz="25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422000" y="7594200"/>
            <a:ext cx="105411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3000"/>
          </a:bodyPr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Sistemas de Información Administrativos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Departamento de Ingeniería Industrial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Universidad de Chile 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46461"/>
                </a:solidFill>
                <a:latin typeface="Helvetica Neue"/>
              </a:rPr>
              <a:t>derechos reservados ©</a:t>
            </a:r>
            <a:endParaRPr b="0" lang="en-US" sz="13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0776-277F-4A52-AD61-9336E0FC22C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Actor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14040" y="2768400"/>
            <a:ext cx="11161800" cy="641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Un CU esta íntimamente relacionado con un actor que se encuentra utilizando el </a:t>
            </a: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sistema informático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Actor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Puede ser una Persona (identificada por su rol), otro sistema informático u Organización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BDB5-19DA-432B-8C5E-B0E1D95F45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29760" y="255240"/>
            <a:ext cx="123555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Metodología: </a:t>
            </a:r>
            <a:br>
              <a:rPr sz="6400"/>
            </a:b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Buscar Actores y sus funciones</a:t>
            </a:r>
            <a:endParaRPr b="0" lang="en-US" sz="6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8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Lo primero es reconocer a todos los actores que están involucrados en el sistema.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to debería estar claro desde las fases de analisis de la situación actual y en el rediseño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400"/>
              </a:spcBef>
              <a:buSzPct val="174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Luego sus funciones básicas, ejemplo PDV: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2351160" y="5805360"/>
          <a:ext cx="8291520" cy="3454560"/>
        </p:xfrm>
        <a:graphic>
          <a:graphicData uri="http://schemas.openxmlformats.org/drawingml/2006/table">
            <a:tbl>
              <a:tblPr/>
              <a:tblGrid>
                <a:gridCol w="1535040"/>
                <a:gridCol w="6756480"/>
              </a:tblGrid>
              <a:tr h="8510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ajero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Registra Productos, Cobra por lo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Entrega el cambio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liente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ompra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Paga los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Gerente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Inicia las operacione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ierra las operacione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Adm. de Sistema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Incorpora, actualiza, borra usuarios del sistema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4225-CBD2-45CB-A2E3-DB0199C1E70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Escenario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41120" y="2158560"/>
            <a:ext cx="10922040" cy="692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s escenarios son la escénica de los casos de uso. Corresponden a una secuencia especifica de acciones e interacciones entre los actores y el sistema que se esta estudiand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DAED-CB38-49F1-B3C3-DD7F13B2F7C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jemplo de caso de Uso alto nivel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Caso de uso: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 Comprar producto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Actores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Cliente, cajero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Tipo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Primario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Descripción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Un Cliente llega a la caja registradora con los artículos que va a comprar. El Cajero registra los artículos y cobra el importe. Al terminar la operación, el Cliente se marcha con los productos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7FA1-01A5-492D-B495-E904B9F67A1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UML para modelar Casos de Uso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90160" y="255600"/>
            <a:ext cx="12409560" cy="24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lementos Básicos del Diagrama de CU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4319640" y="4368960"/>
            <a:ext cx="5611680" cy="2844720"/>
            <a:chOff x="4319640" y="4368960"/>
            <a:chExt cx="5611680" cy="2844720"/>
          </a:xfrm>
        </p:grpSpPr>
        <p:pic>
          <p:nvPicPr>
            <p:cNvPr id="767" name="" descr=""/>
            <p:cNvPicPr/>
            <p:nvPr/>
          </p:nvPicPr>
          <p:blipFill>
            <a:blip r:embed="rId2"/>
            <a:stretch/>
          </p:blipFill>
          <p:spPr>
            <a:xfrm>
              <a:off x="4319640" y="4368960"/>
              <a:ext cx="561168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214040" y="5199120"/>
              <a:ext cx="1588320" cy="10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4a7594"/>
                  </a:solidFill>
                  <a:latin typeface="Helvetica Neue Bold Condensed"/>
                </a:rPr>
                <a:t>JUGAR</a:t>
              </a:r>
              <a:endParaRPr b="0" lang="en-US" sz="21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4a7594"/>
                  </a:solidFill>
                  <a:latin typeface="Helvetica Neue Bold Condensed"/>
                </a:rPr>
                <a:t>BINARIO</a:t>
              </a:r>
              <a:endParaRPr b="0" lang="en-US" sz="21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1690560" y="4619880"/>
            <a:ext cx="17031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ACTORES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(ROLES)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0" name=""/>
          <p:cNvSpPr/>
          <p:nvPr/>
        </p:nvSpPr>
        <p:spPr>
          <a:xfrm>
            <a:off x="6272280" y="7738920"/>
            <a:ext cx="26938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LIMITE DEL SISTEMA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1" name=""/>
          <p:cNvSpPr/>
          <p:nvPr/>
        </p:nvSpPr>
        <p:spPr>
          <a:xfrm>
            <a:off x="6055920" y="3292560"/>
            <a:ext cx="313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NOMBRE DEL CU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3492360" y="5156280"/>
            <a:ext cx="1105200" cy="45720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7658280" y="3822840"/>
            <a:ext cx="203040" cy="125712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7784640" y="7164360"/>
            <a:ext cx="165240" cy="63360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EA5D-6904-460E-86C4-A4117450162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0160" y="255600"/>
            <a:ext cx="1240956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Los diag. de CU del sistema quedarían...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201600" y="1611360"/>
            <a:ext cx="5243400" cy="36576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5854680" y="1474920"/>
            <a:ext cx="6870600" cy="285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aso de Us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omprar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ódig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1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Actore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ajero, Cliente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Propósit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El cliente debe ser capaz de comprar los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Tip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rimari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Referencias Cruzadas: 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UC2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Descripción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n Cliente llega a la caja registradora con los artículos que va a comprar. El Cajero registra los artículos y luego informa al cliente el total de la compra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720240" y="2147400"/>
            <a:ext cx="2171880" cy="366840"/>
          </a:xfrm>
          <a:prstGeom prst="line">
            <a:avLst/>
          </a:prstGeom>
          <a:ln w="76320">
            <a:solidFill>
              <a:srgbClr val="908f95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9" name=""/>
          <p:cNvSpPr/>
          <p:nvPr/>
        </p:nvSpPr>
        <p:spPr>
          <a:xfrm>
            <a:off x="4354560" y="4597560"/>
            <a:ext cx="8432640" cy="3352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aso de Us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agar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ódig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2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Actore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ajero, Cliente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Propósit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ermitir al cliente elegir el medio de pago de la compra, pagar los artículos, y entregar el vuelto si fuera necesario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Tip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rimari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Referencias Cruzada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1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Descripción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Después de que se a efectuado la compra de los artículos (UC1) el cajero pregunta al cliente el medio de pago (efectivo, cheque o tarjeta de crédito). Si el cliente paga en efectivo, el cajero ingresa la cantidad pagada por el cliente y calcula el vuelto. El cajero termina la venta y emite la boleta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0" name=""/>
          <p:cNvSpPr/>
          <p:nvPr/>
        </p:nvSpPr>
        <p:spPr>
          <a:xfrm>
            <a:off x="3570120" y="4102200"/>
            <a:ext cx="733680" cy="1523880"/>
          </a:xfrm>
          <a:prstGeom prst="line">
            <a:avLst/>
          </a:prstGeom>
          <a:ln w="76320">
            <a:solidFill>
              <a:srgbClr val="908f95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1" name=""/>
          <p:cNvSpPr/>
          <p:nvPr/>
        </p:nvSpPr>
        <p:spPr>
          <a:xfrm>
            <a:off x="685800" y="5429160"/>
            <a:ext cx="25401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Diagrama de Secuencia de Sistemas (DSS)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¿Qué es un DSS?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uestra, por un lado, los actores y por otro, el sistema y sus interaccione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 utiliza UML para los diagrama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83F1-FFD0-4591-B782-EC51D6A94B7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41120" y="255600"/>
            <a:ext cx="10922040" cy="153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jemplo: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18960" y="2693880"/>
            <a:ext cx="7339320" cy="62611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914400" y="1587600"/>
            <a:ext cx="109234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Escenario Principal de Éxito.</a:t>
            </a:r>
            <a:endParaRPr b="0" lang="en-US" sz="3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861320" y="3530520"/>
            <a:ext cx="4789080" cy="5462280"/>
            <a:chOff x="7861320" y="3530520"/>
            <a:chExt cx="4789080" cy="5462280"/>
          </a:xfrm>
        </p:grpSpPr>
        <p:sp>
          <p:nvSpPr>
            <p:cNvPr id="789" name=""/>
            <p:cNvSpPr/>
            <p:nvPr/>
          </p:nvSpPr>
          <p:spPr>
            <a:xfrm>
              <a:off x="7861320" y="3530520"/>
              <a:ext cx="4789080" cy="5462280"/>
            </a:xfrm>
            <a:prstGeom prst="rect">
              <a:avLst/>
            </a:prstGeom>
            <a:gradFill rotWithShape="0">
              <a:gsLst>
                <a:gs pos="0">
                  <a:srgbClr val="8ea4b2"/>
                </a:gs>
                <a:gs pos="100000">
                  <a:srgbClr val="ccecff"/>
                </a:gs>
              </a:gsLst>
              <a:lin ang="13500000"/>
            </a:gradFill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61320" y="3779640"/>
              <a:ext cx="4754160" cy="49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cenario principal de Éxito (Flujo básico):</a:t>
              </a:r>
              <a:endParaRPr b="0" lang="en-US" sz="24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liente llega a un terminal de PDV con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tículos y/o servicios que desea comprar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ajero inicia una nueva venta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ajero introduce el identificador del artículo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sistema registra la línea de la venta y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senta la descripción del articulo, precio y 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a parcial. El precio se calcula de acuerdo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un conjunto de reglas de precios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Wingdings"/>
                  <a:ea typeface="Wingdings"/>
                </a:rPr>
                <a:t>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ajero repite los pasos 3 y 4 hasta que se indique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.........................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..........................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DDB4-6902-4478-84F4-B735418A999B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41120" y="255600"/>
            <a:ext cx="10922040" cy="143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onde estamos...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6" name=""/>
          <p:cNvSpPr/>
          <p:nvPr/>
        </p:nvSpPr>
        <p:spPr>
          <a:xfrm>
            <a:off x="1181160" y="1650960"/>
            <a:ext cx="4392720" cy="2286000"/>
          </a:xfrm>
          <a:prstGeom prst="roundRect">
            <a:avLst>
              <a:gd name="adj" fmla="val 8333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0. Definir el Proyecto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Objetivo General &amp; Específic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edio ambiente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Recursos con disponibl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nteraccio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blecer el alcance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Carta Gantt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quipo y Responsabilidad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7" name=""/>
          <p:cNvSpPr/>
          <p:nvPr/>
        </p:nvSpPr>
        <p:spPr>
          <a:xfrm>
            <a:off x="1181160" y="4624560"/>
            <a:ext cx="4392720" cy="2106360"/>
          </a:xfrm>
          <a:prstGeom prst="roundRect">
            <a:avLst>
              <a:gd name="adj" fmla="val 9032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1. Analisis de la Situación Actual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do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r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Validar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edir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Generar un diagnóstico de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8" name=""/>
          <p:cNvSpPr/>
          <p:nvPr/>
        </p:nvSpPr>
        <p:spPr>
          <a:xfrm>
            <a:off x="1181160" y="7367760"/>
            <a:ext cx="4392720" cy="1660320"/>
          </a:xfrm>
          <a:prstGeom prst="roundRect">
            <a:avLst>
              <a:gd name="adj" fmla="val 11449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3. (Re)Diseñar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blecer la(s) direcciones de cambi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miento del (re)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valuación del re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Seleccionar las tecnologías habilitant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Detallar y Probar el re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9" name=""/>
          <p:cNvSpPr/>
          <p:nvPr/>
        </p:nvSpPr>
        <p:spPr>
          <a:xfrm>
            <a:off x="7164360" y="2133720"/>
            <a:ext cx="4392720" cy="1842840"/>
          </a:xfrm>
          <a:prstGeom prst="roundRect">
            <a:avLst>
              <a:gd name="adj" fmla="val 10343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Helvetica Neue"/>
              </a:rPr>
              <a:t>4. Analisis y Diseño Software de apoyo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pecificación de los requerimientos del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Analisis de requerimient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Diseño del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miento de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0" name=""/>
          <p:cNvSpPr/>
          <p:nvPr/>
        </p:nvSpPr>
        <p:spPr>
          <a:xfrm>
            <a:off x="7164360" y="4648320"/>
            <a:ext cx="4392720" cy="925560"/>
          </a:xfrm>
          <a:prstGeom prst="roundRect">
            <a:avLst>
              <a:gd name="adj" fmla="val 20546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5. Desarrollo de Software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1" name=""/>
          <p:cNvSpPr/>
          <p:nvPr/>
        </p:nvSpPr>
        <p:spPr>
          <a:xfrm>
            <a:off x="7164360" y="7848720"/>
            <a:ext cx="4392720" cy="1371600"/>
          </a:xfrm>
          <a:prstGeom prst="roundRect">
            <a:avLst>
              <a:gd name="adj" fmla="val 13889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7. Implantación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mplantación del Proceso desarrollad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mplantación del Software desarrollad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Pruebas de ambos y correccio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2" name=""/>
          <p:cNvSpPr/>
          <p:nvPr/>
        </p:nvSpPr>
        <p:spPr>
          <a:xfrm flipH="1" rot="16200000">
            <a:off x="9036720" y="38552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3" name=""/>
          <p:cNvSpPr/>
          <p:nvPr/>
        </p:nvSpPr>
        <p:spPr>
          <a:xfrm flipH="1" rot="16200000">
            <a:off x="2394720" y="38552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4" name=""/>
          <p:cNvSpPr/>
          <p:nvPr/>
        </p:nvSpPr>
        <p:spPr>
          <a:xfrm flipH="1" rot="16200000">
            <a:off x="3053520" y="65984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5" name=""/>
          <p:cNvSpPr/>
          <p:nvPr/>
        </p:nvSpPr>
        <p:spPr>
          <a:xfrm flipH="1" rot="16200000">
            <a:off x="9036000" y="5441760"/>
            <a:ext cx="64908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573880" y="3468600"/>
            <a:ext cx="1575720" cy="4621320"/>
            <a:chOff x="5573880" y="3468600"/>
            <a:chExt cx="1575720" cy="4621320"/>
          </a:xfrm>
        </p:grpSpPr>
        <p:sp>
          <p:nvSpPr>
            <p:cNvPr id="737" name=""/>
            <p:cNvSpPr/>
            <p:nvPr/>
          </p:nvSpPr>
          <p:spPr>
            <a:xfrm flipH="1" flipV="1">
              <a:off x="6393600" y="3525480"/>
              <a:ext cx="756000" cy="576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06560" y="3468600"/>
              <a:ext cx="0" cy="462132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73880" y="8020080"/>
              <a:ext cx="845280" cy="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40" name=""/>
          <p:cNvSpPr/>
          <p:nvPr/>
        </p:nvSpPr>
        <p:spPr>
          <a:xfrm rot="16200000">
            <a:off x="3727800" y="3856680"/>
            <a:ext cx="648000" cy="887400"/>
          </a:xfrm>
          <a:prstGeom prst="rightArrow">
            <a:avLst>
              <a:gd name="adj1" fmla="val 20000"/>
              <a:gd name="adj2" fmla="val 490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1" name=""/>
          <p:cNvSpPr/>
          <p:nvPr/>
        </p:nvSpPr>
        <p:spPr>
          <a:xfrm>
            <a:off x="7164360" y="6183360"/>
            <a:ext cx="4392720" cy="1030320"/>
          </a:xfrm>
          <a:prstGeom prst="roundRect">
            <a:avLst>
              <a:gd name="adj" fmla="val 18519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6. Prueba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Proceso y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2" name=""/>
          <p:cNvSpPr/>
          <p:nvPr/>
        </p:nvSpPr>
        <p:spPr>
          <a:xfrm flipH="1" rot="16200000">
            <a:off x="9036000" y="7078680"/>
            <a:ext cx="64944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E53D-690B-4563-9FC6-B8CD2A04377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rabajo en Clase Aux.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Requerimiento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Casos de Us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3200"/>
              </a:spcBef>
              <a:buSzPct val="17480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Diagramas de Secuencia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D92D-8DE0-4996-8105-AC7F9F48201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79000" y="279000"/>
            <a:ext cx="1275084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Pasos a seguir en Análisi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41120" y="1740960"/>
            <a:ext cx="10922040" cy="775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lgunas de las tareas a realizarse en la etapa de análisis son las siguientes: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requerimiento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casos esenciales de us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rear y perfeccionar Casos de uso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Crear diagrama de casos de uso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Especificar escenarios. 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rear y perfeccionar el modelo conceptual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diagramas de secuencia de alto nivel del sistema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E9D0-E8ED-4551-A833-BE38999566E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72840" y="3556080"/>
            <a:ext cx="11645640" cy="379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Fase de Análisis:</a:t>
            </a:r>
            <a:br>
              <a:rPr sz="7500"/>
            </a:b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Requerimientos Funcionales de Software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Requerimientos de SW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041120" y="2452680"/>
            <a:ext cx="10922040" cy="666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01400" indent="-40140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a meta principal en esta etapa es identificar y documentar lo que en realidad se necesita, para realizar el software de apoyo.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01400" indent="-401400"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 recomienda aquí definir al menos los siguientes puntos: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Panorama general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Metas del sistema (alineadas con las metas del rediseño)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Funciones del sistema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Atributos de calidad del sistema</a:t>
            </a:r>
            <a:br>
              <a:rPr sz="3000"/>
            </a:b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C4DF-DD84-4C0C-B841-66F7AFD190D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aso de estudio: el punto de venta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	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upongamos como caso de estudio el sistema de una terminal de punto de venta.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Esta terminal es un sistema automatizado con el que se registran las ventas y se realizan los pagos. Por lo general este tipo de sistemas comprenden hardware (un computador y un lector de código barras) y software (el sistema que se ejecuta en la terminal). Suponga que se nos ha contratado para crear este software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2ECD-ED5D-4907-A6B3-D14C14F3B8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1120" y="165240"/>
            <a:ext cx="1092204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jemplo: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1" name=""/>
          <p:cNvSpPr/>
          <p:nvPr/>
        </p:nvSpPr>
        <p:spPr>
          <a:xfrm>
            <a:off x="2006640" y="1276200"/>
            <a:ext cx="8991720" cy="84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Panorama general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Este proyecto tiene por objeto crear un sistema de terminal para el punto de venta que se utilizará en las ventas al menudeo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Metas</a:t>
            </a:r>
            <a:br>
              <a:rPr sz="1700"/>
            </a:b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En términos generales, la meta es una mayor automatización del pago en las cajas registradoras, y dar soporte a servicios más rápidos, más baratos y mejores. Más concretamente, la meta incluye:</a:t>
            </a:r>
            <a:br>
              <a:rPr sz="1700"/>
            </a:b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· Pago rápido de los cliente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· Análisis rápido y exacto de las venta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· Control automático del inventario. 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Funciones del sistema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Las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funciones del sistema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son lo que éste deberá de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hacer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. Hay que identificar estas funciones y listarlas en grupos lógico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Para verificar que X es en verdad una función del sistema, la siguiente frase deberá tener sentido: "El sistema deberá hacer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X". Por ejemplo: "el sistema deberá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autorizar pagos a crédito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"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Las funciones pueden clasificarse en tres categorías: 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evidentes, ocultas y superfluas. 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Las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evidentes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deben realizarse, y el usuario debe saber que se han realizado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Las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ocultas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también deben realizarse, y puede que no sean visibles para el usuario. Muchas de estas funciones se omiten (erróneamente) durante el proceso de obtención de requerimiento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Las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superfluas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son opcionales, y su inclusión no repercute significativamente en el costo ni en otras funciones.</a:t>
            </a:r>
            <a:br>
              <a:rPr sz="1700"/>
            </a:b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D07E-1D25-41D9-B9B9-3D57C03073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Fase de Análisis:</a:t>
            </a:r>
            <a:br>
              <a:rPr sz="7500"/>
            </a:b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Casos de Uso del Sistema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90520" y="255240"/>
            <a:ext cx="12423600" cy="15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Casos de Uso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41120" y="2084400"/>
            <a:ext cx="10922040" cy="716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s casos de uso sirven para encontrar y capturar los requerimientos (especialmente los funcionales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51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Son descripciones narrativas en lenguaje natural de los procesos en un formato estructurado de prosa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51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Son denominados por un VERBO. Ejemplo: “Comprar producto”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0BE5-BD04-4634-8C74-044F1D15D74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nn</cp:lastModifiedBy>
  <dcterms:modified xsi:type="dcterms:W3CDTF">2009-05-06T02:38:22Z</dcterms:modified>
  <cp:revision>11</cp:revision>
  <dc:subject/>
  <dc:title>Capitulo 10 Analisis de Sistemas Basado en : “UML y PATRONES”, Craig Larman, 1Ed y 2 Ed. </dc:title>
</cp:coreProperties>
</file>