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A7B7-D8E6-46B2-98D6-404B7A91D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125DD-E0F3-4DED-81E5-61357554E3A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1B7E1-1DF9-4063-89A0-81BF2B913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2D43-A55B-43E8-B153-C9C5340C4A7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284D4-AB71-44A2-98B5-D2A90AEBFEF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51145-FCA3-4F9C-B717-F6DE6731A85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1B41A-EB2F-4432-B47F-ACD271766F5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42BDF-22D1-402B-9BF3-B434CE83E7F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0BA34-B95E-4609-AF16-E4B7B05BE63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61F42-DA2D-4203-8B97-EBB800CA83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EB3AE-35B9-4F15-A84C-31FDBFC034B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02953-7EE1-4638-B4AA-CB9CE6C93AD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23B8E-FE11-4825-9866-857A669154C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C6C52-B002-427D-8EC9-BB28A5C92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5370-90B1-4981-8FA0-119D67A824E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5DA6B-CADE-42A5-B3DC-6802AC27FD7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A031-5961-43F2-8984-225AE9CD6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7F55-0ABF-4EAB-A9DF-EC7AF50010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1673-5BEF-4406-8E86-C9935DB3AF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515D-CF83-4B82-BE64-C3347852D4D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A1A0-6D47-4B11-9CC3-E01CFECA975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5BF7-5090-43C9-BCEF-EA473EB195A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2FA0-FF75-47BE-ABB9-DDBF23E3DD6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A1EB-75BC-4FEC-BFD7-4A363E76515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4C93C-C638-4B4F-926B-5A2F0C5CF67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5DCE-BDDF-4AED-9244-B4E67C7FBD7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D808-DCFF-44DA-8898-18B753A4F33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9385-B506-463B-962E-9F4BA2D20CB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0A45-A82C-4E4A-A57C-D373FEF703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4E02-CB19-4535-BA03-4AD2F4DDE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67CE-C22E-4A9F-AC4D-A7F6435DC80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1047-14D8-4BB6-A6D0-D6579566F0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A93E-650D-4B89-B949-BA78C84E6D1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8E1D-655C-488A-9E29-95E8B078F7D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462-BC2A-4D61-A12C-ADF7D6D9D9D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DD8-521C-4399-8BCB-0B150A6FF10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1E9-7289-4743-B772-49235A6647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80C-530B-4DE9-A20C-458E3B4B882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8B7-8A6F-4300-BADD-66054191A47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49C-3104-4D78-9D72-F97072634B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9E4-FCA6-4DD0-90D2-237B5C348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3B29-1976-458B-B573-E21AB2E751C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730-53ED-464F-BF22-D54516E7B39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D47-BEC7-47E8-A17F-C709A1F430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F63-F347-4D3C-A666-C1E6F602E5D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11A-933C-4D79-8E10-6CD07E6C56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342-ADE1-4717-8341-EB8D12D2E0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05107-95EB-41E8-95B0-A52CD85902F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EB14C-65BD-43EE-BC9B-D379C9519FB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3F0E5-CF1F-4C5A-9EFC-65A67594B29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95791-B2EC-42B6-98A6-25852983D96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08B6D-7FB3-4020-B2F0-B4C985A2C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C13A-FB73-4A07-AB51-8316164F4CC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FA93B-524D-4522-930C-A518392507B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E1626-05FC-4A2F-8072-405D2DCBAC2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446C0-681F-4135-9263-54A0BA3429C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CFB78-1C63-4696-8009-A9020A2C7AC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F84A3-CC91-41C1-82A2-2E8ADE3408B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2E080-8F7D-452D-9F14-7DE450CC5D3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39AE9-1A94-4150-A9B1-D607676664D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"/>
          <p:cNvSpPr/>
          <p:nvPr/>
        </p:nvSpPr>
        <p:spPr>
          <a:xfrm>
            <a:off x="489024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B27F-419D-4664-A42E-ABEFEF3D2697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5" name=""/>
          <p:cNvSpPr/>
          <p:nvPr/>
        </p:nvSpPr>
        <p:spPr>
          <a:xfrm>
            <a:off x="4896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5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A78D-FD48-4199-AC9F-5D22B580D59B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362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63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4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8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2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6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1422000" y="8113680"/>
            <a:ext cx="10845720" cy="7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1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2" name=""/>
          <p:cNvSpPr/>
          <p:nvPr/>
        </p:nvSpPr>
        <p:spPr>
          <a:xfrm>
            <a:off x="5256360" y="8902800"/>
            <a:ext cx="0" cy="5983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3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1422000" y="7097760"/>
            <a:ext cx="10845720" cy="10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422000" y="8113680"/>
            <a:ext cx="10845720" cy="7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2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3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4" name=""/>
          <p:cNvSpPr/>
          <p:nvPr/>
        </p:nvSpPr>
        <p:spPr>
          <a:xfrm>
            <a:off x="5256360" y="8902800"/>
            <a:ext cx="0" cy="5983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5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1422000" y="7097760"/>
            <a:ext cx="10845720" cy="10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84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spcBef>
                <a:spcPts val="1151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spcBef>
                <a:spcPts val="1151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017440"/>
            <a:ext cx="5333760" cy="2873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41480" y="4876920"/>
            <a:ext cx="5333760" cy="285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041120" y="14745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070C-F922-4FA8-A03B-2506580FD05A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01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02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Num" idx="3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624B-A37F-422A-A9CC-D95C0961348D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41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42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Num" idx="4"/>
          </p:nvPr>
        </p:nvSpPr>
        <p:spPr>
          <a:xfrm>
            <a:off x="12436560" y="948708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6ACC-8B70-49F0-A000-069FF6668873}" type="slidenum">
              <a:rPr b="0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82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83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28880" y="3225960"/>
            <a:ext cx="1131552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ase Auxiliar</a:t>
            </a:r>
            <a:br>
              <a:rPr sz="7800"/>
            </a:b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Análisis y Diseño de Software</a:t>
            </a:r>
            <a:r>
              <a:rPr b="0" lang="en-US" sz="2500" spc="-1" strike="noStrike">
                <a:solidFill>
                  <a:srgbClr val="4a7594"/>
                </a:solidFill>
                <a:latin typeface="Helvetica Neue Light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422000" y="7594200"/>
            <a:ext cx="105411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3000"/>
          </a:bodyPr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Sistemas de Información Administrativos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Departamento de Ingeniería Industrial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Universidad de Chile 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46461"/>
                </a:solidFill>
                <a:latin typeface="Helvetica Neue"/>
              </a:rPr>
              <a:t>derechos reservados ©</a:t>
            </a:r>
            <a:endParaRPr b="0" lang="en-US" sz="13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BFF4-8FF5-406C-8C47-0E336A34488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Actor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040" y="2768400"/>
            <a:ext cx="11161800" cy="641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Un CU esta íntimamente relacionado con un actor que se encuentra utilizando el </a:t>
            </a: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sistema informático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Actor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Puede ser una Persona (identificada por su rol), otro sistema informático u Organización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6E77-B9F2-48E5-B6F3-77051F9972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29760" y="255240"/>
            <a:ext cx="123555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Metodología: </a:t>
            </a:r>
            <a:br>
              <a:rPr sz="6400"/>
            </a:b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Buscar Actores y sus funciones</a:t>
            </a:r>
            <a:endParaRPr b="0" lang="en-US" sz="6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8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Lo primero es reconocer a todos los actores que están involucrados en el sistema.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to debería estar claro desde las fases de analisis de la situación actual y en el rediseño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400"/>
              </a:spcBef>
              <a:buSzPct val="174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Luego sus funciones básicas, ejemplo PDV: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2351160" y="5805360"/>
          <a:ext cx="8291520" cy="3454560"/>
        </p:xfrm>
        <a:graphic>
          <a:graphicData uri="http://schemas.openxmlformats.org/drawingml/2006/table">
            <a:tbl>
              <a:tblPr/>
              <a:tblGrid>
                <a:gridCol w="1535040"/>
                <a:gridCol w="6756480"/>
              </a:tblGrid>
              <a:tr h="8510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ajero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Registra Productos, Cobra por lo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Entrega el cambio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liente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ompra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Paga los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Gerente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Inicia las operacione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ierra las operacione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Adm. de Sistema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Incorpora, actualiza, borra usuarios del sistema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FDAB-5113-44C7-B686-7C4B9524E2A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Escenario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41120" y="2158560"/>
            <a:ext cx="10922040" cy="692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s escenarios son la escénica de los casos de uso. Corresponden a una secuencia especifica de acciones e interacciones entre los actores y el sistema que se esta estudiand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B4B3-F7CA-43A5-B861-3E10F2E04D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 de caso de Uso alto nivel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Caso de uso: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 Comprar producto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Actores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Cliente, cajero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Tipo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Primario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Descripción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Un Cliente llega a la caja registradora con los artículos que va a comprar. El Cajero registra los artículos y cobra el importe. Al terminar la operación, el Cliente se marcha con los productos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67B0-4493-4655-BA9A-0C0C9042F70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UML para modelar Casos de Uso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90160" y="255600"/>
            <a:ext cx="12409560" cy="24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lementos Básicos del Diagrama de CU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4319640" y="4368960"/>
            <a:ext cx="5611680" cy="2844720"/>
            <a:chOff x="4319640" y="4368960"/>
            <a:chExt cx="5611680" cy="2844720"/>
          </a:xfrm>
        </p:grpSpPr>
        <p:pic>
          <p:nvPicPr>
            <p:cNvPr id="767" name="" descr=""/>
            <p:cNvPicPr/>
            <p:nvPr/>
          </p:nvPicPr>
          <p:blipFill>
            <a:blip r:embed="rId2"/>
            <a:stretch/>
          </p:blipFill>
          <p:spPr>
            <a:xfrm>
              <a:off x="4319640" y="4368960"/>
              <a:ext cx="561168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214040" y="5199120"/>
              <a:ext cx="1588320" cy="10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4a7594"/>
                  </a:solidFill>
                  <a:latin typeface="Helvetica Neue Bold Condensed"/>
                </a:rPr>
                <a:t>JUGAR</a:t>
              </a:r>
              <a:endParaRPr b="0" lang="en-US" sz="21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4a7594"/>
                  </a:solidFill>
                  <a:latin typeface="Helvetica Neue Bold Condensed"/>
                </a:rPr>
                <a:t>BINARIO</a:t>
              </a:r>
              <a:endParaRPr b="0" lang="en-US" sz="21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1690560" y="4619880"/>
            <a:ext cx="17031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ACTORES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(ROLES)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0" name=""/>
          <p:cNvSpPr/>
          <p:nvPr/>
        </p:nvSpPr>
        <p:spPr>
          <a:xfrm>
            <a:off x="6272280" y="7738920"/>
            <a:ext cx="26938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LIMITE DEL SISTEMA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1" name=""/>
          <p:cNvSpPr/>
          <p:nvPr/>
        </p:nvSpPr>
        <p:spPr>
          <a:xfrm>
            <a:off x="6055920" y="3292560"/>
            <a:ext cx="313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NOMBRE DEL CU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3492360" y="5156280"/>
            <a:ext cx="1105200" cy="45720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7658280" y="3822840"/>
            <a:ext cx="203040" cy="125712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784640" y="7164360"/>
            <a:ext cx="165240" cy="63360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3AE5-63E6-4439-95BD-DB3FC5A0DDD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0160" y="255600"/>
            <a:ext cx="1240956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Los diag. de CU del sistema quedarían...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201600" y="1611360"/>
            <a:ext cx="5243400" cy="36576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5854680" y="1474920"/>
            <a:ext cx="6870600" cy="285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aso de Us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omprar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ódig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1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Actore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ajero, Clien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Propósit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El cliente debe ser capaz de comprar los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Tip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rimari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Referencias Cruzadas: 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UC2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Descripción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n Cliente llega a la caja registradora con los artículos que va a comprar. El Cajero registra los artículos y luego informa al cliente el total de la compra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720240" y="2147400"/>
            <a:ext cx="2171880" cy="366840"/>
          </a:xfrm>
          <a:prstGeom prst="line">
            <a:avLst/>
          </a:prstGeom>
          <a:ln w="76320">
            <a:solidFill>
              <a:srgbClr val="908f95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9" name=""/>
          <p:cNvSpPr/>
          <p:nvPr/>
        </p:nvSpPr>
        <p:spPr>
          <a:xfrm>
            <a:off x="4354560" y="4597560"/>
            <a:ext cx="8432640" cy="3352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aso de Us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agar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ódig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2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Actore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ajero, Clien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Propósit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ermitir al cliente elegir el medio de pago de la compra, pagar los artículos, y entregar el vuelto si fuera necesario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Tip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rimari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Referencias Cruzada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1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Descripción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Después de que se a efectuado la compra de los artículos (UC1) el cajero pregunta al cliente el medio de pago (efectivo, cheque o tarjeta de crédito). Si el cliente paga en efectivo, el cajero ingresa la cantidad pagada por el cliente y calcula el vuelto. El cajero termina la venta y emite la boleta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0" name=""/>
          <p:cNvSpPr/>
          <p:nvPr/>
        </p:nvSpPr>
        <p:spPr>
          <a:xfrm>
            <a:off x="3570120" y="4102200"/>
            <a:ext cx="733680" cy="1523880"/>
          </a:xfrm>
          <a:prstGeom prst="line">
            <a:avLst/>
          </a:prstGeom>
          <a:ln w="76320">
            <a:solidFill>
              <a:srgbClr val="908f95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1" name=""/>
          <p:cNvSpPr/>
          <p:nvPr/>
        </p:nvSpPr>
        <p:spPr>
          <a:xfrm>
            <a:off x="685800" y="5429160"/>
            <a:ext cx="25401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Diagrama de Secuencia de Sistemas (DSS)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¿Qué es un DSS?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uestra, por un lado, los actores y por otro, el sistema y sus interaccione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 utiliza UML para los diagrama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3A07-35E5-4F1B-B57A-3DE5BFAEE4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41120" y="255600"/>
            <a:ext cx="10922040" cy="153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: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18960" y="2693880"/>
            <a:ext cx="7339320" cy="62611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914400" y="1587600"/>
            <a:ext cx="109234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Escenario Principal de Éxito.</a:t>
            </a:r>
            <a:endParaRPr b="0" lang="en-US" sz="3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861320" y="3530520"/>
            <a:ext cx="4789080" cy="5462280"/>
            <a:chOff x="7861320" y="3530520"/>
            <a:chExt cx="4789080" cy="5462280"/>
          </a:xfrm>
        </p:grpSpPr>
        <p:sp>
          <p:nvSpPr>
            <p:cNvPr id="789" name=""/>
            <p:cNvSpPr/>
            <p:nvPr/>
          </p:nvSpPr>
          <p:spPr>
            <a:xfrm>
              <a:off x="7861320" y="3530520"/>
              <a:ext cx="4789080" cy="5462280"/>
            </a:xfrm>
            <a:prstGeom prst="rect">
              <a:avLst/>
            </a:prstGeom>
            <a:gradFill rotWithShape="0">
              <a:gsLst>
                <a:gs pos="0">
                  <a:srgbClr val="8ea4b2"/>
                </a:gs>
                <a:gs pos="100000">
                  <a:srgbClr val="ccecff"/>
                </a:gs>
              </a:gsLst>
              <a:lin ang="13500000"/>
            </a:gradFill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61320" y="3779640"/>
              <a:ext cx="4754160" cy="49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cenario principal de Éxito (Flujo básico):</a:t>
              </a:r>
              <a:endParaRPr b="0" lang="en-US" sz="24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liente llega a un terminal de PDV con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tículos y/o servicios que desea comprar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inicia una nueva venta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introduce el identificador del artículo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sistema registra la línea de la venta y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senta la descripción del articulo, precio y 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a parcial. El precio se calcula de acuerdo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un conjunto de reglas de precios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Wingdings"/>
                  <a:ea typeface="Wingdings"/>
                </a:rPr>
                <a:t>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repite los pasos 3 y 4 hasta que se indique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.........................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..........................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EB2F-0343-4CBD-A863-091F1027F34B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41120" y="255600"/>
            <a:ext cx="10922040" cy="14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onde estamos...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6" name=""/>
          <p:cNvSpPr/>
          <p:nvPr/>
        </p:nvSpPr>
        <p:spPr>
          <a:xfrm>
            <a:off x="1181160" y="1650960"/>
            <a:ext cx="4392720" cy="2286000"/>
          </a:xfrm>
          <a:prstGeom prst="roundRect">
            <a:avLst>
              <a:gd name="adj" fmla="val 8333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0. Definir el Proyecto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Objetivo General &amp; Específic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edio ambiente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Recursos con disponibl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nteraccio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blecer el alcance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Carta Gantt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quipo y Responsabilidad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7" name=""/>
          <p:cNvSpPr/>
          <p:nvPr/>
        </p:nvSpPr>
        <p:spPr>
          <a:xfrm>
            <a:off x="1181160" y="4624560"/>
            <a:ext cx="4392720" cy="2106360"/>
          </a:xfrm>
          <a:prstGeom prst="roundRect">
            <a:avLst>
              <a:gd name="adj" fmla="val 9032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1. Analisis de la Situación Actual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do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r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Validar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edir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Generar un diagnóstico de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8" name=""/>
          <p:cNvSpPr/>
          <p:nvPr/>
        </p:nvSpPr>
        <p:spPr>
          <a:xfrm>
            <a:off x="1181160" y="7367760"/>
            <a:ext cx="4392720" cy="1660320"/>
          </a:xfrm>
          <a:prstGeom prst="roundRect">
            <a:avLst>
              <a:gd name="adj" fmla="val 11449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3. (Re)Diseñar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blecer la(s) direcciones de cambi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miento del (re)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valuación del re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Seleccionar las tecnologías habilitant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Detallar y Probar el re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9" name=""/>
          <p:cNvSpPr/>
          <p:nvPr/>
        </p:nvSpPr>
        <p:spPr>
          <a:xfrm>
            <a:off x="7164360" y="2133720"/>
            <a:ext cx="4392720" cy="1842840"/>
          </a:xfrm>
          <a:prstGeom prst="roundRect">
            <a:avLst>
              <a:gd name="adj" fmla="val 10343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Helvetica Neue"/>
              </a:rPr>
              <a:t>4. Analisis y Diseño Software de apoyo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pecificación de los requerimientos del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Analisis de requerimient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Diseño del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miento de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0" name=""/>
          <p:cNvSpPr/>
          <p:nvPr/>
        </p:nvSpPr>
        <p:spPr>
          <a:xfrm>
            <a:off x="7164360" y="4648320"/>
            <a:ext cx="4392720" cy="925560"/>
          </a:xfrm>
          <a:prstGeom prst="roundRect">
            <a:avLst>
              <a:gd name="adj" fmla="val 20546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5. Desarrollo de Software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1" name=""/>
          <p:cNvSpPr/>
          <p:nvPr/>
        </p:nvSpPr>
        <p:spPr>
          <a:xfrm>
            <a:off x="7164360" y="7848720"/>
            <a:ext cx="4392720" cy="1371600"/>
          </a:xfrm>
          <a:prstGeom prst="roundRect">
            <a:avLst>
              <a:gd name="adj" fmla="val 13889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7. Implantación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mplantación del Proceso desarrollad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mplantación del Software desarrollad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Pruebas de ambos y correccio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2" name=""/>
          <p:cNvSpPr/>
          <p:nvPr/>
        </p:nvSpPr>
        <p:spPr>
          <a:xfrm flipH="1" rot="16200000">
            <a:off x="9036720" y="38552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3" name=""/>
          <p:cNvSpPr/>
          <p:nvPr/>
        </p:nvSpPr>
        <p:spPr>
          <a:xfrm flipH="1" rot="16200000">
            <a:off x="2394720" y="38552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4" name=""/>
          <p:cNvSpPr/>
          <p:nvPr/>
        </p:nvSpPr>
        <p:spPr>
          <a:xfrm flipH="1" rot="16200000">
            <a:off x="3053520" y="65984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5" name=""/>
          <p:cNvSpPr/>
          <p:nvPr/>
        </p:nvSpPr>
        <p:spPr>
          <a:xfrm flipH="1" rot="16200000">
            <a:off x="9036000" y="5441760"/>
            <a:ext cx="64908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573880" y="3468600"/>
            <a:ext cx="1575720" cy="4621320"/>
            <a:chOff x="5573880" y="3468600"/>
            <a:chExt cx="1575720" cy="4621320"/>
          </a:xfrm>
        </p:grpSpPr>
        <p:sp>
          <p:nvSpPr>
            <p:cNvPr id="737" name=""/>
            <p:cNvSpPr/>
            <p:nvPr/>
          </p:nvSpPr>
          <p:spPr>
            <a:xfrm flipH="1" flipV="1">
              <a:off x="6393600" y="3525480"/>
              <a:ext cx="756000" cy="576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06560" y="3468600"/>
              <a:ext cx="0" cy="462132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73880" y="8020080"/>
              <a:ext cx="845280" cy="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40" name=""/>
          <p:cNvSpPr/>
          <p:nvPr/>
        </p:nvSpPr>
        <p:spPr>
          <a:xfrm rot="16200000">
            <a:off x="3727800" y="3856680"/>
            <a:ext cx="648000" cy="887400"/>
          </a:xfrm>
          <a:prstGeom prst="rightArrow">
            <a:avLst>
              <a:gd name="adj1" fmla="val 20000"/>
              <a:gd name="adj2" fmla="val 490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1" name=""/>
          <p:cNvSpPr/>
          <p:nvPr/>
        </p:nvSpPr>
        <p:spPr>
          <a:xfrm>
            <a:off x="7164360" y="6183360"/>
            <a:ext cx="4392720" cy="1030320"/>
          </a:xfrm>
          <a:prstGeom prst="roundRect">
            <a:avLst>
              <a:gd name="adj" fmla="val 18519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6. Prueba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Proceso y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2" name=""/>
          <p:cNvSpPr/>
          <p:nvPr/>
        </p:nvSpPr>
        <p:spPr>
          <a:xfrm flipH="1" rot="16200000">
            <a:off x="9036000" y="7078680"/>
            <a:ext cx="64944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2D2A-AFD2-4D7F-B1E4-56A55E3FA95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rabajo en Clase Aux.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Requerimiento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Casos de Us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Diagramas de Secuencia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4F2C-FBE0-4B04-B035-6BBB259C24D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79000" y="279000"/>
            <a:ext cx="1275084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Pasos a seguir en Análisi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41120" y="1740960"/>
            <a:ext cx="10922040" cy="775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lgunas de las tareas a realizarse en la etapa de análisis son las siguientes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requerimiento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casos esenciales de us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r y perfeccionar Casos de uso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Crear diagrama de casos de uso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Especificar escenarios. 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r y perfeccionar el modelo conceptual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diagramas de secuencia de alto nivel del sistema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FE1A-C1A2-423E-BB28-F711641024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72840" y="3556080"/>
            <a:ext cx="11645640" cy="379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Fase de Análisis:</a:t>
            </a:r>
            <a:br>
              <a:rPr sz="7500"/>
            </a:b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Requerimientos Funcionales de Software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Requerimientos de SW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041120" y="2452680"/>
            <a:ext cx="10922040" cy="666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01400" indent="-40140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a meta principal en esta etapa es identificar y documentar lo que en realidad se necesita, para realizar el software de apoyo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01400" indent="-40140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 recomienda aquí definir al menos los siguientes puntos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Panorama general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Metas del sistema (alineadas con las metas del rediseño)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Funciones del sistema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Atributos de calidad del sistema</a:t>
            </a:r>
            <a:br>
              <a:rPr sz="3000"/>
            </a:b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5214-BC04-4E71-8899-497CE6A09BB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aso de estudio: el punto de venta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	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upongamos como caso de estudio el sistema de una terminal de punto de venta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Esta terminal es un sistema automatizado con el que se registran las ventas y se realizan los pagos. Por lo general este tipo de sistemas comprenden hardware (un computador y un lector de código barras) y software (el sistema que se ejecuta en la terminal). Suponga que se nos ha contratado para crear este software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29C2-BA07-4B2D-929A-71902A1FAE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1120" y="165240"/>
            <a:ext cx="1092204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: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1" name=""/>
          <p:cNvSpPr/>
          <p:nvPr/>
        </p:nvSpPr>
        <p:spPr>
          <a:xfrm>
            <a:off x="2006640" y="1276200"/>
            <a:ext cx="8991720" cy="84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Panorama general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Este proyecto tiene por objeto crear un sistema de terminal para el punto de venta que se utilizará en las ventas al menudeo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Metas</a:t>
            </a:r>
            <a:br>
              <a:rPr sz="1700"/>
            </a:b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En términos generales, la meta es una mayor automatización del pago en las cajas registradoras, y dar soporte a servicios más rápidos, más baratos y mejores. Más concretamente, la meta incluye:</a:t>
            </a:r>
            <a:br>
              <a:rPr sz="1700"/>
            </a:b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Pago rápido de los cliente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Análisis rápido y exacto de las venta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Control automático del inventario.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Funciones del sistema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funciones del sistema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on lo que éste deberá de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hacer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. Hay que identificar estas funciones y listarlas en grupos lógico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Para verificar que X es en verdad una función del sistema, la siguiente frase deberá tener sentido: "El sistema deberá hacer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X". Por ejemplo: "el sistema deberá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autorizar pagos a crédito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"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 funciones pueden clasificarse en tres categorías: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evidentes, ocultas y superfluas.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evidente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deben realizarse, y el usuario debe saber que se han realizado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oculta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también deben realizarse, y puede que no sean visibles para el usuario. Muchas de estas funciones se omiten (erróneamente) durante el proceso de obtención de requerimiento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uperflua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on opcionales, y su inclusión no repercute significativamente en el costo ni en otras funciones.</a:t>
            </a:r>
            <a:br>
              <a:rPr sz="1700"/>
            </a:b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4E20-26BE-41C6-826B-E8F069A5D2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Fase de Análisis:</a:t>
            </a:r>
            <a:br>
              <a:rPr sz="7500"/>
            </a:b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Casos de Uso del Sistema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90520" y="255240"/>
            <a:ext cx="12423600" cy="15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Casos de Uso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41120" y="2084400"/>
            <a:ext cx="10922040" cy="716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s casos de uso sirven para encontrar y capturar los requerimientos (especialmente los funcionales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51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Son descripciones narrativas en lenguaje natural de los procesos en un formato estructurado de prosa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51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Son denominados por un VERBO. Ejemplo: “Comprar producto”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2748-D323-450E-83C3-5E7CBE28407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nn</cp:lastModifiedBy>
  <dcterms:modified xsi:type="dcterms:W3CDTF">2009-05-06T02:38:22Z</dcterms:modified>
  <cp:revision>11</cp:revision>
  <dc:subject/>
  <dc:title>Capitulo 10 Analisis de Sistemas Basado en : “UML y PATRONES”, Craig Larman, 1Ed y 2 Ed. </dc:title>
</cp:coreProperties>
</file>