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E7D-EB67-42F4-8F91-68F271E1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E48-B94F-45F1-B990-CE598655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267-1061-4AB4-98E5-FB093F51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46C-EC4D-46E6-9558-D47F7D54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85E-0762-473B-AA4D-6022873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CC8-8734-4995-BC50-98431A50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2BB-C2A8-4655-8B65-8B7DF6D3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16A-9633-41A2-AD7D-27BF226D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3B1-B9FF-4325-923D-95AACC21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108-FA06-4829-A9D5-4D848DE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710-B17D-478B-B20D-FF6B5BD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B85-C702-494C-8435-8E41A1C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6406-1D90-4522-951F-028BDE754AE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BPMN del rediseño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Entidad Relación de los procesos en estudios que respondan a las necesidades del re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9T05:02:42Z</dcterms:modified>
  <cp:revision>69</cp:revision>
  <dc:subject/>
  <dc:title>Diapositiva 1</dc:title>
</cp:coreProperties>
</file>