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94A-D959-4A38-85FD-CE051B3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E03-BFC4-41F9-87E2-6755A140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413-A629-498C-BC13-3D6EFF12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2DB-A6AF-41B1-94BE-83B3D8AC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D64-FD7C-4C64-864F-1BC28117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E95-E849-4241-9FE0-D69C6C3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19B-E901-4F78-8B30-3CC4A325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548-DEA5-447C-90F7-B17E1372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ACE-BAB8-4EC4-A78C-A72834ED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38B-FDEC-4FE1-BA2F-C4DF128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CEB-0669-4B22-8749-4B35629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B60-867E-4EC8-9A0E-4D27034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756E-AC6C-4451-B383-8981FB4DD9F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BPMN del rediseño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Entidad Relación de los procesos en estudios que respondan a las necesidades del re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9T05:02:42Z</dcterms:modified>
  <cp:revision>69</cp:revision>
  <dc:subject/>
  <dc:title>Diapositiva 1</dc:title>
</cp:coreProperties>
</file>