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E0D-656F-464D-AC26-0EDDF884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642-FD4D-4B9F-BC65-E45BDC62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FBF-113D-4277-93FF-097A60EC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4C8-48E4-4A26-B2AB-739346AF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281-E9D6-4496-A2E9-5A5E081F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A93-1D81-4CBD-93F9-231D41C6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A0B-8725-495F-AFA0-46158911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1E0-AEE3-433D-A03F-960B08D9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844-C1ED-4D62-94F8-FF18DAB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0E4-DDDA-4B81-8B1C-E31E82A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86E-36A9-4A7C-A872-E60B78C2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0F6-34DA-4F8D-832E-47315DD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3D5-B124-424F-B8F9-35848CC5A9B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BPMN del rediseño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Entidad Relación de los procesos en estudios que respondan a las necesidades del re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9T05:02:42Z</dcterms:modified>
  <cp:revision>69</cp:revision>
  <dc:subject/>
  <dc:title>Diapositiva 1</dc:title>
</cp:coreProperties>
</file>