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6F8-95B6-4389-869F-D074079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068-E1EB-4BF5-9586-642E9EF7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3D3-ADC2-463B-9846-BA4C575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770-4DEF-46D6-BB24-130B27FF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667-8C4D-455D-8083-E59F5BA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6AC-3B8A-487F-80BF-145DFDB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04B-1D44-4EF8-9F2C-D9101652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839-A0F6-4504-903F-5283CAE1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9F4-6ACA-4EA3-97BE-42FE08E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C3D-7CA4-4E26-8F80-3C83789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76A-822C-4504-BF91-7302B21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9BB-9FAF-4C0F-BEFF-2560BB4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1AA-655C-419E-928D-B931BAD899E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BPMN del rediseño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Entidad Relación de los procesos en estudios que respondan a las necesidades del re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9T05:02:42Z</dcterms:modified>
  <cp:revision>69</cp:revision>
  <dc:subject/>
  <dc:title>Diapositiva 1</dc:title>
</cp:coreProperties>
</file>